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AFD7-9BF0-4C6D-8B7F-8A640DE5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4FE-E8C4-4B57-9580-F432ACE3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5A419-4A1D-476E-9F4C-950C8836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13014-36DE-40DC-AA35-333DA475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4D172-E6FE-4E2E-8CF3-C3465B2B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C7C35-E4CC-4FE3-AA3A-D2088532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A0450-CCC5-44B1-A11B-7C10AD51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AE7B3-9000-49C2-BEAD-64538FB2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05C71-9C69-4CAB-B097-6BB98164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969C9-F9B1-469F-A895-84550683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570FF-6333-4110-907D-748B759F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40D2E-A208-4954-B8B8-BBD43FFA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C6A-2C36-49CE-AAE3-CCFDA8E7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07F20-D652-4485-BFD9-3AB61C3A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0AAFF-8036-4383-B0F3-FD07011B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C7F7A-BEE3-4973-A651-BD077F1C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10595-CA5F-41CC-BD01-C8859DC5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598C8-564F-4008-B7F9-39A9B3E7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7BBCC-0F25-445C-A873-55B805D7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4EE25-2F78-4486-A907-1277F4EC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90171-2846-4C4D-8102-76058F00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01139-42B6-46BD-A9BE-17E1A19B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02C09-2F07-4D1C-9CC3-38495150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CC5-6B5B-4C36-88A8-70AE50E1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E29E9-6BAA-4FF3-8F80-2E150C56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CF901-47B4-468B-94B1-FD824535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BACCC-0EEA-40BC-91EA-BA4CED28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109F1-818E-4760-84FC-98B75696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EE021-41F4-4FF3-8689-AA9E69CA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A476A-C819-4479-A2F7-C2DB93D4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C4C7D-263B-4E36-93C3-F6A98E22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E0BAD-3E64-40C4-A21C-A6556EDD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AF45E-C96A-42F5-84C4-D1AD0E5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C7ED5-123E-4A2A-B83F-7B782E9F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4093-1D72-4A4A-848C-9E046376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755D7-E22E-45E0-942D-7CF5B18D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2B480-5D45-43F8-9367-015DF443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5242E-B4E9-444A-812C-A442225B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67520-090B-4458-8239-B6273E4F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7AED7-1AA0-4132-A7EB-2B57718E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72DC5-28B0-435E-B6D3-120D41D9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20245-1A53-4AED-B742-307F7245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C3AB7-6C10-453A-9B7C-C1BE6C99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3E295-300F-4FE8-82C3-9B1BED91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B729C-23BD-4B27-A300-1C061B27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D626-13ED-473E-853A-532C4307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CEDAA-E5AA-4311-B107-ED3F0601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B244C-8099-4CF8-9B8C-C6274AB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7B488-51D2-44CF-B1EF-CB0EF827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DDE48-A008-44EF-9874-801C6159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CDE72-21D2-4D3E-9E3F-4955D5E4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C08CE6-CC30-4702-A22C-0D304F53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A9CA4-1810-4A9B-851E-59F47E32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19284-D409-4951-AB19-019773CD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69BF4-E407-4E34-9496-3F498D4F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8A76A-F43A-424C-8A76-BCA53FB4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6754-7012-43B9-94B6-436EB651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93921-0B37-4321-89E6-C4BE9900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C9A50-129E-4789-ABF4-E25DE618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1B654-0916-4730-9240-F737AF45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4BA33-677C-442E-94BD-D580591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AA829-937D-43A0-997C-DE79BAA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889ED-722C-4812-987E-37D7D8FC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96D231-7752-42D9-9D62-3459E2F0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E82DBA-2A66-4E3B-AAA2-2661DC2B7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DC74D-A40F-4C11-87F0-1FD6016B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7A381-F6F9-403E-9CBA-50411F5C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01B8-1957-4647-9973-500F0B6B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D700A-3F74-4651-A065-94E0C0CC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2A9C9-6D21-48E1-8F28-E71F93A3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0A73D-7C71-4C0A-A44F-9B46BA59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EC1A7E-CBEF-4B38-9AA0-CBAED6FA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1EE5D-321A-4B43-B241-DAB53E90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233838-8812-4AAF-9A62-2C7D33E3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1CA8A-005B-4BA3-993A-40BBF2F8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4FE3E-F130-4FCB-A35B-CD143C41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C0831-CA2B-413E-98E0-FAD87BEA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E9247-2B39-4AC6-B6F7-625FA809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664C-ED11-4D0B-B87C-5EEADD65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FE734-B8BD-4E56-B739-2123965F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F8ABE-5753-4C12-8EEB-2C9727E7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B8AD96-BC55-4788-A8E8-15B9DED7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B4C2D-EAC7-4F0B-831D-81F7813D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5FCA6-8C59-45FD-AF31-4C38507B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771934-41CF-4478-85FB-7C3FE6DA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291EA-3684-40AE-BD08-E427FD93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71263-7F74-46B9-9840-A3BFE126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186DE-71AC-401D-84B5-B871C35A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3CE31-EB75-4389-A590-BE4F7FEF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36FE-D7F9-48A3-ADC2-8162F2A9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041009-683D-4311-AD18-0188A234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EB8D5-19A2-4B9A-8B4E-CA7E33E3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4B895-3598-404A-8F1E-7E321AA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B3A69-7C8C-4B91-BF44-6296BB07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9D47E-77AF-4405-B105-EC2528C4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D87A4-0E2F-4168-AAA2-913D6434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00DF6-B252-4865-B4D8-BD526508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3AA86-694A-4BE4-B944-5FFF5111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C96FE-C22C-477A-ACDC-C188512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5A7B96-2670-4955-ACDA-11C13FF6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D6C0-9C23-4B08-A2D5-D8D9DE62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46391-1AB9-4999-A986-79F24B8F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85A6B1-7282-4B65-8892-70E4C028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B33F2-67AF-4288-B106-6BF853CA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8CFA5-C92D-4199-A6E5-1CE3C269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A4C651-117F-4F42-A7B6-FAF3B107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C0F15-F4D7-474C-9EEF-24CE23A0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E5819-F2B4-4481-8C2C-532DD089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7C074D-BB51-4415-95C5-162E6A4C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8CB3E1-34B2-47FD-8FF4-9FE1FF56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6FA05-4D58-496B-A9E0-01DD9DAD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69FC-EED5-4C87-93FE-627A2077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210F-0C5F-4733-A8AB-032F965A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83CA1-D0A1-4E1A-B5C9-F8B48B15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0BFCC-AA4E-4C7E-8F2D-ECB047C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5509D5-B479-4C54-BCF4-975A9F64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F6F96-F579-4C55-A888-B228FCB3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C83DB-34A1-404C-8F01-FD13BFFC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EECD-3431-4676-B02B-ADAF5670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BDF0-A148-4A72-874B-009AC77C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4ED9-1ADA-42CC-BFB7-92DF4EC6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354A-3CAC-4347-9EED-F53323AD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6055-0133-4EAD-8C36-4DB67E63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BF47-1951-47A6-A1DB-EA9EBEA1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ED55-4285-485F-AE4D-06695709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465A-046E-4DDA-86D0-58F74C68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A7E0-4B7D-4360-BB29-E162CBCC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86F-7C33-4EC1-8A68-B0B3EADF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A1BA-114B-4430-B81D-E8A63F5D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C9E22-0553-4182-B1EE-CF91A1B3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CAF7-C32B-40DE-A754-3B1E8F01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E7B10-7D22-429E-8A02-5BDFBC3E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648A-5ACF-4461-8914-4FA285B4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0E833-3DEF-4A38-933F-BE3402E9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6DDD-543B-476B-9BAC-CB1E5E13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2BCBB-F4BF-48FD-AF82-147BB361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26C1F-A80E-4F95-93F0-AA179E8C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2443-688F-41BB-9D9A-EB2F0C17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28D-3377-4EF2-8A5F-4E7D5A7E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2843-3368-407B-8753-9B93C931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CB98-D8D1-4555-A4E5-8526A328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E78B3-C55B-4DB6-A47B-CFE9192F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5C21-38E7-4F47-9F28-D758B4D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99A7F-92E5-4A5E-9856-088DD60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927F-8172-4D5E-A423-F5DFC214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D484-7132-46C4-A6CE-4D40F93C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2481C-A78A-486A-A2BC-CC224528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318F-E894-4E92-93F4-8468E839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08E03-9310-4B0F-B70C-2DE89B98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9DC-2DB5-4D1C-958A-DD35ECC4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CB033-FAF4-48AF-826B-4BC83264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762D8-F72D-4067-9314-F450C794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FEEBC-78C0-46A0-B86A-A9C9292D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A659-CD29-4965-BF4A-BABB36FF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0E299-7194-4DD7-99FA-8CF05A3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92152-199D-4B52-AFB2-89554FF0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495EA-3D27-4837-8416-988A4672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EE54E-FFDA-44BD-B5C5-238AA7C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1D94D-B11E-495F-A414-5A6BF6E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6BB60-A482-4B4B-8493-66A168C5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365-A429-4EA0-8B33-145EBCB4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4D699-F720-4395-B82D-3E9707E1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C3EDA-041B-4669-AB7B-B7B1290F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175D4-AC65-4C6E-9E72-F24B0075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8B8F7-151D-4062-BEEC-77853D1A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17CB8-D03B-44A1-9FBF-A9924B7D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B18D7-40DF-4F0B-84D2-98807C9D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5643-815F-4DF7-AA14-93BDF6A5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FDB6E-22EF-41CD-9B83-CD04D8C5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E4627-4228-4313-BECD-5A48EE31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8FD8-F3A6-4406-AFF9-FF88E33F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E0D-5109-46B6-8B51-906111FB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17093-C29E-496E-92F0-6198D4B5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55836-C298-4DAB-A297-9618D152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1ABD9-A877-41FE-B6EE-6B5BD2A0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F6127-53F2-436E-84A6-E7F3C87E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905BE-2C85-4BA1-A8D7-23C39C8D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337F6-6DDF-491D-BB7C-FF6EF9C6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23326-06FB-4E6B-966E-8D6EB8D3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BFF1B-E227-422E-85BE-29B4F0C7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4882E-C1EF-49BB-A372-19148FC7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52EF0-59EE-4212-9AFF-6F55C414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45E-98B1-4096-B844-08717441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E918C-DA9D-4255-B9B5-80DF7E7D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98F39-2D0A-4206-9DCA-6797B855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2B46-2488-489D-9A9B-EC4E568F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E0F59-6234-47F4-95D1-21D1625A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8C3AE-B554-47C7-97A3-A17A5F20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C3238-0E5E-4917-884D-9F325350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DF867-8847-4B1D-81E5-19FF13D2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4EB79-E946-4AAA-BAFC-ABBEFC2B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5665B-31D2-41CA-A7E3-1C91FB41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68CE8-A962-4B21-952A-2189225A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10A-2B06-4294-AF0E-C7320219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BB6ED-3F92-4EBF-8DDE-1328DD9C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B0578-791D-4F3D-B2A8-60D9182B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51172-0B24-4686-AA3E-8C6F358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3C896-53EA-45ED-8AB0-5A5E9C9A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534C9-28E5-4A94-A7C6-4828363F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63FB7-10E5-4B61-A651-265EA468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30C4D-EDF5-4739-8FD3-AC05A606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D0C92-2294-408B-816E-EFEF22B5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C331E-D381-49DB-9129-F753FEAF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6828D-B799-46F8-A266-5C5360F2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346A-32AD-4EC7-852E-7D802F1FF1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532E-A276-4759-AA86-3980AAA7F0E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6544-8D2D-48DD-9128-26A666F158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6AD0-C6C8-40A6-8FDB-803737F92CC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5F04-C278-4F91-93F8-C6852DA64E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4807-DC1F-48D6-B913-93F25E96DD0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6003-88F4-4A77-8504-0E1031F8E8F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C29F-2F2F-4F87-85A4-B96FA77A2EF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69AC-1E63-4A05-A04F-03CB812E5B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23E6-EA54-4B84-8C04-6AF3F38456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9709-5CEB-4293-A2A8-0B9ACB87625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516-E242-4A4D-BFAE-9661595AE6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4BA8-2596-4AD8-95DA-5735A243653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4AD4-CC1B-4431-8A59-F21AD28992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841C-2B9B-4FD9-8FA9-F2B40615DAE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B5C9-E57E-4B83-843C-1A86654C86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19C7-B5C6-4CBD-98E5-E29FC4E2B29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50800" y="1814040"/>
            <a:ext cx="4724640" cy="226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Игры, направленные на развитие речи во 2 младшей группе.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095200" y="435420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ыполнила: Морозова А.Н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78" name="Рисунок 4" descr=""/>
          <p:cNvPicPr/>
          <p:nvPr/>
        </p:nvPicPr>
        <p:blipFill>
          <a:blip r:embed="rId1"/>
          <a:stretch/>
        </p:blipFill>
        <p:spPr>
          <a:xfrm>
            <a:off x="6402240" y="747720"/>
            <a:ext cx="55245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1926720" y="1512720"/>
            <a:ext cx="891540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 расширении словарного запаса, обозначающих названия предметов)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На что похожа иголка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На булавку, на кнопку, на гвоздь, на лезвие ножа, на стержень от ручк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То есть все эти предметы объединяются одним признаком: острые и металлические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Еще на колючки у ежика и кактуса, на застежку у сережки, которая в ухо вставляется, она тоже остра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6" name="Рисунок 3" descr=""/>
          <p:cNvPicPr/>
          <p:nvPr/>
        </p:nvPicPr>
        <p:blipFill>
          <a:blip r:embed="rId1"/>
          <a:stretch/>
        </p:blipFill>
        <p:spPr>
          <a:xfrm>
            <a:off x="10090080" y="189000"/>
            <a:ext cx="19051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ывод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220480" y="1808280"/>
            <a:ext cx="891540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гра как ведущая деятельность дошкольника имеет большое значение для физического, умственного, нравственного и эстетического воспитания детей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жде всего, в игре осуществляется познавательное развитие детей, так как игровая деятельность способствует расширению и углублению представлений об окружающей действительности, совершенствованию внимания, памяти, наблюдательности и мышления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играх дети учатся сравнивать предметы по размеру, цвету, форме, знакомятся со свойствами материалов, из которых они изготовлены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1979280" y="77760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гру и обучение надо сочетать так, чтобы одно не мешало, а помогало другому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шающая роль в этом принадлежит эмоциональности поведения воспитателя и, в частности, его реч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брожелательное отношение к детям. Когда он что-то объясняет малышам, разговаривает с ними, то делает это бодро, весело, ласково и тем вызывает ответные положительные эмоции, желание заниматься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ихи, потешки он читает живо, выразительно, меняя интонации в зависимости от их содержания, звонко и четко имитируя голоса животных, если они встречаются в текст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Раньше-позже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017440" y="1905120"/>
            <a:ext cx="830412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: формирование умения соотносить действие с промежутком времени; формирование умения активно использовать в речи глаголы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724040" y="246240"/>
            <a:ext cx="891072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авила игры: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544760" y="1145880"/>
            <a:ext cx="10362960" cy="54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дущий называет какую-либо ситуацию, а дети говорят, что было до этого, или что будет после. Можно сопровождать показом (моделирование действия). Для наглядности можно использовать ось времени, где будет видна пошаговая последовательность событий вперед или наза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од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Мы сейчас с вами на прогулке. А что было до того, как мы вышли на прогулку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Мы одевались на прогулк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А до этого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Перед тем как одеться, мы складывали игрушки, а до этого мы играли в строителей, а еще раньше завтракали…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Мы пришли с прогулки. Что будет дальше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Мы разденемся, помоем руки, дежурные накроют столы…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Какая часть суток сейчас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День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А что было раньше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Утро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Раньше – позже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85" name="Объект 3" descr=""/>
          <p:cNvPicPr/>
          <p:nvPr/>
        </p:nvPicPr>
        <p:blipFill>
          <a:blip r:embed="rId1"/>
          <a:stretch/>
        </p:blipFill>
        <p:spPr>
          <a:xfrm>
            <a:off x="3006720" y="1747800"/>
            <a:ext cx="6373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На что похоже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333520" y="1537920"/>
            <a:ext cx="8514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ль:  Развитие ассоциативности мышления, обучение детей сравнениям разнообразных систем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вила игры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дущий - воспитатель, а в старшем возрасте - ребенок называет объект, а дети называют объекты, похожие на него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чание</a:t>
            </a:r>
            <a:r>
              <a:rPr b="1" i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  </a:t>
            </a:r>
            <a:r>
              <a:rPr b="0" i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хожими объекты могут быть по следующим признакам: по назначению (по функции), по подсистеме, по надсистеме, по прошлому и будущему, по звуку, по запаху, по цвету, по размеру, по форме, по материалу.         Похожими могут быть даже самые разные объекты. Можно использовать картинки предметные, особенно на этапе ознакомления с игрой. Ведущий просит объяснить, почему играющий решил, что названные объекты похожи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Ход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592000" y="1723680"/>
            <a:ext cx="7521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Половник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На ковш у экскаватора, на созвездие "Большая медведица", на зонтик, на лопату, на микрофон, так как микрофон имеет две части: сам микрофон и ручку, а половник тоже состоит из ковша и ручки. Микрофон тоже может быть металлическим как и половник, или в нем могут быть металлические части и так дале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Рисунок 3" descr=""/>
          <p:cNvPicPr/>
          <p:nvPr/>
        </p:nvPicPr>
        <p:blipFill>
          <a:blip r:embed="rId1"/>
          <a:stretch/>
        </p:blipFill>
        <p:spPr>
          <a:xfrm>
            <a:off x="10090080" y="189000"/>
            <a:ext cx="19051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1947600" y="2060280"/>
            <a:ext cx="89154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На что похож дождь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На лейку, когда из лейки что-то поливают, на душ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А душ какой бывает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Холодный и теплый. И дождь летом бывает теплым, а осенью холодным. А еще дождь похож на разбрызгиватель, который мама ставит на огороде и поливает ягоды и овощ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2" name="Рисунок 3" descr=""/>
          <p:cNvPicPr/>
          <p:nvPr/>
        </p:nvPicPr>
        <p:blipFill>
          <a:blip r:embed="rId1"/>
          <a:stretch/>
        </p:blipFill>
        <p:spPr>
          <a:xfrm>
            <a:off x="10090080" y="189000"/>
            <a:ext cx="19051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2126880" y="1618920"/>
            <a:ext cx="89154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Художественно - эстетическое развит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На что похожа коробка цветных карандашей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На радугу, на цветные дорожки, на цветные карамельки (с красным вкусом - малиновая, клубничная, с синим вкусом - черничная…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: На что похожа кисть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: На метлу Бабы - Яги, на указку, на Волшебницу (потому, что если провести кисточкой по бумаге получается какой-то рисунок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Рисунок 3" descr=""/>
          <p:cNvPicPr/>
          <p:nvPr/>
        </p:nvPicPr>
        <p:blipFill>
          <a:blip r:embed="rId1"/>
          <a:stretch/>
        </p:blipFill>
        <p:spPr>
          <a:xfrm>
            <a:off x="10090080" y="189000"/>
            <a:ext cx="190512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1T08:49:27Z</dcterms:created>
  <dc:creator>Артем</dc:creator>
  <dc:description/>
  <dc:language>en-US</dc:language>
  <cp:lastModifiedBy>Артем</cp:lastModifiedBy>
  <dcterms:modified xsi:type="dcterms:W3CDTF">2018-12-11T09:21:01Z</dcterms:modified>
  <cp:revision>5</cp:revision>
  <dc:subject/>
  <dc:title>Игры, направленные на развитие речи.</dc:title>
</cp:coreProperties>
</file>