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53E-EB6D-4B56-9B8D-AFDAB3AF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100-7C6E-4BAC-8B00-69EA0D2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0F263-A3B6-4DBD-A4EA-62B7409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A9A2D-C793-4665-9FEB-B98640D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D400-E681-4813-A73A-D0F6046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A2A40-BA1E-4974-9EF7-2C16C68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45BC2-0B0C-4E08-B699-CA3AF1B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3BC7F-72D7-4126-ABA9-1A4FB7E4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58D9-DF67-4FC7-902F-1906602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F0F1-DB1D-4A4E-A7F1-FA595B6E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5CB4E-724D-4286-8376-C9020053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0F96F-EF81-4AC5-9EA0-2B52D058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8AE-6DB1-466D-BC53-A9FFE7F9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3B3DA-A01C-4609-B605-8D265EB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27227-9A3C-4BE8-A3CD-C566BB1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D3838-0434-466E-8779-66F8EDE5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1811-502F-4449-A109-C272D05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11CDE-AF62-409E-AD33-F52DB43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EF5D3-7371-4365-A356-B5684A7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1C61-9511-491D-8D22-865393AE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62D5D-14FA-4EC8-9C6A-0B4CBBA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14645-2537-4AB6-AE7B-0781211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E7E10-25EB-4F40-99E9-4301FC7C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1E2-A323-4EE5-9B2D-E63B6788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AF298-75E6-458A-B89B-241F1121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E0193-03DC-4EEC-ADC8-BB359E8D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B9EB0-D479-4AF9-9F56-8242FFA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24ED-69EB-458E-A1C2-13A5CB0A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CAED-A651-4DCF-95D8-DA4A4A0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12229-6161-4D3A-977D-6E1E38A2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49274-0C58-42AD-9670-27B5D2FF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64D0B-8C01-4E6D-83F1-2088E30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D5D13-0DD5-4F6C-8E0D-8BA19A0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10F2F-5C50-4EF4-905B-10ACCCD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59F-60FC-43B9-A6A4-26FD8083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A2222-68CE-4D96-8639-CC9E4D0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60D6E-1579-43DD-BE84-D3D0AF0F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24AC-10FA-4A12-8D6D-109857D4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561D8-4427-42D8-B58D-F01D025E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5879E-7D8B-4B03-B3EC-0EFE6712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0DAE0-255B-4B42-ADD9-9400D21E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850D5-354B-458F-B144-55E40EC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38ED7-41DD-4706-94AC-BB4126A8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330A5-982B-4C43-BFB3-B3A014CB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DC5E1-E517-452E-9C44-41C5150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A826-95ED-4C86-8CF4-2250AA9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1803-3484-4A5F-997B-5671275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9AA71-E667-43F1-83EE-85A1607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0260F-14AD-473E-A76E-8202FC3E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1AE5B-B9F4-4929-BE1A-1B905ACB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FF9FB-DA62-4B41-A1E9-FC8DE894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A073A-BFA1-451F-B8F8-43046826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7BE9B-B806-4EC6-A4A2-9810BE95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61889-68BF-402C-A7EF-FFCFB4BB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86A81-2556-48A1-93D4-08B00CE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2FD40-FE98-4486-82DD-48076EFF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B178-06B8-4834-BFF4-6C72E8B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3B3F5-C533-4EB6-83BC-0DA7F5B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A2C72-95CE-4841-AF40-9C9D2F0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6E6B2-760C-4BED-B2E3-913A450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65656-70A7-45D1-B1CC-BA5EA19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78775-DA37-4867-81DB-2E8F5D4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B21FF-BD10-4BB6-946E-E742C13F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36B61-8295-444F-85C6-147B7A9D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6F4C8-7203-4186-91C5-9FAB1E24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39DAD-C98B-4572-BF39-58D07A7E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08978-2498-4F4A-B381-298717E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E52-7647-4251-A724-1536E80A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8BDEB-AD4A-4F22-88CC-D201710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51ADB-0D63-41E3-A5FA-251E401F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9EFCA-953A-45A4-85C3-AFB80A9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EF405-F34C-44FA-AF4C-C711985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ECA13-95DC-41D2-B21A-852501E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AA5C4-8D47-45C4-82BE-A55F3D1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189F9-6814-4A63-9881-884B4BB8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F8C66-F8C7-4EF3-B53D-D58D2A9C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80E5B-0E35-406F-B790-7EB81FDE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71C46-033D-498D-B819-833FEDE3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3602-B063-4EFC-BA31-C4FE64F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6D82C-6E62-4739-8323-59363419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2D039-D28A-4333-AFB1-CF85E25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584BD-D97E-492D-9A37-2098863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32CA9-C3BF-40C2-A505-DC65C8F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9EE2C-F010-42C4-9368-0425707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CA6FD-CEB0-403D-8DED-E60830D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F6D95-F56E-4DA3-A045-D98B1B0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BEE45-5250-4C8B-877E-0F11829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C16DA-AF1C-46D6-975D-DE2C42BF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C6489-6CDE-4256-94B6-0A648561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909-3C9C-4163-BA46-DA2C793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A20DA-07BD-4B4C-8F58-89F09FEF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0285E-9328-4E5B-9DB7-418D95A7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F6E35-06EA-486C-A5A8-1AD595E7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A4CEE-701C-40AC-9895-7589429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B1213-4594-44E9-A983-781D313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996B1-F80D-42B1-842E-EB3F14C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BBC7D-E427-4B39-9D7E-B5AEBBA4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EE4EA-8166-4070-88A2-ADC9142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A1A0A-A57F-49B6-B3E0-5D68413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23FD0-88E9-4F06-8AFB-AE32409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0B0A-95B5-4461-83B4-E719BD4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C7A57-C96E-48CA-AF44-8860482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03D78-329F-433D-A29D-9745A501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861AA-13A7-43E3-83B1-AD81A663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9422F-19F4-4698-BA1A-47987380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C0262-7EEA-43FB-8E0A-B14FCDC8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6D030-53B1-4C42-8091-CEFD329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17CCD-8FED-4332-831F-8BB7DD6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C348E-7419-4517-9827-1726F106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4628F-ABF6-4BF7-868C-3C48AAD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C3199-437B-49A2-9BBE-FE26FE1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9EF-EE6D-4ADF-B646-90DA1714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391E-629C-4D61-A231-6B0B906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B1FB8-AFCC-4454-BD00-543750C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CCABB-F538-4275-AFA8-DD5E202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A0BB1-5EF4-4862-8BA6-CE9959D9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BCC32-F5F1-4462-B734-E471B551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BEE6A-3017-46D4-B712-E61BFAE1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474-8A73-4E8A-95C2-FD88903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B4C-3B62-4EC3-9AA1-918D67B4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C5D-4676-4500-B5D4-A6F52664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9B3C-931B-42F4-80A7-16811CE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3E59-9510-42CD-B160-A3CC0F5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D279-96B3-43EF-BBAC-1D7C637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3B2F-09CF-4F24-A7DE-E854669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9894-9450-4DAD-A569-841231A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C403-8A3C-4E0E-A55E-2C0CC0A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E2C-9FC9-4F72-8A26-947E9ACF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032A-8007-4F0A-A1CE-D543950D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9B92-4333-4272-8565-9006F71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2C43-6D1B-40AC-8C73-8E5983A6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A049-3D6F-4B85-9F83-CCBFC6A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FAF6-1986-432C-97D8-319CA3D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DB6F-8EB6-4297-9ACA-FD10257D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A6CF-DD57-4D66-BDA6-67474C3D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5681E-07E1-4557-B40E-02D53FC5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CC8F-AB75-4AB2-ADAB-F1533BCE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201F-5C4E-4B3B-91BA-DBCB4E9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738-2624-4D95-B407-9A4AE60C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66C4-CC5A-4AE1-B0B9-B8A98BE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6EE3-A63D-4B0E-BF84-D05A175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F49F-3DE9-4048-88AF-5692B2D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522E-BE7C-4E1A-A097-5E9D6CB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DAB3-F8F0-4BAF-860F-A664049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3458-A4CA-40DB-8D22-B914610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BFEE-AF85-40C6-BE00-D80FA600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9356-0A1B-48D9-9B0C-1AFACBAF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140A-4509-4847-8A45-AB7B5FBE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AF90-39FA-49FB-A059-E46DE447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43D-55C7-45C8-B199-2FC3D92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FAE8-606D-4327-9092-7F74E5F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1120-3367-4B9D-A43E-638BCE9C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BE2D-04B3-471E-987D-1491A2C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4D98-0F75-4C07-9081-C86DDD9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6178-88F9-4434-B46A-70B17113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26A4-E3AE-459C-8AE7-DEF9765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0ED1-5E1F-41AD-B800-D9714F7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DDEC-9C01-4A34-86FF-57DC612F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D45D-B6ED-46EF-B2FA-94F6D063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EB58-A5CF-4385-BD89-F3AE1B95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3C6-5FEC-4FEF-B560-5202F624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03D6-F43D-457D-90B3-71916B37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38DC-C145-45EF-BFB0-C5908E76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F770-E597-4D08-A29D-314110D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A6FE1-523D-4805-B648-33EBA1A7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9BD9-CE7D-40CD-BA9B-7723B63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C2DCD-3CBC-4973-9163-AE1E9FD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80D6-6C6D-4064-A1A0-94B8316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2A79-E218-4381-968F-4208F60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7864-4C86-453D-BCBC-F90FF64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761C-3FF4-4AC4-831F-2A7A397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E89-7DD9-4D57-BAAF-FACFE26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3AF1-3CAC-42FD-881E-9748D89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5489-A1AE-429B-B21B-F59FF366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FB33-18D7-4713-AC11-ADB0DB23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B724-B2C9-485B-83EA-46B88E02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67CB-A160-4FEA-855A-0620617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D209-F17E-4E0E-8AE3-F88857B7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7D17D-5F9F-41DD-B0B0-0C384F15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9090-67D3-40B1-9AB1-34A15E94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69BCE-810D-46A0-A9D5-57E7F3B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EF25-CFF4-409B-A501-576AD5B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225-CBDB-4E83-B8F6-CF6B5A9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2E1D-2138-4469-A9AC-2E6F690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16E0-41D8-4855-BE94-2B69757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BEF9-8234-4EFA-876F-602AE6BB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E792-FA5D-4677-B76F-A5111ED2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3FB61-DD8B-4661-B992-7BA3C762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40907-8FDE-4A93-A575-3581D431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6254-B5CA-4F3C-A170-B3714D4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E372-86AD-45F1-8334-2B1D393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2BA7-C07A-4BE5-A52E-EFD67E8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8FD5-0857-45E3-8F67-112CBF6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135-2E3B-4E04-B99E-902F0BC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FBE98-2AAD-4C33-8A22-ECD0098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AB27-3BBC-4450-A43B-36ED606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AB55-4B20-4549-8158-5D13527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6D56-47CD-44F9-A39C-9D903C2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430A-648C-4E25-BFB7-3500307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090E3-30FE-4F9F-8C58-69B52B17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040B-6E0E-41C4-87B8-A9B5013B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65E0E-03AF-47A7-AE2E-AD84F398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32CF6-2324-4692-891E-64CE6C9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AE2D0-0503-4C01-AE9D-CF4DCAA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1D6-C1D4-42C5-9412-14155259AD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2409-0313-4F00-A907-EFB81FF09B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8B5-D6DC-43BA-927D-98224C13E2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269-B74B-42B5-814A-FFF9505AB0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C0FB-8FA7-40B0-BDC9-0A593EDA50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202-DB1B-428C-8815-524960AD79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7174-239C-4895-B39E-89AEC88BD8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5C2-E85E-43A0-89CF-4634ED4CAC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DDE-0C7F-4CF1-8772-19FB876E8B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ED0-DC2A-47DB-B94D-27B39207F8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5779-ECA9-4F52-9168-62F4B9862F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6575-BF09-44AE-ABE3-E6AB4B507F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8FD-5430-45B2-BA06-0FBF7B13B7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436E-3C73-4513-ABD4-A3DF1CFA72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0C63-96BC-498E-89BC-63490CD9A2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823F-A5FA-4692-A97F-13A7C01F09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E1F-6F51-4A90-8554-C3B40DF64C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50800" y="1814040"/>
            <a:ext cx="4724640" cy="22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гры, направленные на развитие речи во 2 младшей группе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095200" y="435420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ыполнила: Морозова А.Н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4" descr=""/>
          <p:cNvPicPr/>
          <p:nvPr/>
        </p:nvPicPr>
        <p:blipFill>
          <a:blip r:embed="rId1"/>
          <a:stretch/>
        </p:blipFill>
        <p:spPr>
          <a:xfrm>
            <a:off x="6402240" y="747720"/>
            <a:ext cx="5524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926720" y="1512720"/>
            <a:ext cx="89154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 расширении словарного запаса, обозначающих названия предметов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иголка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булавку, на кнопку, на гвоздь, на лезвие ножа, на стержень от ручк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То есть все эти предметы объединяются одним признаком: острые и металлические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Еще на колючки у ежика и кактуса, на застежку у сережки, которая в ухо вставляется, она тоже остр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ыв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220480" y="1808280"/>
            <a:ext cx="89154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а как ведущая деятельность дошкольника имеет большое значение для физического, умственного, нравственного и эстетического воспитания дет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 всего, в игре осуществляется познавательное развитие детей, так как игровая деятельность способствует расширению и углублению представлений об окружающей действительности, совершенствованию внимания, памяти, наблюдательности и мышлен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играх дети учатся сравнивать предметы по размеру, цвету, форме, знакомятся со свойствами материалов, из которых они изготовлены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1979280" y="77760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у и обучение надо сочетать так, чтобы одно не мешало, а помогало другом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шающая роль в этом принадлежит эмоциональности поведения воспитателя и, в частности, его реч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брожелательное отношение к детям. Когда он что-то объясняет малышам, разговаривает с ними, то делает это бодро, весело, ласково и тем вызывает ответные положительные эмоции, желание заниматься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хи, потешки он читает живо, выразительно, меняя интонации в зависимости от их содержания, звонко и четко имитируя голоса животных, если они встречаются в текст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ьше-поз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017440" y="1905120"/>
            <a:ext cx="83041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формирование умения соотносить действие с промежутком времени; формирование умения активно использовать в речи глаголы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24040" y="24624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а игры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544760" y="1145880"/>
            <a:ext cx="1036296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дущий называет какую-либо ситуацию, а дети говорят, что было до этого, или что будет после. Можно сопровождать показом (моделирование действия). Для наглядности можно использовать ось времени, где будет видна пошаговая последовательность событий вперед или наза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д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Мы сейчас с вами на прогулке. А что было до того, как мы вышли на прогулку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Мы одевались на прогул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до этог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Перед тем как одеться, мы складывали игрушки, а до этого мы играли в строителей, а еще раньше завтракали…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Мы пришли с прогулки. Что будет дальш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Мы разденемся, помоем руки, дежурные накроют столы…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Какая часть суток сейчас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Ден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что было раньш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Утр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ьше – поз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5" name="Объект 3" descr=""/>
          <p:cNvPicPr/>
          <p:nvPr/>
        </p:nvPicPr>
        <p:blipFill>
          <a:blip r:embed="rId1"/>
          <a:stretch/>
        </p:blipFill>
        <p:spPr>
          <a:xfrm>
            <a:off x="3006720" y="1747800"/>
            <a:ext cx="6373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На что похо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333520" y="1537920"/>
            <a:ext cx="851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 Развитие ассоциативности мышления, обучение детей сравнениям разнообразных систем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а игры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дущий - воспитатель, а в старшем возрасте - ребенок называет объект, а дети называют объекты, похожие на нег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чание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 </a:t>
            </a:r>
            <a:r>
              <a:rPr b="0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хожими объекты могут быть по следующим признакам: по назначению (по функции), по подсистеме, по надсистеме, по прошлому и будущему, по звуку, по запаху, по цвету, по размеру, по форме, по материалу.         Похожими могут быть даже самые разные объекты. Можно использовать картинки предметные, особенно на этапе ознакомления с игрой. Ведущий просит объяснить, почему играющий решил, что названные объекты похож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Х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592000" y="1723680"/>
            <a:ext cx="7521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Половни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ковш у экскаватора, на созвездие "Большая медведица", на зонтик, на лопату, на микрофон, так как микрофон имеет две части: сам микрофон и ручку, а половник тоже состоит из ковша и ручки. Микрофон тоже может быть металлическим как и половник, или в нем могут быть металлические части и так дале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947600" y="206028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 дожд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лейку, когда из лейки что-то поливают, на душ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душ какой бывает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Холодный и теплый. И дождь летом бывает теплым, а осенью холодным. А еще дождь похож на разбрызгиватель, который мама ставит на огороде и поливает ягоды и овощ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2126880" y="161892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удожественно - эстетическ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коробка цветных карандашей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радугу, на цветные дорожки, на цветные карамельки (с красным вкусом - малиновая, клубничная, с синим вкусом - черничная…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кист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метлу Бабы - Яги, на указку, на Волшебницу (потому, что если провести кисточкой по бумаге получается какой-то рисунок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1T08:49:27Z</dcterms:created>
  <dc:creator>Артем</dc:creator>
  <dc:description/>
  <dc:language>en-US</dc:language>
  <cp:lastModifiedBy>Артем</cp:lastModifiedBy>
  <dcterms:modified xsi:type="dcterms:W3CDTF">2018-12-11T09:21:01Z</dcterms:modified>
  <cp:revision>5</cp:revision>
  <dc:subject/>
  <dc:title>Игры, направленные на развитие речи.</dc:title>
</cp:coreProperties>
</file>