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B7D-7635-4CAC-AAFC-E1462A22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C40-5B8D-4D80-A34D-73211CE0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2A8-9F2C-4931-8D09-5D6403FC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396-C44D-420D-BFF2-0E509F85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90ED-FE63-4E07-AF98-CBF79BA3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70CE-6DDB-4587-9975-0D2C7997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4A6-FB0A-43C1-B8C8-20599F5C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1C1C-B1E2-461E-8808-61EAF4F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6499-8D3F-46F6-80B7-25444995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8AF0-B969-41EE-94B6-84F22D86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749E-03D2-4A89-BE81-903DD742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5B8-BA46-4B34-9228-D662D1E8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C54A-5E8B-4292-BFEF-8A5A987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FEB1-A69B-4A6E-A796-4009D4EF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50F1-663C-43CA-90E3-F21A8191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1C03-220C-41D6-9947-998D09C3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5BAC-0715-4914-A6C3-35C1C95F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622-AF96-4E9E-8EB5-FE916866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712-AAC0-44D1-B257-1F3EFBE7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A839-5997-455E-A0A3-B2DC2178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55B-E582-47B3-8617-0173553F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5CA5-DBFA-4FF5-A62D-ABB3156D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B10-BDB5-4D95-9D67-EB0E22E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8CE-C0FB-477F-8B40-0D4A075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F272-D6A9-4C27-9216-80D828A874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21E5-B1E6-4A76-98C5-30A8A18D6C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РАСЧЕТ ЭЛЕКТРИЧЕСКИХ ЦЕПЕЙ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 НЕСИНУСОИДАЛЬНЫМИ Э.Д.С. И ТОКАМИ</a:t>
            </a:r>
            <a:endParaRPr b="0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ткрытый урок по ОП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Основы электротехники»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Ц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пециальности  09.02.01Компьютерные системы и комплекс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гр ОВ-130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йствующие величины несинусоидальных токов и напряжений измеряются электроизмерительными приборами тепловой, электро­магнитной и электродинамической систе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ощность в электрической цепи при несинусоидальном ток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ктивная мощность в цепи несинусоидального тока равна сумме активных мощностей, соответствующих постоянной составляющей и отдельным гармоникам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тот вывод распространяется на любые цепи (линейные и нелинейные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 =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+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+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+ Р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…..+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нение принципа налож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сточник несинусоидальной э. д. с. можно представить как последовательное соединение источника постоянной э. д. с. и источников синусоидальных э. д. с. с соответствующими частот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ссматривая действие каждого источника в отдельности, можно определить составляющие тока во всех участках цепи, выполняя расчет известными метод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гновенная величина общего тока в любом участке цепи равна алгебраической сумме мгновенных токов от каждого источника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 +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чет линейной цепи с несинусоидальн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. д. с. сводится к решению нескольких задач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ределение одной постоянной составляюще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ределение ряда синусоидальных составляющих тока, число которых равно числу синусоидальных составляющих э. д. с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ая эти задачи, нужно помнить, что реактивные сопротивления зависят от частоты. Поэтому для каждой гармонической составляющей нужно определять сопротивления цеп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овое задание по тем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 Расчет электрической цепи с несинусоидальными  напряжениями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зовите принцип лежащий в основе расчета линейной электрической цепи с несинусоидальной э.д.с. и алгоритм его использован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8 баллов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овое задание по тем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 Расчет электрической цепи с несинусоидальными  напряжениями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2.  Формула для расчета индуктивного сопротивления k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– гармоник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3 балла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3.  Формула для расчета емкостного сопротивления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– гармоник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3 балла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ЬНЫЕ  ОТВЕ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Принцип наложени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едставляем несинусоидальную э.д.с.в виде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+…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сматриваем действие каждого источника в отдельности и определяем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ставляющие тока от каждого источника в отдельности выполняя расчет известными методами, результирующий ток определяем по формуле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+…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ЫЕ  ОТВЕ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X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kL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= kωL, г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номер гармоники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ω -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руговая частота(угловая скорость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L -  индуктивность катуш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X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kc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= 1  ̷ kωC, г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номер гармоники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ω - круговая частота (угловая скорость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кость конденсатор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овое задание по тем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 Расчет электрической цепи с несинусоидальными  напряжениями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8-10 баллов – оценка «3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1-12 баллов – оценка «4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13-14 баллов – оценка «5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изучения темы студент должен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3300"/>
                </a:solidFill>
                <a:latin typeface="Verdana"/>
              </a:rPr>
              <a:t>Уме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учитывать на практике свойства  нелинейных электрических цепе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3300"/>
                </a:solidFill>
                <a:latin typeface="Verdana"/>
              </a:rPr>
              <a:t>Зна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 методы расчета электрических цепей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абота с конспектом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дготовка к экзамену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езентация тем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«Трехфазные цепи переменного тока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              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етофор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нение о работе во время учебного процесса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cc33"/>
                </a:solidFill>
                <a:latin typeface="Verdana"/>
              </a:rPr>
              <a:t>Зелѐный цвет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–  «Во время учебного занятия  мне было всѐ  понятно. Я совсеми   заданиями  справился  самостоятельно»/  «я  удовлетворен  учебным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занятием»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66"/>
                </a:solidFill>
                <a:latin typeface="Verdana"/>
              </a:rPr>
              <a:t>Жѐлтый цвет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–  «Во время учебного занятия мне почти всѐ было понятно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 всѐ получалось сразу, но я всѐ равно справился с заданиями»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3300"/>
                </a:solidFill>
                <a:latin typeface="Verdana"/>
              </a:rPr>
              <a:t>Красный  цвет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–  «Помогите!  Мне  многое  непонятно!  Мне  требуется помощь!»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411280" y="1773360"/>
            <a:ext cx="4753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, симметричная относительно оси абсцисс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ω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) = 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ω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y =  A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sin(ωt+ψ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) +   A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 sin(3ωt+ψ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)+ A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ωt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ψ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547640" y="2133720"/>
            <a:ext cx="320220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23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, симметричная относительно оси ордина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4274640"/>
            <a:ext cx="7313400" cy="16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) =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(-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акую симметрию имеет ток в нагрузке схемы однополупериодного выпрямителя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 = A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+ C</a:t>
            </a:r>
            <a:r>
              <a:rPr b="0" i="1" lang="ru-RU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 cos ωt + C</a:t>
            </a:r>
            <a:r>
              <a:rPr b="0" i="1" lang="en-US" sz="13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cos 2 ωt  + C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 cos3 ω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2082960" y="2112840"/>
            <a:ext cx="588456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2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"/>
          <p:cNvPicPr/>
          <p:nvPr/>
        </p:nvPicPr>
        <p:blipFill>
          <a:blip r:embed="rId6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"/>
          <p:cNvPicPr/>
          <p:nvPr/>
        </p:nvPicPr>
        <p:blipFill>
          <a:blip r:embed="rId7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"/>
          <p:cNvPicPr/>
          <p:nvPr/>
        </p:nvPicPr>
        <p:blipFill>
          <a:blip r:embed="rId8"/>
          <a:stretch/>
        </p:blipFill>
        <p:spPr>
          <a:xfrm>
            <a:off x="2050920" y="2133720"/>
            <a:ext cx="5884920" cy="20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056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, симметричная относительно начала координат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) =-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 (-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ωt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 =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ωt + 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2ωt + 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3ωt..+.. B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 sin kω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129440" cy="331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331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3"/>
          <a:stretch/>
        </p:blipFill>
        <p:spPr>
          <a:xfrm>
            <a:off x="971640" y="1341360"/>
            <a:ext cx="712944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ющая величина несинусоидального ток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йствующая величина несинусоидального тока является средней квадратичной из постоянной составляющей и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йствующих величин синусоидальных составляющих этого то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-4580640" y="3108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-4580640" y="310824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4603680" y="3244680"/>
            <a:ext cx="374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4:13:32Z</dcterms:created>
  <dc:creator>Пользователь</dc:creator>
  <dc:description/>
  <dc:language>en-US</dc:language>
  <cp:lastModifiedBy>USER</cp:lastModifiedBy>
  <dcterms:modified xsi:type="dcterms:W3CDTF">2018-11-24T01:43:44Z</dcterms:modified>
  <cp:revision>8</cp:revision>
  <dc:subject/>
  <dc:title>Слайд 1</dc:title>
</cp:coreProperties>
</file>