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21FC-BCEC-4C33-B86A-C1C43F511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9683-8961-4862-906A-547C5BAC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BEE0-3AB1-4703-872A-0B6D8B1CF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C35A-3971-4D42-8AEA-347AC1657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6D90-FEB0-4BEB-A023-4BF9F0154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F49F-075E-4E26-89C2-642B86EE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1519-3153-46FE-B020-0B75C48E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8533-9C8F-4BB8-9640-60B43EAC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AE05-CA04-4BF2-B8FF-9D25946E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6FA0-5ADD-46B8-8FEB-202A47D7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EB00-D994-4C63-97F3-B5170FAC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27F0-CB0C-49D7-B362-EE225EA8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BEA1-C0D7-4974-9B0A-C23BFCD0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E8CE-77FF-4302-A721-7C30E54B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31B2-3E87-45A6-AE24-27D23C44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8218-CD02-4B9C-833D-09A7FBFA6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3BB8-1C46-4017-8F5B-837DDF260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5B3A-6286-43F2-8714-FACDB42A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CFFC-865B-4604-86CC-D9F80964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E27C-9501-4DCD-8602-693772EA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9E54-437B-4CF9-A583-A9674397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426E-7C32-4212-B46B-EA9F94C4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48D2-0271-476A-8370-1C5604B7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4FCE-E242-4617-B7B3-712223D1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BCB5-6447-48D1-922B-809EDEF6CC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46B3-D708-4641-9D34-BB565DFEDFE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РАСЧЕТ ЭЛЕКТРИЧЕСКИХ ЦЕПЕЙ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С НЕСИНУСОИДАЛЬНЫМИ Э.Д.С. И ТОКАМИ</a:t>
            </a:r>
            <a:endParaRPr b="0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ткрытый урок по ОПД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«Основы электротехники»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Ц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пециальности  09.02.01Компьютерные системы и комплексы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гр ОВ-1301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ействующие величины несинусоидальных токов и напряжений измеряются электроизмерительными приборами тепловой, электро­магнитной и электродинамической систем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Мощность в электрической цепи при несинусоидальном ток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Активная мощность в цепи несинусоидального тока равна сумме активных мощностей, соответствующих постоянной составляющей и отдельным гармоникам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Этот вывод распространяется на любые цепи (линейные и нелинейные)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 = 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+ 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+ 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+ 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…..+Р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Применение принципа наложе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сточник несинусоидальной э. д. с. можно представить как последовательное соединение источника постоянной э. д. с. и источников синусоидальных э. д. с. с соответствующими частотам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+ 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  +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 +…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ассматривая действие каждого источника в отдельности, можно определить составляющие тока во всех участках цепи, выполняя расчет известными методам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гновенная величина общего тока в любом участке цепи равна алгебраической сумме мгновенных токов от каждого источника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+ 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  +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 +…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чет линейной цепи с несинусоидальн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. д. с. сводится к решению нескольких задач: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640" y="299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пределение одной постоянной составляющей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пределение ряда синусоидальных составляющих тока, число которых равно числу синусоидальных составляющих э. д. с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ешая эти задачи, нужно помнить, что реактивные сопротивления зависят от частоты. Поэтому для каждой гармонической составляющей нужно определять сопротивления цеп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стовое задание по тем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  Расчет электрической цепи с несинусоидальными  напряжениями»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азовите принцип лежащий в основе расчета линейной электрической цепи с несинусоидальной э.д.с. и алгоритм его использовани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(8 баллов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стовое задание по тем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  Расчет электрической цепи с несинусоидальными  напряжениями»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2.  Формула для расчета индуктивного сопротивления k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ой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– гармоники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(3 балла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3.  Формула для расчета емкостного сопротивления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ой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– гармоник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(3 балла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АВИЛЬНЫЕ  ОТВЕТ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. Принцип наложени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едставляем несинусоидальную э.д.с.в виде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e 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 + 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  +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3 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+…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ассматриваем действие каждого источника в отдельности и определяем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оставляющие тока от каждого источника в отдельности выполняя расчет известными методами, результирующий ток определяем по формуле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 + 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  +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2 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 +…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АВИЛЬНЫЕ  ОТВЕТ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7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2. X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kL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= kωL, гд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- номер гармоники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ω -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руговая частота(угловая скорость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L -  индуктивность катушк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95800" y="1827360"/>
            <a:ext cx="3587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3. X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kc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= 1  ̷ kωC, гд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- номер гармоники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ω - круговая частота (угловая скорость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 -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мкость конденсатор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стовое задание по тем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  Расчет электрической цепи с несинусоидальными  напряжениями»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8-10 баллов – оценка «3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1-12 баллов – оценка «4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3-14 баллов – оценка «5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результате изучения темы студент должен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3300"/>
                </a:solidFill>
                <a:latin typeface="Verdana"/>
              </a:rPr>
              <a:t>Умет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- учитывать на практике свойства  нелинейных электрических цепей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3300"/>
                </a:solidFill>
                <a:latin typeface="Verdana"/>
              </a:rPr>
              <a:t>Знат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- методы расчета электрических цепей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абота с конспектом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дготовка к экзамену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езентация темы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«Трехфазные цепи переменного тока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              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Светофор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мнение о работе во время учебного процесса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cc33"/>
                </a:solidFill>
                <a:latin typeface="Verdana"/>
              </a:rPr>
              <a:t>Зелѐный цвет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–  «Во время учебного занятия  мне было всѐ  понятно. Я совсеми   заданиями  справился  самостоятельно»/  «я  удовлетворен  учебным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занятием»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66"/>
                </a:solidFill>
                <a:latin typeface="Verdana"/>
              </a:rPr>
              <a:t>Жѐлтый цвет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–  «Во время учебного занятия мне почти всѐ было понятно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е всѐ получалось сразу, но я всѐ равно справился с заданиями»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3300"/>
                </a:solidFill>
                <a:latin typeface="Verdana"/>
              </a:rPr>
              <a:t>Красный  цвет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–  «Помогите!  Мне  многое  непонятно!  Мне  требуется помощь!»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411280" y="1773360"/>
            <a:ext cx="47530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, симметричная относительно оси абсцисс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95800" y="1827360"/>
            <a:ext cx="3587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ωt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) = -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ωt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l-G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y =  A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sin(ωt+ψ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) +   A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sin(3ωt+ψ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)+ A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(5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ωt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ψ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)…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47640" y="2133720"/>
            <a:ext cx="3202200" cy="35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Picture 23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588492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06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, симметричная относительно оси ординат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4274640"/>
            <a:ext cx="7313400" cy="16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ωt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) =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  (-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ωt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 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Такую симметрию имеет ток в нагрузке схемы однополупериодного выпрямител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y = A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   + C</a:t>
            </a:r>
            <a:r>
              <a:rPr b="0" i="1" lang="ru-RU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   cos ωt + C</a:t>
            </a:r>
            <a:r>
              <a:rPr b="0" i="1" lang="en-US" sz="13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 cos 2 ωt  + C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  cos3 ωt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10" descr=""/>
          <p:cNvPicPr/>
          <p:nvPr/>
        </p:nvPicPr>
        <p:blipFill>
          <a:blip r:embed="rId1"/>
          <a:stretch/>
        </p:blipFill>
        <p:spPr>
          <a:xfrm>
            <a:off x="2082960" y="2112840"/>
            <a:ext cx="5884560" cy="202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"/>
          <p:cNvPicPr/>
          <p:nvPr/>
        </p:nvPicPr>
        <p:blipFill>
          <a:blip r:embed="rId2"/>
          <a:stretch/>
        </p:blipFill>
        <p:spPr>
          <a:xfrm>
            <a:off x="2050920" y="2133720"/>
            <a:ext cx="5884920" cy="2028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"/>
          <p:cNvPicPr/>
          <p:nvPr/>
        </p:nvPicPr>
        <p:blipFill>
          <a:blip r:embed="rId3"/>
          <a:stretch/>
        </p:blipFill>
        <p:spPr>
          <a:xfrm>
            <a:off x="2050920" y="2133720"/>
            <a:ext cx="5884920" cy="2028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"/>
          <p:cNvPicPr/>
          <p:nvPr/>
        </p:nvPicPr>
        <p:blipFill>
          <a:blip r:embed="rId4"/>
          <a:stretch/>
        </p:blipFill>
        <p:spPr>
          <a:xfrm>
            <a:off x="2050920" y="2133720"/>
            <a:ext cx="5884920" cy="2028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"/>
          <p:cNvPicPr/>
          <p:nvPr/>
        </p:nvPicPr>
        <p:blipFill>
          <a:blip r:embed="rId5"/>
          <a:stretch/>
        </p:blipFill>
        <p:spPr>
          <a:xfrm>
            <a:off x="2050920" y="2133720"/>
            <a:ext cx="5884920" cy="2028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5" descr=""/>
          <p:cNvPicPr/>
          <p:nvPr/>
        </p:nvPicPr>
        <p:blipFill>
          <a:blip r:embed="rId6"/>
          <a:stretch/>
        </p:blipFill>
        <p:spPr>
          <a:xfrm>
            <a:off x="2050920" y="2133720"/>
            <a:ext cx="5884920" cy="2028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6" descr=""/>
          <p:cNvPicPr/>
          <p:nvPr/>
        </p:nvPicPr>
        <p:blipFill>
          <a:blip r:embed="rId7"/>
          <a:stretch/>
        </p:blipFill>
        <p:spPr>
          <a:xfrm>
            <a:off x="2050920" y="2133720"/>
            <a:ext cx="5884920" cy="2028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7" descr=""/>
          <p:cNvPicPr/>
          <p:nvPr/>
        </p:nvPicPr>
        <p:blipFill>
          <a:blip r:embed="rId8"/>
          <a:stretch/>
        </p:blipFill>
        <p:spPr>
          <a:xfrm>
            <a:off x="2050920" y="2133720"/>
            <a:ext cx="5884920" cy="20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7056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, симметричная относительно начала координат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501300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ωt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) =-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  (-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ωt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 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y =B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 sin ωt + B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 sin 2ωt + B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 sin 3ωt..+.. B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 sin kω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129440" cy="331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"/>
          <p:cNvPicPr/>
          <p:nvPr/>
        </p:nvPicPr>
        <p:blipFill>
          <a:blip r:embed="rId2"/>
          <a:stretch/>
        </p:blipFill>
        <p:spPr>
          <a:xfrm>
            <a:off x="971640" y="1341360"/>
            <a:ext cx="7129440" cy="3313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"/>
          <p:cNvPicPr/>
          <p:nvPr/>
        </p:nvPicPr>
        <p:blipFill>
          <a:blip r:embed="rId3"/>
          <a:stretch/>
        </p:blipFill>
        <p:spPr>
          <a:xfrm>
            <a:off x="971640" y="1341360"/>
            <a:ext cx="712944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йствующая величина несинусоидального тока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Действующая величина несинусоидального тока является средней квадратичной из постоянной составляющей и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действующих величин синусоидальных составляющих этого то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-4580640" y="310824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-4580640" y="310824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-4603680" y="3244680"/>
            <a:ext cx="3744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5T04:13:32Z</dcterms:created>
  <dc:creator>Пользователь</dc:creator>
  <dc:description/>
  <dc:language>en-US</dc:language>
  <cp:lastModifiedBy>USER</cp:lastModifiedBy>
  <dcterms:modified xsi:type="dcterms:W3CDTF">2018-11-24T01:43:44Z</dcterms:modified>
  <cp:revision>8</cp:revision>
  <dc:subject/>
  <dc:title>Слайд 1</dc:title>
</cp:coreProperties>
</file>