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6B94-2FE2-47A8-8FFD-4A8F3EDD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7673-10CC-4CC2-BB10-315773C3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D73C-CCB6-4C6D-A184-0FFDD4004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E46C-9D3A-4292-A810-C8C40A9C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F382-E686-4320-AFC9-9384B63C5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4640-4E81-4B85-8876-53842885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5436-A74C-4960-8CC7-DA8409CC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1102-3115-452C-A6F2-AA938B27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B363-E2AE-48C3-983C-45EA94D6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3ACF-6E22-4AB0-8E81-B2EFCC07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8198-1259-443E-AE02-6FB92DF2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218B-9B47-46E5-8334-EC0BF3F8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D0ED-65BE-4E7F-AC00-1BFE7528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242E-3134-41C4-9E1F-8E0CB8B5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489A-62AC-4751-BB6D-B03D8B52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50E3-F31E-428B-99DB-C00834FC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C30D-FC29-4A91-BCF7-78435611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B6036-5791-4CBA-A529-E6E93B68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88E7B-057D-424D-A446-24596856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D1C0F-BBBC-4079-8475-50789116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B1A63-605A-454D-BCED-728F2A31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76885-F582-46B8-B887-057AFFD2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E269-E76D-408F-B5EC-0977166E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6685A-CBD4-425A-8284-80E1E033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99B8D-E06F-4CC5-88E6-EF47B26E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E6D98-4065-47D0-95FB-35E5AC6A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A2F3F-2A29-4AC4-AE9D-A3F6EC2C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6FA26-EDB8-42F1-8BC5-51DC2B88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18206-D95A-43A8-8A42-E119D165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48FAF-5DCA-4ECC-A747-BF70DA66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ADCC-9DC9-47F7-8175-94808097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42CA-5FC5-4EC8-8DC7-F36C0D77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4414-6C5F-49DA-985C-4719573A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F86F-51DC-43ED-8279-F2C2B0A9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7872-B1D2-403D-987C-171CE33C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F4B1-55AE-4E23-8CBF-40289D95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4730-6692-4550-B21A-59B27E5A8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7966-AC2C-41F3-AD7B-5C705B72A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A30C-F187-4144-933E-E49575798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6280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66"/>
                </a:solidFill>
                <a:latin typeface="Times New Roman"/>
              </a:rPr>
              <a:t>«Педагогический потенциал пословиц  и поговорок о дружбе»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Содержимое 5" descr="4.jpg"/>
          <p:cNvPicPr/>
          <p:nvPr/>
        </p:nvPicPr>
        <p:blipFill>
          <a:blip r:embed="rId1"/>
          <a:stretch/>
        </p:blipFill>
        <p:spPr>
          <a:xfrm>
            <a:off x="1547640" y="1844640"/>
            <a:ext cx="5977080" cy="80247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427640" y="616572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годкина Гульнара Вакил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 считаю, что знакомство детей с пословицами и поговорками о дружбе несёт положительный результат потому, что, приобщая детей к восприятию пословиц и поговорок как фольклорного жанра, 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виваем нравственные качества лич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огащаем речь дет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виваем образное мышление детей, памя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ормируем у них высокий строй чувст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доставляем возможность ощутить радость познания красоты родного язы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Times New Roman"/>
              </a:rPr>
              <a:t>«Для чего нужны пословицы?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ловицы и поговорки являются важной частью нашей культуры, частью русского и башкирского народного фольклора, не имеют автора и передаются из уст в уста с древних времён. В них заключена мудрость, образ жизни и особенности менталитета нашего народа. Пословицы и поговорки охватывают множество сфер человеческой жизнедеятельности – труд, дружба, семья и другие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80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Пословица - это художественное произведение,       которое содержит широкое обобщение и воплощает его    в предельно краткой форме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14716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ловицы, поговорки – особый вид устной поэзии, веками  впитавшей в себя трудовой опыт многочисленных поколений. Через особую организацию, интонационную окраску, использование специфических языковых средств выразительности (сравнений, эпитетов) они передают отношение народа к тому или иному предмету или явлению. Пословицы и поговорки, как и другой жанр устного народного творчества, в художественных образах зафиксировали опыт прожитой жизни во всем его многообразии и противоречив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ловицы и поговорки - это сгустки народной мудрости, здравого смысла, ума, трудового и житейского опыта, это концентрированное выражение нравственно-эстетических и педагогических взглядов и оценок, выработанных народ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«Пословицы и поговорки формируют весь жизненный социально-исторический опыт трудового народа...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М.Горьк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Times New Roman"/>
              </a:rPr>
              <a:t>Пословицы, поговорки являются богатейшим материалом для развития звуковой культуры речи. Развивая чувство ритма и рифмы, мы готовим ребенка к дальнейшему восприятию  поэтической речи и формируем интонационную выразительность его речи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814716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уя в своей речи пословицы и поговорки, дети учатся ясно, лаконично, выразительно выражать свои мысли и чувства, интонационно окрашивая свою речь, развивается умение творчески использовать слово, умение образно описать предмет, дать ему яркую характеристи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ктуальной задачей речевого развития является выработка дикции. Известно, что у детей еще не достаточно координировано и четко работают органы речедвигательного аппарата. Некоторым детям присущи излишняя торопливость, нечеткое выговаривание слов, "проглатывание" окончаний. Наблюдается и другая крайность: излишне замедленная, растянутая манера произношения слов. Специальные упражнения помогают преодолевать детям такие трудности, совершенствуют их дикц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2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107200" cy="1139760"/>
          </a:xfrm>
          <a:prstGeom prst="rect">
            <a:avLst/>
          </a:prstGeom>
          <a:ln w="0">
            <a:noFill/>
          </a:ln>
        </p:spPr>
      </p:pic>
      <p:pic>
        <p:nvPicPr>
          <p:cNvPr id="263" name="Содержимое 3" descr="37b58a4d764c.gif"/>
          <p:cNvPicPr/>
          <p:nvPr/>
        </p:nvPicPr>
        <p:blipFill>
          <a:blip r:embed="rId2"/>
          <a:stretch/>
        </p:blipFill>
        <p:spPr>
          <a:xfrm>
            <a:off x="468360" y="2133720"/>
            <a:ext cx="3960720" cy="550548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4" descr="Пословицы о дружбе"/>
          <p:cNvPicPr/>
          <p:nvPr/>
        </p:nvPicPr>
        <p:blipFill>
          <a:blip r:embed="rId3"/>
          <a:stretch/>
        </p:blipFill>
        <p:spPr>
          <a:xfrm>
            <a:off x="5005440" y="2444760"/>
            <a:ext cx="3346560" cy="81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Times New Roman"/>
              </a:rPr>
              <a:t>Пословицы о дружбе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репкую дружбу и водой не разольёш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 имей сто рублей, а имей сто друз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овых друзей наживай, а старых не забыва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еловек без друзей, что сокол без крылье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ерево держится корнями, а человек - друзь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Эка дружба! Топором не разрубиш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арый друг лучше новых дву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imes New Roman"/>
              </a:rPr>
              <a:t>Поговорка – яркое, меткое народное выражение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брый друг лучше ста родствен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дин за всех и все за одног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ражда не делает добр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ва друга - мороз да вьюг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авда всего дорож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доверие убивает дружб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олько наговорил, что и в шапку не возьмеш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ихая вода берега подмывае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Методы по ознакомлению дошкольников с пословицам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ение воспита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идактические иг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икторины и развлеч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ставка рисунков по пословиц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01T10:14:51Z</dcterms:created>
  <dc:creator>User1</dc:creator>
  <dc:description/>
  <dc:language>en-US</dc:language>
  <cp:lastModifiedBy>User1</cp:lastModifiedBy>
  <dcterms:modified xsi:type="dcterms:W3CDTF">2018-12-11T09:24:23Z</dcterms:modified>
  <cp:revision>3</cp:revision>
  <dc:subject/>
  <dc:title>  ЧАСТНОЕ ОБРАЗОВАТЕЛЬНОЕ УЧРЕЖДЕНИЕ ВЫСШЕГО ОБРАЗОВАНИЯ«ВОСТОЧНАЯ ЭКОНОМИКО-ЮРИДИЧЕСКАЯ ГУМАНИТАРНАЯ АКАДЕМИЯ» (Академия ВЭГУ)    Направление – Педагогическое образование Направленность (профиль) – Дошкольное образование   </dc:title>
</cp:coreProperties>
</file>