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B71-9862-4EE7-AE8A-7EF98DBA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857-84CB-4E11-A5AF-7D4B6B38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EAF-B991-4DE7-94C1-6176573C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2B9-F54D-4228-9696-D83CAE15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6E40-1F8F-4378-B448-2AF07C1F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4C6-6B30-4E19-B6F6-A99E8294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A47A-7F5A-40CF-B5C4-69A9C2AD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BEFF-3175-4B4E-9F3B-E0B7D8F5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2DC6-7DD3-4015-8DDF-B00C110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6E0C-FBDB-4250-A945-F6C1E93F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A110-64AE-4FD7-8910-BE5FF64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807-1776-4E97-BCD0-DAD2E91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F19D-4A5A-4E38-B4A4-C4498EC3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7EAE-6EAB-4A5F-83EF-F9DFA5E0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D8C-ACC6-47CF-996A-39C27138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DF2C-3889-475C-AFCB-BC32CAED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C16D-0277-47BB-9A5C-B97034E5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BC56-D512-40A6-989E-8DBDFE46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09EA-0671-412E-B275-24B692A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426B-2F9C-43FF-A33E-8C633798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50A1-221C-478F-B09B-44F8992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2684-92D3-416E-88FC-C2E0A270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758-0673-461A-9BBA-847AA45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6962-C831-40D3-84CA-05649BE2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5AAF-0E47-4592-9B31-6A42B18C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D944-70D7-4C3B-A8BF-A1BE2454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013F-934B-4322-8253-95FC73B1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0723-3747-49FA-9767-AE264F89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F229-30D9-4DF9-B91D-B803101C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37649-055B-4BCF-B4FF-FE10C119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F75-59F7-4A3D-B26E-14AD5699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DCE-3FD5-426A-8900-1814C1CF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CFF-2821-4F47-A333-B9280C31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999-85DC-45A5-AAB4-C92C6CF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158-8911-4AD4-93CC-8A63752A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C99-C962-45BC-9739-208E7FE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267B-E3CE-4823-873E-A0DBAA52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5D54-0759-40AC-B036-C0C112583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8BF-0122-481F-8470-73129BCD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«Педагогический потенциал пословиц  и поговорок о дружбе»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Содержимое 5" descr="4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77080" cy="8024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427640" y="61657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годкина Гульнара Вакил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считаю, что знакомство детей с пословицами и поговорками о дружбе несёт положительный результат потому, что, приобщая детей к восприятию пословиц и поговорок как фольклорного жанра,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ваем нравственные качества лич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гащаем речь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ваем образное мышление детей, памя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уем у них высокий строй чув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оставляем возможность ощутить радость познания красоты родного язы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«Для чего нужны пословицы?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ловицы и поговорки являются важной частью нашей культуры, частью русского и башкирского народного фольклора, не имеют автора и передаются из уст в уста с древних времён. В них заключена мудрость, образ жизни и особенности менталитета нашего народа. Пословицы и поговорки охватывают множество сфер человеческой жизнедеятельности – труд, дружба, семья и другие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Пословица - это художественное произведение,       которое содержит широкое обобщение и воплощает его    в предельно краткой форм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147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овицы, поговорки – особый вид устной поэзии, веками  впитавшей в себя трудовой опыт многочисленных поколений. Через особую организацию, интонационную окраску, использование специфических языковых средств выразительности (сравнений, эпитетов) они передают отношение народа к тому или иному предмету или явлению. Пословицы и поговорки, как и другой жанр устного народного творчества, в художественных образах зафиксировали опыт прожитой жизни во всем его многообразии и противоречив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овицы и поговорки - это сгустки народной мудрости, здравого смысла, ума, трудового и житейского опыта, это концентрированное выражение нравственно-эстетических и педагогических взглядов и оценок, выработанных народ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«Пословицы и поговорки формируют весь жизненный социально-исторический опыт трудового народа...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М.Горь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Пословицы, поговорки являются богатейшим материалом для развития звуковой культуры речи. Развивая чувство ритма и рифмы, мы готовим ребенка к дальнейшему восприятию  поэтической речи и формируем интонационную выразительность его речи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я в своей речи пословицы и поговорки, дети учатся ясно, лаконично, выразительно выражать свои мысли и чувства, интонационно окрашивая свою речь, развивается умение творчески использовать слово, умение образно описать предмет, дать ему яркую характерист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уальной задачей речевого развития является выработка дикции. Известно, что у детей еще не достаточно координировано и четко работают органы речедвигательного аппарата. Некоторым детям присущи излишняя торопливость, нечеткое выговаривание слов, "проглатывание" окончаний. Наблюдается и другая крайность: излишне замедленная, растянутая манера произношения слов. Специальные упражнения помогают преодолевать детям такие трудности, совершенствуют их ди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07200" cy="113976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3" descr="37b58a4d764c.gif"/>
          <p:cNvPicPr/>
          <p:nvPr/>
        </p:nvPicPr>
        <p:blipFill>
          <a:blip r:embed="rId2"/>
          <a:stretch/>
        </p:blipFill>
        <p:spPr>
          <a:xfrm>
            <a:off x="468360" y="2133720"/>
            <a:ext cx="3960720" cy="55054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Пословицы о дружбе"/>
          <p:cNvPicPr/>
          <p:nvPr/>
        </p:nvPicPr>
        <p:blipFill>
          <a:blip r:embed="rId3"/>
          <a:stretch/>
        </p:blipFill>
        <p:spPr>
          <a:xfrm>
            <a:off x="5005440" y="2444760"/>
            <a:ext cx="3346560" cy="81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Times New Roman"/>
              </a:rPr>
              <a:t>Пословицы о дружб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епкую дружбу и водой не разольё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имей сто рублей, а имей сто друз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вых друзей наживай, а старых не забыва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без друзей, что сокол без крылье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рево держится корнями, а человек - друзь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а дружба! Топором не разруби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ый друг лучше новых дву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Поговорка – яркое, меткое народное выражение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ый друг лучше ста родстве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ин за всех и все за одн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ажда не делает доб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 друга - мороз да вью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да всего дорож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доверие убивает дружб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лько наговорил, что и в шапку не возьме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хая вода берега подмыва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Методы по ознакомлению дошкольников с пословиц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ение воспит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и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кторины и развл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тавка рисунков по пословиц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1T10:14:51Z</dcterms:created>
  <dc:creator>User1</dc:creator>
  <dc:description/>
  <dc:language>en-US</dc:language>
  <cp:lastModifiedBy>User1</cp:lastModifiedBy>
  <dcterms:modified xsi:type="dcterms:W3CDTF">2018-12-11T09:24:23Z</dcterms:modified>
  <cp:revision>3</cp:revision>
  <dc:subject/>
  <dc:title>  ЧАСТНОЕ ОБРАЗОВАТЕЛЬНОЕ УЧРЕЖДЕНИЕ ВЫСШЕГО ОБРАЗОВАНИЯ«ВОСТОЧНАЯ ЭКОНОМИКО-ЮРИДИЧЕСКАЯ ГУМАНИТАРНАЯ АКАДЕМИЯ» (Академия ВЭГУ)    Направление – Педагогическое образование Направленность (профиль) – Дошкольное образование   </dc:title>
</cp:coreProperties>
</file>