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AD6-FFF1-4CC5-B910-1D3A2746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20D-ACB7-4AF9-A477-9838B03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EBC-A2B5-48CF-9231-34602E79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8A0-E14E-4418-ACE4-7961AC55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F716-802A-4612-A018-C1F7310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B188-C31B-4022-816C-7A7E9E3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415-7003-4C6A-9E57-8238AFB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7AE-B8B9-473A-9009-4A70B3BF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1DC-A3FD-4380-9ACB-35929F0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1FE3-69D7-456D-A10E-E036A262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DC1-4E92-443C-A9DA-F7E21C0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748-160B-4ADC-A0FE-4C73A25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957B-1A5C-4C20-9404-AF58C0E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3758-F4E6-42A8-BCBE-2D0A62C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57D-8736-409C-83DF-2E419054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EB90-7D74-4847-8893-E64ED5CE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FEC-993E-45CA-ADA6-3EF9B3F9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25958-9FC0-4F2B-83E9-3B218BBC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B17F8-BE63-4834-96AB-D8EA5F37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60FD9-1F82-4076-BBE8-77B45E1F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323A-CC22-44F7-9CCC-E6E64A6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C57B7-B810-491F-AF40-FDF0FD0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8E9-71D0-472C-B175-D5664C2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DD8E9-F881-4C29-80EF-3D5887D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49024-4477-4F35-9484-A5FC341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8EE63-4476-4332-B15D-A1DAB5C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192D2-5321-4B0C-A0BB-CD1C870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D80FC-9CE9-43C8-8B30-1FE664B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31B5F-9001-4A0D-A30D-75B7B10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E4A66-4C57-435D-ABDE-E111F65E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61D73-60A3-449D-B4AC-C16EFFF1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1895E-CC07-4D1F-AE7D-5D992FC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168B5-0050-4DB3-91D4-EA09B3F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41F-F2AA-4BDC-B697-D233B34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73C66-235E-4118-A098-F366FEF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4F662-3164-453F-B06D-A2C2BBB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7BD23-40E9-497A-9538-E78DF819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6788E-09FF-48DC-8D75-3DC4221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3A547-4EB0-4AF7-8E30-445A34F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4DFFB-0BE0-467B-BF7A-4173827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27C1A-1F96-4A86-8698-1FFD36C8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72E1B-69F5-4881-B702-A7D3157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0DC35-BC0E-457B-90B0-06F927F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57DEB-B78E-4A03-BB39-09FD76C1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85E-5B9A-4234-89C3-5F8975A3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A07DF-2E0B-4C95-81C0-138D30DB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296CD-B2EF-4389-9318-0434CAF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FD491-8ED7-4C51-9C31-0B590023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59593-5956-486F-B64C-31E8476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B4236-3C03-4849-B771-C7FD072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9845F-483B-46DF-A723-94D88D61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B31A6-6450-4E04-A55E-587B678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142F2-9093-433D-88E1-CA3FE5A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26145-E163-481F-9CF2-AABD5577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E6EBC-FA7E-473A-95A6-53B08C05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148-9E07-4D4E-8FB3-75CE5CB8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1C88C-120E-4212-BB21-84A1BAC9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CE55-2C29-497A-A0AF-28DC8B37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FE31-B216-471A-AC48-E436894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0023-65B5-4C19-8F88-E594703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B66F-27A5-4C34-9C80-02367B2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168F-546F-4DC5-91DB-7ADE52B2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1D9A-773B-4F07-B6D1-C526D75F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52FE-032A-44A2-BCA4-F66AE1A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0428E-3060-4A7C-A04E-7474CF0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03E9-A87E-41D8-AD84-5EDB41E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CE1-000C-40A0-B736-365F652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FE93-8149-4171-A2E4-D794B675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05996-20BE-46D6-A803-0A694433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357A-7E85-4B22-8423-F3204B09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45912-45E5-4073-8805-75CA004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A84FC-423D-4FC7-A97F-B13F309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0B87E-84CE-4737-BB3B-2B80CA4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79177-2BF4-4264-9D0A-E56144A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477A7-EE3A-4292-A503-612D7C3B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9A58B-EEF2-4751-8F61-9D4CFD4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8A493-4616-4122-B201-61818BE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D94-E7B5-40FF-9709-7AFA67A6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2EDC7-112F-4BA3-A748-DF540C1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8BE3D-F039-4520-9EC1-A1C7B21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12A8A-5A0F-4D1B-AD67-536FC66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86E59-980F-4088-B126-50D13C81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F6D3F-13A7-4913-BAE1-EC7CBDCF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FB2A-DD98-4EB0-BA1C-1D79264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0F5D0-DF6C-482D-B7D7-ED4E7B7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C9E0-9064-422C-A874-FC206540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781B1-16CE-4BF2-9F86-E94F8537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053F-1142-4FEE-9117-92A82C3D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9E6-9DA3-409D-8144-6DF470F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D9D0-97D6-495E-829C-B5AD4403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3580-FB57-4AA6-A3E1-F7E5A05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6124-2C25-4E78-82FE-7B211435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D49D5-D7AF-4EB2-8F87-C8022B2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6907-C287-4027-A64D-81F6452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7314A-485B-455D-9357-D4A3E71B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CD4C-E013-4A0F-84FB-B095EFA8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4526-F2C3-4C1A-8435-7E3785F12E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273-9FAD-463F-B75A-029E4598939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EE51-A103-4ED4-9473-486C8896803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B1FF-6437-4B0B-B932-97BB646F7B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BDC4-4526-4B02-AB26-0A9F5A47D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6ECD-BA14-4EC2-92BD-8962C667580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157-5891-4903-A815-4A1A575D28D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F6B0-FB23-4F19-8F7E-33A867CAFE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СЕНСОРНЫЕ ЭКРАН</a:t>
            </a:r>
            <a:r>
              <a:rPr b="0" lang="ru-RU" sz="4800" spc="-1" strike="noStrike">
                <a:solidFill>
                  <a:srgbClr val="ebddc3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 РЕЗИСТИВНОГО И ЕМКОСТНОГО ТИПА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Морозов Александр, Николаев Максим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Vorgan\Desktop\Asus-EeePC-T91MT-2.jpg"/>
          <p:cNvPicPr/>
          <p:nvPr/>
        </p:nvPicPr>
        <p:blipFill>
          <a:blip r:embed="rId1"/>
          <a:stretch/>
        </p:blipFill>
        <p:spPr>
          <a:xfrm>
            <a:off x="0" y="-374760"/>
            <a:ext cx="9644040" cy="72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C:\Users\Vorgan\Desktop\vifash_Doctor-Hurst.jpg"/>
          <p:cNvPicPr/>
          <p:nvPr/>
        </p:nvPicPr>
        <p:blipFill>
          <a:blip r:embed="rId1"/>
          <a:stretch/>
        </p:blipFill>
        <p:spPr>
          <a:xfrm>
            <a:off x="2152800" y="1573200"/>
            <a:ext cx="4714560" cy="52214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эмюэль Херс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C:\Users\Vorgan\Desktop\o_e4aeed9e8e8caa9a47efb550685647e5bcaed90f.jpg"/>
          <p:cNvPicPr/>
          <p:nvPr/>
        </p:nvPicPr>
        <p:blipFill>
          <a:blip r:embed="rId1"/>
          <a:stretch/>
        </p:blipFill>
        <p:spPr>
          <a:xfrm>
            <a:off x="1357200" y="164304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Элограф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Приме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атежные терминал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нформационные киоски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рманные компьютер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бильные телефон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C:\Users\Vorgan\Desktop\dogovor_na_ystanovky_terminalov.jpg"/>
          <p:cNvPicPr/>
          <p:nvPr/>
        </p:nvPicPr>
        <p:blipFill>
          <a:blip r:embed="rId1"/>
          <a:stretch/>
        </p:blipFill>
        <p:spPr>
          <a:xfrm>
            <a:off x="6186600" y="0"/>
            <a:ext cx="2957400" cy="6815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Vorgan\Desktop\1274612330_htc-wildfire-1.jpg"/>
          <p:cNvPicPr/>
          <p:nvPr/>
        </p:nvPicPr>
        <p:blipFill>
          <a:blip r:embed="rId2"/>
          <a:stretch/>
        </p:blipFill>
        <p:spPr>
          <a:xfrm>
            <a:off x="4286160" y="3691080"/>
            <a:ext cx="1928880" cy="316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Vorgan\Desktop\HTC-T5555-Touch-HD-mini-2.jpg"/>
          <p:cNvPicPr/>
          <p:nvPr/>
        </p:nvPicPr>
        <p:blipFill>
          <a:blip r:embed="rId3"/>
          <a:srcRect l="3566" t="2081" r="0" b="0"/>
          <a:stretch/>
        </p:blipFill>
        <p:spPr>
          <a:xfrm>
            <a:off x="2214720" y="3821040"/>
            <a:ext cx="2000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Резистивный сенсорный экр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C:\Users\Vorgan\Desktop\6331733942_0a338404e3.jpg"/>
          <p:cNvPicPr/>
          <p:nvPr/>
        </p:nvPicPr>
        <p:blipFill>
          <a:blip r:embed="rId1"/>
          <a:stretch/>
        </p:blipFill>
        <p:spPr>
          <a:xfrm>
            <a:off x="1281240" y="1549440"/>
            <a:ext cx="6953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Емкостный сенсорный экр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5" name="Picture 2" descr="C:\Users\Vorgan\Desktop\1321251556_pic3.png"/>
          <p:cNvPicPr/>
          <p:nvPr/>
        </p:nvPicPr>
        <p:blipFill>
          <a:blip r:embed="rId1"/>
          <a:stretch/>
        </p:blipFill>
        <p:spPr>
          <a:xfrm>
            <a:off x="2071800" y="1500120"/>
            <a:ext cx="506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2558880"/>
                <a:gridCol w="3329280"/>
                <a:gridCol w="3255840"/>
              </a:tblGrid>
              <a:tr h="37800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зис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мк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имость в помещ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имость на солн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ох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увствительность к прикоснов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ля взаимодействия с экраном требуется создавать д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работает с неживыми предметами, ногтями, пальцами в перча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чность соответствует пиксельному разрешению, что можно увидеть рисуя на экране стилу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оретически, точность в несколько пикселей, но на практике, точность определяется размером паль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хний слой достаточно мягкий для нажатия и вдавлива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честве внешнего слоя можно использовать стек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ловия эксплуа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ет при температурах от -15°C до +55°C и при любых, возможных в реальных условиях, влажност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ипичная рабочая температура от 0°C до 35°C, требуется не менее 5% вла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3:05:48Z</dcterms:created>
  <dc:creator>Vorgan</dc:creator>
  <dc:description/>
  <dc:language>en-US</dc:language>
  <cp:lastModifiedBy>zubova_nf</cp:lastModifiedBy>
  <dcterms:modified xsi:type="dcterms:W3CDTF">2012-10-14T23:11:39Z</dcterms:modified>
  <cp:revision>14</cp:revision>
  <dc:subject/>
  <dc:title>Сенсорные экрана резистивного и емкостного типа</dc:title>
</cp:coreProperties>
</file>