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A1BC-1B46-47B7-812B-015611A6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3982-9FCF-4613-9F34-3EC9CC93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2CD4-FA4F-45DE-B210-B5712B41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211D-14EA-4279-8E38-9D7A8C5DD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EC30-D83B-4652-B644-BBC4E419A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961A-CFAD-41D3-B29C-AAE9FC23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50E1-259D-49D6-A2C9-6BBFEEE6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8EAA-0BBA-4195-9117-FB867B13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D668-D2EF-47FF-B415-8E4504B1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5D34-EE2E-4993-B7CC-ACE7AA29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4816-8BCD-43BF-998A-FFB882BD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49BF-3821-4D71-94D4-E988F352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BB36-91C6-48AE-A7EF-9F939AEB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976C-0650-46D0-94BD-C81C5FAD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A689-2059-4C39-9DEA-C8A443FD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1FCD-9B2A-4150-8F33-B0727C1D1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18DF-4205-4B29-AE6E-1CF736124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B7D624-11CF-435D-A901-6022BD06C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027B26-C863-4CCC-9724-30A8BF7D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B8BE81-3DDC-42E4-BF1E-BA8053E2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FE05E3-5D93-4E2F-BC5C-62EBA741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8A3DDA-6D1C-466B-B2B6-3A1EC484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D858-D3D2-4F62-BE81-2B16F010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F1F26D-21BF-4193-8A5F-977D00CD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C38E9B-4261-4FE7-BA41-BE878D20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BDB351-A218-4368-9044-81BBDD23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CECE5C-A14D-4022-850C-3F7EF86F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BC14F4-FB88-47AD-809B-4BFB5BD5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CCD57B-64BE-414B-8D75-2DF510BC2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1E79F1-7710-4A30-BB0E-D150B2969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C4A011-4D47-4E49-99CB-6058E1BA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1E5DEB-B524-490F-86F0-D464F731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0D04CA-0F03-49BF-AA54-7037695A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68E0-249E-4757-97FC-FCB066B7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3990DD-E418-4A87-B390-B9F5E8C9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E11300-B52D-482C-83A6-FDA7FCDA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C643E2-F05E-4DC4-8C05-5E9748E9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EC1A2A-375F-4D24-AA2B-387BC085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E4092D-1C8F-40F6-94AA-829DB74B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E75350-8FBB-4412-A9D6-390F4B12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8FC866-AAD7-4773-A12A-D080D132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89566F-E55A-4AEF-8319-270686961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831880-07D8-489D-ABC8-5175C9F4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213396-930C-43ED-8FFA-B78FCF90B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15D6-A7BB-4AEF-8EF6-DD111B27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618B8A-88BB-4A8A-92D7-4F3A08CB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BE8A93-4BF5-4CF2-9A57-3A4CF321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423169-5E4C-4E57-82AB-34E1649B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1CDB01-C710-4837-A725-D19E7601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DA9592-FAAA-4890-A0E8-F5A3162C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B2EFA2-48EB-4017-B11C-E7986540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B254BD-8402-47DA-947F-FC1ED9F7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BD2444-269A-40EC-B848-27AAE736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F728A0-739B-49FA-B531-B975BC53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D3C334-11C9-4DC9-B4DE-C341AC6E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766B-91FF-4CED-925F-66E1EBB5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554550-BA90-496E-86DE-FE7E82C4C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AAA95-F75E-44F1-B118-B28CC5908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DC2B1-C792-4ABF-A279-60E8C8C4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5A13A-285B-4B9A-BB62-97A02F2A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C7F11-621E-4226-968A-5D78FBA0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16B41-6513-46FC-A1AA-B1C22D25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0E6A3-FA55-4D4E-BC8F-2C5BD075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CC74C-4A5A-4649-A223-A82A2457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E2D90-7EB7-47D5-88F9-5FFBC3C1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25F58-4F20-41B2-85D8-4EBC0DF0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1AE0-7425-4876-AA6B-EA0EE7B2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13AF5-224A-487E-B18F-1CFDE95C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D82B2-745C-4850-B1FB-947D3D9A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298E6-384A-4611-9946-BDE9F4694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023CBF-9489-44B6-86FB-372A4AB0C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81A4C1-2397-4F57-9949-57573A37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12B1F3-E9F4-4814-8A9F-3AA69E97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8C6BAE-F024-4DCE-BC95-6060DD6A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085653-2208-4B5A-B774-3D2C9ABD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0B33EF-B179-44F9-9F2B-3150EDDF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987002-2E47-4440-975A-31B863F0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89B9-119E-403F-AB9C-FD14F3CF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B158EC-9E59-437D-959C-7C02167D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C68A5B-7BFB-4B62-8E37-3D871478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E5C40C-2AF7-434F-B655-25090B35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D8570A-296B-4C50-AF14-FDB6E614D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D969B0-2C08-4165-A6AA-1D63F3C4D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05271-E3D7-4D6A-94E4-6B93E270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F9544-8CDC-4ECE-8BF5-4CF8F869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A5572-09F0-4F13-97DF-2B82226A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9319D-69CC-4FEB-ADBC-608C8041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E0419-6403-4111-80B0-31F0223B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83DF-F86D-4118-8148-074CD8DA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D091B-58BA-4246-813A-A72E5DDE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AC09A-9BB6-421F-B7B4-7CC6B668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486DC-3A4A-4DCB-B2D9-07387343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D6332-95C1-40DE-AFDE-6F3B9F3C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960CB-0826-45A9-B2ED-35315C43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7AF72-3C1B-4E22-8F1E-ED1B091D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EF77B-6039-4FC7-8592-E02718D93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7CB9-DB61-43AE-A957-C6039B8C87D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EBB1-0023-4B96-B3EF-E66773D39FF0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EE7E-88B5-422A-82FA-62B5824250BB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A7B4-1862-495B-9407-BE2D6A8691C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2EF7-C325-47BF-9690-CA7F46D449E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0522-5F8D-45C0-8316-B2F23C2CD2E2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EF91-BE6F-4527-9E47-CC84BC826087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2452-8058-4E18-B8F3-F7AE8E62BCC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dc3"/>
                </a:solidFill>
                <a:latin typeface="Calibri"/>
              </a:rPr>
              <a:t>СЕНСОРНЫЕ ЭКРАН</a:t>
            </a:r>
            <a:r>
              <a:rPr b="0" lang="ru-RU" sz="4800" spc="-1" strike="noStrike">
                <a:solidFill>
                  <a:srgbClr val="ebddc3"/>
                </a:solidFill>
                <a:latin typeface="Arial"/>
              </a:rPr>
              <a:t>ы</a:t>
            </a:r>
            <a:r>
              <a:rPr b="0" lang="ru-RU" sz="4000" spc="-1" strike="noStrike">
                <a:solidFill>
                  <a:srgbClr val="ebddc3"/>
                </a:solidFill>
                <a:latin typeface="Calibri"/>
              </a:rPr>
              <a:t> РЕЗИСТИВНОГО И ЕМКОСТНОГО ТИПА</a:t>
            </a:r>
            <a:endParaRPr b="0" lang="en-US" sz="40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Морозов Александр, Николаев Максим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C:\Users\Vorgan\Desktop\Asus-EeePC-T91MT-2.jpg"/>
          <p:cNvPicPr/>
          <p:nvPr/>
        </p:nvPicPr>
        <p:blipFill>
          <a:blip r:embed="rId1"/>
          <a:stretch/>
        </p:blipFill>
        <p:spPr>
          <a:xfrm>
            <a:off x="0" y="-374760"/>
            <a:ext cx="9644040" cy="723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C:\Users\Vorgan\Desktop\vifash_Doctor-Hurst.jpg"/>
          <p:cNvPicPr/>
          <p:nvPr/>
        </p:nvPicPr>
        <p:blipFill>
          <a:blip r:embed="rId1"/>
          <a:stretch/>
        </p:blipFill>
        <p:spPr>
          <a:xfrm>
            <a:off x="2152800" y="1573200"/>
            <a:ext cx="4714560" cy="522144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Сэмюэль Херст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3" descr="C:\Users\Vorgan\Desktop\o_e4aeed9e8e8caa9a47efb550685647e5bcaed90f.jpg"/>
          <p:cNvPicPr/>
          <p:nvPr/>
        </p:nvPicPr>
        <p:blipFill>
          <a:blip r:embed="rId1"/>
          <a:stretch/>
        </p:blipFill>
        <p:spPr>
          <a:xfrm>
            <a:off x="1357200" y="1643040"/>
            <a:ext cx="6643800" cy="498312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Элограф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Применение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71680" y="164304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латежные терминалы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нформационные киоски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арманные компьютеры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Мобильные телефоны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 др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Picture 2" descr="C:\Users\Vorgan\Desktop\dogovor_na_ystanovky_terminalov.jpg"/>
          <p:cNvPicPr/>
          <p:nvPr/>
        </p:nvPicPr>
        <p:blipFill>
          <a:blip r:embed="rId1"/>
          <a:stretch/>
        </p:blipFill>
        <p:spPr>
          <a:xfrm>
            <a:off x="6186600" y="0"/>
            <a:ext cx="2957400" cy="68151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C:\Users\Vorgan\Desktop\1274612330_htc-wildfire-1.jpg"/>
          <p:cNvPicPr/>
          <p:nvPr/>
        </p:nvPicPr>
        <p:blipFill>
          <a:blip r:embed="rId2"/>
          <a:stretch/>
        </p:blipFill>
        <p:spPr>
          <a:xfrm>
            <a:off x="4286160" y="3691080"/>
            <a:ext cx="1928880" cy="31669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C:\Users\Vorgan\Desktop\HTC-T5555-Touch-HD-mini-2.jpg"/>
          <p:cNvPicPr/>
          <p:nvPr/>
        </p:nvPicPr>
        <p:blipFill>
          <a:blip r:embed="rId3"/>
          <a:srcRect l="3566" t="2081" r="0" b="0"/>
          <a:stretch/>
        </p:blipFill>
        <p:spPr>
          <a:xfrm>
            <a:off x="2214720" y="3821040"/>
            <a:ext cx="200016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Резистивный сенсорный экран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63" name="Picture 2" descr="C:\Users\Vorgan\Desktop\6331733942_0a338404e3.jpg"/>
          <p:cNvPicPr/>
          <p:nvPr/>
        </p:nvPicPr>
        <p:blipFill>
          <a:blip r:embed="rId1"/>
          <a:stretch/>
        </p:blipFill>
        <p:spPr>
          <a:xfrm>
            <a:off x="1281240" y="1549440"/>
            <a:ext cx="69530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Емкостный сенсорный экран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65" name="Picture 2" descr="C:\Users\Vorgan\Desktop\1321251556_pic3.png"/>
          <p:cNvPicPr/>
          <p:nvPr/>
        </p:nvPicPr>
        <p:blipFill>
          <a:blip r:embed="rId1"/>
          <a:stretch/>
        </p:blipFill>
        <p:spPr>
          <a:xfrm>
            <a:off x="2071800" y="1500120"/>
            <a:ext cx="50608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0" y="0"/>
          <a:ext cx="9144000" cy="6877080"/>
        </p:xfrm>
        <a:graphic>
          <a:graphicData uri="http://schemas.openxmlformats.org/drawingml/2006/table">
            <a:tbl>
              <a:tblPr/>
              <a:tblGrid>
                <a:gridCol w="2558880"/>
                <a:gridCol w="3329280"/>
                <a:gridCol w="3255840"/>
              </a:tblGrid>
              <a:tr h="378000"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2040" marR="32040">
                    <a:lnL w="5760">
                      <a:solidFill>
                        <a:srgbClr val="535353"/>
                      </a:solidFill>
                    </a:lnL>
                    <a:lnR w="5760">
                      <a:solidFill>
                        <a:srgbClr val="535353"/>
                      </a:solidFill>
                    </a:lnR>
                    <a:lnT w="5760">
                      <a:solidFill>
                        <a:srgbClr val="535353"/>
                      </a:solidFill>
                    </a:lnT>
                    <a:lnB w="5760">
                      <a:solidFill>
                        <a:srgbClr val="53535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езистив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2040" marR="32040">
                    <a:lnL w="5760">
                      <a:solidFill>
                        <a:srgbClr val="535353"/>
                      </a:solidFill>
                    </a:lnL>
                    <a:lnR w="5760">
                      <a:solidFill>
                        <a:srgbClr val="535353"/>
                      </a:solidFill>
                    </a:lnR>
                    <a:lnT w="5760">
                      <a:solidFill>
                        <a:srgbClr val="535353"/>
                      </a:solidFill>
                    </a:lnT>
                    <a:lnB w="5760">
                      <a:solidFill>
                        <a:srgbClr val="535353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мкост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2040" marR="32040">
                    <a:lnL w="5760">
                      <a:solidFill>
                        <a:srgbClr val="535353"/>
                      </a:solidFill>
                    </a:lnL>
                    <a:lnR w="5760">
                      <a:solidFill>
                        <a:srgbClr val="535353"/>
                      </a:solidFill>
                    </a:lnR>
                    <a:lnT w="5760">
                      <a:solidFill>
                        <a:srgbClr val="535353"/>
                      </a:solidFill>
                    </a:lnT>
                    <a:lnB w="5760">
                      <a:solidFill>
                        <a:srgbClr val="535353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идимость в помещ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2040" marR="32040">
                    <a:lnL w="5760">
                      <a:solidFill>
                        <a:srgbClr val="535353"/>
                      </a:solidFill>
                    </a:lnL>
                    <a:lnR w="5760">
                      <a:solidFill>
                        <a:srgbClr val="535353"/>
                      </a:solidFill>
                    </a:lnR>
                    <a:lnT w="5760">
                      <a:solidFill>
                        <a:srgbClr val="535353"/>
                      </a:solidFill>
                    </a:lnT>
                    <a:lnB w="5760">
                      <a:solidFill>
                        <a:srgbClr val="535353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чень хорош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2040" marR="32040">
                    <a:lnL w="5760">
                      <a:solidFill>
                        <a:srgbClr val="535353"/>
                      </a:solidFill>
                    </a:lnL>
                    <a:lnR w="5760">
                      <a:solidFill>
                        <a:srgbClr val="535353"/>
                      </a:solidFill>
                    </a:lnR>
                    <a:lnT w="5760">
                      <a:solidFill>
                        <a:srgbClr val="535353"/>
                      </a:solidFill>
                    </a:lnT>
                    <a:lnB w="5760">
                      <a:solidFill>
                        <a:srgbClr val="535353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чень хорош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2040" marR="32040">
                    <a:lnL w="5760">
                      <a:solidFill>
                        <a:srgbClr val="535353"/>
                      </a:solidFill>
                    </a:lnL>
                    <a:lnR w="5760">
                      <a:solidFill>
                        <a:srgbClr val="535353"/>
                      </a:solidFill>
                    </a:lnR>
                    <a:lnT w="5760">
                      <a:solidFill>
                        <a:srgbClr val="535353"/>
                      </a:solidFill>
                    </a:lnT>
                    <a:lnB w="5760">
                      <a:solidFill>
                        <a:srgbClr val="535353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идимость на солнц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2040" marR="32040">
                    <a:lnL w="5760">
                      <a:solidFill>
                        <a:srgbClr val="535353"/>
                      </a:solidFill>
                    </a:lnL>
                    <a:lnR w="5760">
                      <a:solidFill>
                        <a:srgbClr val="535353"/>
                      </a:solidFill>
                    </a:lnR>
                    <a:lnT w="5760">
                      <a:solidFill>
                        <a:srgbClr val="535353"/>
                      </a:solidFill>
                    </a:lnT>
                    <a:lnB w="5760">
                      <a:solidFill>
                        <a:srgbClr val="535353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лох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2040" marR="32040">
                    <a:lnL w="5760">
                      <a:solidFill>
                        <a:srgbClr val="535353"/>
                      </a:solidFill>
                    </a:lnL>
                    <a:lnR w="5760">
                      <a:solidFill>
                        <a:srgbClr val="535353"/>
                      </a:solidFill>
                    </a:lnR>
                    <a:lnT w="5760">
                      <a:solidFill>
                        <a:srgbClr val="535353"/>
                      </a:solidFill>
                    </a:lnT>
                    <a:lnB w="5760">
                      <a:solidFill>
                        <a:srgbClr val="535353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чень хорош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2040" marR="32040">
                    <a:lnL w="5760">
                      <a:solidFill>
                        <a:srgbClr val="535353"/>
                      </a:solidFill>
                    </a:lnL>
                    <a:lnR w="5760">
                      <a:solidFill>
                        <a:srgbClr val="535353"/>
                      </a:solidFill>
                    </a:lnR>
                    <a:lnT w="5760">
                      <a:solidFill>
                        <a:srgbClr val="535353"/>
                      </a:solidFill>
                    </a:lnT>
                    <a:lnB w="5760">
                      <a:solidFill>
                        <a:srgbClr val="535353"/>
                      </a:solidFill>
                    </a:lnB>
                    <a:noFill/>
                  </a:tcPr>
                </a:tc>
              </a:tr>
              <a:tr h="1214640"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увствительность к прикоснов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2040" marR="32040">
                    <a:lnL w="5760">
                      <a:solidFill>
                        <a:srgbClr val="535353"/>
                      </a:solidFill>
                    </a:lnL>
                    <a:lnR w="5760">
                      <a:solidFill>
                        <a:srgbClr val="535353"/>
                      </a:solidFill>
                    </a:lnR>
                    <a:lnT w="5760">
                      <a:solidFill>
                        <a:srgbClr val="535353"/>
                      </a:solidFill>
                    </a:lnT>
                    <a:lnB w="5760">
                      <a:solidFill>
                        <a:srgbClr val="535353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ля взаимодействия с экраном требуется создавать д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2040" marR="32040">
                    <a:lnL w="5760">
                      <a:solidFill>
                        <a:srgbClr val="535353"/>
                      </a:solidFill>
                    </a:lnL>
                    <a:lnR w="5760">
                      <a:solidFill>
                        <a:srgbClr val="535353"/>
                      </a:solidFill>
                    </a:lnR>
                    <a:lnT w="5760">
                      <a:solidFill>
                        <a:srgbClr val="535353"/>
                      </a:solidFill>
                    </a:lnT>
                    <a:lnB w="5760">
                      <a:solidFill>
                        <a:srgbClr val="535353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 работает с неживыми предметами, ногтями, пальцами в перчатк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2040" marR="32040">
                    <a:lnL w="5760">
                      <a:solidFill>
                        <a:srgbClr val="535353"/>
                      </a:solidFill>
                    </a:lnL>
                    <a:lnR w="5760">
                      <a:solidFill>
                        <a:srgbClr val="535353"/>
                      </a:solidFill>
                    </a:lnR>
                    <a:lnT w="5760">
                      <a:solidFill>
                        <a:srgbClr val="535353"/>
                      </a:solidFill>
                    </a:lnT>
                    <a:lnB w="5760">
                      <a:solidFill>
                        <a:srgbClr val="535353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оч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2040" marR="32040">
                    <a:lnL w="5760">
                      <a:solidFill>
                        <a:srgbClr val="535353"/>
                      </a:solidFill>
                    </a:lnL>
                    <a:lnR w="5760">
                      <a:solidFill>
                        <a:srgbClr val="535353"/>
                      </a:solidFill>
                    </a:lnR>
                    <a:lnT w="5760">
                      <a:solidFill>
                        <a:srgbClr val="535353"/>
                      </a:solidFill>
                    </a:lnT>
                    <a:lnB w="5760">
                      <a:solidFill>
                        <a:srgbClr val="535353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очность соответствует пиксельному разрешению, что можно увидеть рисуя на экране стилус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2040" marR="32040">
                    <a:lnL w="5760">
                      <a:solidFill>
                        <a:srgbClr val="535353"/>
                      </a:solidFill>
                    </a:lnL>
                    <a:lnR w="5760">
                      <a:solidFill>
                        <a:srgbClr val="535353"/>
                      </a:solidFill>
                    </a:lnR>
                    <a:lnT w="5760">
                      <a:solidFill>
                        <a:srgbClr val="535353"/>
                      </a:solidFill>
                    </a:lnT>
                    <a:lnB w="5760">
                      <a:solidFill>
                        <a:srgbClr val="535353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оретически, точность в несколько пикселей, но на практике, точность определяется размером паль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2040" marR="32040">
                    <a:lnL w="5760">
                      <a:solidFill>
                        <a:srgbClr val="535353"/>
                      </a:solidFill>
                    </a:lnL>
                    <a:lnR w="5760">
                      <a:solidFill>
                        <a:srgbClr val="535353"/>
                      </a:solidFill>
                    </a:lnR>
                    <a:lnT w="5760">
                      <a:solidFill>
                        <a:srgbClr val="535353"/>
                      </a:solidFill>
                    </a:lnT>
                    <a:lnB w="5760">
                      <a:solidFill>
                        <a:srgbClr val="535353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ч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2040" marR="32040">
                    <a:lnL w="5760">
                      <a:solidFill>
                        <a:srgbClr val="535353"/>
                      </a:solidFill>
                    </a:lnL>
                    <a:lnR w="5760">
                      <a:solidFill>
                        <a:srgbClr val="535353"/>
                      </a:solidFill>
                    </a:lnR>
                    <a:lnT w="5760">
                      <a:solidFill>
                        <a:srgbClr val="535353"/>
                      </a:solidFill>
                    </a:lnT>
                    <a:lnB w="5760">
                      <a:solidFill>
                        <a:srgbClr val="535353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ерхний слой достаточно мягкий для нажатия и вдавливани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2040" marR="32040">
                    <a:lnL w="5760">
                      <a:solidFill>
                        <a:srgbClr val="535353"/>
                      </a:solidFill>
                    </a:lnL>
                    <a:lnR w="5760">
                      <a:solidFill>
                        <a:srgbClr val="535353"/>
                      </a:solidFill>
                    </a:lnR>
                    <a:lnT w="5760">
                      <a:solidFill>
                        <a:srgbClr val="535353"/>
                      </a:solidFill>
                    </a:lnT>
                    <a:lnB w="5760">
                      <a:solidFill>
                        <a:srgbClr val="535353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 качестве внешнего слоя можно использовать стек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2040" marR="32040">
                    <a:lnL w="5760">
                      <a:solidFill>
                        <a:srgbClr val="535353"/>
                      </a:solidFill>
                    </a:lnL>
                    <a:lnR w="5760">
                      <a:solidFill>
                        <a:srgbClr val="535353"/>
                      </a:solidFill>
                    </a:lnR>
                    <a:lnT w="5760">
                      <a:solidFill>
                        <a:srgbClr val="535353"/>
                      </a:solidFill>
                    </a:lnT>
                    <a:lnB w="5760">
                      <a:solidFill>
                        <a:srgbClr val="535353"/>
                      </a:solidFill>
                    </a:lnB>
                    <a:noFill/>
                  </a:tcPr>
                </a:tc>
              </a:tr>
              <a:tr h="1214640"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словия эксплуат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2040" marR="32040">
                    <a:lnL w="5760">
                      <a:solidFill>
                        <a:srgbClr val="535353"/>
                      </a:solidFill>
                    </a:lnL>
                    <a:lnR w="5760">
                      <a:solidFill>
                        <a:srgbClr val="535353"/>
                      </a:solidFill>
                    </a:lnR>
                    <a:lnT w="5760">
                      <a:solidFill>
                        <a:srgbClr val="535353"/>
                      </a:solidFill>
                    </a:lnT>
                    <a:lnB w="5760">
                      <a:solidFill>
                        <a:srgbClr val="535353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ботает при температурах от -15°C до +55°C и при любых, возможных в реальных условиях, влажностя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2040" marR="32040">
                    <a:lnL w="5760">
                      <a:solidFill>
                        <a:srgbClr val="535353"/>
                      </a:solidFill>
                    </a:lnL>
                    <a:lnR w="5760">
                      <a:solidFill>
                        <a:srgbClr val="535353"/>
                      </a:solidFill>
                    </a:lnR>
                    <a:lnT w="5760">
                      <a:solidFill>
                        <a:srgbClr val="535353"/>
                      </a:solidFill>
                    </a:lnT>
                    <a:lnB w="5760">
                      <a:solidFill>
                        <a:srgbClr val="535353"/>
                      </a:solidFill>
                    </a:lnB>
                    <a:noFill/>
                  </a:tcPr>
                </a:tc>
                <a:tc>
                  <a:txBody>
                    <a:bodyPr lIns="32040" rIns="320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ипичная рабочая температура от 0°C до 35°C, требуется не менее 5% влаж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2040" marR="32040">
                    <a:lnL w="5760">
                      <a:solidFill>
                        <a:srgbClr val="535353"/>
                      </a:solidFill>
                    </a:lnL>
                    <a:lnR w="5760">
                      <a:solidFill>
                        <a:srgbClr val="535353"/>
                      </a:solidFill>
                    </a:lnR>
                    <a:lnT w="5760">
                      <a:solidFill>
                        <a:srgbClr val="535353"/>
                      </a:solidFill>
                    </a:lnT>
                    <a:lnB w="5760">
                      <a:solidFill>
                        <a:srgbClr val="53535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13:05:48Z</dcterms:created>
  <dc:creator>Vorgan</dc:creator>
  <dc:description/>
  <dc:language>en-US</dc:language>
  <cp:lastModifiedBy>zubova_nf</cp:lastModifiedBy>
  <dcterms:modified xsi:type="dcterms:W3CDTF">2012-10-14T23:11:39Z</dcterms:modified>
  <cp:revision>14</cp:revision>
  <dc:subject/>
  <dc:title>Сенсорные экрана резистивного и емкостного типа</dc:title>
</cp:coreProperties>
</file>