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99B-9877-4E40-B807-5B6D3CF3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446-4C28-47E4-9E8D-644ED4B8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261-49CA-4FD7-83BB-8C350605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34F-5B13-46EE-BE45-46F8DC77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295-D214-4421-8842-259541D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143-30EE-42EC-8204-BAC04498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496-5C79-40E6-8FFD-69A76214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B41D-166C-45AD-B268-FC73155E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DC5-2DD8-4532-824E-52F2636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396-F169-493B-A4B8-37DC3B1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8BD-F6A2-4B03-AB72-3F2F45E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2B2-0F4A-4C45-B5CF-2508F7D6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608A-0634-47CB-879B-74681C183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озвездия и леген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втор: Исакова Анастаси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1 А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озвезди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 — в современной   астрономии участки, на которые разделена небесная сфера  для удобства ориентирования на звездном небе. В древности созвездиями назывались характерные фигуры, образуемые яркими звез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древние времена наши предки делили звездное небо на четко различимые сочетания звезд, которые назвали созвездиями. Названия созвездий связывали с мифами, именами богов, названиями приборов и механизм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42876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Всего существует 88 зарегистрированных созвездий. Из них только 47 были известны человечеству еще с древних времен. Остальные появились в то время, когда человек стал интенсивно изучать окружающий мир, больше путешествовать и записывать свои знания. Так, на небосклоне появились и другие группы объек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1.bp.blogspot.com/-5lVAl6Wfx_U/UBVVGoBvySI/AAAAAAAAOEk/WmCljIBTWOY/s1600/zoe.jpg"/>
          <p:cNvPicPr/>
          <p:nvPr/>
        </p:nvPicPr>
        <p:blipFill>
          <a:blip r:embed="rId2"/>
          <a:stretch/>
        </p:blipFill>
        <p:spPr>
          <a:xfrm>
            <a:off x="4429080" y="1285920"/>
            <a:ext cx="4714920" cy="5572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ольшая медвед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28800" y="157176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Всемогущий бог Зевс полюбил прекрасную нимфу Калисто. Чтобы избавить Калисто от своей ревнивой жены Геры, Зевс обратил свою возлюбленную в Большую медведицу и вознёс на небо. Вместе с ней Зевс обратил в медведицу и её любимую собаку – это Малая медведиц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lifeglobe.net/xf/photoset/51/16.jpg"/>
          <p:cNvPicPr/>
          <p:nvPr/>
        </p:nvPicPr>
        <p:blipFill>
          <a:blip r:embed="rId2"/>
          <a:stretch/>
        </p:blipFill>
        <p:spPr>
          <a:xfrm>
            <a:off x="0" y="1500120"/>
            <a:ext cx="4643280" cy="53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img0.joyreactor.cc/pics/post/full/%D0%BA%D0%BE%D1%81%D0%BC%D0%BE%D1%81-%D0%BA%D1%80%D0%B0%D1%81%D0%B8%D0%B2%D1%8B%D0%B5-%D0%BA%D0%B0%D1%80%D1%82%D0%B8%D0%BD%D0%BA%D0%B8-%D0%BD%D0%BE%D1%87%D0%BD%D0%BE%D0%B5-%D0%BD%D0%B5%D0%B1%D0%BE-%D0%B7%D0%B2%D0%B5%D0%B7%D0%B4%D1%8B-851600.jpe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14640" y="-360"/>
            <a:ext cx="43290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рион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крашением нашего северного неба, несомненно, является созвездие Ориона. Его можно  наблюдать с конца ноября и всю зиму в южной части неба. Орион — охотник, поэтому в небе его сопровождают Большой Пес (слева внизу) и Малый Пес (слева сверху). Рядом с Орионом находится Заяц. По одной из легенд, Орион — сын бога морей Посейдона, могучий гигант, охотник, который убивал всех зверей без исключения. За это богиня Артемида, покровительница животных, и убила страстного охотника, наслав на нее Скорпиона. На небе эти созвездия как бы играют в прятки: как только появляется Скорпион, Орион скрывается за горизонтом в противоположной части неба. Наиболее яркой звездой в созвездии Ориона является Ригель - голубовато-белая звезда, другая яркая звезда — Бетельгейзе — красного цвета. Альфа Большого Пса — великолепная звезда Сириус. Его всегда сопровождают Гончьи Псы — Большой и Малый. Они всегда ряд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s://avatars.mds.yandex.net/get-pdb/1360297/b16b093c-824a-45fb-98a7-6e313d3394dd/s1200?webp=false"/>
          <p:cNvPicPr/>
          <p:nvPr/>
        </p:nvPicPr>
        <p:blipFill>
          <a:blip r:embed="rId2"/>
          <a:stretch/>
        </p:blipFill>
        <p:spPr>
          <a:xfrm>
            <a:off x="5786280" y="2643120"/>
            <a:ext cx="335772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0:18:59Z</dcterms:created>
  <dc:creator>Виля</dc:creator>
  <dc:description/>
  <dc:language>en-US</dc:language>
  <cp:lastModifiedBy>Наталья Борисовна Юрьева</cp:lastModifiedBy>
  <dcterms:modified xsi:type="dcterms:W3CDTF">2018-12-11T10:39:41Z</dcterms:modified>
  <cp:revision>11</cp:revision>
  <dc:subject/>
  <dc:title>Созвездия и легенды</dc:title>
</cp:coreProperties>
</file>