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2CE-94F0-4745-B93A-895DCBC4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BE6-3CA7-4E74-BDDF-CC53E60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6FF-E9C0-4C84-A40A-B7584A93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904-6775-408D-8ADB-4868E15C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7C1-98E6-4B8B-9A72-20DB730B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F53-066E-4185-9529-CF0ACD9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F2E-8357-4AAB-9DF2-47076C3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619-E58E-4361-AEEC-1E1DFB5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E3C-CB8D-44D8-9501-71E361BE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9A-8F08-4A11-B19A-2283085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AE6-1447-4C50-9F84-9BFC0A5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44D-5B24-41B8-8DED-920D87CE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6D4D-FF2C-4457-A28A-FB225D207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озвездия и леген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: Исакова Анастас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1 А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звезди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в современной   астрономии участки, на которые разделена небесная сфера  для удобства ориентирования на звездном небе. В древности созвездиями назывались характерные фигуры, образуемые яркими звез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28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древние времена наши предки делили звездное небо на четко различимые сочетания звезд, которые назвали созвездиями. Названия созвездий связывали с мифами, именами богов, названиями приборов и механиз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42876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Всего существует 88 зарегистрированных созвездий. Из них только 47 были известны человечеству еще с древних времен. Остальные появились в то время, когда человек стал интенсивно изучать окружающий мир, больше путешествовать и записывать свои знания. Так, на небосклоне появились и другие группы объек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1.bp.blogspot.com/-5lVAl6Wfx_U/UBVVGoBvySI/AAAAAAAAOEk/WmCljIBTWOY/s1600/zoe.jpg"/>
          <p:cNvPicPr/>
          <p:nvPr/>
        </p:nvPicPr>
        <p:blipFill>
          <a:blip r:embed="rId2"/>
          <a:stretch/>
        </p:blipFill>
        <p:spPr>
          <a:xfrm>
            <a:off x="4429080" y="1285920"/>
            <a:ext cx="47149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ольшая медвед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28800" y="157176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семогущий бог Зевс полюбил прекрасную нимфу Калисто. Чтобы избавить Калисто от своей ревнивой жены Геры, Зевс обратил свою возлюбленную в Большую медведицу и вознёс на небо. Вместе с ней Зевс обратил в медведицу и её любимую собаку – это Малая медведи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lifeglobe.net/xf/photoset/51/16.jpg"/>
          <p:cNvPicPr/>
          <p:nvPr/>
        </p:nvPicPr>
        <p:blipFill>
          <a:blip r:embed="rId2"/>
          <a:stretch/>
        </p:blipFill>
        <p:spPr>
          <a:xfrm>
            <a:off x="0" y="1500120"/>
            <a:ext cx="464328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14640" y="-360"/>
            <a:ext cx="43290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рио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крашением нашего северного неба, несомненно, является созвездие Ориона. Его можно  наблюдать с конца ноября и всю зиму в южной части неба. Орион — охотник, поэтому в небе его сопровождают Большой Пес (слева внизу) и Малый Пес (слева сверху). Рядом с Орионом находится Заяц. По одной из легенд, Орион — сын бога морей Посейдона, могучий гигант, охотник, который убивал всех зверей без исключения. За это богиня Артемида, покровительница животных, и убила страстного охотника, наслав на нее Скорпиона. На небе эти созвездия как бы играют в прятки: как только появляется Скорпион, Орион скрывается за горизонтом в противоположной части неба. Наиболее яркой звездой в созвездии Ориона является Ригель - голубовато-белая звезда, другая яркая звезда — Бетельгейзе — красного цвета. Альфа Большого Пса — великолепная звезда Сириус. Его всегда сопровождают Гончьи Псы — Большой и Малый. Они всегда ряд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avatars.mds.yandex.net/get-pdb/1360297/b16b093c-824a-45fb-98a7-6e313d3394dd/s1200?webp=false"/>
          <p:cNvPicPr/>
          <p:nvPr/>
        </p:nvPicPr>
        <p:blipFill>
          <a:blip r:embed="rId2"/>
          <a:stretch/>
        </p:blipFill>
        <p:spPr>
          <a:xfrm>
            <a:off x="5786280" y="2643120"/>
            <a:ext cx="33577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0:18:59Z</dcterms:created>
  <dc:creator>Виля</dc:creator>
  <dc:description/>
  <dc:language>en-US</dc:language>
  <cp:lastModifiedBy>Наталья Борисовна Юрьева</cp:lastModifiedBy>
  <dcterms:modified xsi:type="dcterms:W3CDTF">2018-12-11T10:39:41Z</dcterms:modified>
  <cp:revision>11</cp:revision>
  <dc:subject/>
  <dc:title>Созвездия и легенды</dc:title>
</cp:coreProperties>
</file>