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gif" ContentType="image/gif"/>
  <Override PartName="/ppt/media/image19.jpeg" ContentType="image/jpeg"/>
  <Override PartName="/ppt/media/image28.jpeg" ContentType="image/jpeg"/>
  <Override PartName="/ppt/media/image12.jpeg" ContentType="image/jpeg"/>
  <Override PartName="/ppt/media/image8.gif" ContentType="image/gif"/>
  <Override PartName="/ppt/media/image18.jpeg" ContentType="image/jpeg"/>
  <Override PartName="/ppt/media/image29.jpeg" ContentType="image/jpeg"/>
  <Override PartName="/ppt/media/image10.jpeg" ContentType="image/jpeg"/>
  <Override PartName="/ppt/media/image20.gif" ContentType="image/gif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9.gif" ContentType="image/gif"/>
  <Override PartName="/ppt/media/image31.jpeg" ContentType="image/jpeg"/>
  <Override PartName="/ppt/media/image32.jpeg" ContentType="image/jpeg"/>
  <Override PartName="/ppt/media/image7.jpeg" ContentType="image/jpeg"/>
  <Override PartName="/ppt/media/image5.gif" ContentType="image/gif"/>
  <Override PartName="/ppt/media/image14.jpeg" ContentType="image/jpeg"/>
  <Override PartName="/ppt/media/image25.gif" ContentType="image/gif"/>
  <Override PartName="/ppt/media/image6.jpeg" ContentType="image/jpeg"/>
  <Override PartName="/ppt/media/image4.gif" ContentType="image/gif"/>
  <Override PartName="/ppt/media/image22.jpeg" ContentType="image/jpeg"/>
  <Override PartName="/ppt/media/image2.jpeg" ContentType="image/jpeg"/>
  <Override PartName="/ppt/media/image11.jpeg" ContentType="image/jpeg"/>
  <Override PartName="/ppt/media/image1.gif" ContentType="image/gif"/>
  <Override PartName="/ppt/media/image15.jpeg" ContentType="image/jpeg"/>
  <Override PartName="/ppt/media/image16.gif" ContentType="image/gif"/>
  <Override PartName="/ppt/media/image27.jpeg" ContentType="image/jpeg"/>
  <Override PartName="/ppt/media/image17.gif" ContentType="image/gi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DEA8-57D7-4B08-8744-81749302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6281-A0DC-4150-8D49-4A1507CE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30C7-3900-45BE-923F-9CECBEC2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50BD-CEFA-4257-BFA5-1C3FE211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B0B9-51E8-4A23-AAA1-A774FABD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718D-6AED-4EE3-A26C-8F6306FD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264F-3A94-4F3C-B3C7-59323442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E6E9-B9A5-4747-B7CD-DA44682A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6DE3-ECB0-4F05-AA25-3B5F9743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981E-6531-44D5-84ED-71AE516F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91B9-D6EC-4193-8DE9-3436251E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822D-32B8-46F4-B4F0-77CD81C9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C1DD53-A665-4E4D-A009-890896A339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образовательное учреждение «Детский сад №2 «Искорка»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Стихи о зиме»</a:t>
            </a:r>
            <a:br>
              <a:rPr sz="2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19280" y="4220640"/>
            <a:ext cx="55450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ел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расимова Елизавета    Михай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вино,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2538360"/>
            <a:ext cx="3240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2214720" y="500040"/>
            <a:ext cx="47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лка  осенью  без  спеш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пасла  в  дупле  берё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ишки, жёлуди, ореш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 страшны  теперь  мороз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143080" y="2286000"/>
            <a:ext cx="486576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1002600" y="500040"/>
            <a:ext cx="472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ждый  пень – уютный  д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ы  внутри  такого  д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тёплых  комнатках  найдё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учков  и  насеком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500280" y="2571840"/>
            <a:ext cx="5280120" cy="3959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1000080" y="2571840"/>
            <a:ext cx="140832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2272680" y="357120"/>
            <a:ext cx="52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и  перелётных  птиц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  югу, к  югу, к  солнцу  улет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571760" y="2143080"/>
            <a:ext cx="6202080" cy="4319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857920" y="3714840"/>
            <a:ext cx="1114560" cy="857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2786040" y="1357200"/>
            <a:ext cx="1114560" cy="857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4"/>
          <a:stretch/>
        </p:blipFill>
        <p:spPr>
          <a:xfrm>
            <a:off x="571680" y="571680"/>
            <a:ext cx="1114200" cy="857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5"/>
          <a:stretch/>
        </p:blipFill>
        <p:spPr>
          <a:xfrm>
            <a:off x="1500120" y="2357280"/>
            <a:ext cx="1114560" cy="85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6"/>
          <a:stretch/>
        </p:blipFill>
        <p:spPr>
          <a:xfrm>
            <a:off x="7715160" y="4143240"/>
            <a:ext cx="1114560" cy="857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7"/>
          <a:stretch/>
        </p:blipFill>
        <p:spPr>
          <a:xfrm>
            <a:off x="3643200" y="2357280"/>
            <a:ext cx="1114560" cy="857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8"/>
          <a:stretch/>
        </p:blipFill>
        <p:spPr>
          <a:xfrm>
            <a:off x="5643720" y="1428840"/>
            <a:ext cx="1114200" cy="857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2357280" y="550080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 для  дятлов  и  син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ма  не  страшны  мет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000160" y="35712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2506680" y="500040"/>
            <a:ext cx="402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ятел  зимнею  пор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щет  мошек  под  кор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071800" y="150012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2165040" y="500040"/>
            <a:ext cx="500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 синички  к  людям  жму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дь  для  них  у  нас  найду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ошки  хлеба  и  зер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571840" y="1857240"/>
            <a:ext cx="418788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723240" y="1071720"/>
            <a:ext cx="444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ы  повесим  за  ок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у  домиков –кормуше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б  могли  они  покуш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715000" y="428760"/>
            <a:ext cx="2757600" cy="360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428760" y="3143160"/>
            <a:ext cx="485928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714760" y="428760"/>
            <a:ext cx="642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я  природа  замерл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таилась  в  зимней  спяч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214280" y="1500120"/>
            <a:ext cx="672012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2643120" y="50004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дёт  весеннего  теп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лучей  весёлой  лас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214280" y="1500120"/>
            <a:ext cx="672012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2928960" y="535788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ьдом  закована  р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крепкие  оков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4802040" cy="360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572080" y="285840"/>
            <a:ext cx="302436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2928960" y="507204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пришёл  издале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  нам  мороз  суров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786200" y="428760"/>
            <a:ext cx="3241800" cy="431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857160" y="428760"/>
            <a:ext cx="3456000" cy="4319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5072040" y="1000080"/>
            <a:ext cx="385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чернели  до  вес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тки  дубов, клён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шь  у  ели  и  сос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вет  зимой  зелё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072040" y="3500280"/>
            <a:ext cx="3840120" cy="288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589280" cy="612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642960" y="928800"/>
            <a:ext cx="3781440" cy="504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4714920" y="928800"/>
            <a:ext cx="377964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5072040" y="4000680"/>
            <a:ext cx="407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ят  еноты  и  медвед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ят  ежи, а  их  соседи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к, зайчишка  и  ли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щут  пищу  по  лес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619520" cy="287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5072040" y="28584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285840" y="3286080"/>
            <a:ext cx="4608360" cy="345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429080" y="135720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ть  у  зайца  нет  морков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дерёт  коры  он  лов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4643280" y="3000240"/>
            <a:ext cx="3976920" cy="324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643120" y="357120"/>
            <a:ext cx="592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 лиса  и  серый  волк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  в  охоте  знают  тол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4032000" cy="287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5072040" y="1428840"/>
            <a:ext cx="3510000" cy="468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1979640" y="4653000"/>
            <a:ext cx="121752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3714840" y="2928960"/>
            <a:ext cx="5172120" cy="360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357120" y="357120"/>
            <a:ext cx="3327480" cy="3240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857760" y="857160"/>
            <a:ext cx="528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йку  бедного  гоняю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йка  про  опасность  зна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б  зимой  остаться  целы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л, как  снег, зайчишка  бел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1214280" y="421488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ерюхова</dc:creator>
  <dc:description/>
  <dc:language>en-US</dc:language>
  <cp:lastModifiedBy>Лиза</cp:lastModifiedBy>
  <dcterms:modified xsi:type="dcterms:W3CDTF">2018-12-11T06:19:30Z</dcterms:modified>
  <cp:revision>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2280000000000010250600207f5000400038000</vt:lpwstr>
  </property>
</Properties>
</file>