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3.gif" ContentType="image/gif"/>
  <Override PartName="/ppt/media/image19.jpeg" ContentType="image/jpeg"/>
  <Override PartName="/ppt/media/image28.jpeg" ContentType="image/jpeg"/>
  <Override PartName="/ppt/media/image12.jpeg" ContentType="image/jpeg"/>
  <Override PartName="/ppt/media/image8.gif" ContentType="image/gif"/>
  <Override PartName="/ppt/media/image18.jpeg" ContentType="image/jpeg"/>
  <Override PartName="/ppt/media/image29.jpeg" ContentType="image/jpeg"/>
  <Override PartName="/ppt/media/image10.jpeg" ContentType="image/jpeg"/>
  <Override PartName="/ppt/media/image20.gif" ContentType="image/gif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9.gif" ContentType="image/gif"/>
  <Override PartName="/ppt/media/image31.jpeg" ContentType="image/jpeg"/>
  <Override PartName="/ppt/media/image32.jpeg" ContentType="image/jpeg"/>
  <Override PartName="/ppt/media/image7.jpeg" ContentType="image/jpeg"/>
  <Override PartName="/ppt/media/image5.gif" ContentType="image/gif"/>
  <Override PartName="/ppt/media/image14.jpeg" ContentType="image/jpeg"/>
  <Override PartName="/ppt/media/image25.gif" ContentType="image/gif"/>
  <Override PartName="/ppt/media/image6.jpeg" ContentType="image/jpeg"/>
  <Override PartName="/ppt/media/image4.gif" ContentType="image/gif"/>
  <Override PartName="/ppt/media/image22.jpeg" ContentType="image/jpeg"/>
  <Override PartName="/ppt/media/image2.jpeg" ContentType="image/jpeg"/>
  <Override PartName="/ppt/media/image11.jpeg" ContentType="image/jpeg"/>
  <Override PartName="/ppt/media/image1.gif" ContentType="image/gif"/>
  <Override PartName="/ppt/media/image15.jpeg" ContentType="image/jpeg"/>
  <Override PartName="/ppt/media/image16.gif" ContentType="image/gif"/>
  <Override PartName="/ppt/media/image27.jpeg" ContentType="image/jpeg"/>
  <Override PartName="/ppt/media/image17.gif" ContentType="image/gif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D2E7-99C7-41CA-9F8F-A64D65B5E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CEE9-8823-41A2-9C89-B6123952B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BED6-5C24-43B3-93F0-1F1C34A87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8DDF-6E6A-4E85-8F0E-28705D161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420A-03FE-4C23-9781-672BE49AA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F6F3-A3AB-43AE-9DC9-B25D6F9E6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7BC5-1117-46A0-A23C-21B676925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E812-8396-4EAC-8E87-82A343DCF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BF13-1B5A-42E3-9467-3B586BC04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F8C8-8F4F-4343-99D4-9ABCFF59B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80D5-C72B-4EB2-AEBF-99B170BA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0BA0-3C9F-4D52-86E6-657A2EA3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00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A073D61-EFE3-4E64-B5FB-505CBDCCE4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image" Target="../media/image25.gif"/><Relationship Id="rId4" Type="http://schemas.openxmlformats.org/officeDocument/2006/relationships/image" Target="../media/image25.gif"/><Relationship Id="rId5" Type="http://schemas.openxmlformats.org/officeDocument/2006/relationships/image" Target="../media/image25.gif"/><Relationship Id="rId6" Type="http://schemas.openxmlformats.org/officeDocument/2006/relationships/image" Target="../media/image25.gif"/><Relationship Id="rId7" Type="http://schemas.openxmlformats.org/officeDocument/2006/relationships/image" Target="../media/image25.gif"/><Relationship Id="rId8" Type="http://schemas.openxmlformats.org/officeDocument/2006/relationships/image" Target="../media/image25.gif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77724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униципальное бюджетное дошкольное образовательное учреждение «Детский сад №2 «Искорка»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Стихи о зиме»</a:t>
            </a:r>
            <a:br>
              <a:rPr sz="2000"/>
            </a:br>
            <a:br>
              <a:rPr sz="2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419280" y="4220640"/>
            <a:ext cx="554508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питатель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ерасимова Елизавета    Михайл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твино, 20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2538360"/>
            <a:ext cx="32400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1"/>
          <p:cNvSpPr/>
          <p:nvPr/>
        </p:nvSpPr>
        <p:spPr>
          <a:xfrm>
            <a:off x="2214720" y="500040"/>
            <a:ext cx="4786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елка  осенью  без  спеш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пасла  в  дупле  берёз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Шишки, жёлуди, ореш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  страшны  теперь  морозы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2143080" y="2286000"/>
            <a:ext cx="4865760" cy="43196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1"/>
          <p:cNvSpPr/>
          <p:nvPr/>
        </p:nvSpPr>
        <p:spPr>
          <a:xfrm>
            <a:off x="1002600" y="500040"/>
            <a:ext cx="4725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ждый  пень – уютный  д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ы  внутри  такого  до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 тёплых  комнатках  найдё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аучков  и  насекомы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3500280" y="2571840"/>
            <a:ext cx="5280120" cy="3959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1000080" y="2571840"/>
            <a:ext cx="1408320" cy="25192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1"/>
          <p:cNvSpPr/>
          <p:nvPr/>
        </p:nvSpPr>
        <p:spPr>
          <a:xfrm>
            <a:off x="2272680" y="357120"/>
            <a:ext cx="52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таи  перелётных  птиц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  югу, к  югу, к  солнцу  улете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1571760" y="2143080"/>
            <a:ext cx="6202080" cy="4319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2"/>
          <a:stretch/>
        </p:blipFill>
        <p:spPr>
          <a:xfrm>
            <a:off x="5857920" y="3714840"/>
            <a:ext cx="1114560" cy="8571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"/>
          <p:cNvPicPr/>
          <p:nvPr/>
        </p:nvPicPr>
        <p:blipFill>
          <a:blip r:embed="rId3"/>
          <a:stretch/>
        </p:blipFill>
        <p:spPr>
          <a:xfrm>
            <a:off x="2786040" y="1357200"/>
            <a:ext cx="1114560" cy="857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"/>
          <p:cNvPicPr/>
          <p:nvPr/>
        </p:nvPicPr>
        <p:blipFill>
          <a:blip r:embed="rId4"/>
          <a:stretch/>
        </p:blipFill>
        <p:spPr>
          <a:xfrm>
            <a:off x="571680" y="571680"/>
            <a:ext cx="1114200" cy="8571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"/>
          <p:cNvPicPr/>
          <p:nvPr/>
        </p:nvPicPr>
        <p:blipFill>
          <a:blip r:embed="rId5"/>
          <a:stretch/>
        </p:blipFill>
        <p:spPr>
          <a:xfrm>
            <a:off x="1500120" y="2357280"/>
            <a:ext cx="1114560" cy="857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"/>
          <p:cNvPicPr/>
          <p:nvPr/>
        </p:nvPicPr>
        <p:blipFill>
          <a:blip r:embed="rId6"/>
          <a:stretch/>
        </p:blipFill>
        <p:spPr>
          <a:xfrm>
            <a:off x="7715160" y="4143240"/>
            <a:ext cx="1114560" cy="8575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"/>
          <p:cNvPicPr/>
          <p:nvPr/>
        </p:nvPicPr>
        <p:blipFill>
          <a:blip r:embed="rId7"/>
          <a:stretch/>
        </p:blipFill>
        <p:spPr>
          <a:xfrm>
            <a:off x="3643200" y="2357280"/>
            <a:ext cx="1114560" cy="857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"/>
          <p:cNvPicPr/>
          <p:nvPr/>
        </p:nvPicPr>
        <p:blipFill>
          <a:blip r:embed="rId8"/>
          <a:stretch/>
        </p:blipFill>
        <p:spPr>
          <a:xfrm>
            <a:off x="5643720" y="1428840"/>
            <a:ext cx="1114200" cy="8571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"/>
          <p:cNvSpPr/>
          <p:nvPr/>
        </p:nvSpPr>
        <p:spPr>
          <a:xfrm>
            <a:off x="2357280" y="5500800"/>
            <a:ext cx="678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  для  дятлов  и  сини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ма  не  страшны  мете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2000160" y="35712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1"/>
          <p:cNvSpPr/>
          <p:nvPr/>
        </p:nvSpPr>
        <p:spPr>
          <a:xfrm>
            <a:off x="2506680" y="500040"/>
            <a:ext cx="402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ятел  зимнею  пор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щет  мошек  под  кор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2071800" y="150012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2165040" y="500040"/>
            <a:ext cx="500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  синички  к  людям  жмутс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едь  для  них  у  нас  найду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ошки  хлеба  и  зерн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2571840" y="1857240"/>
            <a:ext cx="4187880" cy="4680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723240" y="1071720"/>
            <a:ext cx="444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ы  повесим  за  ок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ару  домиков –кормушек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тоб  могли  они  покуша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5715000" y="428760"/>
            <a:ext cx="2757600" cy="3600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428760" y="3143160"/>
            <a:ext cx="4859280" cy="3240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714760" y="428760"/>
            <a:ext cx="642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ся  природа  замерл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таилась  в  зимней  спячк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1214280" y="1500120"/>
            <a:ext cx="6720120" cy="50403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"/>
          <p:cNvSpPr/>
          <p:nvPr/>
        </p:nvSpPr>
        <p:spPr>
          <a:xfrm>
            <a:off x="2643120" y="500040"/>
            <a:ext cx="650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Ждёт  весеннего  теп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  лучей  весёлой  лас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1214280" y="1500120"/>
            <a:ext cx="6720120" cy="50403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"/>
          <p:cNvSpPr/>
          <p:nvPr/>
        </p:nvSpPr>
        <p:spPr>
          <a:xfrm>
            <a:off x="2928960" y="5357880"/>
            <a:ext cx="621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ьдом  закована  ре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 крепкие  оков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428760" y="1357200"/>
            <a:ext cx="4802040" cy="3600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5572080" y="285840"/>
            <a:ext cx="3024360" cy="4680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2928960" y="5072040"/>
            <a:ext cx="621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  пришёл  издале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  нам  мороз  суровы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4786200" y="428760"/>
            <a:ext cx="3241800" cy="4319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857160" y="428760"/>
            <a:ext cx="3456000" cy="43192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"/>
          <p:cNvSpPr/>
          <p:nvPr/>
        </p:nvSpPr>
        <p:spPr>
          <a:xfrm>
            <a:off x="5072040" y="1000080"/>
            <a:ext cx="3857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чернели  до  вес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етки  дубов, клёнов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ишь  у  ели  и  сос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Цвет  зимой  зелёны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5072040" y="3500280"/>
            <a:ext cx="3840120" cy="2880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4589280" cy="6120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642960" y="928800"/>
            <a:ext cx="3781440" cy="5040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4714920" y="928800"/>
            <a:ext cx="3779640" cy="50403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5072040" y="4000680"/>
            <a:ext cx="4071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пят  еноты  и  медвед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пят  ежи, а  их  соседи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лк, зайчишка  и  ли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щут  пищу  по  лес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285840" y="285840"/>
            <a:ext cx="4619520" cy="2879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"/>
          <p:cNvPicPr/>
          <p:nvPr/>
        </p:nvPicPr>
        <p:blipFill>
          <a:blip r:embed="rId2"/>
          <a:stretch/>
        </p:blipFill>
        <p:spPr>
          <a:xfrm>
            <a:off x="5072040" y="285840"/>
            <a:ext cx="3840120" cy="2879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"/>
          <p:cNvPicPr/>
          <p:nvPr/>
        </p:nvPicPr>
        <p:blipFill>
          <a:blip r:embed="rId3"/>
          <a:stretch/>
        </p:blipFill>
        <p:spPr>
          <a:xfrm>
            <a:off x="285840" y="3286080"/>
            <a:ext cx="4608360" cy="34578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4429080" y="1357200"/>
            <a:ext cx="471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Хоть  у  зайца  нет  морковк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дерёт  коры  он  ловк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1"/>
          <a:stretch/>
        </p:blipFill>
        <p:spPr>
          <a:xfrm>
            <a:off x="500040" y="785880"/>
            <a:ext cx="3840120" cy="2879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"/>
          <p:cNvPicPr/>
          <p:nvPr/>
        </p:nvPicPr>
        <p:blipFill>
          <a:blip r:embed="rId2"/>
          <a:stretch/>
        </p:blipFill>
        <p:spPr>
          <a:xfrm>
            <a:off x="4643280" y="3000240"/>
            <a:ext cx="3976920" cy="32403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643120" y="357120"/>
            <a:ext cx="592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  лиса  и  серый  волк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  в  охоте  знают  тол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571680" y="1428840"/>
            <a:ext cx="4032000" cy="2879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5072040" y="1428840"/>
            <a:ext cx="3510000" cy="4680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"/>
          <p:cNvPicPr/>
          <p:nvPr/>
        </p:nvPicPr>
        <p:blipFill>
          <a:blip r:embed="rId3"/>
          <a:stretch/>
        </p:blipFill>
        <p:spPr>
          <a:xfrm>
            <a:off x="1979640" y="4653000"/>
            <a:ext cx="1217520" cy="18003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"/>
          <p:cNvPicPr/>
          <p:nvPr/>
        </p:nvPicPr>
        <p:blipFill>
          <a:blip r:embed="rId1"/>
          <a:stretch/>
        </p:blipFill>
        <p:spPr>
          <a:xfrm>
            <a:off x="3714840" y="2928960"/>
            <a:ext cx="5172120" cy="3600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"/>
          <p:cNvPicPr/>
          <p:nvPr/>
        </p:nvPicPr>
        <p:blipFill>
          <a:blip r:embed="rId2"/>
          <a:stretch/>
        </p:blipFill>
        <p:spPr>
          <a:xfrm>
            <a:off x="357120" y="357120"/>
            <a:ext cx="3327480" cy="3240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3857760" y="857160"/>
            <a:ext cx="5286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йку  бедного  гоняют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йка  про  опасность  знает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тоб  зимой  остаться  целым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тал, как  снег, зайчишка  белы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3"/>
          <a:stretch/>
        </p:blipFill>
        <p:spPr>
          <a:xfrm>
            <a:off x="1214280" y="4214880"/>
            <a:ext cx="1511280" cy="15112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Берюхова</dc:creator>
  <dc:description/>
  <dc:language>en-US</dc:language>
  <cp:lastModifiedBy>Лиза</cp:lastModifiedBy>
  <dcterms:modified xsi:type="dcterms:W3CDTF">2018-12-11T06:19:30Z</dcterms:modified>
  <cp:revision>1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2280000000000010250600207f5000400038000</vt:lpwstr>
  </property>
</Properties>
</file>