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6C8-4D5E-49F4-BD09-BF3E1015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7D9-EFBD-4D19-AB12-17C9E2ED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2D1-CF4C-418C-B613-52463102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EB6-EC72-4D9D-9361-3788E9C5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07A2-965A-454E-9B50-1BDD1DFD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2B76-4A5C-45C1-A4E3-44B65F11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7F90-4EF9-4B93-BBF0-53B5A3D5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EA4-8CB4-4877-8214-CC79BFB5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25AE-0AAA-4C11-9161-9246349B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8EDD-4006-440E-8022-1CE9DDF3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7AC3-C08B-4DA5-A8D9-421DBB8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299-2FC8-4B34-9384-421C7AD7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63EB-D498-4091-A66B-195A68AB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2159-A94D-4F92-B93E-00379612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04C-1E5B-4317-993F-C05FBEBF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6037-CB99-4597-A634-BEE6B5C4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7617-4E3B-4F63-AF10-ABF5C2B7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3E2D-B778-4FBB-9785-80116BD5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B637B-3CFB-4006-B58B-DDADA86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D54B-0B11-440A-972A-B50E96C6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8C5A-4D24-4D0F-8AA5-5964E088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45A6-0248-420B-B32D-3F0B38C4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8D1-232F-4D7B-BAEA-EE946D58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893F-4A7A-4824-9772-88CCC6CD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7CEF-EC4B-4003-B23F-BA80F3B6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55B0-F019-4640-987B-664A7A08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2F16-7587-4505-A88B-D748C4D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473B-7715-47B9-BB7E-9C7A45B7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ABC0-7DE3-40F5-BFD5-484E3AB3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8381-C063-4AD9-A75C-D6E7C44B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85D-7A05-47FB-B799-B50F3808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6C1-3E6A-4D1D-8F1B-F563FDAC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ABE-B6D8-4C5A-B5B0-04E3711A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618-66E1-4E76-A188-8416B64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39F-BD1B-4CD5-AA87-BFA7D11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92D-4C4A-44E5-9AFE-2EF2AC9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1218-9168-4B99-B083-25BB659B4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1579-7D3A-4FA8-AA2F-00665BD600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F1C1-45B2-4556-A745-C7D735DE22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2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3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4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5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6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7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8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9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Вязание крючком»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3 класс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Познаком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) с видом рукоделия — вязанием,  с историей её возникновения, способами выполнения, видами и назначением вязаных вещей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) с инструментами для ручного вязания — крючком, спицами, ниткам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) с правилами и приёмами работы  с вязальным крю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Научить выполнять воздушную петлю и создавать красоту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Прививать любовь к рукоделию, развивать усид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600" y="4724280"/>
            <a:ext cx="4038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 учитель начальных классов филиала МКОО «Старомостякская СШ» в с. Мосее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йфуллина Розалия Камил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ение крючка и правильное положение в р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5715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авильно держать крю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922400" y="1295280"/>
            <a:ext cx="554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388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4038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059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готовка цепочек для аппл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162320" cy="3124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086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цы аппликаций из вязанной це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429000" cy="23857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2171880" cy="2895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965240" cy="2736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180180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точники используемого матер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ed-kopilk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blog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carenkova-valentin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master-klas-cvety-v-vaze.htm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 Аппл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вязанных цеп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docsyg.ru/istoriya-vozniknoveniya-vyazaniya/ История возникновения вя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tvorim-sami.ru/5-istoriya-vozniknoveniya-vyazaniya-kryuchko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vjazhemspicami.ru/obuchenie-vjazaniju/93-vyazanie-kryuchkom-materialy-i-instrument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botana.cc/prepod/tehnologiya/oqmldbk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nsportal.ru/nachalnaya-shkola/tekhnologiya/2017/12/06/urok-tehnologii-v-3-klasse-po-teme-vyazanie-vozdushn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kopilkaurokov.ru/tehnologiyad/presentacii/vyshivka-otdielochnymi-shv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1981080" y="1676520"/>
            <a:ext cx="5334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99cc"/>
                    </a:gs>
                    <a:gs pos="100000">
                      <a:srgbClr val="cc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яз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50000">
                    <a:srgbClr val="ff99cc"/>
                  </a:gs>
                  <a:gs pos="100000">
                    <a:srgbClr val="cc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орудование, инструменты для вяз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162240" cy="1809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3276720" cy="2478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 rot="17895000">
            <a:off x="228600" y="44953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934320" y="10666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304920" y="990720"/>
            <a:ext cx="1110960" cy="2361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523880" y="2286000"/>
            <a:ext cx="2057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я возникновения вяз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официально подтвержде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ы того, что техникой данного вида приклад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а владели еще во времена строи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гипетских пирамид. Так при археолог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копках были обнаружены носки, которые внеш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чень были похожи на рукавицы. Такой фас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зволял надевать их и использовать в санда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ремешком между большим и указательным пальц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история возникновения вязания крючком"/>
          <p:cNvPicPr/>
          <p:nvPr/>
        </p:nvPicPr>
        <p:blipFill>
          <a:blip r:embed="rId1"/>
          <a:stretch/>
        </p:blipFill>
        <p:spPr>
          <a:xfrm>
            <a:off x="5257800" y="1905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1932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793960" cy="4371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952880" y="181080"/>
            <a:ext cx="3657600" cy="2979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952880" y="348624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514600" y="2971800"/>
            <a:ext cx="22953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09880" cy="2581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228920" cy="4211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533520" y="2971800"/>
            <a:ext cx="2751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зделия, вязанные крючк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2800440" cy="26780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657600" y="1409760"/>
            <a:ext cx="3543480" cy="2652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6248520" y="4191120"/>
            <a:ext cx="2368440" cy="2514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7315200" y="2057400"/>
            <a:ext cx="1695600" cy="1809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304920" y="43434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261040" y="2438280"/>
            <a:ext cx="3882960" cy="2913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276720" cy="2452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657600" y="152280"/>
            <a:ext cx="2997360" cy="2248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52280" y="28195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2666880" y="4549680"/>
            <a:ext cx="32767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крюч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крючками необходимо обращаться очень осторожно, не подносить их к лицу, хранить в коробках и пена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пересчитывать до начала работы, и после ее оконча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должны быть очень острыми, иначе ими можно поранить паль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льзя пользоваться ржавыми крючками— они портят пряжу, ни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чее место должно быть хорошо освещено, свет должен падать на работу с левой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деть следует прямо, касаясь корпусом спинки стула. Расстояние от глаз до работы должно быть не менее 35-40 см, чтобы не развивалась близорукость, в глаза не попадали частички волокон, из которых состоит пряж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ед началом и после работы следует вымыть руки, чтобы нитки и вязаное полотно не пачкались, а на руках не оставалось мелких волок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завершенное изделие лучше хранить, завернув в ткань или положив в па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08:12:26Z</dcterms:created>
  <dc:creator>Мосеевка</dc:creator>
  <dc:description/>
  <dc:language>en-US</dc:language>
  <cp:lastModifiedBy>Мосеевка</cp:lastModifiedBy>
  <dcterms:modified xsi:type="dcterms:W3CDTF">2018-12-11T19:35:1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