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BCF-7A65-4B18-A13C-46449C78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2256-96C1-4550-8CB6-DCDA0957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3CB-41D7-40DB-A405-597A68853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3D5-8EEA-42CE-B156-470BF0B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A799-630A-4B45-B605-1F8B8D9D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6740-F983-4241-AD04-FE1A0E15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6875-EF7B-4CF7-B426-C61AF34B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E9E5-77EB-450E-8108-F5801429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FC62-6A66-4E00-8AD2-846A6508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FBAE-DD9E-4480-B2E2-F15C5C60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C2AA-1153-435A-9EA6-C1A69B4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1CD-D727-4DA5-8F09-4737C1C2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BACF-4673-421B-9746-724046A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77D9-4C12-43F1-B373-A410489F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9BA3-B2B3-4647-8772-75C28598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CBEB-A5CC-4830-953B-AFB9B869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BE90-3AFB-4E40-BD7A-13C310C1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12A0-9957-4FAC-9A4C-6472C7A0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C425-3B85-4134-96B2-22B90899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ADFA-250C-416F-8706-2C9E1BE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DD24-617D-4752-99EA-91CD6439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3278-EA9C-44DD-83D1-37A60D1C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9768-A00E-436F-A226-D2299962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B0B1-2F50-40C2-B2C5-BA8B7C2E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76AA-2326-445A-895A-3FCFEE84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100E-2591-436E-ADB1-3504C98E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3783-A0CD-4F0A-959C-9167F11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9B04-9CFC-43CC-A3AC-60EB714B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2AB6-5CE5-4108-9ED0-F6E36455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E68D-A457-4B03-B468-F88F373A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03B-4BEB-4A3D-91D2-FAA9215F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4DBC-1DC6-44E3-8FE9-F76FD39E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41E-F758-44B7-B2A0-41B4836F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4399-42B4-4C50-803B-DB2C93B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DB4-8EB8-48F7-AB2A-7810DD0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2A0-9296-480C-8DD8-54ACA0CC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2E27-B112-4D9E-9F8C-B66EC752E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55FB-A26E-4ED5-A4B2-F64573D25E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5CF-81D3-4562-B85B-9706C1107A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2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3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4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5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6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7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8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9" Type="http://schemas.openxmlformats.org/officeDocument/2006/relationships/hyperlink" Target="http://ped-kopilka.ru/blogs/carenkova-valentina/master-klas-cvety-v-vaze.html&#1040;&#1087;&#1087;&#1083;&#1080;&#1082;&#1072;&#1094;&#1080;&#1103;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Вязание крючком»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3 класс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Познаком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) с видом рукоделия — вязанием,  с историей её возникновения, способами выполнения, видами и назначением вязаных вещей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) с инструментами для ручного вязания — крючком, спицами, нитками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) с правилами и приёмами работы  с вязальным крюч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Научить выполнять воздушную петлю и создавать красоту своими ру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Прививать любовь к рукоделию, развивать усидчив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600" y="4724280"/>
            <a:ext cx="4038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ила учитель начальных классов филиала МКОО «Старомостякская СШ» в с. Мосее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йфуллина Розалия Камил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оение крючка и правильное положение в ру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57150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авильно держать крю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922400" y="1295280"/>
            <a:ext cx="5545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7388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40384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30592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готовка цепочек для аппл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62320" cy="3124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086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цы аппликаций из вязанной це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429000" cy="23857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914400" y="3809880"/>
            <a:ext cx="2171880" cy="28958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1965240" cy="27367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5"/>
          <a:stretch/>
        </p:blipFill>
        <p:spPr>
          <a:xfrm>
            <a:off x="3505320" y="3581280"/>
            <a:ext cx="1801800" cy="29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сточники используемого матери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ed-kopilka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blog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carenkova-valentina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master-klas-cvety-v-vaze.html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 Аппл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вязанных цепоч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docsyg.ru/istoriya-vozniknoveniya-vyazaniya/ История возникновения вя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tvorim-sami.ru/5-istoriya-vozniknoveniya-vyazaniya-kryuchkom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vjazhemspicami.ru/obuchenie-vjazaniju/93-vyazanie-kryuchkom-materialy-i-instrument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botana.cc/prepod/tehnologiya/oqmldbk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nsportal.ru/nachalnaya-shkola/tekhnologiya/2017/12/06/urok-tehnologii-v-3-klasse-po-teme-vyazanie-vozdushn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s://kopilkaurokov.ru/tehnologiyad/presentacii/vyshivka-otdielochnymi-shv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1981080" y="1676520"/>
            <a:ext cx="5334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99cc"/>
                    </a:gs>
                    <a:gs pos="100000">
                      <a:srgbClr val="cc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яз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99cc"/>
                  </a:gs>
                  <a:gs pos="100000">
                    <a:srgbClr val="cc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орудование, инструменты для вяза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3162240" cy="1809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867280" y="4038480"/>
            <a:ext cx="3276720" cy="2478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 rot="17895000">
            <a:off x="228600" y="44953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934320" y="106668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04920" y="990720"/>
            <a:ext cx="1110960" cy="2361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1523880" y="2286000"/>
            <a:ext cx="2057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рия возникновения вяз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официально подтвержд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ы того, что техникой данного вида приклад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кусства владели еще во времена строитель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гипетских пирамид. Так при археолог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копках были обнаружены носки, которые внеш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чень были похожи на рукавицы. Такой фасо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зволял надевать их и использовать в санда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ремешком между большим и указательным пальц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история возникновения вязания крючком"/>
          <p:cNvPicPr/>
          <p:nvPr/>
        </p:nvPicPr>
        <p:blipFill>
          <a:blip r:embed="rId1"/>
          <a:stretch/>
        </p:blipFill>
        <p:spPr>
          <a:xfrm>
            <a:off x="5257800" y="1905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971800" y="3733920"/>
            <a:ext cx="19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793960" cy="43718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952880" y="181080"/>
            <a:ext cx="3657600" cy="2979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952880" y="348624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514600" y="2971800"/>
            <a:ext cx="2295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809880" cy="2581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228920" cy="4211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33520" y="2971800"/>
            <a:ext cx="2751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делия, вязанные крючк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800440" cy="26780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657600" y="1409760"/>
            <a:ext cx="3543480" cy="2652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6248520" y="4191120"/>
            <a:ext cx="2368440" cy="2514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5"/>
          <a:stretch/>
        </p:blipFill>
        <p:spPr>
          <a:xfrm>
            <a:off x="7315200" y="2057400"/>
            <a:ext cx="1695600" cy="1809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304920" y="434340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261040" y="2438280"/>
            <a:ext cx="3882960" cy="2913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276720" cy="2452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2997360" cy="2248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152280" y="281952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2666880" y="4549680"/>
            <a:ext cx="327672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крюч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 крючками необходимо обращаться очень осторожно, не подносить их к лицу, хранить в коробках и пенал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пересчитывать до начала работы, и после ее оконча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 должны быть очень острыми, иначе ими можно поранить паль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льзя пользоваться ржавыми крючками— они портят пряжу, н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бочее место должно быть хорошо освещено, свет должен падать на работу с левой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идеть следует прямо, касаясь корпусом спинки стула. Расстояние от глаз до работы должно быть не менее 35-40 см, чтобы не развивалась близорукость, в глаза не попадали частички волокон, из которых состоит пряж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еред началом и после работы следует вымыть руки, чтобы нитки и вязаное полотно не пачкались, а на руках не оставалось мелких волок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завершенное изделие лучше хранить, завернув в ткань или положив в пак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08:12:26Z</dcterms:created>
  <dc:creator>Мосеевка</dc:creator>
  <dc:description/>
  <dc:language>en-US</dc:language>
  <cp:lastModifiedBy>Мосеевка</cp:lastModifiedBy>
  <dcterms:modified xsi:type="dcterms:W3CDTF">2018-12-11T19:35:1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