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E0A-4B42-4B39-8F10-1E0BBA80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A4E-ACE2-45E3-8F31-A437EEF3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2C8-7DCF-42B1-8BD9-47C40194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515-0E2A-4B5B-BA6C-F30CC0F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224-A8EA-4D36-8ADF-4098747E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EA46-ADD7-4F8A-94A4-6A8AB59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BBDE-D3B5-44C2-A059-BC6ED0F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AF7C-62B3-483D-AA81-31CDF6E7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C4EF-F807-4CC7-8926-B618AE41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381-660C-42D7-8145-CA0A5C80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A21F-20CB-47EC-A00A-E274C64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C27-9083-4D1B-B668-A03B593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A85-7CA7-4A3A-871C-5E49FF9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5FF1-D863-4EF0-9EA9-B67A651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C25E-D070-499E-B85B-6543AC9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7847-4B17-4D5D-B06D-AEFF224E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6286-9A2B-4F2C-B477-1A831172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8715-D48B-473B-9330-177415E7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6464-DF08-4413-AE69-28F59A42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E832-756C-4CD9-877B-2FC9F4E1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B3DA-0631-47CA-ACE2-19394E4C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7B0B-31FE-4320-ADF3-359DE6E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04C-48E5-4AC5-B829-E1AD31ED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A607-7F80-4BDD-AC67-6D4DAC7A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FA96-D102-4498-B864-03B3593D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C696-9DC3-48FF-8930-3C57213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0D50-4ED1-4E0E-8BD5-7F62CB1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4DFF-644B-47E6-8F5D-ED69EFB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A6A5-007D-4E25-9DB3-C56FA5B5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12CC-F189-4824-A54F-9BA8E2FE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404-17FC-46DE-9BEA-1172D5C1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558-2955-4D08-8095-71E139D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4BD-423D-4C46-A9D1-33062AF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49A-336A-4298-A992-691D192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F49-1BE0-447C-9242-17ECC2A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377-E4F1-4491-B6AE-CFB4E92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6E98-34BC-42B1-B349-6209CEDBB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8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8332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8"/>
          <p:cNvSpPr/>
          <p:nvPr/>
        </p:nvSpPr>
        <p:spPr>
          <a:xfrm>
            <a:off x="250920" y="189000"/>
            <a:ext cx="8642160" cy="6480000"/>
          </a:xfrm>
          <a:prstGeom prst="roundRect">
            <a:avLst>
              <a:gd name="adj" fmla="val 16667"/>
            </a:avLst>
          </a:prstGeom>
          <a:solidFill>
            <a:srgbClr val="ffffff">
              <a:alpha val="69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AFD-9973-429F-9CBF-DE62E7776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83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DBD4-BC9C-4E79-8249-0011AAF93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1042920" y="7650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 города Москвы лицей № 15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468360" y="2565360"/>
            <a:ext cx="813600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о  в детском сад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ЛЕТНЕЙ  ОЗДОРОВИТЕЛЬНОЙ    РАБОТЫ В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оциально‑коммуникативное развит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гровую деятельность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к элементарным общепринятым нормам взаимоотношений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формированию гендерной, семейной, гражданской принадлежности, патриотических чув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рудовую деятельность, воспитывать ценностное отношение к собственному труду, труду других людей, его результа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е об опасных для человека и окружающего мира природы ситуациях и способах поведения в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гламентирующие нормативные докуме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(одобрена Генеральной Ассамблеей ООН 20.11.1989 г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 от 12.12.1993г (ст. 38, 41, 42, 43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от 17 октября 2013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Ф от 27.10.2011 г. № 2562 «Об утверждении Типового положения о дошкольном образовательном учреждении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здрава России от 04.04.03 Н 139 «Об утверждении инструкции по внедрению оздоровительных технологий в деятельность образовательных учреждений;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стройству, содержанию и организации режима работы дошкольного образовательного учреждения. Санитарно-эпидемиологические правила и нормативы СанПиН 2.4.1.3049-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по охране жизни и здоровья детей в дошкольных учреждениях и на детских площадках, утвержденной Минпросвещения РСФСР 30.01.195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 рождения до школы» под редакцией  Н. Е. Вераксы, М. А. Васильевой; Т. С. Комаровой; В. В. Гербов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нципы планирования оздоровительной раб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е использование профилактических, закаливающих и оздоровительных технологий;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е проведение профилактических, закаливающих и  оздоровительных мероприят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е использование немедикаментозного оздоровл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системы профилактических и оздоровительных мероприятий за счет соблюдения элементарных  правил и нормативов: оптимального двигательного режима, физической нагрузки, санитарного состояния учреждения, организации питания, воздушно-теплового режима и водоснаб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368316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3008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ованная образовательная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E:\Надя\Надя\Летне-оздоровительная12г\фото1\весёлый хула хуп\_DSC0098.JPG"/>
          <p:cNvPicPr/>
          <p:nvPr/>
        </p:nvPicPr>
        <p:blipFill>
          <a:blip r:embed="rId1"/>
          <a:stretch/>
        </p:blipFill>
        <p:spPr>
          <a:xfrm>
            <a:off x="4067280" y="1658880"/>
            <a:ext cx="4619520" cy="3079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89880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4" descr="420974504[1].jpg"/>
          <p:cNvPicPr/>
          <p:nvPr/>
        </p:nvPicPr>
        <p:blipFill>
          <a:blip r:embed="rId1"/>
          <a:stretch/>
        </p:blipFill>
        <p:spPr>
          <a:xfrm>
            <a:off x="4643280" y="1682640"/>
            <a:ext cx="4043520" cy="3033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30081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тренняя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800600"/>
            <a:ext cx="76327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вижные иг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Дмитрий\Pictures\лето\1369054999_img_1505[1]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5280" y="544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Двигательные размин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Дмитрий\Pictures\лето\iVZYIMUJ7.jpg"/>
          <p:cNvPicPr/>
          <p:nvPr/>
        </p:nvPicPr>
        <p:blipFill>
          <a:blip r:embed="rId1"/>
          <a:stretch/>
        </p:blipFill>
        <p:spPr>
          <a:xfrm>
            <a:off x="2959200" y="549360"/>
            <a:ext cx="43783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4330800" cy="20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4" descr="_DSC0073.JPG"/>
          <p:cNvPicPr/>
          <p:nvPr/>
        </p:nvPicPr>
        <p:blipFill>
          <a:blip r:embed="rId1"/>
          <a:stretch/>
        </p:blipFill>
        <p:spPr>
          <a:xfrm>
            <a:off x="3575160" y="1495440"/>
            <a:ext cx="5111640" cy="3408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300816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лементы видов спорта, спортивные упраж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72520"/>
            <a:ext cx="34560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7" descr="f7ec5d113a443062af0cd86e91ec4482.jpg[1].jpg"/>
          <p:cNvPicPr/>
          <p:nvPr/>
        </p:nvPicPr>
        <p:blipFill>
          <a:blip r:embed="rId1"/>
          <a:stretch/>
        </p:blipFill>
        <p:spPr>
          <a:xfrm>
            <a:off x="3995640" y="1282680"/>
            <a:ext cx="4691160" cy="3834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30081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имнастика пробуждения. Гимнастика после дневного с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. Индивидуальная работа в режиме 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8. Закаливающие мероприятия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C:\Users\Дмитрий\Pictures\лето\76a0ab0afccdc99742f040948b23806e[1]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3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Здравствуй, лето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колько солнца! Сколько света!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колько зелени кругом!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то же это? Это ЛЕТО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конец спешит к нам в дом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евчих птиц разноголосье!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вежий запах сочных трав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поле спелые колосья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грибы в тени дубра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Т.Бок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работы в летний оздоровительный период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еть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399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спективно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тическое  план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5791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е для выбора те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риятие детьми окружающего 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1447920"/>
          <a:ext cx="8610480" cy="4325760"/>
        </p:xfrm>
        <a:graphic>
          <a:graphicData uri="http://schemas.openxmlformats.org/drawingml/2006/table">
            <a:tbl>
              <a:tblPr/>
              <a:tblGrid>
                <a:gridCol w="1498680"/>
                <a:gridCol w="2095560"/>
                <a:gridCol w="2471760"/>
                <a:gridCol w="2544480"/>
              </a:tblGrid>
              <a:tr h="67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Е С Я 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ГУ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е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ве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хо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ист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из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0" cy="690552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я 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зна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ит с темой недели, вместе с детьми определяет круг интересов, проектирует последующую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упает к воплощению идеи через ручной труд, труд в природе, изодеятельность и констру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ает, экспериментирует, побуждает детей к открытию новых знаний, способов поз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изирует, приобщает к здоровому образу жизни через эстафеты, состязания, подвижные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д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кой «обязаловки», важно «заразить» детей, родителей, педагогов положительным отношением к «событиям недели», осознать важность совместного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765000"/>
          <a:ext cx="8229600" cy="547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Ь      «Ребенок дом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о – речевое  и социально 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с рассматриванием картинок  «В мире опасных предметов и приборо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Беседа «Служба «0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Заучивание пословиц, поговорок, зага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а «с магнит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тение: «Рассказ о неизвестном герое», «Про Кузьму», «Слоненок – пожарник», «Наш номер 01», «Кошкин дом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руд  на ого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«Я и мо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оставление рассказа   «Я у бабушки в гостя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а «в гости» (о правилах этикет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льчиковая гимнастика «Наша кварти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   «Ура, гост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о русских имен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Рассматривание семейных альб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ведение за стол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Чтение Шорыгина «Вежливые сказки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«О том, как вести себя с родителям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бота в ого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765000"/>
          <a:ext cx="8229600" cy="5400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удожественно-эстет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зготовление знаков «Опас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епка «Столовые прибо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риентировка в пространстве «Моя комна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зготовление личных блокнотов «Безопасность  на дорог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Волшебные полоски из бумаги «Светоф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лушание музыкальных произведений о домашних питом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овое упражнение «Страшный звер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Кукольный театр  «Кошкин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ппликация гармошка «Мы за руки возьмемс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исование «Мо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епка «Торт для бабуш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ппликация из ниток «Букет для мам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зготовление д/и «Сервируем сто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узыкально-спортивный праздник «День защиты дет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звлечение «Дружн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лушание  «Материнские ласки» муз. Гречанинова,  «Нянина сказка» Чайк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сня –попевка  «Колыбельная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сня «Бабушк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а-забава «Девочки и мальч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628640"/>
          <a:ext cx="8229600" cy="3313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ыхательная гимнастика «Пожарные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звлечение «Пожарник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/и:  «Казаки-разбойники», «Пожарные на учениях», «Прятки с домом», «Два ог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овое упражнение «Телефо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портивная игра «Футбо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осуг «К бабушке во дв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звлечение «Мама, папа, я – дружн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/и: «Я знаю», «Пора бабушка в пир», «Здравствуй сосед», «Дедушка рожок», «Дай дедушка ручку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юж.игра «Машины и пешеход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1666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дник, посвященный Дню защиты детей "Дадим шар земной детям!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, воспит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Здравствуй, лето красное!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, млад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, воспит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лечение "Угадай мелодию!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кольный театр "Про то, как Аленка пасла гусен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, млад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стиваль дворовых и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, 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ктор по физической куль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Летний концер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"Юные художники" (­рисование на асфальт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, 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 по изо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царский тур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ктор по физической куль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о-спортивный праздник "Наша Родина – Россия!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, 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, инструктор по физической куль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добрых волшеб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89000"/>
          <a:ext cx="8229600" cy="6431040"/>
        </p:xfrm>
        <a:graphic>
          <a:graphicData uri="http://schemas.openxmlformats.org/drawingml/2006/table">
            <a:tbl>
              <a:tblPr/>
              <a:tblGrid>
                <a:gridCol w="1378080"/>
                <a:gridCol w="5400720"/>
                <a:gridCol w="1450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ни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-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 июня – международный день друз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Что такое друг», «Для чего нужны друз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ракцион «Подари улыбку дру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: «Теремок» обр Ушинского, «Игрушки» А. Барто, «Песенка друзей» С. Михалков, «Три поросенка» пер С. Михалкова, «Бременские музыканты» бр Гримм,  «Друг детства» В.Драгунский, «Цветик – семицветик» В.Катаев, «Бобик в гостях у Барбоса» Н.Н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подарка дру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портрета др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Классики», «Скакалки», «Мышеловка», «Ловишки», «карус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 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 июня – день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О времени», «Если б не было часов», «Что мы знаем о час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 с изображением разных видов часов; частей суток; календар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часов – с участием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а «Сказочные час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: «Когда это бывает», «Подбери узор для час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Тише едешь – дальше будешь», «День – ночь», «Запоминалки» - с мяч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а: «Шко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 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мятка для  воспитателей по работе в летний оздоровительный перио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234936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ого процесса на основе комплексно-тематического принципа планирования и интеграции образовательных областей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информаци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ди свед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родителях (+ вновь поступивших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ы здоров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тей   поступивших из других групп и детских садов. Ве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раннего ух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 с подписью родителей (или заявления родителей). Ве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фильт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групп раннего возрас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еред выходом детей на прогулку проверя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террит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ки, песочницы, малых форм; немедленно сообщать  дежурному администратору о нарушени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роводи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треннюю зарядку на ул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– удивительная и благодатная пора, когда детям можно вдоволь гулять, бегать и прыгать. Именно в этот период они много времени проводят на воздухе. Пребывание дошкольников на свежем воздухе в летний период укрепляет и закаливает детский организм, оказывает положительное влияние на их всестороннее развит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12536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ющие процед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количеством полотенец, для рук и ног,  маркировкой постельного белья, расчесок, меб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питьевой режим на прогул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гулку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ной материал проверяется на исправность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тся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сле каждой прогулки и складывается в корзины. Следите, чтобы все игрушки были соб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осле прогулок подметаются веранды, домики. В жаркие дни территория площадки орошается вод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сочницах ежедневно рыхлится, проливается водой, закрывается чехлом после прогул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000" y="1125360"/>
            <a:ext cx="82184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гул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блюдения, труд на участке и  в огороде, изобразительная деятельность, конструирование, опыты, чтение х/л, сюжетно-ролевые игры, театральные, режиссерские, дидактические игры, подвижные и спортивные игры, экскурсии по экологическим тропинкам, индивидуальная рабо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летней деятельности практикуйте подгрупповую и индивидуальную рабо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связанная с физи­ческими нагрузками (подвижные игры, занятия физической культурой, экскурсии, труд), должна проводиться в часы до на­ступления жары или после ее спада. В течение дн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зы активной и умеренной деятельности 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о режиме в  детском саду и дома, закаливании, питании, организации  активного отдыха в выходные дни, использовании спортивного  инвентаря в физическом развитии детей, безопасности детей на улицах города, даче, на водо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, К.Ю., Сотникова, В.М. Разноцветные игры [Текст] / К.Ю. Белая, В.М. Сотникова. – М.: Линка-пресс, 2007. – 336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нова, Т.Н. Играют взрослые и дети: из опыта работы дошкольных образовательных  учреждений России [Текст]  / Т.Н. Доронова – М.: Линка-пресс, 2006. – 208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ькова, Л.А. Под парусом Лето плывет по Земле [Текст] : методическое пособие для работников дошкольных учреждений, студентов педагогических вузов и колледжей / Л.А. Пенькова. – М.: Линка-пресс, 2006. – 288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ОЖДЕНИЯ ДО ШКОЛЫ. Основная общеобразовательная программа дошкольного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Под ред. Н. Е. Вераксы, Т. С. Комаровой, М. А. Васильевой. - М.: МОЗАИКА-СИНТЕЗ, 2010. - 304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1412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задача взрослых как можно полнее удовлетворить потребность растущего организма в отдыхе, творческой деятельности и движении. Обеспечить необходимый уровень физического и психического развития детей поможет четко спланированная система мероприятий развлекательного, познавательного и оздоровительного характ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летней оздоровительной работы по образовательным областям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изическ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одержимое 4"/>
          <p:cNvSpPr/>
          <p:nvPr/>
        </p:nvSpPr>
        <p:spPr>
          <a:xfrm>
            <a:off x="4859280" y="907920"/>
            <a:ext cx="403848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Художественно-эстет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4"/>
          <p:cNvSpPr/>
          <p:nvPr/>
        </p:nvSpPr>
        <p:spPr>
          <a:xfrm>
            <a:off x="468360" y="278136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знавательное  и речев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4"/>
          <p:cNvSpPr/>
          <p:nvPr/>
        </p:nvSpPr>
        <p:spPr>
          <a:xfrm>
            <a:off x="4572000" y="2708280"/>
            <a:ext cx="41767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циально‑коммуника-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Физическое развит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ть здоровье детей путем повышения адаптационных возможностей организма, развивать двигательные и психические способности, способствовать формированию положительного эмоционального состояния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 совершенствовать физические функции орга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работоспособность детского организма через различные формы закал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интерес и потребность в занятиях физическими упражн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ть естественную потребность в движении, создавать условия для демонстрации двигательных умений каждого ребенка.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предупреждению заболеваемости и детского травматизма.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и углублять музыкальные впечатления, полученные в течение г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инициативу детей в импров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воображение, инициативу, творчество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основы музыкально-театральной культуры, духовно обогащать детей положительными эмоция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исполнительские умения детей в создании художественного образа, используя для этой цели игровые, песенные и танцевальные импров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навыки в различных ситуациях общения: со сверстниками, педагогами, родителями и другими людьми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ь детей к наблюдению за действительностью, развивать умение видеть мир глазами творца-худож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свободу в отражении — доступными для ребенка художественными средствами — своего видения ми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передавать настроение, состояние, отношение к изображаемому, экспериментировать с различными видами и способами изобра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максимальную свободу для проявления инициативы и необходимое для этого физическое и психологическ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знавательное  и речев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ть детскую любознательность, не подавляя при этом интереса к узнаванию природы, формировать необходимые для разностороннего развития ребенка представления о ней, прививать навыки активности и самостоятельности мыш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выки общения со сверстниками, взрослыми и окружающей природой с ориентацией на ненасильственную модель пове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ирокие возможности для использования всех пяти органов чувств: видеть, слышать, трогать руками, пробовать на вкус, чувствовать различные элементы окружающего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6:53:40Z</dcterms:created>
  <dc:creator>Компас</dc:creator>
  <dc:description/>
  <dc:language>en-US</dc:language>
  <cp:lastModifiedBy>Дмитрий</cp:lastModifiedBy>
  <dcterms:modified xsi:type="dcterms:W3CDTF">2018-12-12T18:01:19Z</dcterms:modified>
  <cp:revision>43</cp:revision>
  <dc:subject/>
  <dc:title>Слайд 1</dc:title>
</cp:coreProperties>
</file>