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D8ED-68E2-495C-9B11-BB05A410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B483-7925-46B5-AE46-E4AE9C1B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1C8-C449-495C-BBD7-EF2DE7AD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630-A0A3-4193-B703-60BAA16F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8E75-9460-41E8-817F-71CA96BE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69E4-3DC5-4E12-9545-AA6E8506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F980-7F07-4BF7-850D-DFBD4E01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C465-4D3F-403A-9DE2-78C12A1A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3778-E823-4B47-B6AC-36C85EBD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E10F-0BD4-4649-B24D-CC9CFB84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B67B-5EF4-4466-8017-25F60BAF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6FB7-76D4-4F04-9FBA-1FD30EEA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AD7F-0ED7-41C9-8994-E9CE4FAE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50F0-D081-4428-95D3-2A3A6DAA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5AEE-E633-49EA-B41F-2F5772FB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135B-B79E-4110-B9C5-BCDD5791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0A56-C6C2-44BB-9B9E-51A05102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5E8EF-987C-4DD7-90CF-36F930F2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D3043-EBE6-4132-BCAF-95B7FB56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725A-41CC-4E6B-A4E9-FF0B5B91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0E85E-40E3-4CB3-86B3-3CA8D313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A27D7-8CDE-42F8-8DF0-A03BC610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FB6-D92E-4A0C-94E7-3097FEC5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39E8-5CAA-44AC-8397-817E6FC9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630E-382B-4A5B-91EB-6EC2D859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90322-3D98-4B71-9E03-7812B0AF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781A6-0324-4F48-BBD3-83672FB7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B9A3E-9E51-4A7F-A4D1-5D58928F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78D66-5720-4C91-B094-A9491B0A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5EAB-8681-4966-A514-6D6DCBF3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460-8728-4535-941D-AE3C85D7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A33-DE06-4F94-99EA-94232F73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D9C5-E40E-4324-ADB4-1F7FC706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105-6FB6-43E5-97F6-2648FC5B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DB5-F46C-47C5-98D5-D007929B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A695-8D5C-4311-89F4-E64057FC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2D90-14AF-4430-A74A-D98C611432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Скругленный прямоугольник 7" descr=""/>
          <p:cNvPicPr/>
          <p:nvPr/>
        </p:nvPicPr>
        <p:blipFill>
          <a:blip r:embed="rId3"/>
          <a:stretch/>
        </p:blipFill>
        <p:spPr>
          <a:xfrm>
            <a:off x="158760" y="171360"/>
            <a:ext cx="8820000" cy="658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кругленный прямоугольник 7" descr=""/>
          <p:cNvPicPr/>
          <p:nvPr/>
        </p:nvPicPr>
        <p:blipFill>
          <a:blip r:embed="rId3"/>
          <a:stretch/>
        </p:blipFill>
        <p:spPr>
          <a:xfrm>
            <a:off x="158760" y="171360"/>
            <a:ext cx="8820000" cy="6583320"/>
          </a:xfrm>
          <a:prstGeom prst="rect">
            <a:avLst/>
          </a:prstGeom>
          <a:ln w="0">
            <a:noFill/>
          </a:ln>
        </p:spPr>
      </p:pic>
      <p:sp>
        <p:nvSpPr>
          <p:cNvPr id="45" name="Скругленный прямоугольник 8"/>
          <p:cNvSpPr/>
          <p:nvPr/>
        </p:nvSpPr>
        <p:spPr>
          <a:xfrm>
            <a:off x="250920" y="189000"/>
            <a:ext cx="8642160" cy="6480000"/>
          </a:xfrm>
          <a:prstGeom prst="roundRect">
            <a:avLst>
              <a:gd name="adj" fmla="val 16667"/>
            </a:avLst>
          </a:prstGeom>
          <a:solidFill>
            <a:srgbClr val="ffffff">
              <a:alpha val="69000"/>
            </a:srgbClr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1D25-02B2-4DF4-BD19-1DBD281A63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2f2f2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кругленный прямоугольник 7" descr=""/>
          <p:cNvPicPr/>
          <p:nvPr/>
        </p:nvPicPr>
        <p:blipFill>
          <a:blip r:embed="rId3"/>
          <a:stretch/>
        </p:blipFill>
        <p:spPr>
          <a:xfrm>
            <a:off x="158760" y="171360"/>
            <a:ext cx="8820000" cy="6583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9AA6-0F67-4489-9339-5C0E434C64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3"/>
          <p:cNvSpPr/>
          <p:nvPr/>
        </p:nvSpPr>
        <p:spPr>
          <a:xfrm>
            <a:off x="1042920" y="76500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 образовательное учреждение города Москвы лицей № 15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468360" y="2565360"/>
            <a:ext cx="813600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то  в детском сад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 ЛЕТНЕЙ  ОЗДОРОВИТЕЛЬНОЙ    РАБОТЫ В Д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Социально‑коммуникативное развит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игровую деятельность воспитан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ение к элементарным общепринятым нормам взаимоотношений со сверстниками и взросл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работу по формированию гендерной, семейной, гражданской принадлежности, патриотических чув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трудовую деятельность, воспитывать ценностное отношение к собственному труду, труду других людей, его результа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представление об опасных для человека и окружающего мира природы ситуациях и способах поведения в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егламентирующие нормативные докумен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 правах ребенка (одобрена Генеральной Ассамблеей ООН 20.11.1989 г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 от 12.12.1993г (ст. 38, 41, 42, 43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дошкольного образования от 17 октября 2013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образования и науки РФ от 27.10.2011 г. № 2562 «Об утверждении Типового положения о дошкольном образовательном учреждении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здрава России от 04.04.03 Н 139 «Об утверждении инструкции по внедрению оздоровительных технологий в деятельность образовательных учреждений;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ми требованиями к устройству, содержанию и организации режима работы дошкольного образовательного учреждения. Санитарно-эпидемиологические правила и нормативы СанПиН 2.4.1.3049-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я по охране жизни и здоровья детей в дошкольных учреждениях и на детских площадках, утвержденной Минпросвещения РСФСР 30.01.195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 рождения до школы» под редакцией  Н. Е. Вераксы, М. А. Васильевой; Т. С. Комаровой; В. В. Гербово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нципы планирования оздоровительной работ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е использование профилактических, закаливающих и оздоровительных технологий;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е проведение профилактических, закаливающих и  оздоровительных мероприяти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енное использование немедикаментозного оздоровлени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эффективности системы профилактических и оздоровительных мероприятий за счет соблюдения элементарных  правил и нормативов: оптимального двигательного режима, физической нагрузки, санитарного состояния учреждения, организации питания, воздушно-теплового режима и водоснабж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368316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здоровительных мероприятий в летний пери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30081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рганизованная образовательная деятель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3" descr="E:\Надя\Надя\Летне-оздоровительная12г\фото1\весёлый хула хуп\_DSC0098.JPG"/>
          <p:cNvPicPr/>
          <p:nvPr/>
        </p:nvPicPr>
        <p:blipFill>
          <a:blip r:embed="rId1"/>
          <a:stretch/>
        </p:blipFill>
        <p:spPr>
          <a:xfrm>
            <a:off x="4067280" y="1658880"/>
            <a:ext cx="4619520" cy="3079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898800" cy="21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здоровительных мероприятий в летний пери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Содержимое 4" descr="420974504[1].jpg"/>
          <p:cNvPicPr/>
          <p:nvPr/>
        </p:nvPicPr>
        <p:blipFill>
          <a:blip r:embed="rId1"/>
          <a:stretch/>
        </p:blipFill>
        <p:spPr>
          <a:xfrm>
            <a:off x="4643280" y="1682640"/>
            <a:ext cx="4043520" cy="3033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300816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тренняя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800600"/>
            <a:ext cx="763272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здоровительных мероприятий в летний пери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13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вижные игр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C:\Users\Дмитрий\Pictures\лето\1369054999_img_1505[1]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537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здоровительных мероприятий в летний пери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835280" y="54450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Двигательные разминк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Дмитрий\Pictures\лето\iVZYIMUJ7.jpg"/>
          <p:cNvPicPr/>
          <p:nvPr/>
        </p:nvPicPr>
        <p:blipFill>
          <a:blip r:embed="rId1"/>
          <a:stretch/>
        </p:blipFill>
        <p:spPr>
          <a:xfrm>
            <a:off x="2959200" y="549360"/>
            <a:ext cx="437832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4330800" cy="20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здоровительных мероприятий в летний перио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Содержимое 4" descr="_DSC0073.JPG"/>
          <p:cNvPicPr/>
          <p:nvPr/>
        </p:nvPicPr>
        <p:blipFill>
          <a:blip r:embed="rId1"/>
          <a:stretch/>
        </p:blipFill>
        <p:spPr>
          <a:xfrm>
            <a:off x="3575160" y="1495440"/>
            <a:ext cx="5111640" cy="34084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300816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Элементы видов спорта, спортивные упражн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272520"/>
            <a:ext cx="3456000" cy="243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здоровительных мероприятий в летний пери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Содержимое 7" descr="f7ec5d113a443062af0cd86e91ec4482.jpg[1].jpg"/>
          <p:cNvPicPr/>
          <p:nvPr/>
        </p:nvPicPr>
        <p:blipFill>
          <a:blip r:embed="rId1"/>
          <a:stretch/>
        </p:blipFill>
        <p:spPr>
          <a:xfrm>
            <a:off x="3995640" y="1282680"/>
            <a:ext cx="4691160" cy="3834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300816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имнастика пробуждения. Гимнастика после дневного с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здоровительных мероприятий в летний перио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7. Индивидуальная работа в режиме дн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8. Закаливающие мероприятия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3" descr="C:\Users\Дмитрий\Pictures\лето\76a0ab0afccdc99742f040948b23806e[1].jpg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3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Здравствуй, лето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1268280"/>
            <a:ext cx="64008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колько солнца! Сколько света!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колько зелени кругом! 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Что же это? Это ЛЕТО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конец спешит к нам в дом.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евчих птиц разноголосье!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вежий запах сочных трав,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 поле спелые колосья</a:t>
            </a:r>
            <a:br>
              <a:rPr sz="2800"/>
            </a:b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 грибы в тени дубра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Т.Боко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работы в летний оздоровительный период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деть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3992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спективно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матическое  планир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280" y="57913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ание для выбора тем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приятие детьми окружающего ми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1447920"/>
          <a:ext cx="8610480" cy="4325760"/>
        </p:xfrm>
        <a:graphic>
          <a:graphicData uri="http://schemas.openxmlformats.org/drawingml/2006/table">
            <a:tbl>
              <a:tblPr/>
              <a:tblGrid>
                <a:gridCol w="1498680"/>
                <a:gridCol w="2095560"/>
                <a:gridCol w="2471760"/>
                <a:gridCol w="2544480"/>
              </a:tblGrid>
              <a:tr h="67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 Е С Я 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ГУ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неч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д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уш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оч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вед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ход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ист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из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0" y="0"/>
          <a:ext cx="9144000" cy="6905520"/>
        </p:xfrm>
        <a:graphic>
          <a:graphicData uri="http://schemas.openxmlformats.org/drawingml/2006/table">
            <a:tbl>
              <a:tblPr/>
              <a:tblGrid>
                <a:gridCol w="2286000"/>
                <a:gridCol w="685800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я д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онедель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зна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омит с темой недели, вместе с детьми определяет круг интересов, проектирует последующую дея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Втор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удолюб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тупает к воплощению идеи через ручной труд, труд в природе, изодеятельность и конструир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ре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людает, экспериментирует, побуждает детей к открытию новых знаний, способов позн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Четвер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оров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изирует, приобщает к здоровому образу жизни через эстафеты, состязания, подвижные иг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Пятн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д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какой «обязаловки», важно «заразить» детей, родителей, педагогов положительным отношением к «событиям недели», осознать важность совместного праздн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57200" y="765000"/>
          <a:ext cx="8229600" cy="5472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ЮНЬ      «Ребенок дом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знавательно – речевое  и социально личност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нед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Беседа с рассматриванием картинок  «В мире опасных предметов и приборов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Беседа «Служба «01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Заучивание пословиц, поговорок, загад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Игра «с магнито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Чтение: «Рассказ о неизвестном герое», «Про Кузьму», «Слоненок – пожарник», «Наш номер 01», «Кошкин дом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Труд  на огор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Беседа «Я и мо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Составление рассказа   «Я у бабушки в гостях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Игра «в гости» (о правилах этикета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альчиковая гимнастика «Наша квартир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Беседа    «Ура, гости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Беседа о русских имена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Рассматривание семейных альбом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оведение за стол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Чтение Шорыгина «Вежливые сказки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Беседа «О том, как вести себя с родителям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абота в огор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6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765000"/>
          <a:ext cx="8229600" cy="5400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5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удожественно-эстетическ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Изготовление знаков «Опасно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Лепка «Столовые прибор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риентировка в пространстве «Моя комнат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Изготовление личных блокнотов «Безопасность  на дорог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Волшебные полоски из бумаги «Светофо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Слушание музыкальных произведений о домашних питомц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Игровое упражнение «Страшный звер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Кукольный театр  «Кошкин дом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ппликация гармошка «Мы за руки возьмемс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исование «Мо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Лепка «Торт для бабуш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ппликация из ниток «Букет для мам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Изготовление д/и «Сервируем стол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Музыкально-спортивный праздник «День защиты детей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азвлечение «Дружн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Слушание  «Материнские ласки» муз. Гречанинова,  «Нянина сказка» Чайков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есня –попевка  «Колыбельная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есня «Бабушки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Игра-забава «Девочки и мальчи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628640"/>
          <a:ext cx="8229600" cy="3313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6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изическ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Дыхательная гимнастика «Пожарные»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азвлечение «Пожарники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/и:  «Казаки-разбойники», «Пожарные на учениях», «Прятки с домом», «Два огн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Игровое упражнение «Телефон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Спортивная игра «Футбол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Досуг «К бабушке во дво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азвлечение «Мама, папа, я – дружн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/и: «Я знаю», «Пора бабушка в пир», «Здравствуй сосед», «Дедушка рожок», «Дай дедушка ручку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Сюж.игра «Машины и пешеходы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42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8360" y="166680"/>
          <a:ext cx="8229600" cy="6523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ю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здник, посвященный Дню защиты детей "Дадим шар земной детям!"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ая, стар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льный руководитель, воспит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Здравствуй, лето красное!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, млад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льный руководитель, воспит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лечение "Угадай мелодию!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ая, стар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льный руко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кольный театр "Про то, как Аленка пасла гусенк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, млад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льный руко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стиваль дворовых иг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ая, старшая, 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ктор по физической культу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"Летний концерт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 групп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льный руко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курс "Юные художники" (­рисование на асфальт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ая, старшая, 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 по изо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царский тур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ая, стар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ктор по физической культу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льно-спортивный праздник "Наша Родина – Россия!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ая, старшая, 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льный руководитель, инструктор по физической культу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ь добрых волшеб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ая, старш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2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89000"/>
          <a:ext cx="8229600" cy="6431040"/>
        </p:xfrm>
        <a:graphic>
          <a:graphicData uri="http://schemas.openxmlformats.org/drawingml/2006/table">
            <a:tbl>
              <a:tblPr/>
              <a:tblGrid>
                <a:gridCol w="1378080"/>
                <a:gridCol w="5400720"/>
                <a:gridCol w="1450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ни нед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-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0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9 июня – международный день друзе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: «Что такое друг», «Для чего нужны друз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тракцион «Подари улыбку друг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удожественной литературы: «Теремок» обр Ушинского, «Игрушки» А. Барто, «Песенка друзей» С. Михалков, «Три поросенка» пер С. Михалкова, «Бременские музыканты» бр Гримм,  «Друг детства» В.Драгунский, «Цветик – семицветик» В.Катаев, «Бобик в гостях у Барбоса» Н.Но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подарка дру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ование портрета дру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: «Классики», «Скакалки», «Мышеловка», «Ловишки», «карусел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  груп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тве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 июня – день ча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ы: «О времени», «Если б не было часов», «Что мы знаем о часах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матривание иллюстраций с изображением разных видов часов; частей суток; календар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удожественной литера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 часов – с участием р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рисунка «Сказочные час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: «Когда это бывает», «Подбери узор для часо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: «Тише едешь – дальше будешь», «День – ночь», «Запоминалки» - с мяч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/р игра: «Школ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  груп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мятка для  воспитателей по работе в летний оздоровительный период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4000" y="2349360"/>
            <a:ext cx="82296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ого процесса на основе комплексно-тематического принципа планирования и интеграции образовательных областей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ть информацию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тради свед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родителях (+ вновь поступивших)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сты здоровь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етей   поступивших из других групп и детских садов. Вест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дь раннего ух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 с подписью родителей (или заявления родителей). Вест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фильт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ля групп раннего возраст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 перед выходом детей на прогулку проверя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территор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щадки, песочницы, малых форм; немедленно сообщать  дежурному администратору о нарушения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 проводи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дет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утреннюю зарядку на улиц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о – удивительная и благодатная пора, когда детям можно вдоволь гулять, бегать и прыгать. Именно в этот период они много времени проводят на воздухе. Пребывание дошкольников на свежем воздухе в летний период укрепляет и закаливает детский организм, оказывает положительное влияние на их всестороннее развит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5280" y="112536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ливающие процеду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те за количеством полотенец, для рук и ног,  маркировкой постельного белья, расчесок, меб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питьевой режим на прогул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осн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гулку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осной материал проверяется на исправность 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тся ежеднев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осле каждой прогулки и складывается в корзины. Следите, чтобы все игрушки были собра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 после прогулок подметаются веранды, домики. В жаркие дни территория площадки орошается вод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есочницах ежедневно рыхлится, проливается водой, закрывается чехлом после прогул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3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000" y="1125360"/>
            <a:ext cx="821844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гул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блюдения, труд на участке и  в огороде, изобразительная деятельность, конструирование, опыты, чтение х/л, сюжетно-ролевые игры, театральные, режиссерские, дидактические игры, подвижные и спортивные игры, экскурсии по экологическим тропинкам, индивидуальная рабо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рганизации летней деятельности практикуйте подгрупповую и индивидуальную работ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, связанная с физи­ческими нагрузками (подвижные игры, занятия физической культурой, экскурсии, труд), должна проводиться в часы до на­ступления жары или после ее спада. В течение дн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дов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зы активной и умеренной деятельности 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ть родителей о режиме в  детском саду и дома, закаливании, питании, организации  активного отдыха в выходные дни, использовании спортивного  инвентаря в физическом развитии детей, безопасности детей на улицах города, даче, на водо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, К.Ю., Сотникова, В.М. Разноцветные игры [Текст] / К.Ю. Белая, В.М. Сотникова. – М.: Линка-пресс, 2007. – 336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нова, Т.Н. Играют взрослые и дети: из опыта работы дошкольных образовательных  учреждений России [Текст]  / Т.Н. Доронова – М.: Линка-пресс, 2006. – 208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ькова, Л.А. Под парусом Лето плывет по Земле [Текст] : методическое пособие для работников дошкольных учреждений, студентов педагогических вузов и колледжей / Л.А. Пенькова. – М.: Линка-пресс, 2006. – 288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РОЖДЕНИЯ ДО ШКОЛЫ. Основная общеобразовательная программа дошкольного образов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Под ред. Н. Е. Вераксы, Т. С. Комаровой, М. А. Васильевой. - М.: МОЗАИКА-СИНТЕЗ, 2010. - 304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22160" y="1412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ая задача взрослых как можно полнее удовлетворить потребность растущего организма в отдыхе, творческой деятельности и движении. Обеспечить необходимый уровень физического и психического развития детей поможет четко спланированная система мероприятий развлекательного, познавательного и оздоровительного характе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летней оздоровительной работы по образовательным областям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Физическое развит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Содержимое 4"/>
          <p:cNvSpPr/>
          <p:nvPr/>
        </p:nvSpPr>
        <p:spPr>
          <a:xfrm>
            <a:off x="4859280" y="907920"/>
            <a:ext cx="403848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Художественно-эстетическ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одержимое 4"/>
          <p:cNvSpPr/>
          <p:nvPr/>
        </p:nvSpPr>
        <p:spPr>
          <a:xfrm>
            <a:off x="468360" y="2781360"/>
            <a:ext cx="403848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ознавательное  и речев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одержимое 4"/>
          <p:cNvSpPr/>
          <p:nvPr/>
        </p:nvSpPr>
        <p:spPr>
          <a:xfrm>
            <a:off x="4572000" y="2708280"/>
            <a:ext cx="417672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оциально‑коммуника-тивное разви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«Физическое развити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ять здоровье детей путем повышения адаптационных возможностей организма, развивать двигательные и психические способности, способствовать формированию положительного эмоционального состояния.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сторонне совершенствовать физические функции организ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ть работоспособность детского организма через различные формы закали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интерес и потребность в занятиях физическими упражнения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ять естественную потребность в движении, создавать условия для демонстрации двигательных умений каждого ребенка.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предупреждению заболеваемости и детского травматизма.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-эстетическое разви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и углублять музыкальные впечатления, полученные в течение го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ть инициативу детей в импров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овать воображение, инициативу, творчество ребен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основы музыкально-театральной культуры, духовно обогащать детей положительными эмоциям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исполнительские умения детей в создании художественного образа, используя для этой цели игровые, песенные и танцевальные импровиза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130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коммуникативные навыки в различных ситуациях общения: со сверстниками, педагогами, родителями и другими людьми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ать детей к наблюдению за действительностью, развивать умение видеть мир глазами творца-художни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свободу в отражении — доступными для ребенка художественными средствами — своего видения ми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мения передавать настроение, состояние, отношение к изображаемому, экспериментировать с различными видами и способами изображ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максимальную свободу для проявления инициативы и необходимое для этого физическое и психологическое простран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знавательное  и речевое разви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ять детскую любознательность, не подавляя при этом интереса к узнаванию природы, формировать необходимые для разностороннего развития ребенка представления о ней, прививать навыки активности и самостоятельности мыш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навыки общения со сверстниками, взрослыми и окружающей природой с ориентацией на ненасильственную модель повед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широкие возможности для использования всех пяти органов чувств: видеть, слышать, трогать руками, пробовать на вкус, чувствовать различные элементы окружающего ми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5T16:53:40Z</dcterms:created>
  <dc:creator>Компас</dc:creator>
  <dc:description/>
  <dc:language>en-US</dc:language>
  <cp:lastModifiedBy>Дмитрий</cp:lastModifiedBy>
  <dcterms:modified xsi:type="dcterms:W3CDTF">2018-12-12T18:01:19Z</dcterms:modified>
  <cp:revision>43</cp:revision>
  <dc:subject/>
  <dc:title>Слайд 1</dc:title>
</cp:coreProperties>
</file>