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D0D-C148-40E7-98E8-E159ABDD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789E-4BE7-4B92-8BFD-19F2CE18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7BEC-893F-411B-BA5C-89272D1E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758-82D1-4903-AD2C-DA6E3835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0F5-6B00-4124-90A3-A510C893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761C-5568-498C-A565-AB1247AD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D61-54B3-478E-8038-EA28BCC4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F18-F094-487C-A43E-465161BA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CD3-A852-4685-A598-3CA9B412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E8E-9207-45DE-BF41-777ADB35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373-5452-4B1D-97BD-19EC2E3A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B79-CD43-4085-A305-C31DFF3D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8B5A-1D12-45DF-AC96-CA596A8C0C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68720" y="1341360"/>
            <a:ext cx="6985080" cy="25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2060"/>
                </a:solidFill>
                <a:latin typeface="Bodoni MT Condensed"/>
              </a:rPr>
              <a:t>My Family</a:t>
            </a:r>
            <a:br>
              <a:rPr sz="8800"/>
            </a:br>
            <a:r>
              <a:rPr b="1" i="1" lang="en-US" sz="8800" spc="-1" strike="noStrike">
                <a:solidFill>
                  <a:srgbClr val="002060"/>
                </a:solidFill>
                <a:latin typeface="Bodoni MT Condensed"/>
              </a:rPr>
              <a:t> </a:t>
            </a:r>
            <a:r>
              <a:rPr b="1" i="1" lang="en-US" sz="8800" spc="-1" strike="noStrike">
                <a:solidFill>
                  <a:srgbClr val="002060"/>
                </a:solidFill>
                <a:latin typeface="Book Antiqua"/>
              </a:rPr>
              <a:t>the Mitins</a:t>
            </a:r>
            <a:br>
              <a:rPr sz="79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8.png"/>
          <p:cNvPicPr/>
          <p:nvPr/>
        </p:nvPicPr>
        <p:blipFill>
          <a:blip r:embed="rId1"/>
          <a:stretch/>
        </p:blipFill>
        <p:spPr>
          <a:xfrm>
            <a:off x="539640" y="1844640"/>
            <a:ext cx="3436920" cy="4581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43" name="TextBox 3"/>
          <p:cNvSpPr/>
          <p:nvPr/>
        </p:nvSpPr>
        <p:spPr>
          <a:xfrm>
            <a:off x="2556000" y="260280"/>
            <a:ext cx="6243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My name is Sash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I am eleven years ol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I like to paint and swi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8800" y="549360"/>
            <a:ext cx="9468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My family is friendly and funn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All the holidays we celebrate toge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3" descr="2.png"/>
          <p:cNvPicPr/>
          <p:nvPr/>
        </p:nvPicPr>
        <p:blipFill>
          <a:blip r:embed="rId1"/>
          <a:stretch/>
        </p:blipFill>
        <p:spPr>
          <a:xfrm>
            <a:off x="611280" y="2421000"/>
            <a:ext cx="4970520" cy="407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539640" y="907920"/>
            <a:ext cx="5745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My mom name is Len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she is tall, smart and beautifu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she works as a teac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She likes reading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7.png"/>
          <p:cNvPicPr/>
          <p:nvPr/>
        </p:nvPicPr>
        <p:blipFill>
          <a:blip r:embed="rId1"/>
          <a:stretch/>
        </p:blipFill>
        <p:spPr>
          <a:xfrm>
            <a:off x="5508720" y="2708280"/>
            <a:ext cx="2841480" cy="3789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1979640" y="1052640"/>
            <a:ext cx="65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My dad is tall and stro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His name is Sash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He is funny and knows many stories.</a:t>
            </a: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3" descr="5.png"/>
          <p:cNvPicPr/>
          <p:nvPr/>
        </p:nvPicPr>
        <p:blipFill>
          <a:blip r:embed="rId1"/>
          <a:stretch/>
        </p:blipFill>
        <p:spPr>
          <a:xfrm>
            <a:off x="395280" y="2997360"/>
            <a:ext cx="2627280" cy="3500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042920" y="692280"/>
            <a:ext cx="72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My grandma Valya is low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she likes to kn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4.png"/>
          <p:cNvPicPr/>
          <p:nvPr/>
        </p:nvPicPr>
        <p:blipFill>
          <a:blip r:embed="rId1"/>
          <a:stretch/>
        </p:blipFill>
        <p:spPr>
          <a:xfrm>
            <a:off x="611280" y="2421000"/>
            <a:ext cx="3076560" cy="4100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68360" y="836640"/>
            <a:ext cx="9144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I have two brothers, Roma and Di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y are ta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Roma has a wife and a little daughter Mas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Dima  has a son Cyril. Cyril  is twelve yea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he is a teenag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1.png"/>
          <p:cNvPicPr/>
          <p:nvPr/>
        </p:nvPicPr>
        <p:blipFill>
          <a:blip r:embed="rId1"/>
          <a:stretch/>
        </p:blipFill>
        <p:spPr>
          <a:xfrm>
            <a:off x="6143760" y="2708280"/>
            <a:ext cx="3000240" cy="3781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900000" y="476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I am lucky with my family</a:t>
            </a:r>
            <a:r>
              <a:rPr b="1" i="1" lang="ru-RU" sz="4000" spc="-1" strike="noStrike">
                <a:solidFill>
                  <a:srgbClr val="000000"/>
                </a:solidFill>
                <a:latin typeface="Andalus"/>
                <a:ea typeface="Andalus"/>
              </a:rPr>
              <a:t>,</a:t>
            </a: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the Miti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3.png"/>
          <p:cNvPicPr/>
          <p:nvPr/>
        </p:nvPicPr>
        <p:blipFill>
          <a:blip r:embed="rId1"/>
          <a:stretch/>
        </p:blipFill>
        <p:spPr>
          <a:xfrm>
            <a:off x="755640" y="2421000"/>
            <a:ext cx="3059280" cy="4076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9T19:40:55Z</dcterms:created>
  <dc:creator>Галина Владимировна</dc:creator>
  <dc:description/>
  <dc:language>en-US</dc:language>
  <cp:lastModifiedBy>GS</cp:lastModifiedBy>
  <dcterms:modified xsi:type="dcterms:W3CDTF">2018-12-12T11:22:23Z</dcterms:modified>
  <cp:revision>7</cp:revision>
  <dc:subject/>
  <dc:title>Слайд 1</dc:title>
</cp:coreProperties>
</file>