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700-EFBD-485B-930A-74F1214C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436-77CB-4A12-93C2-D2A93D3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C1C-A6DB-4A6A-B796-4DDA72B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94-3771-428A-AFA9-BC66CA84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215-B1AE-4CED-B30F-21861A2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77-D68F-4AB4-BB00-74E3A110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A1E-D5AE-40E0-9679-2E41237B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033-15FC-4B0E-9164-A220D5F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C7D-F956-4426-A774-CB5FE77B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CA3-0EA2-4347-A6F3-197E97C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504-F9AC-46BF-8D88-982C8C4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1FE-B7F7-4222-941E-AA15420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990-225B-4A71-8134-9030140A1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1341360"/>
            <a:ext cx="698508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2060"/>
                </a:solidFill>
                <a:latin typeface="Bodoni MT Condensed"/>
              </a:rPr>
              <a:t>My Family</a:t>
            </a:r>
            <a:br>
              <a:rPr sz="8800"/>
            </a:br>
            <a:r>
              <a:rPr b="1" i="1" lang="en-US" sz="8800" spc="-1" strike="noStrike">
                <a:solidFill>
                  <a:srgbClr val="002060"/>
                </a:solidFill>
                <a:latin typeface="Bodoni MT Condensed"/>
              </a:rPr>
              <a:t> </a:t>
            </a:r>
            <a:r>
              <a:rPr b="1" i="1" lang="en-US" sz="8800" spc="-1" strike="noStrike">
                <a:solidFill>
                  <a:srgbClr val="002060"/>
                </a:solidFill>
                <a:latin typeface="Book Antiqua"/>
              </a:rPr>
              <a:t>the Mitins</a:t>
            </a:r>
            <a:br>
              <a:rPr sz="79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8.png"/>
          <p:cNvPicPr/>
          <p:nvPr/>
        </p:nvPicPr>
        <p:blipFill>
          <a:blip r:embed="rId1"/>
          <a:stretch/>
        </p:blipFill>
        <p:spPr>
          <a:xfrm>
            <a:off x="539640" y="1844640"/>
            <a:ext cx="3436920" cy="4581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2556000" y="260280"/>
            <a:ext cx="6243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name is Sas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am eleven years 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like to paint and sw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8800" y="549360"/>
            <a:ext cx="9468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family is friendly and funn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All the holidays we celebrate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2.png"/>
          <p:cNvPicPr/>
          <p:nvPr/>
        </p:nvPicPr>
        <p:blipFill>
          <a:blip r:embed="rId1"/>
          <a:stretch/>
        </p:blipFill>
        <p:spPr>
          <a:xfrm>
            <a:off x="611280" y="2421000"/>
            <a:ext cx="4970520" cy="40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39640" y="907920"/>
            <a:ext cx="5745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My mom name is L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is tall, smart and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works as a teac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likes read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7.png"/>
          <p:cNvPicPr/>
          <p:nvPr/>
        </p:nvPicPr>
        <p:blipFill>
          <a:blip r:embed="rId1"/>
          <a:stretch/>
        </p:blipFill>
        <p:spPr>
          <a:xfrm>
            <a:off x="5508720" y="2708280"/>
            <a:ext cx="2841480" cy="378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979640" y="1052640"/>
            <a:ext cx="65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y dad is tall and str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His name is Sash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He is funny and knows many stories.</a:t>
            </a: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5.png"/>
          <p:cNvPicPr/>
          <p:nvPr/>
        </p:nvPicPr>
        <p:blipFill>
          <a:blip r:embed="rId1"/>
          <a:stretch/>
        </p:blipFill>
        <p:spPr>
          <a:xfrm>
            <a:off x="395280" y="2997360"/>
            <a:ext cx="2627280" cy="350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42920" y="69228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grandma Valya is low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she likes to k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4.png"/>
          <p:cNvPicPr/>
          <p:nvPr/>
        </p:nvPicPr>
        <p:blipFill>
          <a:blip r:embed="rId1"/>
          <a:stretch/>
        </p:blipFill>
        <p:spPr>
          <a:xfrm>
            <a:off x="611280" y="2421000"/>
            <a:ext cx="3076560" cy="410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68360" y="83664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 have two brothers, Roma and D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y are t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ma has a wife and a little daughter Mas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Dima  has a son Cyril. Cyril  is twelve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e is a teenag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1.png"/>
          <p:cNvPicPr/>
          <p:nvPr/>
        </p:nvPicPr>
        <p:blipFill>
          <a:blip r:embed="rId1"/>
          <a:stretch/>
        </p:blipFill>
        <p:spPr>
          <a:xfrm>
            <a:off x="6143760" y="2708280"/>
            <a:ext cx="3000240" cy="37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0000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am lucky with my family</a:t>
            </a:r>
            <a:r>
              <a:rPr b="1" i="1" lang="ru-RU" sz="40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Miti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3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40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9T19:40:55Z</dcterms:created>
  <dc:creator>Галина Владимировна</dc:creator>
  <dc:description/>
  <dc:language>en-US</dc:language>
  <cp:lastModifiedBy>GS</cp:lastModifiedBy>
  <dcterms:modified xsi:type="dcterms:W3CDTF">2018-12-12T11:22:23Z</dcterms:modified>
  <cp:revision>7</cp:revision>
  <dc:subject/>
  <dc:title>Слайд 1</dc:title>
</cp:coreProperties>
</file>