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5E46-CA20-476C-8A2F-F8693F30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F0FD-4F58-48E7-9AA6-6A4A932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336C-15D6-45B8-BF74-4CEB9D1A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ADE0-9076-406A-9B74-CFE2EE4A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B47C-A5B2-496C-BE5D-9F2F573E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A7F-D1B4-4707-89BD-54B3897E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5733-A51E-4C09-8869-03A4C45B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56A2-79E4-4B38-8D4F-6B11753A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6629-AF91-4B62-9007-6FA891A8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B286-E8FA-4BBB-9684-C543D73C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D4D1-B8EB-442B-9078-84DA3691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D770-FBEC-493F-832A-EE6A2190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7432-1D6A-4450-A1F7-BD6D26E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6D9B-926F-4E30-87DF-C3F750F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94C9-92F1-4BE1-ADF9-8F81EB41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0EC-451A-4E6C-B27B-CF84D2E1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C274-9C09-49B7-A187-04DF84C4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2AA0-8108-4780-B280-DC14491A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7FB93-FA24-46F8-AF1C-7656848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32B0-1F2E-4719-AC48-469831E1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623E-F3B2-4E70-997C-314B412C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E61D-6410-43D5-909C-1DC5EDFE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5655-41BB-4FE3-BE88-89EF5CE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73D1-90A6-4AE5-8DA2-860145EE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239-58CA-4D8C-A378-DAC18C44BA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4A9-42FE-4E01-9B74-B698009642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1" name="Picture 2" descr="C:\Users\Света\Desktop\презентации интернет\рисунки хохлома\узоры хохлома\1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Света\Desktop\f9b3ce5363f29a946bf2d1d5f695cc75.jpg"/>
          <p:cNvPicPr/>
          <p:nvPr/>
        </p:nvPicPr>
        <p:blipFill>
          <a:blip r:embed="rId1"/>
          <a:stretch/>
        </p:blipFill>
        <p:spPr>
          <a:xfrm>
            <a:off x="1042920" y="603360"/>
            <a:ext cx="7274160" cy="548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767878_isskustvo-detyam_xoxloma-009"/>
          <p:cNvPicPr/>
          <p:nvPr/>
        </p:nvPicPr>
        <p:blipFill>
          <a:blip r:embed="rId1"/>
          <a:stretch/>
        </p:blipFill>
        <p:spPr>
          <a:xfrm>
            <a:off x="5148360" y="439560"/>
            <a:ext cx="3492360" cy="3962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2767876_isskustvo-detyam_xoxloma-007"/>
          <p:cNvPicPr/>
          <p:nvPr/>
        </p:nvPicPr>
        <p:blipFill>
          <a:blip r:embed="rId2"/>
          <a:stretch/>
        </p:blipFill>
        <p:spPr>
          <a:xfrm>
            <a:off x="539640" y="404640"/>
            <a:ext cx="3434040" cy="403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2767882_isskustvo-detyam_xoxloma-013"/>
          <p:cNvPicPr/>
          <p:nvPr/>
        </p:nvPicPr>
        <p:blipFill>
          <a:blip r:embed="rId3"/>
          <a:stretch/>
        </p:blipFill>
        <p:spPr>
          <a:xfrm>
            <a:off x="1332000" y="4714920"/>
            <a:ext cx="633564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Посуда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3" name="Picture 4" descr="Плошка"/>
          <p:cNvPicPr/>
          <p:nvPr/>
        </p:nvPicPr>
        <p:blipFill>
          <a:blip r:embed="rId1"/>
          <a:stretch/>
        </p:blipFill>
        <p:spPr>
          <a:xfrm>
            <a:off x="6372360" y="476280"/>
            <a:ext cx="2520720" cy="171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Солоночка"/>
          <p:cNvPicPr/>
          <p:nvPr/>
        </p:nvPicPr>
        <p:blipFill>
          <a:blip r:embed="rId2"/>
          <a:stretch/>
        </p:blipFill>
        <p:spPr>
          <a:xfrm>
            <a:off x="6588000" y="3500280"/>
            <a:ext cx="2376720" cy="2546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"/>
          <p:cNvPicPr/>
          <p:nvPr/>
        </p:nvPicPr>
        <p:blipFill>
          <a:blip r:embed="rId3"/>
          <a:stretch/>
        </p:blipFill>
        <p:spPr>
          <a:xfrm>
            <a:off x="395280" y="549360"/>
            <a:ext cx="2487600" cy="259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415"/>
          <p:cNvPicPr/>
          <p:nvPr/>
        </p:nvPicPr>
        <p:blipFill>
          <a:blip r:embed="rId4"/>
          <a:stretch/>
        </p:blipFill>
        <p:spPr>
          <a:xfrm>
            <a:off x="3132000" y="177336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Users\Света\Desktop\презентации интернет\рисунки хохлома\посуда хохлома\18а.jpg"/>
          <p:cNvPicPr/>
          <p:nvPr/>
        </p:nvPicPr>
        <p:blipFill>
          <a:blip r:embed="rId5"/>
          <a:stretch/>
        </p:blipFill>
        <p:spPr>
          <a:xfrm>
            <a:off x="324000" y="3789360"/>
            <a:ext cx="2531880" cy="253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9" name="Picture 2" descr="C:\Users\Света\Desktop\презентации интернет\рисунки хохлома\посуда хохлома\21а.gif"/>
          <p:cNvPicPr/>
          <p:nvPr/>
        </p:nvPicPr>
        <p:blipFill>
          <a:blip r:embed="rId1"/>
          <a:stretch/>
        </p:blipFill>
        <p:spPr>
          <a:xfrm>
            <a:off x="2700360" y="620640"/>
            <a:ext cx="3824280" cy="4392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Света\Desktop\презентации интернет\рисунки хохлома\посуда хохлома\19а.jpg"/>
          <p:cNvPicPr/>
          <p:nvPr/>
        </p:nvPicPr>
        <p:blipFill>
          <a:blip r:embed="rId2"/>
          <a:stretch/>
        </p:blipFill>
        <p:spPr>
          <a:xfrm>
            <a:off x="395280" y="3860640"/>
            <a:ext cx="2306520" cy="23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Света\Desktop\презентации интернет\рисунки хохлома\посуда хохлома\16.jpg"/>
          <p:cNvPicPr/>
          <p:nvPr/>
        </p:nvPicPr>
        <p:blipFill>
          <a:blip r:embed="rId3"/>
          <a:stretch/>
        </p:blipFill>
        <p:spPr>
          <a:xfrm>
            <a:off x="5435640" y="386064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Света\Desktop\презентации интернет\рисунки хохлома\посуда хохлома\15.jpg"/>
          <p:cNvPicPr/>
          <p:nvPr/>
        </p:nvPicPr>
        <p:blipFill>
          <a:blip r:embed="rId4"/>
          <a:stretch/>
        </p:blipFill>
        <p:spPr>
          <a:xfrm>
            <a:off x="6659640" y="476280"/>
            <a:ext cx="204300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Света\Desktop\презентации интернет\рисунки хохлома\посуда хохлома\30.jpg"/>
          <p:cNvPicPr/>
          <p:nvPr/>
        </p:nvPicPr>
        <p:blipFill>
          <a:blip r:embed="rId5"/>
          <a:stretch/>
        </p:blipFill>
        <p:spPr>
          <a:xfrm>
            <a:off x="324000" y="549360"/>
            <a:ext cx="2168280" cy="2768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34920" y="27000"/>
            <a:ext cx="9109080" cy="6831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43280" y="1628280"/>
            <a:ext cx="4043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ва приема письма: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ерховое письмо, 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де узор рисуется красной или черной краской поверх золотого ф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3200" y="188640"/>
            <a:ext cx="7570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удожественная роспис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5" name="Picture 2" descr="57512_html_6890f37b"/>
          <p:cNvPicPr/>
          <p:nvPr/>
        </p:nvPicPr>
        <p:blipFill>
          <a:blip r:embed="rId1"/>
          <a:stretch/>
        </p:blipFill>
        <p:spPr>
          <a:xfrm>
            <a:off x="755640" y="1325520"/>
            <a:ext cx="3816360" cy="484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076720" y="333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Второй прием – «под фон»: 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сначала рисуются контуры узора, затем покрывается цветом фон и после этого оставшийся не закрашенный узор расписывается краско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8" name="Picture 2" descr="57512_html_m5db9303f"/>
          <p:cNvPicPr/>
          <p:nvPr/>
        </p:nvPicPr>
        <p:blipFill>
          <a:blip r:embed="rId1"/>
          <a:stretch/>
        </p:blipFill>
        <p:spPr>
          <a:xfrm>
            <a:off x="611280" y="836640"/>
            <a:ext cx="4275000" cy="3240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395280" y="4581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обенность «фоновой» росписи заключается в том, что фон вокруг узора окрашивается в красный или черный цвет. При этом способе листья, цветы или птицы выделяются на этом фоне в виде золотых силуэто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57512_html_11129052"/>
          <p:cNvPicPr/>
          <p:nvPr/>
        </p:nvPicPr>
        <p:blipFill>
          <a:blip r:embed="rId1"/>
          <a:stretch/>
        </p:blipFill>
        <p:spPr>
          <a:xfrm>
            <a:off x="826920" y="549360"/>
            <a:ext cx="7186680" cy="57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10:47Z</dcterms:created>
  <dc:creator>Ганжа</dc:creator>
  <dc:description/>
  <dc:language>en-US</dc:language>
  <cp:lastModifiedBy>User</cp:lastModifiedBy>
  <dcterms:modified xsi:type="dcterms:W3CDTF">2018-12-12T08:38:57Z</dcterms:modified>
  <cp:revision>32</cp:revision>
  <dc:subject/>
  <dc:title>Хохлома</dc:title>
</cp:coreProperties>
</file>