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9B5A-4BF0-4DBB-BE37-71BFDDEA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9BB8-CA99-4699-8FA9-B61151CC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A4DB-ADD4-49C4-9A9A-4434DE3B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05E5-30D1-49B9-AE2F-E6F82DCD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A392-55F0-4737-BD72-2A134150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8F4B-032A-49A2-AAD5-6A9841BA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9D66-0C45-4C79-8E6E-9298B9AA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A3E2-DB9E-4AE6-9C99-FF7EAC52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F40A-AF5C-466C-9855-255A1801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82F0-4E20-4120-B51A-D8414776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C261-62BD-4364-98A9-4112BCDB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F119-E71F-4890-BBEC-07F09FE1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8AF3-0E76-4728-BFCF-392687A5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3489-C02A-425C-91C7-F2618CD4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F547-6E48-4188-BD8E-B557B9BF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625A-A1F4-4388-BE5C-E6EF1457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6877-95C9-4A45-874F-ED9DA0FA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C107-339A-49F4-8495-426C4E44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1FF6-D78F-4E1F-95BD-9B31C09F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3C64-D436-40C5-922C-2308FA45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7057-F0BB-47E8-9459-2D8A4D68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5AD1-37B0-4EA3-A1AB-B4C8B71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9207-6BA1-4E5E-8C2B-18C797B1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4C4E-7769-43F2-B8F8-95668A93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0F4D-5B7E-4C2F-8331-8D496FD91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5814-5ECE-41D4-A57E-95F7A22E40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1" name="Picture 2" descr="C:\Users\Света\Desktop\презентации интернет\рисунки хохлома\узоры хохлома\1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Света\Desktop\f9b3ce5363f29a946bf2d1d5f695cc75.jpg"/>
          <p:cNvPicPr/>
          <p:nvPr/>
        </p:nvPicPr>
        <p:blipFill>
          <a:blip r:embed="rId1"/>
          <a:stretch/>
        </p:blipFill>
        <p:spPr>
          <a:xfrm>
            <a:off x="1042920" y="603360"/>
            <a:ext cx="7274160" cy="548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767878_isskustvo-detyam_xoxloma-009"/>
          <p:cNvPicPr/>
          <p:nvPr/>
        </p:nvPicPr>
        <p:blipFill>
          <a:blip r:embed="rId1"/>
          <a:stretch/>
        </p:blipFill>
        <p:spPr>
          <a:xfrm>
            <a:off x="5148360" y="439560"/>
            <a:ext cx="3492360" cy="3962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2767876_isskustvo-detyam_xoxloma-007"/>
          <p:cNvPicPr/>
          <p:nvPr/>
        </p:nvPicPr>
        <p:blipFill>
          <a:blip r:embed="rId2"/>
          <a:stretch/>
        </p:blipFill>
        <p:spPr>
          <a:xfrm>
            <a:off x="539640" y="404640"/>
            <a:ext cx="3434040" cy="403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2767882_isskustvo-detyam_xoxloma-013"/>
          <p:cNvPicPr/>
          <p:nvPr/>
        </p:nvPicPr>
        <p:blipFill>
          <a:blip r:embed="rId3"/>
          <a:stretch/>
        </p:blipFill>
        <p:spPr>
          <a:xfrm>
            <a:off x="1332000" y="4714920"/>
            <a:ext cx="6335640" cy="180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475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00"/>
                </a:solidFill>
                <a:latin typeface="Garamond"/>
              </a:rPr>
              <a:t>Посуда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3" name="Picture 4" descr="Плошка"/>
          <p:cNvPicPr/>
          <p:nvPr/>
        </p:nvPicPr>
        <p:blipFill>
          <a:blip r:embed="rId1"/>
          <a:stretch/>
        </p:blipFill>
        <p:spPr>
          <a:xfrm>
            <a:off x="6372360" y="476280"/>
            <a:ext cx="2520720" cy="171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Солоночка"/>
          <p:cNvPicPr/>
          <p:nvPr/>
        </p:nvPicPr>
        <p:blipFill>
          <a:blip r:embed="rId2"/>
          <a:stretch/>
        </p:blipFill>
        <p:spPr>
          <a:xfrm>
            <a:off x="6588000" y="3500280"/>
            <a:ext cx="2376720" cy="2546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"/>
          <p:cNvPicPr/>
          <p:nvPr/>
        </p:nvPicPr>
        <p:blipFill>
          <a:blip r:embed="rId3"/>
          <a:stretch/>
        </p:blipFill>
        <p:spPr>
          <a:xfrm>
            <a:off x="395280" y="549360"/>
            <a:ext cx="2487600" cy="259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415"/>
          <p:cNvPicPr/>
          <p:nvPr/>
        </p:nvPicPr>
        <p:blipFill>
          <a:blip r:embed="rId4"/>
          <a:stretch/>
        </p:blipFill>
        <p:spPr>
          <a:xfrm>
            <a:off x="3132000" y="1773360"/>
            <a:ext cx="3024360" cy="403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Users\Света\Desktop\презентации интернет\рисунки хохлома\посуда хохлома\18а.jpg"/>
          <p:cNvPicPr/>
          <p:nvPr/>
        </p:nvPicPr>
        <p:blipFill>
          <a:blip r:embed="rId5"/>
          <a:stretch/>
        </p:blipFill>
        <p:spPr>
          <a:xfrm>
            <a:off x="324000" y="3789360"/>
            <a:ext cx="2531880" cy="2532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9" name="Picture 2" descr="C:\Users\Света\Desktop\презентации интернет\рисунки хохлома\посуда хохлома\21а.gif"/>
          <p:cNvPicPr/>
          <p:nvPr/>
        </p:nvPicPr>
        <p:blipFill>
          <a:blip r:embed="rId1"/>
          <a:stretch/>
        </p:blipFill>
        <p:spPr>
          <a:xfrm>
            <a:off x="2700360" y="620640"/>
            <a:ext cx="3824280" cy="4392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Света\Desktop\презентации интернет\рисунки хохлома\посуда хохлома\19а.jpg"/>
          <p:cNvPicPr/>
          <p:nvPr/>
        </p:nvPicPr>
        <p:blipFill>
          <a:blip r:embed="rId2"/>
          <a:stretch/>
        </p:blipFill>
        <p:spPr>
          <a:xfrm>
            <a:off x="395280" y="3860640"/>
            <a:ext cx="2306520" cy="23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Света\Desktop\презентации интернет\рисунки хохлома\посуда хохлома\16.jpg"/>
          <p:cNvPicPr/>
          <p:nvPr/>
        </p:nvPicPr>
        <p:blipFill>
          <a:blip r:embed="rId3"/>
          <a:stretch/>
        </p:blipFill>
        <p:spPr>
          <a:xfrm>
            <a:off x="5435640" y="386064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Users\Света\Desktop\презентации интернет\рисунки хохлома\посуда хохлома\15.jpg"/>
          <p:cNvPicPr/>
          <p:nvPr/>
        </p:nvPicPr>
        <p:blipFill>
          <a:blip r:embed="rId4"/>
          <a:stretch/>
        </p:blipFill>
        <p:spPr>
          <a:xfrm>
            <a:off x="6659640" y="476280"/>
            <a:ext cx="204300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Users\Света\Desktop\презентации интернет\рисунки хохлома\посуда хохлома\30.jpg"/>
          <p:cNvPicPr/>
          <p:nvPr/>
        </p:nvPicPr>
        <p:blipFill>
          <a:blip r:embed="rId5"/>
          <a:stretch/>
        </p:blipFill>
        <p:spPr>
          <a:xfrm>
            <a:off x="324000" y="549360"/>
            <a:ext cx="2168280" cy="276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4920" y="27000"/>
            <a:ext cx="9109080" cy="683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43280" y="1628280"/>
            <a:ext cx="4043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ва приема письма: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ерховое письмо, 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де узор рисуется красной или черной краской поверх золотого фо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3200" y="188640"/>
            <a:ext cx="75708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художественная роспись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5" name="Picture 2" descr="57512_html_6890f37b"/>
          <p:cNvPicPr/>
          <p:nvPr/>
        </p:nvPicPr>
        <p:blipFill>
          <a:blip r:embed="rId1"/>
          <a:stretch/>
        </p:blipFill>
        <p:spPr>
          <a:xfrm>
            <a:off x="755640" y="1325520"/>
            <a:ext cx="3816360" cy="484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076720" y="333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Второй прием – «под фон»: </a:t>
            </a: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сначала рисуются контуры узора, затем покрывается цветом фон и после этого оставшийся не закрашенный узор расписывается краской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4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8" name="Picture 2" descr="57512_html_m5db9303f"/>
          <p:cNvPicPr/>
          <p:nvPr/>
        </p:nvPicPr>
        <p:blipFill>
          <a:blip r:embed="rId1"/>
          <a:stretch/>
        </p:blipFill>
        <p:spPr>
          <a:xfrm>
            <a:off x="611280" y="836640"/>
            <a:ext cx="4275000" cy="3240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395280" y="458136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собенность «фоновой» росписи заключается в том, что фон вокруг узора окрашивается в красный или черный цвет. При этом способе листья, цветы или птицы выделяются на этом фоне в виде золотых силуэтов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57512_html_11129052"/>
          <p:cNvPicPr/>
          <p:nvPr/>
        </p:nvPicPr>
        <p:blipFill>
          <a:blip r:embed="rId1"/>
          <a:stretch/>
        </p:blipFill>
        <p:spPr>
          <a:xfrm>
            <a:off x="826920" y="549360"/>
            <a:ext cx="7186680" cy="57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7:10:47Z</dcterms:created>
  <dc:creator>Ганжа</dc:creator>
  <dc:description/>
  <dc:language>en-US</dc:language>
  <cp:lastModifiedBy>User</cp:lastModifiedBy>
  <dcterms:modified xsi:type="dcterms:W3CDTF">2018-12-12T08:38:57Z</dcterms:modified>
  <cp:revision>32</cp:revision>
  <dc:subject/>
  <dc:title>Хохлома</dc:title>
</cp:coreProperties>
</file>