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849C9-F32D-49A3-A1BA-2F5CB5DBB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AD7CA-306B-4F4D-BEF1-6E7708CE4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0C769-4BC7-4006-80F8-416D708AB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6E6C8-1D71-47B6-AF2F-E022ED20A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1CDF7-FC0F-4A36-A6F5-CD9C1E047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2822C-E99F-449E-98B2-0EEC20C64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13FD1-2781-4DE5-B4B8-7A3AF6F67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B69D5-5385-4BC1-B175-8768436B4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790B9-0C8E-4A9C-890E-B8017A901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E8740-51E7-46E7-AC19-6B0E7CC77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A9E82-1C69-41CB-84DB-51B210449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0CA60-C8A5-4572-942E-66EEB326B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7E379-B70B-45D7-B9C7-F18F2C763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30464-3537-45F2-B65C-3F07726E5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3C33F-ED76-46EB-9142-B2226740F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E8EA0-D5F4-4738-B0F9-95772957F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8EA35-9311-4D41-85EE-C48E729D9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9C01B6-CEFC-4E39-A086-56F2AE810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D867C0-063A-44ED-8FF1-1B8EDFDDF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4CEFEA-C3A0-4375-9EDC-2240FB4D8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FAE97F-DA75-4D74-A3A7-7E424C322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EBEA6B-67A9-40CB-972E-DF482B7E4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93A40-66D6-426D-AFF2-5EFFB5F45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7033E9-668C-4980-9889-4110CA7D1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F47802-2645-4095-90BF-E900230A4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B679FC-A24D-4CFB-BC76-35A8285F0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F51905-49BD-4ACE-8411-5EFBF4824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24E952-D9E2-4D37-9B82-7F1B1BC2B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3DEFC8-FB48-493F-AC1E-F34134359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31C671-4EF4-446D-8A02-A1B5461D2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069837-8150-4B09-81B6-DD4302EEB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C15640-20CF-45E3-8B6D-062C695F7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824D84-E652-4AE1-9F7C-309AC893D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D572C-F920-47FD-8ABC-9EB284F40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D9BD14-1434-438C-9390-115103289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8135B8-5C70-4EAC-BF54-D8A2B47C1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0DAD92-8939-4B69-804F-09CDA8FC0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AAAF59-1770-4CEC-BD15-D00AE4EAC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D95F89-EECF-497B-92B1-C8EF2E3CD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4DB49A-CBD1-4906-9B6E-67182747C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0540A6-36D1-4AFB-87EF-E0B0CA97B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B92F69-7A4A-4DD8-BCF3-012B1B7F2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499EBE-4AF0-478D-B8D0-C59712A4C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5868C9-E0FB-4C0C-A0C1-8E014F557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5B141-5BD0-4762-83A8-DEA67326D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28ED10-B243-48F9-8946-ED14F5133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71F1DF-8A4C-4FD3-B4C2-9920762EE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19E192-673D-4744-AB6D-452B61BD3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1F2206-DAEC-439C-94A2-CA98EDF79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D0C628-7D8F-4936-8B3D-BA6631146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C430C7-C949-44BA-9E15-16F22A71A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D0F751-DE2E-4AE2-86E5-2C0F8B8DC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4C05A5-A178-4DC2-AF8F-BD2ED7BA1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A8A684-5A2E-4EA7-BEB3-7B41DFC04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57A335-CB78-4664-8446-5E2D3FB63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4B3B5-1075-4F69-99CB-008E114F4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BAD283-E6A1-4CD0-B3E8-BC542B471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E4DB54-6B0F-49F2-9E16-AC7156F3A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69C240-7A3A-4736-AAB2-F7C209F95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0B1B81-7E82-40EA-B410-C75923D02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4EE324-F3CC-4E9C-AF20-2526ECCDE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454089-A2E1-49AF-AC5F-2307689FC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F0E677-C91D-48C9-9E55-83EA58376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CB448F-5D2F-4AB1-949D-E7964DD63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34444B-3792-4460-AB4B-2C9FB5EFA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7A32DF-01EF-4D98-A2F3-37125938E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1D9D7-6D1B-4C18-BF7E-46F4E06D3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F85E54-47E6-4C44-A83A-B6AEB9843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6AB02F-8580-4111-AE3E-964DFB520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E85004-D1E7-436E-A8E0-64ED6C2B4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42D0A0-9F74-468C-B52D-5C5C63234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96E44F-917B-45CD-9166-2D5E2B92D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8F7669-486F-4079-AFE8-826804A22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F97A61-5BB8-4350-BB5B-70B1C27F1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33D39E-2066-4BC1-8490-AE46B84FE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9C2C2A-D5C7-4D6E-8DB5-5E6DE00F1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621942-8D9A-4807-AB6E-175D701B4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6AB58-877E-4475-A000-99DF7C1A7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3EC961-3FA6-4963-AC60-91C68CEFB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B097AD-8233-4DCF-B777-FCFBD236B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E1D9DE-10FA-4A1D-BEF2-0682F9110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5B95D4-A79E-44F4-BA9F-24C27D106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5B353C-EE8F-4C92-98B0-07A3081AE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EFA77-58B1-43E6-8225-04FCDE76F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3240" y="5051520"/>
            <a:ext cx="3575160" cy="180648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-1440" y="5051520"/>
            <a:ext cx="9145440" cy="180648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3160" indent="-17316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401760" indent="-16380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630360" indent="-16380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858960" indent="-17316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858960" indent="-1731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858960" indent="-1731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78C87-9ED7-41BF-9505-2E66FB7A1FAF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ight Triangle 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Freeform 7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3160" indent="-17316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401760" indent="-16380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630360" indent="-16380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858960" indent="-17316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858960" indent="-1731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858960" indent="-1731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58203-1583-424B-AC65-37347C03C1D0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7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ight Triangle 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3160" indent="-17316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401760" indent="-16380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630360" indent="-16380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858960" indent="-17316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858960" indent="-1731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858960" indent="-1731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3C93D-8CAA-4209-8B50-5080CDE78450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ight Triangle 1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ight Triangle 17"/>
          <p:cNvSpPr/>
          <p:nvPr/>
        </p:nvSpPr>
        <p:spPr>
          <a:xfrm rot="5400000">
            <a:off x="433440" y="-433440"/>
            <a:ext cx="6858000" cy="7724880"/>
          </a:xfrm>
          <a:prstGeom prst="rtTriangle">
            <a:avLst/>
          </a:pr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3160" indent="-17316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401760" indent="-16380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630360" indent="-16380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858960" indent="-17316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858960" indent="-1731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858960" indent="-1731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434342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43434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A39E0-5DAA-4533-AA9D-BF11A2462403}" type="slidenum">
              <a:rPr b="0" lang="ru-RU" sz="1600" spc="-1" strike="noStrike">
                <a:solidFill>
                  <a:srgbClr val="434342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ight Triangle 8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reeform 9"/>
          <p:cNvSpPr/>
          <p:nvPr/>
        </p:nvSpPr>
        <p:spPr>
          <a:xfrm>
            <a:off x="0" y="5048280"/>
            <a:ext cx="3571920" cy="1809720"/>
          </a:xfrm>
          <a:custGeom>
            <a:avLst/>
            <a:gdLst/>
            <a:ahLst/>
            <a:rect l="l" t="t" r="r" b="b"/>
            <a:pathLst>
              <a:path w="3571875" h="1809750">
                <a:moveTo>
                  <a:pt x="0" y="1809750"/>
                </a:moveTo>
                <a:lnTo>
                  <a:pt x="2038350" y="0"/>
                </a:lnTo>
                <a:lnTo>
                  <a:pt x="3571875" y="1809750"/>
                </a:lnTo>
                <a:lnTo>
                  <a:pt x="0" y="1809750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3160" indent="-17316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401760" indent="-16380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630360" indent="-16380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858960" indent="-17316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858960" indent="-1731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858960" indent="-1731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AD4E2-8A3C-4C8C-9A95-E7EE7AF292C6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Freeform 6"/>
          <p:cNvSpPr/>
          <p:nvPr/>
        </p:nvSpPr>
        <p:spPr>
          <a:xfrm>
            <a:off x="-3240" y="5051520"/>
            <a:ext cx="3575160" cy="180648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Freeform 7"/>
          <p:cNvSpPr/>
          <p:nvPr/>
        </p:nvSpPr>
        <p:spPr>
          <a:xfrm>
            <a:off x="-1440" y="5051520"/>
            <a:ext cx="9145440" cy="180648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3160" indent="-17316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401760" indent="-16380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630360" indent="-16380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858960" indent="-17316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858960" indent="-1731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858960" indent="-1731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865200" y="6314400"/>
            <a:ext cx="1508760" cy="3373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32538-D3A0-4C03-8164-BD3FD2805800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Freeform 6"/>
          <p:cNvSpPr/>
          <p:nvPr/>
        </p:nvSpPr>
        <p:spPr>
          <a:xfrm>
            <a:off x="-3240" y="5051520"/>
            <a:ext cx="3575160" cy="180648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Freeform 7"/>
          <p:cNvSpPr/>
          <p:nvPr/>
        </p:nvSpPr>
        <p:spPr>
          <a:xfrm>
            <a:off x="-1440" y="5051520"/>
            <a:ext cx="9145440" cy="180648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3160" indent="-17316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401760" indent="-16380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630360" indent="-16380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858960" indent="-17316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858960" indent="-1731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858960" indent="-1731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6865200" y="6314400"/>
            <a:ext cx="1508760" cy="3373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97D19-6C6A-421C-B4C6-F6B1EF916487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990720" y="9144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Б ПОУ ВО «ОСТРОГОЖСКИЙ МНОГОПРОФИЛЬНЫЙ ТЕХНИКУМ» 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СЦИПЛИНА</a:t>
            </a:r>
            <a:br>
              <a:rPr sz="1800"/>
            </a:br>
            <a:br>
              <a:rPr sz="2500"/>
            </a:b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ХРАНА ТРУДА</a:t>
            </a:r>
            <a:br>
              <a:rPr sz="2500"/>
            </a:br>
            <a:br>
              <a:rPr sz="25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РАБОТАЛ  ПРЕПОДАВАТЕЛЬ      Л.В.ЩЕРБИНИНА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ТРОГОЖСК 2018</a:t>
            </a:r>
            <a:br>
              <a:rPr sz="1800"/>
            </a:br>
            <a:br>
              <a:rPr sz="1800"/>
            </a:br>
            <a:br>
              <a:rPr sz="2500"/>
            </a:b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ЫШЕННАЯ ЗАПЫЛЁННОСТЬ  И ЗАГАЗОВАННОСТЬ ВОЗДУХА РАБОЧЕЙ ЗОНЫ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320" name="Picture 5" descr="C:\Documents and Settings\User\Рабочий стол\лекции обществознание право 2017\3M-vebinar-21-03-2017.jpg"/>
          <p:cNvPicPr/>
          <p:nvPr/>
        </p:nvPicPr>
        <p:blipFill>
          <a:blip r:embed="rId1"/>
          <a:stretch/>
        </p:blipFill>
        <p:spPr>
          <a:xfrm>
            <a:off x="1219320" y="1219320"/>
            <a:ext cx="693396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МИЧЕСКИЕ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многочисленные вредные пары, газы и аэрозоли, химические соединения, смеси, в том числе некоторые вещества биологической природы (антибиотики, витамины, гормоны, ферменты и т.д.).</a:t>
            </a:r>
            <a:endParaRPr b="1" lang="en-US" sz="2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контакте с организмом человека могут вызвать изменения в состоянии здоровья или заболевания. Воздействие вредных веществ на человека может сопровождаться отравлениями и травмами.</a:t>
            </a:r>
            <a:endParaRPr b="1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ЕДНЫЕ ПАРЫ, ГАЗЫ И АЭРОЗОЛИ</a:t>
            </a:r>
            <a:endParaRPr b="0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325" name="Picture 2" descr="D:\!_3агрузка\kancerogeny_2-768x548.jpg"/>
          <p:cNvPicPr/>
          <p:nvPr/>
        </p:nvPicPr>
        <p:blipFill>
          <a:blip r:embed="rId1"/>
          <a:stretch/>
        </p:blipFill>
        <p:spPr>
          <a:xfrm>
            <a:off x="762120" y="1143000"/>
            <a:ext cx="716256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ОЛОГИЧЕСКИЕ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-250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 патогенные микроорганизмы, (бактерии, вирусы, грибки) и продукты их жизнедеятельности;</a:t>
            </a:r>
            <a:endParaRPr b="1" lang="en-US" sz="3600" spc="-1" strike="noStrike">
              <a:solidFill>
                <a:srgbClr val="000000"/>
              </a:solidFill>
              <a:latin typeface="Franklin Gothic Book"/>
            </a:endParaRPr>
          </a:p>
          <a:p>
            <a:pPr marL="250200" indent="-250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кроорганизмы (растения, животные).</a:t>
            </a:r>
            <a:endParaRPr b="1" lang="en-US" sz="3600" spc="-1" strike="noStrike">
              <a:solidFill>
                <a:srgbClr val="000000"/>
              </a:solidFill>
              <a:latin typeface="Franklin Gothic Book"/>
            </a:endParaRPr>
          </a:p>
          <a:p>
            <a:pPr marL="250200" indent="-250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х воздействие вызывает травмы и заболевания.</a:t>
            </a:r>
            <a:endParaRPr b="1" lang="en-US" sz="3600" spc="-1" strike="noStrike">
              <a:solidFill>
                <a:srgbClr val="000000"/>
              </a:solidFill>
              <a:latin typeface="Franklin Gothic Book"/>
            </a:endParaRPr>
          </a:p>
          <a:p>
            <a:pPr marL="250200" indent="-250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endParaRPr b="1" lang="en-US" sz="3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СИХОФИЗИОЛОГИЧЕСКИЕ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характеру действия делят на физические перегрузки и нервно-психические перегрузки.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291600" indent="-2916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ические перегрузк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в свою очередь, бывают статическими (длительное сохранение определенной позы) и динамическими (повышенная двигательная активность).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291600" indent="-2916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рвно-психические перегрузк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огут вызываться умственным перенапряжением,  монотонностью труда и эмоциональными перегрузками.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Прямоугольник 1"/>
          <p:cNvSpPr/>
          <p:nvPr/>
        </p:nvSpPr>
        <p:spPr>
          <a:xfrm>
            <a:off x="685800" y="380880"/>
            <a:ext cx="762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рмирование негативных фактор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Прямоугольник 2"/>
          <p:cNvSpPr/>
          <p:nvPr/>
        </p:nvSpPr>
        <p:spPr>
          <a:xfrm>
            <a:off x="838080" y="1447920"/>
            <a:ext cx="7467840" cy="50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нитарные нормы инфразвука на рабочих местах" СН 2.2.4/2.1.8.583-9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СТ 12.1.003-83 “ССБТ. Шум. Общие требования безопасности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Н 2.2.5.1313-03 "Предельно допустимые концентрации (ПДК) вредных веществ в воздухе рабочей зоны"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нПиН 2.2.4.548-96 "Гигиенические требования к микроклимату производственных помещени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 2.2.4/2.1.8.566-96 “Производственная вибрация, вибрация в помещениях жилых и общественных зданий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22240" y="456840"/>
            <a:ext cx="7521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СИФИКАЦИЯ УСЛОВИЙ ТРУДА ПО ФАКТОРАМ ПРОИЗВОДСТВЕННОЙ СРЕДЫ</a:t>
            </a:r>
            <a:endParaRPr b="0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822240" y="1752120"/>
            <a:ext cx="752184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факторам производственной среды условия труда подразделяются на 4 класса: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090440" indent="-41904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Times New Roman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тимальные;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090440" indent="-41904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Times New Roman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пустимые;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090440" indent="-41904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Times New Roman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едные;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090440" indent="-41904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Times New Roman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асные.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108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КЛАСС – ОПТИМАЛЬНЫЕ УСЛОВИЯ ТРУДА</a:t>
            </a: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822240" y="1523520"/>
            <a:ext cx="75218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ловия , при которых сохраняется не только здоровье работающих, но и создаются условия для высокой работоспособности</a:t>
            </a:r>
            <a:endParaRPr b="1" lang="en-US" sz="4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93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КЛАСС – ДОПУСТИМЫЕ УСЛОВИЯ ТРУДА</a:t>
            </a: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822240" y="1447920"/>
            <a:ext cx="752184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арактеризуются такими уровнями факторов среды, которые не превышают установленных гигиеническими нормативами для рабочих мест, при этом изменения состояния организма проходят за время перерывов на отдых и не оказывают неблагоприятного воздействия на состояние здоровья работающих и их потомство</a:t>
            </a:r>
            <a:endParaRPr b="1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100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КЛАСС – ВРЕДНЫЕ УСЛОВИЯ ТРУДА</a:t>
            </a: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822240" y="1523880"/>
            <a:ext cx="752184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арактеризуются наличием факторов, превышающих гигиенические нормативы и оказывающих воздействие на организм работающего и его потомство</a:t>
            </a:r>
            <a:endParaRPr b="1" lang="en-US" sz="4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90720" y="137160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А:</a:t>
            </a:r>
            <a:br>
              <a:rPr sz="2500"/>
            </a:br>
            <a:br>
              <a:rPr sz="29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СИФИКАЦИЯ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ЕГАТИВНЫХ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ИЗВОДСТВЕННЫХ ФАКТОРОВ. 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22240" y="364680"/>
            <a:ext cx="7521840" cy="11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КЛАСС – ОПАСНЫЕ УСЛОВИЯ ТРУДА</a:t>
            </a: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914040" y="1752480"/>
            <a:ext cx="752148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арактеризуются такими уровнями вредных производственных факторов, воздействие которых в течении рабочей смены создает угрозу жизни, высокий риск тяжелых форм острых профессиональных заболеваний.</a:t>
            </a:r>
            <a:endParaRPr b="1" lang="en-US" sz="3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Picture 2" descr="D:\!_3агрузка\img6.jpg"/>
          <p:cNvPicPr/>
          <p:nvPr/>
        </p:nvPicPr>
        <p:blipFill>
          <a:blip r:embed="rId1"/>
          <a:stretch/>
        </p:blipFill>
        <p:spPr>
          <a:xfrm>
            <a:off x="609480" y="609480"/>
            <a:ext cx="754380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ЕДНЫЕ ВЕЩЕСТВА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рганизм человека вредные химические вещества  могут проникать: через органы дыхания, желудочно-кишечный тракт, кожные покровы и слизистые оболочки.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277560" indent="-2775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ксичность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это способность веществ оказывать вредное действие на живые организмы. Основным показателем токсичности вещества является ПДК (предельно допустимая концентрация опасных веществ). Единицей измерения концентрации является миллиграмм на метр3 (мг/м3).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277560" indent="-2775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Прямоугольник 2"/>
          <p:cNvSpPr/>
          <p:nvPr/>
        </p:nvSpPr>
        <p:spPr>
          <a:xfrm>
            <a:off x="380880" y="685800"/>
            <a:ext cx="8077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степени опасности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вредные вещества подразделяются на четыре класса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– чрезвычайно опасные (ртуть, свинец)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 – высокоопасные (кислоты, щелочи – агрессивные жидкости, которые могут причинять химические ожоги кожного покрова при соприкосновении с ними)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 – умеренно опасные (камфара, меловый спирт),   IV – малоопасные (аммиак, ацетон, бензин, этиловый спир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РМЫ ПДК И  КЛАСС ОПАСНОСТИ ПО ЗНАЧЕНИЯМ ПДК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graphicFrame>
        <p:nvGraphicFramePr>
          <p:cNvPr id="347" name=""/>
          <p:cNvGraphicFramePr/>
          <p:nvPr/>
        </p:nvGraphicFramePr>
        <p:xfrm>
          <a:off x="304920" y="1447920"/>
          <a:ext cx="8534160" cy="4010040"/>
        </p:xfrm>
        <a:graphic>
          <a:graphicData uri="http://schemas.openxmlformats.org/drawingml/2006/table">
            <a:tbl>
              <a:tblPr/>
              <a:tblGrid>
                <a:gridCol w="1981080"/>
                <a:gridCol w="1600200"/>
                <a:gridCol w="1676520"/>
                <a:gridCol w="1458720"/>
                <a:gridCol w="1817640"/>
              </a:tblGrid>
              <a:tr h="834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атель  токсичнос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асс опасности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щества и его назва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74760"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2800"/>
                      </a:b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ДК  в воздухе рабочей зоны, мг/м3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резвычайно опасны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соопасны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ено опасны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лоопасны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-1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1-10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55623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9" name="Text Box 119"/>
          <p:cNvSpPr/>
          <p:nvPr/>
        </p:nvSpPr>
        <p:spPr>
          <a:xfrm>
            <a:off x="762120" y="5486400"/>
            <a:ext cx="8001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ри проведении сварочных работ, окраски распылением, при обработке материалов и других видов работ обязательным является организация контроля за содержанием веществ в рабочей зон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2"/>
          <p:cNvSpPr/>
          <p:nvPr/>
        </p:nvSpPr>
        <p:spPr>
          <a:xfrm>
            <a:off x="609480" y="631800"/>
            <a:ext cx="80773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характеру воздействия на организм человека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гут быть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бщетоксическими 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ражающими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хлор, аммиак поражают верхние и глубокие дыхательные пути)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нсибилизирующими (аллергичскими)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нцерогенными (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зывают образование злокачественных опухолей)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тагенными (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единения свинца, ртути,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лияющие на репродуктивную функцию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Прямоугольник 1"/>
          <p:cNvSpPr/>
          <p:nvPr/>
        </p:nvSpPr>
        <p:spPr>
          <a:xfrm>
            <a:off x="457200" y="457200"/>
            <a:ext cx="83059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йствие токсичных веществ может проявляться     сразу         (острое отравление) или через  определенный, иногда длительный, промежуток времени (профессиональное заболевание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эрозоли металлов (пыли), попадая в органы дыхания, вызывают повреждение слизистой оболочки верхних дыхательных путей и задерживаясь в лёгких, вызывают воспаление легочной ткани. Профессиональные заболевания, связанные с воздействием аэрозолей, -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невмокониоз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7848720" cy="140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СТВА ЗАЩИТЫ РАБОТАЮЩИХ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685440" y="2209680"/>
            <a:ext cx="752148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ства защиты работающих должны обеспечивать предотвращение или уменьшение действия опасных и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едных производственных факторов.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зависимости от характера их применения средства защиты подразделяются на: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редства коллективной защиты;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редства индивидуальной защиты (СИЗ).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354" name="Рисунок 1" descr=""/>
          <p:cNvPicPr/>
          <p:nvPr/>
        </p:nvPicPr>
        <p:blipFill>
          <a:blip r:embed="rId1"/>
          <a:stretch/>
        </p:blipFill>
        <p:spPr>
          <a:xfrm>
            <a:off x="5562720" y="304920"/>
            <a:ext cx="320040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СТВА КОЛЛЕКТИВНОЙ ЗАЩИТЫ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457200" y="1523880"/>
            <a:ext cx="822960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нормализации воздушной среды в производственных помещениях обеспечивается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нтиляция, очистка воздуха, кондиционирование.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контроля над выделением вредных и опасных веществ в рабочей зоне и производственных помещениях устанавливаются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тройства автоматического контроля и сигнализация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стижения заданного уровня выделения вредных и опасных веществ.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цехах, где осуществляются сварочные работы, должны быть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вешены знаки безопасности: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торожно! Идут сварочные работы!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Берегись! Открытое пламя!».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990360" y="685800"/>
            <a:ext cx="752148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СТВА ИНДИВИДУАЛЬНОЙ ЗАЩИТЫ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990360" y="1447920"/>
            <a:ext cx="752148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ства индивидуальной защиты (СИЗ) должны обеспечить защиту от воздействия вредных и опасных факто-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в при выполнении различных работ.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359" name="Рисунок 1" descr=""/>
          <p:cNvPicPr/>
          <p:nvPr/>
        </p:nvPicPr>
        <p:blipFill>
          <a:blip r:embed="rId1"/>
          <a:stretch/>
        </p:blipFill>
        <p:spPr>
          <a:xfrm>
            <a:off x="914400" y="3181320"/>
            <a:ext cx="74041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 txBox="1"/>
          <p:nvPr/>
        </p:nvSpPr>
        <p:spPr>
          <a:xfrm>
            <a:off x="457200" y="60948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едный производственный фактор (ВПФ) —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ой фактор, воздействие которого на работающего в определенных условиях приводит к ухудшению самочувствия или, при длительном воздействии к заболеванию.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асный производственный фактор  (ОПФ) —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ой производственный фактор, воздействие которого на работающего в определенных условиях приводит к травме или летальному исходу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НИМ ОТНОСЯТСЯ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457200" y="12193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олирующие костюмы(куртка, брюки, комбинезон).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ства защиты органов дыхания (респираторы, противогазы).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ства защиты ног (сапоги, ботинки, полуботинки, галоши).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ства защиты рук (рукавицы, перчатки, нарукавники).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ства защиты головы (каски, шлемы, шапки, береты).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ства защиты лица (щитки защитные, маски).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ства защиты глаз (очки защитные).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ства защиты органов слуха (противошумные вкладыши, противошумные наушники).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ства защиты от падения при выполнении различных  работ на значительной высоте.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/>
          </p:nvPr>
        </p:nvSpPr>
        <p:spPr>
          <a:xfrm>
            <a:off x="609480" y="53352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природе действия следует различать четыре основных группы, на которые подразделяются опасные и вредные производственные факторы.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305" name="Picture 7" descr=""/>
          <p:cNvPicPr/>
          <p:nvPr/>
        </p:nvPicPr>
        <p:blipFill>
          <a:blip r:embed="rId1"/>
          <a:srcRect l="0" t="22976" r="0" b="0"/>
          <a:stretch/>
        </p:blipFill>
        <p:spPr>
          <a:xfrm>
            <a:off x="609480" y="2819520"/>
            <a:ext cx="7931160" cy="180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/>
          </p:nvPr>
        </p:nvSpPr>
        <p:spPr>
          <a:xfrm>
            <a:off x="609480" y="53352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308" name="Picture 2" descr="D:\!_3агрузка\image-7.jpg"/>
          <p:cNvPicPr/>
          <p:nvPr/>
        </p:nvPicPr>
        <p:blipFill>
          <a:blip r:embed="rId1"/>
          <a:stretch/>
        </p:blipFill>
        <p:spPr>
          <a:xfrm>
            <a:off x="990720" y="685800"/>
            <a:ext cx="746748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Medium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АСНЫЕ ФИЗИЧЕСКИЕ ФАКТОРЫ: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219320"/>
            <a:ext cx="82296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ижущиеся машины и механизмы; 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личные подъемно-транспортные устройства и перемещаемые грузы; 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защищенные подвижные элементы производственного оборудования, 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летающие частицы обрабатываемого материала и инструмента, 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лектрический ток;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ышенная температура поверхностей оборудования и обрабатываемых материалов и т.д.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Medium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ИЖУЩИЕСЯ МАШИНЫ И МЕХАНИЗМЫ</a:t>
            </a:r>
            <a:endParaRPr b="0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457200" y="1219320"/>
            <a:ext cx="82296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313" name="Picture 2" descr="D:\!_3агрузка\img2.jpg"/>
          <p:cNvPicPr/>
          <p:nvPr/>
        </p:nvPicPr>
        <p:blipFill>
          <a:blip r:embed="rId1"/>
          <a:stretch/>
        </p:blipFill>
        <p:spPr>
          <a:xfrm>
            <a:off x="1066680" y="1371600"/>
            <a:ext cx="70866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ЪЕМНО-ТРАНСПОРТНЫЕ УСТРОЙСТВА И ПЕРЕМЕЩАЕМЫЕ ГРУЗЫ</a:t>
            </a:r>
            <a:endParaRPr b="0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457200" y="1219320"/>
            <a:ext cx="82296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316" name="Picture 2" descr="D:\!_3агрузка\1348308291_reachst.-036-539.jpg"/>
          <p:cNvPicPr/>
          <p:nvPr/>
        </p:nvPicPr>
        <p:blipFill>
          <a:blip r:embed="rId1"/>
          <a:stretch/>
        </p:blipFill>
        <p:spPr>
          <a:xfrm>
            <a:off x="838080" y="1295280"/>
            <a:ext cx="754380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Medium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ЕДНЫЕ ФИЗИЧЕСКИЕ ФАКТОРЫ</a:t>
            </a:r>
            <a:r>
              <a:rPr b="1" lang="ru-RU" sz="2800" spc="-1" strike="noStrike">
                <a:solidFill>
                  <a:srgbClr val="000000"/>
                </a:solidFill>
                <a:latin typeface="Franklin Gothic Medium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457200" y="1294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неблагоприятные микроклиматические условия (пониженная или повышенная температура воздуха рабочей зоны, высокая влажность и скорость движения воздуха);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повышенные уровни шума, вибрации, ультразвука, инфразвука;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достаточная освещённость рабочих мест, проходов и проездов; 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ышенная запылённость загазованность воздуха рабочей зоны; 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ышенные уровни различных излучений (тепловые, неионизирующие электромагнитные, ионизирующие и др.) и т.д.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ePack by Diakov</cp:lastModifiedBy>
  <dcterms:modified xsi:type="dcterms:W3CDTF">2018-12-12T07:32:12Z</dcterms:modified>
  <cp:revision>5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