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384-7E63-4B5C-9304-0A72BB45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C63-F5D6-4226-B737-6E4C209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54D-A21B-4D6A-9439-B09C9900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DF0-92EE-491B-93BF-CE42E9F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9186-FFD1-4608-AB1A-BAB849DC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D3CF-86C0-42A2-9B30-9C5C33F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F702-FE2D-4068-961C-7C3DF885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696D-67EF-499D-9B34-879340D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2B70-C0E9-4B7D-A4AA-0CC3543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A3C8-7526-414E-8E79-F295D11F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9B05-E768-4912-90A1-3BCB4C7C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BA99-7EA3-4BCF-9552-FCF9D2A8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990A-B089-4FB2-9148-E9132C3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0364-BB88-482B-B84A-D9D2BA8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B685-3B2C-4645-8B79-8BBB5238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557-0DCA-4ED5-8D9A-E6F89AD3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D9DE-53EB-4A7C-BB50-654A2065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5B8D-178D-4616-81BD-A4A4A0C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5405-5EB2-4D90-8C7A-6200D990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0DC9-64CB-4E4F-8D97-8AD6759A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2C646-0650-46D3-8377-527BA52D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2E68-3C1A-417B-A67C-6BB75117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FD2-63EB-4AF9-A0E7-B785E5A6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E5DC9-60C6-4CF5-9F59-72AC9769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EB59-57E7-4CE6-9717-EB29BD1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3FAF-F06C-4BFA-970E-83ABFC5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9030-F007-4279-8E4B-5E438A7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846E-833D-43DF-9EC9-D922111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FA68-CE11-430C-8112-F7A1EE25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955E0-1A88-482A-B077-587B27E1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69BD-7C46-4916-BD67-0A25419F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243F-3B10-43E0-8089-A86CD17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67311-51E8-44F2-9E0B-DB5472F2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511-4459-4FA5-BC3F-E06091DD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F406-177A-4339-98CF-74B2C085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3BFD-496D-49B3-84A5-A4F6F11C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18A74-7D85-4AD7-8123-9EB9D8F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1790-F791-47C7-B8BD-F1669E4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88C5-C7F1-4BD4-8515-1FA1196F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F117-A583-45E5-B054-7AFB6AE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D1AF-7BAE-4E38-8CB5-D344C1BB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F7DA8-6B5A-4D74-934E-2CAC0D3C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3A24-3FFB-4240-971F-DBC8E757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D45F3-9AA3-40CD-874A-1E9AECF6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FC6-7951-4986-80A8-9DB5C57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C721-2FD2-4AF2-9975-0C211E76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CFFA-7A85-4D17-9074-F99BFC7F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0270-8187-4ABB-99EC-1F975A4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167ED-46DB-42E9-B959-637797D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4993-4644-4E92-B8C4-5F4FFC57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190CA-5E09-4B19-92D6-58F11F3C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B5590-850C-40CF-B416-0D2E548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DD5B7-8FA5-4C66-B13E-3A46BF88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2A62-AF44-4BA0-B37E-1A26B2A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0CF0-EEFD-43AD-95A8-0F511091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A99-6865-45E7-9C83-96B18AA3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7E574-E468-4C3B-8306-EC2E83A9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952C2-D6B3-439D-9398-387C3E5D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FD08-319D-4C8E-9265-0E831BE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873EA-D1CF-4C5F-BA37-CC61A905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500B-4622-4227-AF1C-ADACC83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7EAA-71B5-4931-8224-693B3121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7AA90-EB6F-451D-8AF1-002FAA47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1CAB-3DDD-4E60-BF77-4BDF13C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7336A-9326-4B19-9A52-69AFC712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827C2-4DD9-4CB2-9578-D62809C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CB7-18DC-4DAF-91D6-38DF386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05F37-AA20-433D-8D7A-044A7176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B677-DA60-4EF0-8AF0-E45976C7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B80B-38E0-417C-B827-5F7403CD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3B70A-FC9A-4584-B6FC-E6BC5A10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8D9AC-9C4B-4B39-BE51-56E7B464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E4B72-99FA-4740-88B7-8DFFEA1E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F4410-EA3C-4AA3-B688-222DA0AA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B06E-B885-40ED-9359-A8A326F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12A5-49C0-4E03-AEBE-65F117BC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E2E2-EE60-4F06-8094-FAA4E3C1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73A-9E5E-4E2C-AC01-F9A2694A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BB886-DEDB-4B51-8A7D-07128FB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A9040-AE95-4059-8727-0346D055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0C9CD-CB32-48AA-AD98-1427409D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26BDB-D997-4095-ABB5-C4EE1E7C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AE2A0-E8D2-410D-8A04-FFBF6D0B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A3B-E25E-4E9A-84AE-87D1511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DDD-5CED-4849-93D0-AB44F710EBA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146-2BA6-491B-B406-4B18B237DF3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1F2D-E66A-41F0-83A7-316B034EE84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D8BB-7574-43C6-BCAD-E989085E21FD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C46-F450-4A42-99E9-09D016F384D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A021-A88F-4581-A27F-DDD0AC738E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9815-A679-4EE4-B5F4-ED7BFD4CCD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 ПОУ ВО «ОСТРОГОЖСКИЙ МНОГОПРОФИЛЬНЫЙ ТЕХНИКУМ»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А</a:t>
            </a:r>
            <a:br>
              <a:rPr sz="18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ТРУДА</a:t>
            </a:r>
            <a:br>
              <a:rPr sz="2500"/>
            </a:br>
            <a:br>
              <a:rPr sz="25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  ПРЕПОДАВАТЕЛЬ      Л.В.ЩЕРБИНИН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ГОЖСК 2018</a:t>
            </a:r>
            <a:br>
              <a:rPr sz="1800"/>
            </a:br>
            <a:br>
              <a:rPr sz="1800"/>
            </a:br>
            <a:br>
              <a:rPr sz="2500"/>
            </a:b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ЗАПЫЛЁННОСТЬ  И ЗАГАЗОВАННОСТЬ ВОЗДУХА РАБОЧЕЙ ЗОН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20" name="Picture 5" descr="C:\Documents and Settings\User\Рабочий стол\лекции обществознание право 2017\3M-vebinar-21-03-2017.jpg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ногочисленные вредные пары, газы и аэрозоли, химические соединения, смеси, в том числе некоторые вещества биологической природы (антибиотики, витамины, гормоны, ферменты и т.д.)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организмом человека могут вызвать изменения в состоянии здоровья или заболевания. Воздействие вредных веществ на человека может сопровождаться отравлениями и травмами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ПАРЫ, ГАЗЫ И АЭРОЗОЛ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5" name="Picture 2" descr="D:\!_3агрузка\kancerogeny_2-768x548.jpg"/>
          <p:cNvPicPr/>
          <p:nvPr/>
        </p:nvPicPr>
        <p:blipFill>
          <a:blip r:embed="rId1"/>
          <a:stretch/>
        </p:blipFill>
        <p:spPr>
          <a:xfrm>
            <a:off x="762120" y="1143000"/>
            <a:ext cx="7162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 патогенные микроорганизмы, (бактерии, вирусы, грибки) и продукты их жизнедеятельности;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организмы (растения, животные)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воздействие вызывает травмы и заболевания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50200" indent="-250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ФИЗИОЛОГИЧЕСК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действия делят на физические перегрузки и нервно-психические перегрузк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перегру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вою очередь, бывают статическими (длительное сохранение определенной позы) и динамическими (повышенная двигательная активность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-психические перегруз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т вызываться умственным перенапряжением,  монотонностью труда и эмоциональными перегрузкам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685800" y="3808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ирование негативн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"/>
          <p:cNvSpPr/>
          <p:nvPr/>
        </p:nvSpPr>
        <p:spPr>
          <a:xfrm>
            <a:off x="838080" y="1447920"/>
            <a:ext cx="746784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ые нормы инфразвука на рабочих местах" СН 2.2.4/2.1.8.583-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12.1.003-83 “ССБТ. Шум. Общие требования безопасности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Н 2.2.5.1313-03 "Предельно допустимые концентрации (ПДК) вредных веществ в воздухе рабочей зон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2.4.548-96 "Гигиенические требования к микроклимату производственных помещени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2.2.4/2.1.8.566-96 “Производственная вибрация, вибрация в помещениях жилых и общественных зданий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456840"/>
            <a:ext cx="752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УСЛОВИЙ ТРУДА ПО ФАКТОРАМ ПРОИЗВОДСТВЕННОЙ СРЕД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2240" y="1752120"/>
            <a:ext cx="752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акторам производственной среды условия труда подразделяются на 4 класса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альн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90440" indent="-41904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ЛАСС – ОПТИМАЛЬ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2240" y="1523520"/>
            <a:ext cx="75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, при которых сохраняется не только здоровье работающих, но и создаются условия для высокой работоспособности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 – ДОПУСТИМ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2240" y="1447920"/>
            <a:ext cx="7521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такими уровнями факторов среды, которые не превышают установленных гигиеническими нормативами для рабочих мест, при этом изменения состояния организма проходят за время перерывов на отдых и не оказывают неблагоприятного воздействия на состояние здоровья работающих и их потомство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 – ВРЕД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2240" y="1523880"/>
            <a:ext cx="7521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наличием факторов, превышающих гигиенические нормативы и оказывающих воздействие на организм работающего и его потомство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br>
              <a:rPr sz="2500"/>
            </a:br>
            <a:br>
              <a:rPr sz="29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ГАТИВНЫХ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ЫХ ФАКТОРОВ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ЛАСС – ОПАСНЫЕ УСЛОВИЯ ТРУДА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752480"/>
            <a:ext cx="7521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ются такими уровнями вредных производственных факторов, воздействие которых в течении рабочей смены создает угрозу жизни, высокий риск тяжелых форм острых профессиональных заболеваний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D:\!_3агрузка\img6.jpg"/>
          <p:cNvPicPr/>
          <p:nvPr/>
        </p:nvPicPr>
        <p:blipFill>
          <a:blip r:embed="rId1"/>
          <a:stretch/>
        </p:blipFill>
        <p:spPr>
          <a:xfrm>
            <a:off x="609480" y="609480"/>
            <a:ext cx="754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ВЕЩЕСТ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м человека вредные химические вещества  могут проникать: через органы дыхания, желудочно-кишечный тракт, кожные покровы и слизистые оболочк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особность веществ оказывать вредное действие на живые организмы. Основным показателем токсичности вещества является ПДК (предельно допустимая концентрация опасных веществ). Единицей измерения концентрации является миллиграмм на метр3 (мг/м3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2"/>
          <p:cNvSpPr/>
          <p:nvPr/>
        </p:nvSpPr>
        <p:spPr>
          <a:xfrm>
            <a:off x="380880" y="685800"/>
            <a:ext cx="807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епени опасно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вредные вещества подразделяются на четыре класс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– чрезвычайно опасные (ртуть, свинец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– высокоопасные (кислоты, щелочи – агрессивные жидкости, которые могут причинять химические ожоги кожного покрова при соприкосновении с ним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– умеренно опасные (камфара, меловый спирт),   IV – малоопасные (аммиак, ацетон, бензин, этиловый спир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ПДК И  КЛАСС ОПАСНОСТИ ПО ЗНАЧЕНИЯМ ПДК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04920" y="1447920"/>
          <a:ext cx="8534160" cy="401004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1676520"/>
                <a:gridCol w="1458720"/>
                <a:gridCol w="1817640"/>
              </a:tblGrid>
              <a:tr h="83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 токсич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опаснос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а и его 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 в воздухе рабочей зоны, мг/м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резвычайн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ено 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опа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-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-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Text Box 119"/>
          <p:cNvSpPr/>
          <p:nvPr/>
        </p:nvSpPr>
        <p:spPr>
          <a:xfrm>
            <a:off x="762120" y="54864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проведении сварочных работ, окраски распылением, при обработке материалов и других видов работ обязательным является организация контроля за содержанием веществ в рабочей з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09480" y="631800"/>
            <a:ext cx="8077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воздействия на организм человек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бы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токсическими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ающи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лор, аммиак поражают верхние и глубокие дыхательные пути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сибилизирующими (аллергичским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ными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т образование злокачественных опухолей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ными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 свинца, ртут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ющие на репродуктивную функцию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457200" y="45720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токсичных веществ может проявляться     сразу         (острое отравление) или через  определенный, иногда длительный, промежуток времени (профессиональное заболе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эрозоли металлов (пыли), попадая в органы дыхания, вызывают повреждение слизистой оболочки верхних дыхательных путей и задерживаясь в лёгких, вызывают воспаление легочной ткани. Профессиональные заболевания, связанные с воздействием аэрозолей,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кони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848720" cy="14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АБОТАЮЩИХ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440" y="220968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аботающих должны обеспечивать предотвращение или уменьшение действия опасных 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х производственных факторов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характера их применения средства защиты подразделяются на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 коллективной защиты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едства индивидуальной защиты (СИЗ)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4" name="Рисунок 1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32004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КОЛЛЕКТИВНОЙ ЗАЩИ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ормализации воздушной среды в производственных помещениях обеспечи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яция, очистка воздуха, кондиционировани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нтроля над выделением вредных и опасных веществ в рабочей зоне и производственных помещениях устанавли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 автоматического контроля и сигнализац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заданного уровня выделения вредных и опасных веществ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хах, где осуществляются сварочные работы, должны бы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ешены знаки безопасности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! Идут сварочные работы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ерегись! Открытое пламя!»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90360" y="1447920"/>
            <a:ext cx="75214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индивидуальной защиты (СИЗ) должны обеспечить защиту от воздействия вредных и опасных факт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в при выполнении различных работ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59" name="Рисунок 1" descr=""/>
          <p:cNvPicPr/>
          <p:nvPr/>
        </p:nvPicPr>
        <p:blipFill>
          <a:blip r:embed="rId1"/>
          <a:stretch/>
        </p:blipFill>
        <p:spPr>
          <a:xfrm>
            <a:off x="914400" y="3181320"/>
            <a:ext cx="7404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й производственный фактор (ВПФ)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фактор, воздействие которого на работающего в определенных условиях приводит к ухудшению самочувствия или, при длительном воздействии к заболеванию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й производственный фактор  (ОПФ)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роизводственный фактор, воздействие которого на работающего в определенных условиях приводит к травме или летальному исход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ующие костюмы(куртка, брюки, комбинезон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рганов дыхания (респираторы, противогазы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ног (сапоги, ботинки, полуботинки, галош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рук (рукавицы, перчатки, нарукавни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головы (каски, шлемы, шапки, береты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лица (щитки защитные, мас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глаз (очки защитные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рганов слуха (противошумные вкладыши, противошумные наушники)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щиты от падения при выполнении различных  работ на значительной высоте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роде действия следует различать четыре основных группы, на которые подразделяются опасные и вредные производственные факторы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rcRect l="0" t="22976" r="0" b="0"/>
          <a:stretch/>
        </p:blipFill>
        <p:spPr>
          <a:xfrm>
            <a:off x="609480" y="2819520"/>
            <a:ext cx="7931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8" name="Picture 2" descr="D:\!_3агрузка\image-7.jpg"/>
          <p:cNvPicPr/>
          <p:nvPr/>
        </p:nvPicPr>
        <p:blipFill>
          <a:blip r:embed="rId1"/>
          <a:stretch/>
        </p:blipFill>
        <p:spPr>
          <a:xfrm>
            <a:off x="990720" y="685800"/>
            <a:ext cx="7467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ФИЗИЧЕСКИЕ ФАКТОРЫ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иеся машины и механизм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одъемно-транспортные устройства и перемещаемые груз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щищенные подвижные элементы производственного оборудования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етающие частицы обрабатываемого материала и инструмента,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й ток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температура поверхностей оборудования и обрабатываемых материалов и т.д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ИЕСЯ МАШИНЫ И МЕХАНИЗМ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3" name="Picture 2" descr="D:\!_3агрузка\img2.jpg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ЪЕМНО-ТРАНСПОРТНЫЕ УСТРОЙСТВА И ПЕРЕМЕЩАЕМЫЕ ГРУЗЫ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2" descr="D:\!_3агрузка\1348308291_reachst.-036-539.jpg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ФИЗИЧЕСКИЕ ФАКТОРЫ</a:t>
            </a: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еблагоприятные микроклиматические условия (пониженная или повышенная температура воздуха рабочей зоны, высокая влажность и скорость движения воздуха)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овышенные уровни шума, вибрации, ультразвука, инфразвука;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очная освещённость рабочих мест, проходов и проездов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запылённость загазованность воздуха рабочей зоны;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ые уровни различных излучений (тепловые, неионизирующие электромагнитные, ионизирующие и др.) и т.д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12-12T07:32:12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