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2B5-29DD-46A4-9637-885087AC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BB8F-535B-4386-8A25-554B421D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670FF-9002-4A44-A3DB-FC8DB4A3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B76A4-3702-4D88-8D51-262DBE7A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E1E2D-2CD5-4242-B5E6-FD3103F8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50C36-DA34-445B-8EA0-07094088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ED3A5-F6AB-42A1-8D8E-E7746844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CB15E-75D6-4F1A-998F-B3CD8E02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9ACC4-466A-40B3-963C-CC3B641B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B47E5-544C-45E7-BF7C-88B95962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17C4A-709B-45E9-825A-4ADD2E31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0887F-C55E-404B-85E9-B9697AD1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5205-8D35-4679-B158-74D2FBF2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4834E-2EB6-4DDA-9A71-DD6A59FC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9218B-D4C0-4339-82C8-86DC7DDD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BF541-07BF-4AD2-97BD-3858569B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E1AE4-FABE-4AAD-BBF0-7F4695D6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CD63B-119B-40B2-9975-E2EDFFA7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9B867-BDBD-460D-AE52-2E6FF85E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BDF96-25BF-4279-947F-EF9C713B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F97CD-884D-4A75-B2E5-369E0609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A8E52-0B59-43A8-8E53-1C42A73B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7D086-62BC-4626-BF52-7B9B30C7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51A0-2CB9-45D5-87AC-AF2C9AAD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07904-D7F2-44BA-BF9A-7384AF4BB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3082B-244F-42D3-9421-6055B96A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48BE0-9232-4777-8826-86DA59D4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82412-0613-44BE-918B-1D1F985F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46D66-0CB4-416E-AC3B-986D2B87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9AD12-F1E1-4DFF-A732-48257B62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D46E9-3294-4536-80E2-1A7E7AE7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06613-33A8-4B51-8CEF-BA755F8C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EF8CA-BE93-488C-8C95-64AC6D1B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820F6-CCA0-450D-98A1-BD98CC85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6BB2-451F-479B-9AB0-D2163FC5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1D194-5375-42C5-8E3E-8C021645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1479E-8974-46B3-8EB5-09279B11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C9466-ACCF-4C15-8778-9D58AF8C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03269-AF03-491A-88A7-FB02AC16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BD853-4AB5-4948-8A46-775F670D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2613E-2726-4492-95F4-A5962A75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B2A71-7D04-4106-99BB-25AEDD22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F4140-BAC3-4DEE-83E8-C78E60F6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50883-F969-4008-A523-80D66C29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FDC0E-1A35-4A3B-AAE9-1F030953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F5E2-ADE9-4862-8290-17FAE72B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DDDDA-315F-4376-AA71-1D467CF9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E5D21-9515-4E5F-8114-9363F0C9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B5D68-DBDC-465F-B2CB-2F58F341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0C582-DD67-4859-91E5-3594A097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FDF77-773A-448A-A9B5-903E22DD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FB8512-935E-434F-A163-ACAD5D76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47802-2ED3-4E37-A365-1727E844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786C3-44B1-4C23-B30A-06F46974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D3B344-B54C-4E55-88C2-8AE40887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98DC4C-21D2-424C-A668-8B8D19BF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2605-054B-42D3-AF43-F4867C28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8E3859-DC47-4FFC-BA75-63F23A6B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787BB-733A-49AA-B0A6-AD93A127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4BA8A5-EFF4-446E-A90B-545A5683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E26280-2CE6-41D9-ADC1-0D4B23C9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7E242B-5D80-4120-B563-FC075480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ADFD38-E499-4F5A-8771-4846C8AD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766796-3CBF-4A07-A9B7-B358B529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38489C-BFCA-42AD-8627-C57F7481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BCFECF-21C3-4CA2-81EE-C8333472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7CA9D7-9056-4067-9F06-FEB0F8CA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E885-6F12-432D-91B7-235A0CF8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B54CF3-B287-4FB9-B43C-B09B3148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907551-AB2D-4A79-9C4C-74FD397A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1A88B3-8703-4007-BA89-522375DC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93D7F7-11B5-47A6-A8CA-6525A801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27F77C-384D-401E-93F7-842B9FCC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0A98D3-6B5A-4A62-8754-3B1B8BEC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996452-B09B-4A02-AA77-DA225628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674C9D-70EF-4348-BFEA-6483E79B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0F6910-43D3-4345-9783-CD1AB4EB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29F04D-4717-4EE6-8B3D-CCB8201B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245A-66E7-40BF-B584-9E79A54E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9974C4-D333-4A27-B119-D5B3FC04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0EAF85-6ACC-4361-A82E-EFE62D11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DA56CC-CFD3-434B-B333-9209A6B8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E57B07-5618-4F40-9625-E01C0D6F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C2CC5A-CFCE-4888-87BD-D3E976AF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519F16-DCCF-4233-884B-3A6A47C5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952B5C-A075-4B37-A9B1-BB0B851A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77AD66-A3D4-4557-A0BA-1476C829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9843B3-E622-4136-A274-C2C5BA39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6F6F5C-5952-4157-B73A-E3066DE9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9102-5749-4A6D-9C8B-6536F4A7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8CC08D-4CE6-4891-A6E8-82301822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3E4771-66E0-417B-839D-9E32597E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F31E49-B905-4CC6-A1C8-DF7963F3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7625D6-E0A8-44E4-A23A-CBCACFAD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17434C-03A0-4E9F-BAEC-025ACA15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7F5384-1697-4F2D-8313-69C56F86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F052B6-846C-4555-BC34-B959E92C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54FE64-07DC-4F5C-A3C7-163A32F8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FF4F86-8E8A-48B6-A5E2-F34158ED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7E275B-1B95-4A0B-BE6E-F5962284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171C-2B79-4C7C-94A9-10318A0F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E32C02-5A37-4B99-A070-86CA31C7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71CBD9-24D8-42CD-80AD-0D526C72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A23F9E-3795-48AD-867C-CEACD7FC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9A32CD-973B-4CF4-A2B6-F39C80B8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BCF251-35D8-427C-9C83-F2A2E81C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EFD6F1-C47B-4762-9965-5B1E566B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FDDB20-E984-462E-AB06-65563B7B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6799A8-BC99-4918-B703-50466DC4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656DA9-8D9C-482A-8D1D-DFDCA2BD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644501-07C0-44DF-8E0D-EFFB30ED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9BFB-5D67-4D8F-9B8A-7A668C6D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249E-5A76-4A8E-98F6-9438531B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02ED6A-F210-4A32-B9D6-B8FB2DD6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419B2D-E50B-4255-9708-52AA55D0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C8E4DF-EDF2-4FB6-881A-5EBD315E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E72EA3-5309-4031-B67E-D3D6EFEB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7806F7-9613-4D48-AAF0-BFB4CDD8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59C30A-8E9F-4B06-9242-7BC6802C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AEFF33-75FF-48C9-AD9F-B3FF031F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07FE95-D062-4C1A-B8DF-EF2C2214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B27CDF-626C-4836-8C69-DD7730E9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29F086-86E3-4375-92A4-3DB21CFF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444B-4DDE-4456-935B-FC425551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E26608-10A6-4188-978F-F4328CE3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1E84F1-0FF5-4B67-BE6C-4F66A3E0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DD218E-FEC6-4FC8-8A06-2AE8E816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31E6CF-4F3D-4E6F-8872-49F1345B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9FCDA7-9DB7-4F89-A9F5-7F8E081F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2C1339-EE85-4086-8A26-307174D7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F31318-82B1-4C1A-B26E-30C63B98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82D5AE-253B-49CD-831E-14D6F8E5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0F9B74-18AA-4EA3-9722-2B6E1692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0C4CD2-2BA0-4B64-8C17-44AB2F37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1270-094D-46BB-B87C-7ECD7C7C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BA4761-B95E-4F39-B276-90551C5F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038F5E-F85C-47EE-950D-9E42B9E7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22B2D2-6FC1-4482-BD7D-70BC2ADC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9C4351-11DB-4297-9762-00BB5637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65C398-0C5D-45B8-AD18-7C69ADA9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4CA04C-13B9-4E9A-847F-BEE9333F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EF9758-99DC-4750-8D5A-823D2CDF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5E0B79-8DF3-4426-9430-667DEC4C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A94F47-62F8-4A6E-99F3-6F9C05A8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F1EA92-A49C-42FF-B411-C54F12B3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05C3-03E0-489E-8C6D-72316D22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DAFB51-D830-42D3-AE22-9F016153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DA923A-791A-4A38-AAB1-BE9813CF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A7371E-E295-4527-9C62-E158A11B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FFDA72-4F49-40CA-BB7A-6832C4B0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367273-7ED4-4658-BFE9-4E64DDD3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146AE5-D132-4921-B6B8-FF46167B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76AD0D-0F4F-47B0-84CB-DAAC6979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5DEDAD-3018-423A-9D73-5C9D9594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C5BEF3-F27D-4943-AF18-96909186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2476E5-3518-48EB-89B6-134760D5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C993-2D03-4BA5-BC4D-41B22A9B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3DB736-A0F7-4797-AD12-EB507A12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8BF3D6-38A5-4674-A6B1-C04D7873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7B4435-0B9B-4AB9-81FE-B4C004BF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57097D-C488-4CDE-B943-A779FF4A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0A8BDC-200D-4280-9C00-47AF9931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A98C43-1AA7-4FA0-A05D-7FA00829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A77D3F-7132-43CF-8073-B012598A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0EE27E-9F00-4024-BDF9-BD6A33B9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DB0EA1-43C5-4707-B454-7083508C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BE55EB-B0B0-4E59-9BEA-4AD7F89B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281FF-DBFC-46A5-A6E4-A232A91E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8EBFE6-5C2C-42CF-A41B-4BCF3C91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118B16-F8C3-4B59-B0B4-5E0CE4ED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B9F61F-5014-40C3-9296-0629D1F5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254D3E-C1C7-45F2-A126-05A39427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9FDC21-F7CA-48B3-8F35-C12AB7FA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517B4C-EF5E-490A-ABDC-01F40165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F568A5-4925-4C2F-972F-67C59539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0CCAA4-05D0-451B-89BC-5131C1C6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612DD3-2F91-4128-926E-4C1A7EDE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D4C6DB-EE4B-408E-B4A6-3E20FE78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649D4-F1A9-4634-A434-8D6238B9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022F91-2200-4FE5-9430-4B32FC85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A2FB04-EEDF-4741-8F5D-DCC0F070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98FC9F-9028-4F08-B98E-9DC08858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9CB87C-ED32-4931-8714-0E6F31AE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F11120-21A5-4F57-B164-5867F256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ECB7CB-432D-4988-86E2-681DD898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F97522-061E-4C9F-8DC6-5A188EF8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CF4225-EA2C-4E3A-93D4-57A4A9BF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29B4C8-7A60-42B9-99F6-E5E906F3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820287-1C22-4DFA-A69C-42C13BFD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15F1B-BAF8-4DBA-BFB9-066195EF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B485D1-FA8D-4550-8AA6-F9EA4014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307A66-B25E-4933-A0F2-9E198AC9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573DCC-D5E8-4A37-89FF-A9D91700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A37467-D1FC-4853-87AA-F2D2F291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DD9199-3291-49F7-BFCB-B5860AC2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A73AB9-3BC8-4F11-AF04-D9DDCA8E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92B3A1-5EBF-4DEE-8948-C6E12918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131AE6-E73A-4449-AF25-FCA5F297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75A6D4-EB01-4E1A-89E9-D8B29F47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C25B29-DD26-4982-9B95-42E0AA2C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44BFA-C124-497B-B6C2-B1DCAC7D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00D8AB-F078-4F39-9A25-7BD5145A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A8E8D8-FDD9-446D-A7DA-476A7564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CAE1E6-E4B1-4E75-BF0D-6F81CDB6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593AE4-8CD7-485A-B68E-444B059C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4D5A7D-2661-4240-95E5-0AE98856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B29EB0-66CE-46A9-BEFD-D3DCBE83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A84677-28A9-427F-976E-0C9295F1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85EB7F-DC7B-4EF6-8483-644E438E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DD6B84-CB0F-44ED-8F68-6A8A01A3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35F223-86BE-4CA8-89AE-031E08D8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B54F0-ADBD-4062-8C8A-5AA89BC3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58B9C5-CC79-4568-98C5-65EC79D0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35272E-503E-4395-9AC8-2BEAFF46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2988DD-0F8A-4D4F-8208-5B286079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535752-53EF-418A-91FF-66F18B87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F676F1-74DA-49E2-9FEC-0AC7755A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7C9984-7B1D-45AD-A3BD-6433ABDD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A65855-D134-47BF-A193-6B8B121E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850CFA-DF03-4E91-A5FD-8F8036C4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7BC56D-6D77-4682-AF80-7416CF89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363DA9-87E6-446B-951F-C8238F05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B14E-052D-4DA4-84CA-95746295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4C08F-CED1-4FE7-972E-CFB752E0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6E3956-68EC-40A1-8F6E-44FA3D0D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A1646C-442E-4D1A-9FB3-ED6FD19D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D1E8A7-5900-4567-A000-F5DBF597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A66B8A-A874-4740-BBB8-EB7B6505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F159D8-0451-4E67-AEEF-B1798EC97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56C80F-49EC-490C-81AE-AE5EFC92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E1933F-67AD-49D6-A61E-EEC33EA3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6E3AF0-2351-4723-B704-5259FE52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91C268-9623-4C60-A592-F8DE0524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954330-E26E-41A5-960A-48C3CC16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B5640-C103-4255-B3ED-0035E965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E6CD5A-FAF3-4DF7-A265-599A9084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2C81C6-4617-498B-B2A8-06BA97D52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D23AE6-DAE4-481A-8263-90F5C798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34D397-A693-4A4E-BA82-87619B57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807C3D-0425-45D7-902B-4960B2BF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330EB3-2874-429C-953E-B9F7F2BF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A40155-54C1-4352-82BE-85311E77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5288AA-EC67-48C6-A11B-01B85A5D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94F31D-9135-4EAD-A800-8B8B9226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5CFFB5-5B5E-49EC-A388-0EBEC2E7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6659E-CB2C-49BA-945A-E61736E7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8C7A61-BE48-4DF9-9684-8AB4C893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176222-F3D6-48C4-AB27-76ACF291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1C6F4D-5D2B-4266-9734-227BCE06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0160D3-3C43-4AC6-B010-82FD8698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C640AD-2DB0-49DD-AA7B-8BC427BA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CF5C31-7105-428B-8DFD-53937456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078D7F-7131-492D-BE29-73C20F60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722343-2932-4699-927D-DDA603DE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F9CC0A-3E4A-4E50-84D0-1C1239EC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DA8CEC-08F0-435E-BD42-EECC2C21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AE8D2-1979-42F5-ABB2-E3071325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E1D671-223F-4F3E-B402-E2B2132E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EB0152-88EC-4BCD-9259-D6B4BBD7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D14494-4B35-495E-826A-353CE89A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BFA08E-8DB9-4599-A5BA-1276B5DF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56E59C-D826-4336-917C-190158BF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562788-19BE-4345-8680-273C614D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0D5A53-E6D5-47BF-8F01-D66CC69E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8AB37F-8550-457E-98E0-169DED10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EE6965-966F-4AB2-9F46-5244AE31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0371F7-959A-40F1-9879-F4EE7BE0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E2FC0-ACBA-42C6-A4EA-4A37FEFB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293BC1-7DDE-42C5-8B86-A834DFF6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3462DF-0670-40F6-A26A-68360335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0B2C97-37BA-43AE-81F5-4A0C738C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E94BEC-9540-4C56-ACD4-91D7D38B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FD9E8A-40BF-4DC9-933A-EA7C1E97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9751DF-931C-44EA-9C54-0E3A1C23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982377-AB11-4E71-9ACE-882FF335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E34FB1-089D-4101-A567-45D34C38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EBA455-48B8-43E7-9B3A-C1F590F7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BECB9D-5503-4DA9-8263-312BD619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E806E-0C20-4B5D-A08F-3B53F28B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F13D91-5930-4AF3-A16F-464B85E7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E8B78F-09A1-46DB-82CD-09E43283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B068C7-AC5B-46B9-80FB-38A94245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BC7862-9A31-4E05-A1D6-E2B28324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918935-4197-4132-8C24-65B7CFFD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A9BEAB-0870-4B8B-A8EC-D85D71B3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D5B2EC-68D0-4037-859C-238A0C92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FD820A-99FB-44F2-B2CB-9085E1CD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A8A15A-C23B-4D4A-948D-C02CF496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A17D2D-84A1-46CA-A725-87D4F29B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A57D7-D5E6-4505-B283-F233990E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951E1B-1C14-4FB3-982C-D2BE4DA0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783AD4-507E-4406-AA40-6A12D110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FEDFCB-7C95-46E1-9C44-14DAFA44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58F16F-E0F0-45B3-8F5E-728E3371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357FE1-25AE-4AA7-A506-EA217AC1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03C938F-B003-4D2B-A314-541B8F2C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B8F1C5-16F2-464E-A23B-62D8E795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4F489F-6172-440F-B114-4917F16D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EF2E20-5AEA-4CA4-A4EF-7B530564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E033B8-BF8E-4BAB-9A46-BBD8551A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9B8E7-F414-43FB-932F-21E29045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80008D-1B00-44C0-A221-F21EDB90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49F2DA-041D-45F9-B41F-1D856795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2D46A1-08E4-4E2F-A0F9-6F9F4712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0BB145-0B92-4811-B04E-C97AA5C6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F6A9E1-B4B7-4FA9-814F-8E18166B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554C44-189C-465B-8A9D-A3417A7E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792A19-5516-44FF-B61C-D23A4557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48AD3D5-88B2-4CFE-ABF9-23735615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CC3019-CC17-4B29-AC22-DAE155C7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6F9B1F-F82E-45A1-88B7-CA3DF061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8C488-BC1F-4D7E-BF39-953F5021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017A759-5A69-42AA-9214-02F38820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5DE7065-FC71-48E8-AF3A-C5B2A629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3DAFFBC-D3F6-4E4C-9EA0-2D2DFF46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761848F-F3CF-4455-B996-4F28D23E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AAFF1F-C6D2-43E7-97AF-D6861DE0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503FA-EFD0-4760-BB78-E0E499E4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132-4360-4855-B688-58DA036F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AE538-0CB2-413F-87CE-9711669F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C50BC-7374-4DD1-9A05-8F90A98A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4BBA8-2D41-4421-BBEF-CAE90A13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CA8E7-734A-4866-ABD7-E64FBE0D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5BB50-8818-487C-B9D1-FC303CAE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4AB6D-858D-44AA-ADFB-8EA261FE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54B8A-4AEE-4E82-8EA7-27F3BFF7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E7748-3C29-43C3-AB1D-801AD557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FC2EB-A113-4F20-9DD2-5ECCCE48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E2209-70EF-4561-A759-D1D96434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31CC-FB2B-4454-AC9C-5AC1B5F0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301E8-0BC0-4C4D-9DC8-1778F2B4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61053-1497-4826-9CB9-0B79262B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2FE8E-A01E-4CE6-BC9A-D34F0999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AB032-1DB9-45A8-8D39-C8241D70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48084-17E2-4A20-9AF6-750D3253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C6B3E-FC5F-4E7B-9F77-D3752460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BB55A-AC62-45B8-8999-04274C41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967B1-7BE3-4EF9-9548-F289D97B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12D49-608A-47A8-87F0-322CF11D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FE4FC-1984-4130-9AC4-F278950E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63B5-DD3B-46EE-98CF-11C63FD5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43F0B-0F3F-4C2B-93F3-8364B0AB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209D4-8E16-47E9-AD23-4373A72D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C9193-DD11-4CE9-83C4-2FF82326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0B83D-D954-434A-9E8A-EC1EA7B8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DEC66-B01F-42CF-A15A-4DFAFA9B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FA84A-3B05-4359-8931-15B6B722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53D04-83E4-49D4-B71A-D98C5A9E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C2E53-9273-46A7-8732-66243A5C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B73BE-BAA8-41E6-9EC7-1BCAA3C7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83CE8-5B85-45D5-93A3-E0D2C24B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7869-1683-456E-A6C9-5966270E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E19ED-942C-43A8-B6CA-61A41838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E04D4-F1AD-4163-B717-F6994169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ECC23-223C-4591-B840-F02A49A1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2EAE3-4428-4E70-9655-995F8F06A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76F22-95A7-41A9-9674-CC3C4D2C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93DD3-AF24-4F2E-ABBE-C24B5CAA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92320-755F-4317-82A1-50ED7623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36157-083D-4E9A-900C-CDFC5126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A5AFF-CF7D-42DB-8AE8-C28DF0BD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ADB9E-230D-41B0-B943-8F928FE5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5C7-851B-473C-88D6-482D7C81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F323F-E69A-41DE-B737-DD519252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83A9E-E3DC-4CB4-9EA6-3FE0FC3D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5D12B-5F03-4D26-BB05-CCB93670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FA858-0BE1-427D-967B-582A9F25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07CCB-EB20-42C2-B73C-6CC6419C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43275-688F-42CD-9DC4-56D04D15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385EA-2854-472B-945D-9B50E121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06C5F-4BD7-4DD3-92E4-B052CFC6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1DB7B-35B9-4906-B34B-FDEE4B03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C455C-32AE-4883-AB3B-3AFC2F45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C20-6B22-48ED-8EBE-C7254E28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55844-65E9-488F-A421-F6288151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DEF4A-9D1D-439B-9138-A1F0DD26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3D7BC-30A3-4E84-ABA7-05A334CB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7F73C-3045-4115-855C-0645624A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3BBFF-CC33-4BD2-91C0-496A5A8B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86591-E8B4-45FE-9503-C9A3BE76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A2862-F3E0-4B39-BD60-30B12DE1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6D231-1E5C-4DC8-8796-C64AE712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AA531-6451-4E03-8D16-40E6368F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12AC1-1717-43CB-B325-86B584B6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6462-B772-4840-BA6F-925AB67CC661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633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1"/>
          <p:cNvSpPr/>
          <p:nvPr/>
        </p:nvSpPr>
        <p:spPr>
          <a:xfrm flipV="1">
            <a:off x="-4320" y="31773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30"/>
          </p:nvPr>
        </p:nvSpPr>
        <p:spPr>
          <a:xfrm>
            <a:off x="531720" y="3244320"/>
            <a:ext cx="78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38B0-C9BB-4D8A-8DD1-29A650729872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8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702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11"/>
          <p:cNvSpPr/>
          <p:nvPr/>
        </p:nvSpPr>
        <p:spPr>
          <a:xfrm flipV="1">
            <a:off x="-4320" y="31773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34"/>
          <p:cNvSpPr/>
          <p:nvPr/>
        </p:nvSpPr>
        <p:spPr>
          <a:xfrm>
            <a:off x="246852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35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33"/>
          </p:nvPr>
        </p:nvSpPr>
        <p:spPr>
          <a:xfrm>
            <a:off x="531720" y="3244320"/>
            <a:ext cx="78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93B4-7317-4EA1-8752-F67D74FD9EFE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6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773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11"/>
          <p:cNvSpPr/>
          <p:nvPr/>
        </p:nvSpPr>
        <p:spPr>
          <a:xfrm flipV="1">
            <a:off x="-4320" y="491112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36"/>
          </p:nvPr>
        </p:nvSpPr>
        <p:spPr>
          <a:xfrm>
            <a:off x="531720" y="49831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9545-91BB-4F88-92C8-175C6875B433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2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842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11"/>
          <p:cNvSpPr/>
          <p:nvPr/>
        </p:nvSpPr>
        <p:spPr>
          <a:xfrm flipV="1">
            <a:off x="-4320" y="491112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34"/>
          <p:cNvSpPr/>
          <p:nvPr/>
        </p:nvSpPr>
        <p:spPr>
          <a:xfrm>
            <a:off x="246852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35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39"/>
          </p:nvPr>
        </p:nvSpPr>
        <p:spPr>
          <a:xfrm>
            <a:off x="531720" y="49831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BC61-CCB7-499B-B082-11FB02EB9826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0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913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11"/>
          <p:cNvSpPr/>
          <p:nvPr/>
        </p:nvSpPr>
        <p:spPr>
          <a:xfrm flipV="1">
            <a:off x="-4320" y="491112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42"/>
          </p:nvPr>
        </p:nvSpPr>
        <p:spPr>
          <a:xfrm>
            <a:off x="531720" y="49831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660E-38A7-4C64-A254-E9EE687CAF9F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982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5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8299-4ADE-4E6E-B163-F233726BA4C3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1051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48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2741-64B0-4564-A2C7-5F0BF30E9F01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51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7570-516B-48E1-A2DC-4250FF5A057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2F41-AD01-4A4B-A402-4F05553AFCD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2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2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dt" idx="5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ftr" idx="5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sldNum" idx="57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D018-7597-41B2-9E96-CFC3445861B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A719-9524-4A58-BF45-2599E35EA66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3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5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5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60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46AD-7D43-48D9-B9A9-3C1810D2CD1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3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 type="dt" idx="6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 type="ftr" idx="6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 type="sldNum" idx="6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3612-A500-4E3E-8BE9-7A839F5E46F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4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6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6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6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37D7-4748-4552-8DB5-17C72254753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5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dt" idx="6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ftr" idx="6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 type="sldNum" idx="6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B5FE-FBBD-4EC3-A1EB-2D20621AD0C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5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6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 type="dt" idx="7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 type="ftr" idx="7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 type="sldNum" idx="7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0078-FFF0-42F8-969F-225AC50183E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6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6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dt" idx="7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ftr" idx="7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 type="sldNum" idx="7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3D35-23E2-41F7-ACFB-9D012935A7A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2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74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 type="dt" idx="7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ftr" idx="7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 type="sldNum" idx="78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630F-3C02-431F-978C-F03560323B5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9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81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 type="dt" idx="7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 type="ftr" idx="8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5"/>
          <p:cNvSpPr>
            <a:spLocks noGrp="1"/>
          </p:cNvSpPr>
          <p:nvPr>
            <p:ph type="sldNum" idx="81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2104-E5BD-467C-A4CF-1CF85F3A2F9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86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88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 type="dt" idx="8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PlaceHolder 4"/>
          <p:cNvSpPr>
            <a:spLocks noGrp="1"/>
          </p:cNvSpPr>
          <p:nvPr>
            <p:ph type="ftr" idx="8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5"/>
          <p:cNvSpPr>
            <a:spLocks noGrp="1"/>
          </p:cNvSpPr>
          <p:nvPr>
            <p:ph type="sldNum" idx="84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E7C6-F329-4105-B77A-41806F194FA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93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95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 type="dt" idx="8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 type="ftr" idx="8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5"/>
          <p:cNvSpPr>
            <a:spLocks noGrp="1"/>
          </p:cNvSpPr>
          <p:nvPr>
            <p:ph type="sldNum" idx="87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BEA3-7143-45A6-A447-25F0CC53B8D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150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531720" y="452916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CDAB-EDF8-4ADF-B179-6A474E9E2D48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0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 type="dt" idx="8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 type="ftr" idx="8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 type="sldNum" idx="9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F61F-1DC3-4ED9-AFFF-D471A909296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09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 type="dt" idx="9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 type="ftr" idx="9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 type="sldNum" idx="9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3D87-1E5D-494D-BC6D-9C732CDFE42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14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15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9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9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9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A44B-AE2F-4AB9-A468-654B6F73D91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219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462F-1185-4B72-B786-B1875F29096C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288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1"/>
          <p:cNvSpPr/>
          <p:nvPr/>
        </p:nvSpPr>
        <p:spPr>
          <a:xfrm flipV="1">
            <a:off x="-4320" y="31773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5"/>
          </p:nvPr>
        </p:nvSpPr>
        <p:spPr>
          <a:xfrm>
            <a:off x="531720" y="3244320"/>
            <a:ext cx="78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E72D-75C6-495C-A4A1-476A96CE3533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357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8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DD1A-3EF9-4519-B616-C9890AE1C869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426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1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4AD0-AE84-4BDA-8DE0-FA45B091BFC0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495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1"/>
          <p:cNvSpPr/>
          <p:nvPr/>
        </p:nvSpPr>
        <p:spPr>
          <a:xfrm flipV="1">
            <a:off x="-4320" y="71316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24"/>
          </p:nvPr>
        </p:nvSpPr>
        <p:spPr>
          <a:xfrm>
            <a:off x="531720" y="7873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F50C-58A8-4ED4-AB68-7C5F0268C087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>
                <a:gd name="textAreaLeft" fmla="*/ 0 w 2076120"/>
                <a:gd name="textAreaRight" fmla="*/ 2076480 w 20761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9"/>
          <p:cNvGrpSpPr/>
          <p:nvPr/>
        </p:nvGrpSpPr>
        <p:grpSpPr>
          <a:xfrm>
            <a:off x="27000" y="0"/>
            <a:ext cx="2359080" cy="6853320"/>
            <a:chOff x="27000" y="0"/>
            <a:chExt cx="2359080" cy="6853320"/>
          </a:xfrm>
        </p:grpSpPr>
        <p:sp>
          <p:nvSpPr>
            <p:cNvPr id="564" name="Freeform 27"/>
            <p:cNvSpPr/>
            <p:nvPr/>
          </p:nvSpPr>
          <p:spPr>
            <a:xfrm>
              <a:off x="27000" y="0"/>
              <a:ext cx="494640" cy="440064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8"/>
            <p:cNvSpPr/>
            <p:nvPr/>
          </p:nvSpPr>
          <p:spPr>
            <a:xfrm>
              <a:off x="550440" y="4316760"/>
              <a:ext cx="423720" cy="158040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9"/>
            <p:cNvSpPr/>
            <p:nvPr/>
          </p:nvSpPr>
          <p:spPr>
            <a:xfrm>
              <a:off x="1006920" y="5862960"/>
              <a:ext cx="431280" cy="99036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0"/>
            <p:cNvSpPr/>
            <p:nvPr/>
          </p:nvSpPr>
          <p:spPr>
            <a:xfrm>
              <a:off x="521640" y="4364640"/>
              <a:ext cx="552240" cy="22356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1"/>
            <p:cNvSpPr/>
            <p:nvPr/>
          </p:nvSpPr>
          <p:spPr>
            <a:xfrm>
              <a:off x="468000" y="1289880"/>
              <a:ext cx="174240" cy="30268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2"/>
            <p:cNvSpPr/>
            <p:nvPr/>
          </p:nvSpPr>
          <p:spPr>
            <a:xfrm>
              <a:off x="1112400" y="6571800"/>
              <a:ext cx="133920" cy="2815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3"/>
            <p:cNvSpPr/>
            <p:nvPr/>
          </p:nvSpPr>
          <p:spPr>
            <a:xfrm>
              <a:off x="502560" y="410796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4"/>
            <p:cNvSpPr/>
            <p:nvPr/>
          </p:nvSpPr>
          <p:spPr>
            <a:xfrm>
              <a:off x="974520" y="3146400"/>
              <a:ext cx="1411560" cy="2716560"/>
            </a:xfrm>
            <a:custGeom>
              <a:avLst/>
              <a:gdLst>
                <a:gd name="textAreaLeft" fmla="*/ 0 w 1411560"/>
                <a:gd name="textAreaRight" fmla="*/ 1411920 w 14115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5"/>
            <p:cNvSpPr/>
            <p:nvPr/>
          </p:nvSpPr>
          <p:spPr>
            <a:xfrm>
              <a:off x="1074240" y="6600600"/>
              <a:ext cx="120600" cy="2527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6"/>
            <p:cNvSpPr/>
            <p:nvPr/>
          </p:nvSpPr>
          <p:spPr>
            <a:xfrm>
              <a:off x="974520" y="5897520"/>
              <a:ext cx="137880" cy="674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7"/>
            <p:cNvSpPr/>
            <p:nvPr/>
          </p:nvSpPr>
          <p:spPr>
            <a:xfrm>
              <a:off x="974520" y="5772960"/>
              <a:ext cx="38160" cy="227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8"/>
            <p:cNvSpPr/>
            <p:nvPr/>
          </p:nvSpPr>
          <p:spPr>
            <a:xfrm>
              <a:off x="1006920" y="6322680"/>
              <a:ext cx="210960" cy="5306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1"/>
          <p:cNvSpPr/>
          <p:nvPr/>
        </p:nvSpPr>
        <p:spPr>
          <a:xfrm flipV="1">
            <a:off x="-4320" y="4911120"/>
            <a:ext cx="159048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27"/>
          </p:nvPr>
        </p:nvSpPr>
        <p:spPr>
          <a:xfrm>
            <a:off x="531720" y="4983120"/>
            <a:ext cx="78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216B-601E-49AF-B2B6-08B994B5F074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6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6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6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1501920" y="1284120"/>
            <a:ext cx="1036296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6600" spc="-1" strike="noStrike">
                <a:solidFill>
                  <a:srgbClr val="0c0448"/>
                </a:solidFill>
                <a:latin typeface="Century Gothic"/>
              </a:rPr>
              <a:t>Образование числа 7</a:t>
            </a:r>
            <a:endParaRPr b="0" lang="en-US" sz="6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15" name="Text Box 4"/>
          <p:cNvSpPr/>
          <p:nvPr/>
        </p:nvSpPr>
        <p:spPr>
          <a:xfrm>
            <a:off x="7063200" y="4905360"/>
            <a:ext cx="467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Калининград, МАДОУ ЦРР д/с №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льцова Е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Прямоугольник 2"/>
          <p:cNvSpPr/>
          <p:nvPr/>
        </p:nvSpPr>
        <p:spPr>
          <a:xfrm>
            <a:off x="2216160" y="819000"/>
            <a:ext cx="8443800" cy="33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463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4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лепест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«Состав числа 7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Числовой дом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Какой номер у этого дома? (7) Ребята, нам нужно заполнить все этажи в домике, возможными вариантами состава числа. Разделим число 7 на 2 меньших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Прямоугольник 2"/>
          <p:cNvSpPr/>
          <p:nvPr/>
        </p:nvSpPr>
        <p:spPr>
          <a:xfrm>
            <a:off x="1465200" y="47520"/>
            <a:ext cx="6096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нашел в дупле у бел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лесных орешков мелк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 ещё 1 леж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хом заботливо укры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 и белка! Вот хозяй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орешки посчитай-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Прямая соединительная линия 7"/>
          <p:cNvSpPr/>
          <p:nvPr/>
        </p:nvSpPr>
        <p:spPr>
          <a:xfrm>
            <a:off x="4135320" y="4608360"/>
            <a:ext cx="1214640" cy="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Прямая соединительная линия 9"/>
          <p:cNvSpPr/>
          <p:nvPr/>
        </p:nvSpPr>
        <p:spPr>
          <a:xfrm>
            <a:off x="4654440" y="3944880"/>
            <a:ext cx="54000" cy="129528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Прямая соединительная линия 6"/>
          <p:cNvSpPr/>
          <p:nvPr/>
        </p:nvSpPr>
        <p:spPr>
          <a:xfrm>
            <a:off x="7561440" y="4272120"/>
            <a:ext cx="1158840" cy="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Прямая соединительная линия 11"/>
          <p:cNvSpPr/>
          <p:nvPr/>
        </p:nvSpPr>
        <p:spPr>
          <a:xfrm>
            <a:off x="7588080" y="4608360"/>
            <a:ext cx="1160640" cy="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Прямоугольник 13"/>
          <p:cNvSpPr/>
          <p:nvPr/>
        </p:nvSpPr>
        <p:spPr>
          <a:xfrm>
            <a:off x="8867520" y="2944800"/>
            <a:ext cx="138924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1" name="Рисунок 1" descr=""/>
          <p:cNvPicPr/>
          <p:nvPr/>
        </p:nvPicPr>
        <p:blipFill>
          <a:blip r:embed="rId1"/>
          <a:stretch/>
        </p:blipFill>
        <p:spPr>
          <a:xfrm>
            <a:off x="1395360" y="3119400"/>
            <a:ext cx="2241720" cy="1486080"/>
          </a:xfrm>
          <a:prstGeom prst="rect">
            <a:avLst/>
          </a:prstGeom>
          <a:ln w="0">
            <a:noFill/>
          </a:ln>
        </p:spPr>
      </p:pic>
      <p:pic>
        <p:nvPicPr>
          <p:cNvPr id="2252" name="Рисунок 2" descr=""/>
          <p:cNvPicPr/>
          <p:nvPr/>
        </p:nvPicPr>
        <p:blipFill>
          <a:blip r:embed="rId2"/>
          <a:stretch/>
        </p:blipFill>
        <p:spPr>
          <a:xfrm>
            <a:off x="1465200" y="4708440"/>
            <a:ext cx="2376720" cy="1576440"/>
          </a:xfrm>
          <a:prstGeom prst="rect">
            <a:avLst/>
          </a:prstGeom>
          <a:ln w="0">
            <a:noFill/>
          </a:ln>
        </p:spPr>
      </p:pic>
      <p:pic>
        <p:nvPicPr>
          <p:cNvPr id="2253" name="Рисунок 3" descr=""/>
          <p:cNvPicPr/>
          <p:nvPr/>
        </p:nvPicPr>
        <p:blipFill>
          <a:blip r:embed="rId3"/>
          <a:stretch/>
        </p:blipFill>
        <p:spPr>
          <a:xfrm>
            <a:off x="5521320" y="3695760"/>
            <a:ext cx="1747800" cy="1727280"/>
          </a:xfrm>
          <a:prstGeom prst="rect">
            <a:avLst/>
          </a:prstGeom>
          <a:ln w="0">
            <a:noFill/>
          </a:ln>
        </p:spPr>
      </p:pic>
      <p:pic>
        <p:nvPicPr>
          <p:cNvPr id="2254" name="Рисунок 4" descr=""/>
          <p:cNvPicPr/>
          <p:nvPr/>
        </p:nvPicPr>
        <p:blipFill>
          <a:blip r:embed="rId4"/>
          <a:stretch/>
        </p:blipFill>
        <p:spPr>
          <a:xfrm>
            <a:off x="6523200" y="142920"/>
            <a:ext cx="55688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Rectangle 2"/>
          <p:cNvSpPr/>
          <p:nvPr/>
        </p:nvSpPr>
        <p:spPr>
          <a:xfrm>
            <a:off x="2186640" y="351360"/>
            <a:ext cx="5839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ь синиц на ветку сел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ним две галки прилетел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читайте быстро детк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птиц сидит на вет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Text Box 10"/>
          <p:cNvSpPr/>
          <p:nvPr/>
        </p:nvSpPr>
        <p:spPr>
          <a:xfrm>
            <a:off x="4281840" y="4950000"/>
            <a:ext cx="419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5 + 2 = 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7" name="Рисунок 1" descr=""/>
          <p:cNvPicPr/>
          <p:nvPr/>
        </p:nvPicPr>
        <p:blipFill>
          <a:blip r:embed="rId1"/>
          <a:stretch/>
        </p:blipFill>
        <p:spPr>
          <a:xfrm>
            <a:off x="260280" y="2373480"/>
            <a:ext cx="1535040" cy="1446120"/>
          </a:xfrm>
          <a:prstGeom prst="rect">
            <a:avLst/>
          </a:prstGeom>
          <a:ln w="0">
            <a:noFill/>
          </a:ln>
        </p:spPr>
      </p:pic>
      <p:pic>
        <p:nvPicPr>
          <p:cNvPr id="2258" name="Рисунок 2" descr=""/>
          <p:cNvPicPr/>
          <p:nvPr/>
        </p:nvPicPr>
        <p:blipFill>
          <a:blip r:embed="rId2"/>
          <a:stretch/>
        </p:blipFill>
        <p:spPr>
          <a:xfrm>
            <a:off x="6335640" y="2389320"/>
            <a:ext cx="1536840" cy="1449360"/>
          </a:xfrm>
          <a:prstGeom prst="rect">
            <a:avLst/>
          </a:prstGeom>
          <a:ln w="0">
            <a:noFill/>
          </a:ln>
        </p:spPr>
      </p:pic>
      <p:pic>
        <p:nvPicPr>
          <p:cNvPr id="2259" name="Рисунок 3" descr=""/>
          <p:cNvPicPr/>
          <p:nvPr/>
        </p:nvPicPr>
        <p:blipFill>
          <a:blip r:embed="rId3"/>
          <a:stretch/>
        </p:blipFill>
        <p:spPr>
          <a:xfrm>
            <a:off x="4838760" y="2349360"/>
            <a:ext cx="1536480" cy="1451160"/>
          </a:xfrm>
          <a:prstGeom prst="rect">
            <a:avLst/>
          </a:prstGeom>
          <a:ln w="0">
            <a:noFill/>
          </a:ln>
        </p:spPr>
      </p:pic>
      <p:pic>
        <p:nvPicPr>
          <p:cNvPr id="2260" name="Рисунок 4" descr=""/>
          <p:cNvPicPr/>
          <p:nvPr/>
        </p:nvPicPr>
        <p:blipFill>
          <a:blip r:embed="rId4"/>
          <a:stretch/>
        </p:blipFill>
        <p:spPr>
          <a:xfrm>
            <a:off x="3335400" y="2338560"/>
            <a:ext cx="1535040" cy="1450800"/>
          </a:xfrm>
          <a:prstGeom prst="rect">
            <a:avLst/>
          </a:prstGeom>
          <a:ln w="0">
            <a:noFill/>
          </a:ln>
        </p:spPr>
      </p:pic>
      <p:pic>
        <p:nvPicPr>
          <p:cNvPr id="2261" name="Рисунок 5" descr=""/>
          <p:cNvPicPr/>
          <p:nvPr/>
        </p:nvPicPr>
        <p:blipFill>
          <a:blip r:embed="rId5"/>
          <a:stretch/>
        </p:blipFill>
        <p:spPr>
          <a:xfrm>
            <a:off x="1797120" y="2389320"/>
            <a:ext cx="1535040" cy="1449360"/>
          </a:xfrm>
          <a:prstGeom prst="rect">
            <a:avLst/>
          </a:prstGeom>
          <a:ln w="0">
            <a:noFill/>
          </a:ln>
        </p:spPr>
      </p:pic>
      <p:pic>
        <p:nvPicPr>
          <p:cNvPr id="2262" name="Рисунок 6" descr=""/>
          <p:cNvPicPr/>
          <p:nvPr/>
        </p:nvPicPr>
        <p:blipFill>
          <a:blip r:embed="rId6"/>
          <a:stretch/>
        </p:blipFill>
        <p:spPr>
          <a:xfrm>
            <a:off x="8261280" y="2387520"/>
            <a:ext cx="1846440" cy="1225800"/>
          </a:xfrm>
          <a:prstGeom prst="rect">
            <a:avLst/>
          </a:prstGeom>
          <a:ln w="0">
            <a:noFill/>
          </a:ln>
        </p:spPr>
      </p:pic>
      <p:pic>
        <p:nvPicPr>
          <p:cNvPr id="2263" name="Рисунок 7" descr=""/>
          <p:cNvPicPr/>
          <p:nvPr/>
        </p:nvPicPr>
        <p:blipFill>
          <a:blip r:embed="rId7"/>
          <a:stretch/>
        </p:blipFill>
        <p:spPr>
          <a:xfrm>
            <a:off x="10147320" y="2387520"/>
            <a:ext cx="184608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Rectangle 2"/>
          <p:cNvSpPr/>
          <p:nvPr/>
        </p:nvSpPr>
        <p:spPr>
          <a:xfrm>
            <a:off x="1338120" y="316440"/>
            <a:ext cx="5013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а малышей- ут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авать и нырять хот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веро уплыли дале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нырнули глубо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же утят в пру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читать я не м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Text Box 4"/>
          <p:cNvSpPr/>
          <p:nvPr/>
        </p:nvSpPr>
        <p:spPr>
          <a:xfrm>
            <a:off x="1948680" y="3732120"/>
            <a:ext cx="379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4 + 3 = 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6" name="Рисунок 1" descr=""/>
          <p:cNvPicPr/>
          <p:nvPr/>
        </p:nvPicPr>
        <p:blipFill>
          <a:blip r:embed="rId1"/>
          <a:stretch/>
        </p:blipFill>
        <p:spPr>
          <a:xfrm>
            <a:off x="6881760" y="689040"/>
            <a:ext cx="48992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Rectangle 2"/>
          <p:cNvSpPr/>
          <p:nvPr/>
        </p:nvSpPr>
        <p:spPr>
          <a:xfrm>
            <a:off x="1879920" y="344880"/>
            <a:ext cx="4908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нижки у Павлушк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ыре – у Андрюшк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книжек у детей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-ка, сосчитай ско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AutoShape 3"/>
          <p:cNvSpPr/>
          <p:nvPr/>
        </p:nvSpPr>
        <p:spPr>
          <a:xfrm>
            <a:off x="594360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AutoShape 4"/>
          <p:cNvSpPr/>
          <p:nvPr/>
        </p:nvSpPr>
        <p:spPr>
          <a:xfrm>
            <a:off x="594360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AutoShape 5"/>
          <p:cNvSpPr/>
          <p:nvPr/>
        </p:nvSpPr>
        <p:spPr>
          <a:xfrm>
            <a:off x="594360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AutoShape 6"/>
          <p:cNvSpPr/>
          <p:nvPr/>
        </p:nvSpPr>
        <p:spPr>
          <a:xfrm>
            <a:off x="594360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AutoShape 7"/>
          <p:cNvSpPr/>
          <p:nvPr/>
        </p:nvSpPr>
        <p:spPr>
          <a:xfrm>
            <a:off x="594360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AutoShape 8"/>
          <p:cNvSpPr/>
          <p:nvPr/>
        </p:nvSpPr>
        <p:spPr>
          <a:xfrm>
            <a:off x="594360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AutoShape 10"/>
          <p:cNvSpPr/>
          <p:nvPr/>
        </p:nvSpPr>
        <p:spPr>
          <a:xfrm>
            <a:off x="594360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Text Box 12"/>
          <p:cNvSpPr/>
          <p:nvPr/>
        </p:nvSpPr>
        <p:spPr>
          <a:xfrm>
            <a:off x="2326320" y="3973680"/>
            <a:ext cx="306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3+4=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6" name="Рисунок 1" descr=""/>
          <p:cNvPicPr/>
          <p:nvPr/>
        </p:nvPicPr>
        <p:blipFill>
          <a:blip r:embed="rId1"/>
          <a:stretch/>
        </p:blipFill>
        <p:spPr>
          <a:xfrm>
            <a:off x="5627520" y="2925720"/>
            <a:ext cx="3495960" cy="3003480"/>
          </a:xfrm>
          <a:prstGeom prst="rect">
            <a:avLst/>
          </a:prstGeom>
          <a:ln w="0">
            <a:noFill/>
          </a:ln>
        </p:spPr>
      </p:pic>
      <p:pic>
        <p:nvPicPr>
          <p:cNvPr id="2277" name="Рисунок 2" descr=""/>
          <p:cNvPicPr/>
          <p:nvPr/>
        </p:nvPicPr>
        <p:blipFill>
          <a:blip r:embed="rId2"/>
          <a:stretch/>
        </p:blipFill>
        <p:spPr>
          <a:xfrm>
            <a:off x="8904240" y="2814480"/>
            <a:ext cx="3068640" cy="30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2"/>
          <p:cNvSpPr/>
          <p:nvPr/>
        </p:nvSpPr>
        <p:spPr>
          <a:xfrm>
            <a:off x="1451520" y="154440"/>
            <a:ext cx="470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щенка-балов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гают, резвя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шалунишкам пять др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громким лаем мча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есте будет вес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же всего друзей?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AutoShape 4"/>
          <p:cNvSpPr/>
          <p:nvPr/>
        </p:nvSpPr>
        <p:spPr>
          <a:xfrm>
            <a:off x="5943600" y="32767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Text Box 6"/>
          <p:cNvSpPr/>
          <p:nvPr/>
        </p:nvSpPr>
        <p:spPr>
          <a:xfrm>
            <a:off x="7586640" y="1014480"/>
            <a:ext cx="27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2+5=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1" name="Рисунок 1" descr=""/>
          <p:cNvPicPr/>
          <p:nvPr/>
        </p:nvPicPr>
        <p:blipFill>
          <a:blip r:embed="rId1"/>
          <a:stretch/>
        </p:blipFill>
        <p:spPr>
          <a:xfrm>
            <a:off x="6726240" y="3157560"/>
            <a:ext cx="4879800" cy="2752560"/>
          </a:xfrm>
          <a:prstGeom prst="rect">
            <a:avLst/>
          </a:prstGeom>
          <a:ln w="0">
            <a:noFill/>
          </a:ln>
        </p:spPr>
      </p:pic>
      <p:pic>
        <p:nvPicPr>
          <p:cNvPr id="2282" name="Рисунок 1" descr=""/>
          <p:cNvPicPr/>
          <p:nvPr/>
        </p:nvPicPr>
        <p:blipFill>
          <a:blip r:embed="rId2"/>
          <a:stretch/>
        </p:blipFill>
        <p:spPr>
          <a:xfrm>
            <a:off x="2033640" y="3157560"/>
            <a:ext cx="4692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Text Box 4"/>
          <p:cNvSpPr/>
          <p:nvPr/>
        </p:nvSpPr>
        <p:spPr>
          <a:xfrm>
            <a:off x="1769040" y="189000"/>
            <a:ext cx="29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5 лепес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Rectangle 5"/>
          <p:cNvSpPr/>
          <p:nvPr/>
        </p:nvSpPr>
        <p:spPr>
          <a:xfrm>
            <a:off x="2208240" y="11253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Rectangle 6"/>
          <p:cNvSpPr/>
          <p:nvPr/>
        </p:nvSpPr>
        <p:spPr>
          <a:xfrm>
            <a:off x="3879720" y="1171440"/>
            <a:ext cx="8312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бята, сколько всего зайцев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На какие две группы можно разбить зайчиков? (большие и маленьки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больших, маленьких? (4 больших и 3 маленьких) Значит 7 это 4 и ещё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Всего 7 зайчиков, 1 убежал, сколько зайчиков осталось? (6) Значит от 7 отнять 1 сколько будет?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Было 5 зайчиков, прибежало ещё 2. Сколько стало зайчиков всего? (7) Значит к 5+2 сколько будет? (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519120" y="-36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6 лепесток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3276360" y="412560"/>
            <a:ext cx="89154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-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Цифры перепутали свои места в числовом ряду. Помогите им ребята найти своё место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(Дети   выстраивают лепестки  с цифрами в цифровой ряд. Затем детям предлагается посчитать до 7прямым и обратным счетом.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огда выстраивается числовой ряд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- Назови соседей числа 3 (2, 4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- Назови соседей числа 5 ( 6,  4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- Назови соседей числа 6 (5, 7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- Назовите соседа числа 7 ? (6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09320" y="123480"/>
            <a:ext cx="89103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7 лепесток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289" name="Picture 7" descr=""/>
          <p:cNvPicPr/>
          <p:nvPr/>
        </p:nvPicPr>
        <p:blipFill>
          <a:blip r:embed="rId1"/>
          <a:stretch/>
        </p:blipFill>
        <p:spPr>
          <a:xfrm>
            <a:off x="4767120" y="426960"/>
            <a:ext cx="582300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0" name="Рисунок 3" descr=""/>
          <p:cNvPicPr/>
          <p:nvPr/>
        </p:nvPicPr>
        <p:blipFill>
          <a:blip r:embed="rId1"/>
          <a:stretch/>
        </p:blipFill>
        <p:spPr>
          <a:xfrm>
            <a:off x="2643120" y="923760"/>
            <a:ext cx="630072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6" name="Рисунок 1" descr=""/>
          <p:cNvPicPr/>
          <p:nvPr/>
        </p:nvPicPr>
        <p:blipFill>
          <a:blip r:embed="rId1"/>
          <a:stretch/>
        </p:blipFill>
        <p:spPr>
          <a:xfrm>
            <a:off x="1787400" y="142920"/>
            <a:ext cx="881712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7" name="Рисунок 1" descr=""/>
          <p:cNvPicPr/>
          <p:nvPr/>
        </p:nvPicPr>
        <p:blipFill>
          <a:blip r:embed="rId1"/>
          <a:stretch/>
        </p:blipFill>
        <p:spPr>
          <a:xfrm>
            <a:off x="2085840" y="527040"/>
            <a:ext cx="866772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8" name="Рисунок 1" descr=""/>
          <p:cNvPicPr/>
          <p:nvPr/>
        </p:nvPicPr>
        <p:blipFill>
          <a:blip r:embed="rId1"/>
          <a:stretch/>
        </p:blipFill>
        <p:spPr>
          <a:xfrm>
            <a:off x="2160720" y="579600"/>
            <a:ext cx="76248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TextBox 2"/>
          <p:cNvSpPr/>
          <p:nvPr/>
        </p:nvSpPr>
        <p:spPr>
          <a:xfrm>
            <a:off x="2520" y="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0" name="Picture 6" descr=""/>
          <p:cNvPicPr/>
          <p:nvPr/>
        </p:nvPicPr>
        <p:blipFill>
          <a:blip r:embed="rId1"/>
          <a:stretch/>
        </p:blipFill>
        <p:spPr>
          <a:xfrm>
            <a:off x="1560600" y="0"/>
            <a:ext cx="9198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917640" y="11088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entury Gothic"/>
              </a:rPr>
              <a:t>2 лепесток.  </a:t>
            </a: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Сосчитай квадраты.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22" name="Прямоугольник 2"/>
          <p:cNvSpPr/>
          <p:nvPr/>
        </p:nvSpPr>
        <p:spPr>
          <a:xfrm>
            <a:off x="1052640" y="2028960"/>
            <a:ext cx="11048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Прямоугольник 3"/>
          <p:cNvSpPr/>
          <p:nvPr/>
        </p:nvSpPr>
        <p:spPr>
          <a:xfrm>
            <a:off x="9193320" y="2076480"/>
            <a:ext cx="1104840" cy="1077840"/>
          </a:xfrm>
          <a:prstGeom prst="rect">
            <a:avLst/>
          </a:prstGeom>
          <a:solidFill>
            <a:srgbClr val="0070c0"/>
          </a:solidFill>
          <a:ln cap="rnd"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Прямоугольник 4"/>
          <p:cNvSpPr/>
          <p:nvPr/>
        </p:nvSpPr>
        <p:spPr>
          <a:xfrm>
            <a:off x="2698920" y="2028960"/>
            <a:ext cx="11048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Прямоугольник 5"/>
          <p:cNvSpPr/>
          <p:nvPr/>
        </p:nvSpPr>
        <p:spPr>
          <a:xfrm>
            <a:off x="4286160" y="2076480"/>
            <a:ext cx="11066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Прямоугольник 6"/>
          <p:cNvSpPr/>
          <p:nvPr/>
        </p:nvSpPr>
        <p:spPr>
          <a:xfrm>
            <a:off x="7523280" y="2076480"/>
            <a:ext cx="11048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Прямоугольник 7"/>
          <p:cNvSpPr/>
          <p:nvPr/>
        </p:nvSpPr>
        <p:spPr>
          <a:xfrm>
            <a:off x="5850000" y="2076480"/>
            <a:ext cx="110808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1471680" y="13788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Сосчитай квадраты.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29" name="Прямоугольник 2"/>
          <p:cNvSpPr/>
          <p:nvPr/>
        </p:nvSpPr>
        <p:spPr>
          <a:xfrm>
            <a:off x="1052640" y="2028960"/>
            <a:ext cx="11048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Прямоугольник 3"/>
          <p:cNvSpPr/>
          <p:nvPr/>
        </p:nvSpPr>
        <p:spPr>
          <a:xfrm>
            <a:off x="9193320" y="2076480"/>
            <a:ext cx="11048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Прямоугольник 4"/>
          <p:cNvSpPr/>
          <p:nvPr/>
        </p:nvSpPr>
        <p:spPr>
          <a:xfrm>
            <a:off x="2698920" y="2028960"/>
            <a:ext cx="11048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Прямоугольник 5"/>
          <p:cNvSpPr/>
          <p:nvPr/>
        </p:nvSpPr>
        <p:spPr>
          <a:xfrm>
            <a:off x="4286160" y="2076480"/>
            <a:ext cx="11066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Прямоугольник 6"/>
          <p:cNvSpPr/>
          <p:nvPr/>
        </p:nvSpPr>
        <p:spPr>
          <a:xfrm>
            <a:off x="7523280" y="2076480"/>
            <a:ext cx="11048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Прямоугольник 7"/>
          <p:cNvSpPr/>
          <p:nvPr/>
        </p:nvSpPr>
        <p:spPr>
          <a:xfrm>
            <a:off x="5850000" y="2076480"/>
            <a:ext cx="110808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1604880" y="328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entury Gothic"/>
              </a:rPr>
              <a:t>Сосчитай квадраты.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6" name="Прямоугольник 2"/>
          <p:cNvSpPr/>
          <p:nvPr/>
        </p:nvSpPr>
        <p:spPr>
          <a:xfrm>
            <a:off x="1052640" y="2028960"/>
            <a:ext cx="11048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Прямоугольник 3"/>
          <p:cNvSpPr/>
          <p:nvPr/>
        </p:nvSpPr>
        <p:spPr>
          <a:xfrm>
            <a:off x="9193320" y="2076480"/>
            <a:ext cx="11048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Прямоугольник 4"/>
          <p:cNvSpPr/>
          <p:nvPr/>
        </p:nvSpPr>
        <p:spPr>
          <a:xfrm>
            <a:off x="2698920" y="2028960"/>
            <a:ext cx="11048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Прямоугольник 5"/>
          <p:cNvSpPr/>
          <p:nvPr/>
        </p:nvSpPr>
        <p:spPr>
          <a:xfrm>
            <a:off x="4286160" y="2076480"/>
            <a:ext cx="11066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Прямоугольник 6"/>
          <p:cNvSpPr/>
          <p:nvPr/>
        </p:nvSpPr>
        <p:spPr>
          <a:xfrm>
            <a:off x="7523280" y="2076480"/>
            <a:ext cx="110484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Прямоугольник 7"/>
          <p:cNvSpPr/>
          <p:nvPr/>
        </p:nvSpPr>
        <p:spPr>
          <a:xfrm>
            <a:off x="5850000" y="2076480"/>
            <a:ext cx="1108080" cy="1077840"/>
          </a:xfrm>
          <a:prstGeom prst="rect">
            <a:avLst/>
          </a:prstGeom>
          <a:solidFill>
            <a:srgbClr val="ff000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Прямоугольник 8"/>
          <p:cNvSpPr/>
          <p:nvPr/>
        </p:nvSpPr>
        <p:spPr>
          <a:xfrm>
            <a:off x="10755360" y="2076480"/>
            <a:ext cx="1106280" cy="1077840"/>
          </a:xfrm>
          <a:prstGeom prst="rect">
            <a:avLst/>
          </a:prstGeom>
          <a:solidFill>
            <a:srgbClr val="0070c0"/>
          </a:solidFill>
          <a:ln cap="rnd" w="15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1719360" y="41076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лепесток . 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Ответьте на вопросы</a:t>
            </a:r>
            <a:br>
              <a:rPr sz="3600"/>
            </a:br>
            <a:br>
              <a:rPr sz="3600"/>
            </a:br>
            <a:r>
              <a:rPr b="0" lang="ru-RU" sz="2200" spc="-1" strike="noStrike">
                <a:solidFill>
                  <a:srgbClr val="1a1f0d"/>
                </a:solidFill>
                <a:latin typeface="Century Gothic"/>
              </a:rPr>
              <a:t>-какое время года? (зима)</a:t>
            </a:r>
            <a:br>
              <a:rPr sz="2200"/>
            </a:br>
            <a:r>
              <a:rPr b="0" lang="ru-RU" sz="2200" spc="-1" strike="noStrike">
                <a:solidFill>
                  <a:srgbClr val="1a1f0d"/>
                </a:solidFill>
                <a:latin typeface="Century Gothic"/>
              </a:rPr>
              <a:t>- назовите весенние  месяцы (декабрь, январь, февраль)</a:t>
            </a:r>
            <a:br>
              <a:rPr sz="2200"/>
            </a:br>
            <a:r>
              <a:rPr b="0" lang="ru-RU" sz="2200" spc="-1" strike="noStrike">
                <a:solidFill>
                  <a:srgbClr val="1a1f0d"/>
                </a:solidFill>
                <a:latin typeface="Century Gothic"/>
              </a:rPr>
              <a:t>- какой месяц сейчас идёт? (декабрь)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1a1f0d"/>
                </a:solidFill>
                <a:latin typeface="Century Gothic"/>
              </a:rPr>
              <a:t>-отгадайте загадку</a:t>
            </a:r>
            <a:br>
              <a:rPr sz="2200"/>
            </a:br>
            <a:r>
              <a:rPr b="0" lang="ru-RU" sz="2200" spc="-1" strike="noStrike">
                <a:solidFill>
                  <a:srgbClr val="1a1f0d"/>
                </a:solidFill>
                <a:latin typeface="Century Gothic"/>
              </a:rPr>
              <a:t>Братцев этих ровно семь. </a:t>
            </a:r>
            <a:br>
              <a:rPr sz="2200"/>
            </a:br>
            <a:r>
              <a:rPr b="0" lang="ru-RU" sz="2200" spc="-1" strike="noStrike">
                <a:solidFill>
                  <a:srgbClr val="1a1f0d"/>
                </a:solidFill>
                <a:latin typeface="Century Gothic"/>
              </a:rPr>
              <a:t>Вам они известны всем. </a:t>
            </a:r>
            <a:br>
              <a:rPr sz="2200"/>
            </a:br>
            <a:r>
              <a:rPr b="0" lang="ru-RU" sz="2200" spc="-1" strike="noStrike">
                <a:solidFill>
                  <a:srgbClr val="1a1f0d"/>
                </a:solidFill>
                <a:latin typeface="Century Gothic"/>
              </a:rPr>
              <a:t>Каждую неделю кругом </a:t>
            </a:r>
            <a:br>
              <a:rPr sz="2200"/>
            </a:br>
            <a:r>
              <a:rPr b="0" lang="ru-RU" sz="2200" spc="-1" strike="noStrike">
                <a:solidFill>
                  <a:srgbClr val="1a1f0d"/>
                </a:solidFill>
                <a:latin typeface="Century Gothic"/>
              </a:rPr>
              <a:t>ходят братцы друг за другом. </a:t>
            </a:r>
            <a:br>
              <a:rPr sz="2200"/>
            </a:br>
            <a:r>
              <a:rPr b="0" lang="ru-RU" sz="2200" spc="-1" strike="noStrike">
                <a:solidFill>
                  <a:srgbClr val="1a1f0d"/>
                </a:solidFill>
                <a:latin typeface="Century Gothic"/>
              </a:rPr>
              <a:t>Попрощается последний </a:t>
            </a:r>
            <a:br>
              <a:rPr sz="2200"/>
            </a:br>
            <a:r>
              <a:rPr b="0" lang="ru-RU" sz="2200" spc="-1" strike="noStrike">
                <a:solidFill>
                  <a:srgbClr val="1a1f0d"/>
                </a:solidFill>
                <a:latin typeface="Century Gothic"/>
              </a:rPr>
              <a:t>Появляется передний. (Дни недели)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1a1f0d"/>
                </a:solidFill>
                <a:latin typeface="Century Gothic"/>
              </a:rPr>
              <a:t>- назовите  их.</a:t>
            </a:r>
            <a:br>
              <a:rPr sz="2200"/>
            </a:br>
            <a:r>
              <a:rPr b="0" lang="ru-RU" sz="2200" spc="-1" strike="noStrike">
                <a:solidFill>
                  <a:srgbClr val="1a1f0d"/>
                </a:solidFill>
                <a:latin typeface="Century Gothic"/>
              </a:rPr>
              <a:t>- сколько дней в неделе? (семь)</a:t>
            </a:r>
            <a:br>
              <a:rPr sz="2200"/>
            </a:b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0T10:46:18Z</dcterms:created>
  <dc:creator>strelka.eva@gmail.com</dc:creator>
  <dc:description/>
  <dc:language>en-US</dc:language>
  <cp:lastModifiedBy>strelka.eva@gmail.com</cp:lastModifiedBy>
  <dcterms:modified xsi:type="dcterms:W3CDTF">2018-12-13T19:28:30Z</dcterms:modified>
  <cp:revision>44</cp:revision>
  <dc:subject/>
  <dc:title>Презентация PowerPoint</dc:title>
</cp:coreProperties>
</file>