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</p:sld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  <p:sldId id="270" r:id="rId48"/>
    <p:sldId id="271" r:id="rId49"/>
    <p:sldId id="272" r:id="rId50"/>
    <p:sldId id="273" r:id="rId51"/>
    <p:sldId id="274" r:id="rId5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slide" Target="slides/slide15.xml"/><Relationship Id="rId49" Type="http://schemas.openxmlformats.org/officeDocument/2006/relationships/slide" Target="slides/slide16.xml"/><Relationship Id="rId50" Type="http://schemas.openxmlformats.org/officeDocument/2006/relationships/slide" Target="slides/slide17.xml"/><Relationship Id="rId51" Type="http://schemas.openxmlformats.org/officeDocument/2006/relationships/slide" Target="slides/slide18.xml"/><Relationship Id="rId52" Type="http://schemas.openxmlformats.org/officeDocument/2006/relationships/slide" Target="slides/slide1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9C51-E2D9-4D79-A9FD-842F856BE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2053-8E51-4643-A0D1-0BF559EC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2E8C36-D0B1-4C4A-89BA-731BDF28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72E1F9-0CA4-43C4-A926-0759AAE5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B21A8C-73BE-441A-8909-F079C309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51AEE-FC93-4732-9D1E-75EA79EF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CC35A5-4679-4B9F-8F0F-CD158EE1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25057F-281A-405B-9551-C87D6542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F7C084-BE8E-4C7E-BEA2-34C47A39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5DD442-404F-4B7C-A841-E909B8C72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B600B1-7236-4D9C-87BA-C57CFF26F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E53765-A216-4417-8C3E-6D26016CA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FF77-36BE-473F-9D33-CB28BFE5C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2B8958-81EC-4CCE-B05F-AE7B5E94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44AA1E-B656-4070-BD4E-19F6727E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67D90E-6CB8-4DCB-9A03-74689B97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7059D6-A81E-435B-8130-B1D7571E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9D5FDD-8194-44D3-BF71-EF11DC05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115EF5-0AE7-461D-8D59-C90D9540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B1CC31-BB8F-46D0-9071-9CA5E1DF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89F446-6A87-4C88-B6DD-A36724B7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7E8611-409F-4D25-B8D4-31DD865E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381D3F-66EA-466B-8A1C-CA9C8EC72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DB56-429B-4F1D-97EB-6EFFF304F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AECD4D-844A-4D3E-955F-211ED205A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795E1-062D-481B-9CBC-DEEC926EB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1BD1F-2B55-41DF-9247-F9896827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EE3D4-C656-4FC3-B9BC-E3146210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2876F-2120-43F8-A371-F5DC609E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C189D-6735-452B-9D27-69BCF49B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44AB18-FE9C-4AED-B886-AF89D2BE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6DD53-5529-45EC-BD0B-697B3E23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97B992-DB18-4FB4-A4C0-4F363DFC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DF7D6-9E4D-455F-816D-755AFFAF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38D8-7C7C-4528-BF5D-A5D204E44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A90FB-EF12-4588-8079-1C29EFE6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E7051-B42E-4F4D-AF36-CBE292BFC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5FC958-5D4F-495F-B97B-802373618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C1F59A-C944-4BAC-B31F-025771D85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CC96F7-685F-4C1C-95BC-1388563C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F1BC73-5279-4B35-922A-1FCDC8F6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059F9A-CC82-4DFB-93CA-C18D63E3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17A696-F525-4C7A-88DE-446848C0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F9EC35-857D-4DB1-A8D6-17937839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60B47A-8E4A-40D7-8687-F349B57E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848E-088D-419D-BA73-2ACD5579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E69356-0716-49D4-B9AA-D3BD491A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249FC9-F494-421F-9ED3-E27A3B5C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F6D7FE-2811-444D-9E04-D525F847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87D7CC-23B2-4F0C-A90D-E9341AC99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7C51A8-9D2A-4402-A706-0A5D2C1CC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9C45A2-502B-4D90-B8E2-71BACA245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DF9F30-E224-46DC-A880-AD92E52F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8D5186-A87F-45AD-8E5D-CAFE05EE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067068-19D5-4B29-BF7C-9B3F595E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8BF2F3-D96A-4CF0-A36B-DE278BAA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202FE-2F5E-4687-AB1A-303A2522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5B262C-E7C5-41EE-B413-5CB8BF13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48EADC-FF17-4327-BE5D-21B4698E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B7493D-6BAB-4A36-9757-ABAF2D1A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D65EAF-B3FD-450B-A268-A3587B69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E6A3D4-E9FA-49CC-9425-C38FAF08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87FFBC-3C63-4D13-A8C3-3545EA315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7D2BBA-A7A8-445D-8FDF-5A43EF38F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D6BD80-DA44-483E-8191-0101206B2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ED15DA-4181-4BAF-B372-798BEB39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FCB285-0B76-4934-A089-46EEFF21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AB05-7333-417B-837C-6C80C635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B83219-82AB-48E9-8C9D-20592CEA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FB9324-BC1C-402D-AB52-183AFA02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FF0C7F-3787-4283-ACD2-A728CFD3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E7C7A8-028B-4E58-B2CA-9F94674A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C5563B-E2FB-4E70-ACBC-C56C3BD6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1EF2ED-F802-4A07-814E-E22693E0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EB9480-CD51-4CEF-877C-4B4D166F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59EFC1-6BA9-45EE-84F9-666BF2AC0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8A0E2D-2BD7-4045-8537-E9A027077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3DCA12-71CB-4AEB-A513-17C2A8D5B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488C-06EC-484D-B51C-8DE2B1C2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D23263-499E-402E-810B-E21325A2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E8A442-4B3E-4E16-981C-38FEAF04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24DA2A-3098-44DD-8013-3ACD119D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B979AD-480C-4533-AC5F-3D09FDEA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C32C89-6D17-43F3-BF86-9A3AED28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CBDD28-1C46-446B-9864-198579E5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CF3D46-66B8-4343-B0CD-C231F059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598E5D-511C-445E-A1D1-56F32F7F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03F088-526D-47C6-8F9C-FEA56FD1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FEAD9B-4077-4E3B-B09F-CF4D0E89F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59A5-CC7F-40D0-9735-CF55658B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F8E73B-11CB-4DB0-9437-7EDF2E86D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557B80-389E-4DAE-AA52-9630F492A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5B0137-0EC1-4BBF-8DD3-8E25E872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CE3A3E-AEA9-40EB-AEEC-8FB178A8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041265-4062-46C9-846B-BFAF97DE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3E8F1C-AA78-4F81-BAA7-D8D62009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18663A-398E-42B2-B430-3A28F5D2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37ED5B-9BA3-4DB3-B242-D0901DD8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0C09A7-C857-45F0-AF80-CECE1993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443511-D068-4FA6-83C8-E6E43DA4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D1E6-56F3-445B-9988-A59414F2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F05B29-F4D3-43DF-B623-B0CF524A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2E112F-80A5-4405-97B8-B3A73D4F6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B354C4-E7DD-4285-B560-008FD9C33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DD4B01-3C5C-407E-BADE-B1364288C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584422-1A5E-4081-B7C2-E8A4DFE4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D1F8BF-A72A-4522-9D16-BAB1CE62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3C8ABB-915E-49AC-9A81-91E41B9B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9470D1-C0AD-42A2-9BE4-4FE814E3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521EB6-CF66-43A6-B3CA-DBBE1773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FF5091-7292-4698-B410-CAA60CF3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0EA0-462D-49CE-8913-3FD7E12B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22D4-1C60-406E-84F1-9FD70CD3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111A70-03D6-400D-908D-E57BC344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522C3F-5DC9-462D-91EB-9C26A22D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A3FA69-185D-44FA-AF3F-26E49759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98837E-988A-4E7F-A1DE-5F8EC08D1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26F94D-90C0-43E2-8493-79FC6A67A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AC3712-3F8F-421E-AE7D-0B7204A4B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4570A1-1720-48A8-BBDD-AC0CBB91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5E1D5D-0E78-4CDC-A7A7-60141567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61816C-17F6-4399-B6E6-6413A4EB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8EB903-E24A-489D-A657-6B865A36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5BD6-436A-4E6F-A20B-2B35356E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156721-814A-4398-A017-25DA3010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8D19A4-9B03-43C5-85CD-3DADEE22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324888-4D15-42C4-9E21-C8E82F9E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2705AF-B16D-4374-9BF7-81A809BF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ED2719-8581-4453-8F94-15C74ED9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D2E3CC-37E1-48F8-9DC6-8FE14FAD5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E0FF91-7B04-4F46-8AA0-D79DBF525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B36B7C-6980-49A1-A349-D86D9271B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16EDC7-4825-4777-BDA1-29218765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1A48E8-8665-4BE1-A8F0-09F923DD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02072-5A5C-425E-99C7-867FAEE9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287C73-A70F-42A8-832A-E6E99BE4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4E53D8-7844-4E45-8303-29CDC4C8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93C9F8-1F61-4151-B212-3F650C98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4F1E86-F878-4ECF-89D8-3922FA53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E04876-690A-43E3-8806-B1AC6DF2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61CA84-C773-4BFD-A9ED-F1A82CA0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A824A3-8463-4D80-9DE8-77FD747C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F2E44E-4E57-4E48-816F-07A3C613E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330806-131E-4D15-9261-A93004594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261255-575F-4EC7-BD39-1C072FB2E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627F-35B8-4E24-A166-3D4B43633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E38B98-AA60-44F0-8CD6-68CAE5C6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48E024-46BC-4E58-AF3B-60044CE5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AE53FF-CE10-4B7D-91F2-3119F99D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827C2F-6C0F-43B5-94BB-E5992926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3BAB57-B517-4BB8-A140-FF39124D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0CA309-8816-4840-9F5F-FF530356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C255E5-0511-46D1-9BB5-F776D395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DD2F2F-524C-4AB8-9DF2-DC8128A0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D7FB02-6FE0-42C8-A39C-05FDFE43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43CDE0-D59B-47D9-8703-FCEB5723E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A7FAC-D666-4018-A911-0D40BF2BF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B7836A-6920-4A48-9E2D-3241AAF2F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00749D-865A-435C-851B-B94BD7786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65BC2D-88D3-40CB-B476-145B2698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1E5EB3-E12A-4CFA-BB1B-2DBA145D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662159-075E-4F20-AEB7-93D2815C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7B2FBD-0381-418C-B4F3-A931AE26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E14683-C2B2-44C0-B585-0FBB3CF7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7DAB87-F29D-45A3-BEB1-D7846D57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B4E484-927E-49E8-BE1C-89ADE8F1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371574-D993-42BA-AD31-729BE381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B6F6F-6678-4BE8-87C6-E94836990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1ACC2D-2A72-4DD0-990E-3CF8C2762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5C887F-6727-4755-AF3A-AE4EA28DF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7B9E98-1873-48E1-A2BA-46D5ADB71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D47100-49B8-43B2-A9D4-962E81E5B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DFCCFF-3836-4E11-81F6-83C3BBAF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839F3F-1053-4390-8A30-54723AB9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7B6B16-35F2-4FDA-AA2D-7718182A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917C95-CD6F-40A0-A8F7-D0F29247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49BD12-1946-4017-BF71-A6FAD297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9BFDB1-2889-4C37-BA53-19DA6169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E82FC-F637-4E62-AF86-3DCAE1A3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441DCB-0698-490D-92DF-83DC9CA9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2CE934-27F2-451F-B5E0-86B09072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A03F43-0B72-43F5-90A3-504FE7F2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EA253F-4271-4F16-888A-5436393BE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DD1323-B25B-4662-85F8-5D3A31B7E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CBE8E2-AEF5-4C60-A6BA-A4E036D9F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8A10CB-81F0-42DA-BA56-80E4494D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2E0E21-F92C-4A57-B379-5B7398C0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00DDCA-A36F-4709-B495-5E3C24CB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FF7147-32F1-410E-AE0F-CD307205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AE2FF-28D8-4953-BD07-6023C25C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0CCD1A-4BBA-4BC4-99F1-636A8E31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800B19-1FB4-4EF0-A68F-7ACCBEC6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6B84AB-896B-43E8-BD19-7EE944F9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14D89C-63AA-42AB-967F-92B2EC15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BEE267-1373-407C-A92C-8F0A0F1C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CCA8DC-212A-4F29-BBF0-B86779AB1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11B876-0056-44F4-A476-244D87F7B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AA1F90-014C-4EA6-B708-5B6A1B765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5A75A5-4170-456F-8DFA-62CCB537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F48037-B630-4429-B598-73634ADD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7E873-8E64-4548-B3EB-D252FD5B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FD58A06-6916-4B9C-BCE5-73BBEC7B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2AFD68-19B4-4382-BF2B-3C734AC7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440F2E6-9036-41B8-874C-1B0D97CD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62D429E-A124-452D-B020-1FEB5136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EA6760-4C4C-4516-8FEF-A375BA9A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ADDC58-57D9-4534-BD23-F3475C43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C0080C-098E-4B81-BC94-107791AA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2FD405-BB00-49BA-8CB3-DE9EEB982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DF1C6B-18F2-48D2-A3E0-8ED3752CA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B7F173D-3062-48B6-980E-9F3448B2B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B2FF6-9B28-4156-A914-38E63ECA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7AFE386-6E1B-4683-B076-DB9D5D6C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FDB75AA-A541-4C33-ACCB-C25C5541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D432D08-122D-41D4-B60F-58070938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7D7E2E8-29BB-4F12-BEA6-21C51D98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CD017A4-7D6C-4A4E-B503-C6D893FE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F5D183A-2F09-48AF-81A9-52DA81BC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8C3249B-9424-4ABC-8918-5E48DDD9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4ECF0FF-91BB-4075-9894-C32C1F05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C2260EC-9208-4701-AED9-77E569BC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36FA81B-69BE-4A32-88FA-8D7342D16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5B4A-B7F0-40B1-974C-4B7D9835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99AA2-12B4-4001-A57F-30200E56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5C04F11-B8F7-4925-B428-BC6B196F6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0F26996-FD9E-4A27-8251-3FE866DC7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183CD26-6616-4834-BE65-937B1993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15E78AB-ABE3-45EF-BCDA-1373A6E8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7D80AF4-8204-4398-9DF0-5E9D0A99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4C73A4F-487C-45B2-9A9B-8688B41C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33FC2DB-5E77-45FF-84D8-6F6A2076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338EF21-3A3E-4769-91D1-53FBE735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CD53AF9-61CA-4320-9B58-E8EB8B06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BFDF7FC-D3DE-45FD-BCA6-082376FB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4E8CA-1634-4F86-A8D8-0410CC75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79049A3-CB6F-4F7E-812D-69BD54FC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EE120FE-F9F0-42F8-B6A9-74FF5FAA8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5BEF8AF-51E1-442A-9EB0-EF446D99C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8E898A1-18C3-4C45-823F-D53E7FF3A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B46B529-D5C8-451B-87A9-5E0743FC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238CAFB-BCDA-49A0-8A64-0E96B217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4BFACE9-7BD0-4C65-A6C6-0714A645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D4A2368-D749-4F16-899F-CBF6C210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C73B3C6-38EE-4998-A34B-25857C89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F638924-DFBA-49B7-8EBC-D2BFB226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A8A7E-E863-4101-9170-A200C310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6DB3368-AD83-479C-8E8A-1200210A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F572649-0F00-4A9B-9B74-3A241291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6072EA9-1EEC-46F0-99DA-D1BD1E9B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F81CB6E-0EE8-4A01-8946-38A85B190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AE942D0-41D4-4E77-817C-4F0B71A7B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ACBFAE3-2635-4269-A74A-56F5F3760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56247D8-3602-4257-BD4A-9DCC1460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800DEEC-EBFB-456D-A70D-7A348F18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985DF71-2E89-43C2-8048-734196D0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EB70289-8171-4AD8-95D2-4EF4E07D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73076-CE6B-4E10-90D1-71A67E5E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ACEA5E2-4104-43EE-A056-3944FA28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1D21F87-377C-4A86-AC43-DB6D18BC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646DD39-F00B-41C4-A795-7EA13369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EFB9D00-118C-4EFB-8CE4-14C88CCE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5715BE7-9B5B-4215-A656-013F73EC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D5258E6-BCFB-4FD0-AAB6-DE1CEA3DD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D7924CA-02FF-4496-97D6-983DBFC6B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27F764C-1DF7-4C8A-9E78-C6F2F086C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A895043-657F-47BF-8B78-8681ABC4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B373D97-713E-4DD5-91A8-F4D971D6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81C8A-4C9E-4414-9B1C-8E466E54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253CC78-A93D-4514-A06A-7C3A853E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2BCA08F-424D-4854-8BDD-2CE4351C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115F061-C788-44C0-B319-6A0EA397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2705D4B-90E6-44A3-B0B1-A23C267A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ABBBB04-0140-4225-A7E6-BED1AD55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69E5E0A-8C2A-42DF-B49A-2095AA58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51925B8-DCA5-47AB-9E77-250AF1AE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1E5EA81-42D3-437F-9D75-8BE17EE0F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A3D759E-0C95-4E5F-8F54-2AAC629C9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3A1EAFC-1730-4064-AC79-780132C29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AC14E-55A1-416F-8A17-EC738A5B2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2370189-032B-4981-AC7E-6D78716D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CA7DE62-159D-4C71-9776-ADA5FA9D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2D735AD-7950-43D0-8659-8D74E8C6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43DADB9-17BA-4585-AC15-FE5C0F7A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A982FF0-5D5F-4878-AC0C-00A16843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9034A96-164C-47F2-A0E4-253790FD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508AAF4-B546-457B-99ED-729B746F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21D6C0C-3459-4EB0-A57A-915BE0BB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5498300-F708-4B8B-8D2B-132EE528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E8E262B-4E8C-49EB-9CED-86B829212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74EDE-A508-4BE6-9160-462F73A40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7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7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7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7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7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BDEE278-F407-486D-A89A-135361F66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6A7A549-3CE1-45A7-8CA1-740E261BE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E2A478D-085B-419D-9E36-0831A239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F855F28-DA60-4527-89DE-A68D1FD6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398567A-0C03-470C-95FC-3F53EB6B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785BFC0-0CBF-4D89-A35D-1526E64C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FFD6E1B-2101-47DD-AEF7-C2C133FB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8C28A7C-63C7-4EFC-999D-030A2C64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83DED06-7D4E-4259-9768-CA886548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D9AAC29-B7FB-47D8-B52D-666B9501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93943-396F-4C9A-9052-BF76748DC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9DB243D-5629-4602-9198-584100B7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04A71F4-26D7-49B3-A8BA-DCDBCEC16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451AFD7-44D3-43D4-924E-D2F45D939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D64C2EC-6C29-467B-9FB9-AA05975B9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04994CB-B9BD-4324-9E6F-1A8EDC55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2972D5D-3CDB-46DF-BF79-14B81257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027692D-8BDA-41A8-813B-C9D55C8F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DAEF672-4D5D-47EF-8934-F327E1EA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D1E995D-91CD-4D46-9EF1-E3C33AAB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FD7160A-CC95-4F3B-8123-68294A8F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D4997-3A2B-4581-B11B-9E797C38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0FC724A-F196-4A1F-992D-A6E353AB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DEF7F09-08E3-4892-BCC4-8DFA98EE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25007F1-4A7F-494F-8801-5BB6F438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8876A80-1E1C-41D3-B316-6497E0846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1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1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CE98634-AFF0-4746-9E1B-1A874B5F1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076E0-DA48-4C28-8B6D-54E809B5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2096-96D2-4025-B985-0F741106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67996-4E3D-4D1E-A05E-AF7CA448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963AD-A50B-4B0E-856E-C1E490CED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DF7CD-052B-4EBA-AA33-0C5A2806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30A16-55B5-4CC9-B93B-C9D5C65A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799B9-78DA-412F-9176-312B08F1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7CD65-11EA-4599-A812-F9473137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9FD4E-7E06-4F22-8F25-A22FB15D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34932-809B-4DDC-80F5-0DE9B93CF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FE401-C440-4C46-A464-71609E9D0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56D23-1236-4BD2-9DCB-7A0DE8F57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ACE8-3ED6-4BF1-ADA8-B7C651B6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D7F76-901A-4AFC-BA2B-1678B9AF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33AAB-936D-48A3-A410-ADCA6D3B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1796D-E617-4395-8391-AF74B126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AB894-DEA1-4C05-A463-FC80A9D0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DBAC9-F9C9-429A-BA0A-25AB167C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B95D2-6E53-44C4-A23D-8509A9DA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63DFD-5EB3-47AD-99F5-4C2A845D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3ABDF-147E-4F99-BF11-88A99F77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A5317-0491-4AA6-9A42-7ECE00E6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695FE-F7D0-479F-BD64-DA3A32920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5241-8C18-4D59-83D7-39DAC780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D433C-C380-4301-B323-06D97C213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A5399-E164-417A-94A2-A4C76FE92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4B144-80F7-4D82-AF0B-55B59618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C0D36-0455-40F5-B346-877F21FB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CA40E-A16E-41B2-9B38-798276FC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5D6EE-9ABF-4087-8C9D-61385E44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77500-8CB2-431B-9DCF-A545439C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27AEE-071E-4CDB-BA48-CA3BAFE7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595C0-EA74-48C8-93ED-A088015B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FD207-F64D-4E4D-91A7-542C50B7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A334-5747-4222-BCD1-470AA04A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DDC04-3D98-4FE6-BBA0-9F682009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BF0D4-7117-4FF1-931E-882ED2A9A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4AC82-7C11-4B6A-B8EF-EC93FB7EC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22C68-DD1A-4002-B963-99B04B5D7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ECFB7-54CB-4262-9828-0C17039A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5893E-0896-4DD5-9E1A-8199A815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4D4E0-72E9-423C-92CB-01CC17B5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6C0E9-D477-4CC3-B842-0519D9CE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DEA3E-99C5-4123-803F-EC55E1E3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F4AFF-C386-4BCE-81DE-7B9982A5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CC51-BFF7-4466-A75D-E49C762D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0CE20-39A7-4F02-B209-A9B64F4A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62912-86AE-43D2-ABCF-6CBA1A3E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8043E-BB20-481A-8640-E640A60C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329AB-EA68-46AB-AA49-D873B6F42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9B5A3-9BB3-4F0B-947B-ED25137FA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297AC-40B3-43BF-B9FD-27EE4D8DC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EE674-3E50-40D2-B7F6-BD1A2145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F6832-9A69-4B56-85B9-6F7752AC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672BC-95FD-4367-A9D3-C0B06EDC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9231B-DAC9-4F59-8A78-7F724436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022F-DE4B-4EF8-838C-FCBCDCFE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3EB0F-38A2-44D8-BA67-5893971A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7DD9F-539C-4E19-A356-79E0CA42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BFE24-4C8C-4EE7-BB2D-96793203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DC917-7E99-4EEC-8811-1B6FD2A3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2A114-4B6F-4FD7-AEA1-58344AAD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75C75-866B-405C-B08A-AFE7B52DE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2546D-D91B-4E5B-A89D-51E93914F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37A0B1-5FAA-4C3A-B718-5EC91EA0A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F1ECF2-21CF-4CBC-B11C-96B16689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0F281F-7D33-4A2D-A21B-D4B1D96B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9080" cy="6853320"/>
            <a:chOff x="27000" y="0"/>
            <a:chExt cx="23590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4640" cy="440064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440" y="4316760"/>
              <a:ext cx="423720" cy="158040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920" y="5862960"/>
              <a:ext cx="431280" cy="99036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640" y="4364640"/>
              <a:ext cx="552240" cy="223560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800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240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560" y="410796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4520" y="3146400"/>
              <a:ext cx="1411560" cy="2716560"/>
            </a:xfrm>
            <a:custGeom>
              <a:avLst/>
              <a:gdLst>
                <a:gd name="textAreaLeft" fmla="*/ 0 w 1411560"/>
                <a:gd name="textAreaRight" fmla="*/ 1411920 w 14115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424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452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452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920" y="6322680"/>
              <a:ext cx="210960" cy="5306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720" y="787320"/>
            <a:ext cx="78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AED7-1819-457E-B317-152A7B4AD88B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Group 9"/>
          <p:cNvGrpSpPr/>
          <p:nvPr/>
        </p:nvGrpSpPr>
        <p:grpSpPr>
          <a:xfrm>
            <a:off x="27000" y="0"/>
            <a:ext cx="2359080" cy="6853320"/>
            <a:chOff x="27000" y="0"/>
            <a:chExt cx="2359080" cy="6853320"/>
          </a:xfrm>
        </p:grpSpPr>
        <p:sp>
          <p:nvSpPr>
            <p:cNvPr id="633" name="Freeform 27"/>
            <p:cNvSpPr/>
            <p:nvPr/>
          </p:nvSpPr>
          <p:spPr>
            <a:xfrm>
              <a:off x="27000" y="0"/>
              <a:ext cx="494640" cy="440064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28"/>
            <p:cNvSpPr/>
            <p:nvPr/>
          </p:nvSpPr>
          <p:spPr>
            <a:xfrm>
              <a:off x="550440" y="4316760"/>
              <a:ext cx="423720" cy="158040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9"/>
            <p:cNvSpPr/>
            <p:nvPr/>
          </p:nvSpPr>
          <p:spPr>
            <a:xfrm>
              <a:off x="1006920" y="5862960"/>
              <a:ext cx="431280" cy="99036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30"/>
            <p:cNvSpPr/>
            <p:nvPr/>
          </p:nvSpPr>
          <p:spPr>
            <a:xfrm>
              <a:off x="521640" y="4364640"/>
              <a:ext cx="552240" cy="223560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1"/>
            <p:cNvSpPr/>
            <p:nvPr/>
          </p:nvSpPr>
          <p:spPr>
            <a:xfrm>
              <a:off x="46800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2"/>
            <p:cNvSpPr/>
            <p:nvPr/>
          </p:nvSpPr>
          <p:spPr>
            <a:xfrm>
              <a:off x="111240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3"/>
            <p:cNvSpPr/>
            <p:nvPr/>
          </p:nvSpPr>
          <p:spPr>
            <a:xfrm>
              <a:off x="502560" y="410796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4"/>
            <p:cNvSpPr/>
            <p:nvPr/>
          </p:nvSpPr>
          <p:spPr>
            <a:xfrm>
              <a:off x="974520" y="3146400"/>
              <a:ext cx="1411560" cy="2716560"/>
            </a:xfrm>
            <a:custGeom>
              <a:avLst/>
              <a:gdLst>
                <a:gd name="textAreaLeft" fmla="*/ 0 w 1411560"/>
                <a:gd name="textAreaRight" fmla="*/ 1411920 w 14115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5"/>
            <p:cNvSpPr/>
            <p:nvPr/>
          </p:nvSpPr>
          <p:spPr>
            <a:xfrm>
              <a:off x="107424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6"/>
            <p:cNvSpPr/>
            <p:nvPr/>
          </p:nvSpPr>
          <p:spPr>
            <a:xfrm>
              <a:off x="97452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7"/>
            <p:cNvSpPr/>
            <p:nvPr/>
          </p:nvSpPr>
          <p:spPr>
            <a:xfrm>
              <a:off x="97452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8"/>
            <p:cNvSpPr/>
            <p:nvPr/>
          </p:nvSpPr>
          <p:spPr>
            <a:xfrm>
              <a:off x="1006920" y="6322680"/>
              <a:ext cx="210960" cy="5306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11"/>
          <p:cNvSpPr/>
          <p:nvPr/>
        </p:nvSpPr>
        <p:spPr>
          <a:xfrm flipV="1">
            <a:off x="-4320" y="3177360"/>
            <a:ext cx="159048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sldNum" idx="30"/>
          </p:nvPr>
        </p:nvSpPr>
        <p:spPr>
          <a:xfrm>
            <a:off x="531720" y="3244320"/>
            <a:ext cx="78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38BF-D26F-4283-AEB3-10C25956540A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8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Group 9"/>
          <p:cNvGrpSpPr/>
          <p:nvPr/>
        </p:nvGrpSpPr>
        <p:grpSpPr>
          <a:xfrm>
            <a:off x="27000" y="0"/>
            <a:ext cx="2359080" cy="6853320"/>
            <a:chOff x="27000" y="0"/>
            <a:chExt cx="2359080" cy="6853320"/>
          </a:xfrm>
        </p:grpSpPr>
        <p:sp>
          <p:nvSpPr>
            <p:cNvPr id="702" name="Freeform 27"/>
            <p:cNvSpPr/>
            <p:nvPr/>
          </p:nvSpPr>
          <p:spPr>
            <a:xfrm>
              <a:off x="27000" y="0"/>
              <a:ext cx="494640" cy="440064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28"/>
            <p:cNvSpPr/>
            <p:nvPr/>
          </p:nvSpPr>
          <p:spPr>
            <a:xfrm>
              <a:off x="550440" y="4316760"/>
              <a:ext cx="423720" cy="158040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9"/>
            <p:cNvSpPr/>
            <p:nvPr/>
          </p:nvSpPr>
          <p:spPr>
            <a:xfrm>
              <a:off x="1006920" y="5862960"/>
              <a:ext cx="431280" cy="99036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30"/>
            <p:cNvSpPr/>
            <p:nvPr/>
          </p:nvSpPr>
          <p:spPr>
            <a:xfrm>
              <a:off x="521640" y="4364640"/>
              <a:ext cx="552240" cy="223560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1"/>
            <p:cNvSpPr/>
            <p:nvPr/>
          </p:nvSpPr>
          <p:spPr>
            <a:xfrm>
              <a:off x="46800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2"/>
            <p:cNvSpPr/>
            <p:nvPr/>
          </p:nvSpPr>
          <p:spPr>
            <a:xfrm>
              <a:off x="111240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3"/>
            <p:cNvSpPr/>
            <p:nvPr/>
          </p:nvSpPr>
          <p:spPr>
            <a:xfrm>
              <a:off x="502560" y="410796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4"/>
            <p:cNvSpPr/>
            <p:nvPr/>
          </p:nvSpPr>
          <p:spPr>
            <a:xfrm>
              <a:off x="974520" y="3146400"/>
              <a:ext cx="1411560" cy="2716560"/>
            </a:xfrm>
            <a:custGeom>
              <a:avLst/>
              <a:gdLst>
                <a:gd name="textAreaLeft" fmla="*/ 0 w 1411560"/>
                <a:gd name="textAreaRight" fmla="*/ 1411920 w 14115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5"/>
            <p:cNvSpPr/>
            <p:nvPr/>
          </p:nvSpPr>
          <p:spPr>
            <a:xfrm>
              <a:off x="107424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6"/>
            <p:cNvSpPr/>
            <p:nvPr/>
          </p:nvSpPr>
          <p:spPr>
            <a:xfrm>
              <a:off x="97452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7"/>
            <p:cNvSpPr/>
            <p:nvPr/>
          </p:nvSpPr>
          <p:spPr>
            <a:xfrm>
              <a:off x="97452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8"/>
            <p:cNvSpPr/>
            <p:nvPr/>
          </p:nvSpPr>
          <p:spPr>
            <a:xfrm>
              <a:off x="1006920" y="6322680"/>
              <a:ext cx="210960" cy="5306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Freeform 11"/>
          <p:cNvSpPr/>
          <p:nvPr/>
        </p:nvSpPr>
        <p:spPr>
          <a:xfrm flipV="1">
            <a:off x="-4320" y="3177360"/>
            <a:ext cx="159048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Box 34"/>
          <p:cNvSpPr/>
          <p:nvPr/>
        </p:nvSpPr>
        <p:spPr>
          <a:xfrm>
            <a:off x="246852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Box 35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 type="sldNum" idx="33"/>
          </p:nvPr>
        </p:nvSpPr>
        <p:spPr>
          <a:xfrm>
            <a:off x="531720" y="3244320"/>
            <a:ext cx="78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A977-6CB7-4B89-8229-0F1F36DF8C8D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6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Group 9"/>
          <p:cNvGrpSpPr/>
          <p:nvPr/>
        </p:nvGrpSpPr>
        <p:grpSpPr>
          <a:xfrm>
            <a:off x="27000" y="0"/>
            <a:ext cx="2359080" cy="6853320"/>
            <a:chOff x="27000" y="0"/>
            <a:chExt cx="2359080" cy="6853320"/>
          </a:xfrm>
        </p:grpSpPr>
        <p:sp>
          <p:nvSpPr>
            <p:cNvPr id="773" name="Freeform 27"/>
            <p:cNvSpPr/>
            <p:nvPr/>
          </p:nvSpPr>
          <p:spPr>
            <a:xfrm>
              <a:off x="27000" y="0"/>
              <a:ext cx="494640" cy="440064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8"/>
            <p:cNvSpPr/>
            <p:nvPr/>
          </p:nvSpPr>
          <p:spPr>
            <a:xfrm>
              <a:off x="550440" y="4316760"/>
              <a:ext cx="423720" cy="158040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29"/>
            <p:cNvSpPr/>
            <p:nvPr/>
          </p:nvSpPr>
          <p:spPr>
            <a:xfrm>
              <a:off x="1006920" y="5862960"/>
              <a:ext cx="431280" cy="99036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0"/>
            <p:cNvSpPr/>
            <p:nvPr/>
          </p:nvSpPr>
          <p:spPr>
            <a:xfrm>
              <a:off x="521640" y="4364640"/>
              <a:ext cx="552240" cy="223560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1"/>
            <p:cNvSpPr/>
            <p:nvPr/>
          </p:nvSpPr>
          <p:spPr>
            <a:xfrm>
              <a:off x="46800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2"/>
            <p:cNvSpPr/>
            <p:nvPr/>
          </p:nvSpPr>
          <p:spPr>
            <a:xfrm>
              <a:off x="111240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3"/>
            <p:cNvSpPr/>
            <p:nvPr/>
          </p:nvSpPr>
          <p:spPr>
            <a:xfrm>
              <a:off x="502560" y="410796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4"/>
            <p:cNvSpPr/>
            <p:nvPr/>
          </p:nvSpPr>
          <p:spPr>
            <a:xfrm>
              <a:off x="974520" y="3146400"/>
              <a:ext cx="1411560" cy="2716560"/>
            </a:xfrm>
            <a:custGeom>
              <a:avLst/>
              <a:gdLst>
                <a:gd name="textAreaLeft" fmla="*/ 0 w 1411560"/>
                <a:gd name="textAreaRight" fmla="*/ 1411920 w 14115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5"/>
            <p:cNvSpPr/>
            <p:nvPr/>
          </p:nvSpPr>
          <p:spPr>
            <a:xfrm>
              <a:off x="107424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6"/>
            <p:cNvSpPr/>
            <p:nvPr/>
          </p:nvSpPr>
          <p:spPr>
            <a:xfrm>
              <a:off x="97452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7"/>
            <p:cNvSpPr/>
            <p:nvPr/>
          </p:nvSpPr>
          <p:spPr>
            <a:xfrm>
              <a:off x="97452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38"/>
            <p:cNvSpPr/>
            <p:nvPr/>
          </p:nvSpPr>
          <p:spPr>
            <a:xfrm>
              <a:off x="1006920" y="6322680"/>
              <a:ext cx="210960" cy="5306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Freeform 11"/>
          <p:cNvSpPr/>
          <p:nvPr/>
        </p:nvSpPr>
        <p:spPr>
          <a:xfrm flipV="1">
            <a:off x="-4320" y="4911120"/>
            <a:ext cx="159048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 type="sldNum" idx="36"/>
          </p:nvPr>
        </p:nvSpPr>
        <p:spPr>
          <a:xfrm>
            <a:off x="531720" y="4983120"/>
            <a:ext cx="78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06D6-054B-45DF-8211-A6C4B64C3BD0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2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Group 9"/>
          <p:cNvGrpSpPr/>
          <p:nvPr/>
        </p:nvGrpSpPr>
        <p:grpSpPr>
          <a:xfrm>
            <a:off x="27000" y="0"/>
            <a:ext cx="2359080" cy="6853320"/>
            <a:chOff x="27000" y="0"/>
            <a:chExt cx="2359080" cy="6853320"/>
          </a:xfrm>
        </p:grpSpPr>
        <p:sp>
          <p:nvSpPr>
            <p:cNvPr id="842" name="Freeform 27"/>
            <p:cNvSpPr/>
            <p:nvPr/>
          </p:nvSpPr>
          <p:spPr>
            <a:xfrm>
              <a:off x="27000" y="0"/>
              <a:ext cx="494640" cy="440064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28"/>
            <p:cNvSpPr/>
            <p:nvPr/>
          </p:nvSpPr>
          <p:spPr>
            <a:xfrm>
              <a:off x="550440" y="4316760"/>
              <a:ext cx="423720" cy="158040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9"/>
            <p:cNvSpPr/>
            <p:nvPr/>
          </p:nvSpPr>
          <p:spPr>
            <a:xfrm>
              <a:off x="1006920" y="5862960"/>
              <a:ext cx="431280" cy="99036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30"/>
            <p:cNvSpPr/>
            <p:nvPr/>
          </p:nvSpPr>
          <p:spPr>
            <a:xfrm>
              <a:off x="521640" y="4364640"/>
              <a:ext cx="552240" cy="223560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1"/>
            <p:cNvSpPr/>
            <p:nvPr/>
          </p:nvSpPr>
          <p:spPr>
            <a:xfrm>
              <a:off x="46800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2"/>
            <p:cNvSpPr/>
            <p:nvPr/>
          </p:nvSpPr>
          <p:spPr>
            <a:xfrm>
              <a:off x="111240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3"/>
            <p:cNvSpPr/>
            <p:nvPr/>
          </p:nvSpPr>
          <p:spPr>
            <a:xfrm>
              <a:off x="502560" y="410796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4"/>
            <p:cNvSpPr/>
            <p:nvPr/>
          </p:nvSpPr>
          <p:spPr>
            <a:xfrm>
              <a:off x="974520" y="3146400"/>
              <a:ext cx="1411560" cy="2716560"/>
            </a:xfrm>
            <a:custGeom>
              <a:avLst/>
              <a:gdLst>
                <a:gd name="textAreaLeft" fmla="*/ 0 w 1411560"/>
                <a:gd name="textAreaRight" fmla="*/ 1411920 w 14115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5"/>
            <p:cNvSpPr/>
            <p:nvPr/>
          </p:nvSpPr>
          <p:spPr>
            <a:xfrm>
              <a:off x="107424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6"/>
            <p:cNvSpPr/>
            <p:nvPr/>
          </p:nvSpPr>
          <p:spPr>
            <a:xfrm>
              <a:off x="97452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7"/>
            <p:cNvSpPr/>
            <p:nvPr/>
          </p:nvSpPr>
          <p:spPr>
            <a:xfrm>
              <a:off x="97452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8"/>
            <p:cNvSpPr/>
            <p:nvPr/>
          </p:nvSpPr>
          <p:spPr>
            <a:xfrm>
              <a:off x="1006920" y="6322680"/>
              <a:ext cx="210960" cy="5306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Freeform 11"/>
          <p:cNvSpPr/>
          <p:nvPr/>
        </p:nvSpPr>
        <p:spPr>
          <a:xfrm flipV="1">
            <a:off x="-4320" y="4911120"/>
            <a:ext cx="159048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34"/>
          <p:cNvSpPr/>
          <p:nvPr/>
        </p:nvSpPr>
        <p:spPr>
          <a:xfrm>
            <a:off x="246852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Box 35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 type="sldNum" idx="39"/>
          </p:nvPr>
        </p:nvSpPr>
        <p:spPr>
          <a:xfrm>
            <a:off x="531720" y="4983120"/>
            <a:ext cx="78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48E6-86DE-4F66-AF96-2AB62ACD82C2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0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2" name="Group 9"/>
          <p:cNvGrpSpPr/>
          <p:nvPr/>
        </p:nvGrpSpPr>
        <p:grpSpPr>
          <a:xfrm>
            <a:off x="27000" y="0"/>
            <a:ext cx="2359080" cy="6853320"/>
            <a:chOff x="27000" y="0"/>
            <a:chExt cx="2359080" cy="6853320"/>
          </a:xfrm>
        </p:grpSpPr>
        <p:sp>
          <p:nvSpPr>
            <p:cNvPr id="913" name="Freeform 27"/>
            <p:cNvSpPr/>
            <p:nvPr/>
          </p:nvSpPr>
          <p:spPr>
            <a:xfrm>
              <a:off x="27000" y="0"/>
              <a:ext cx="494640" cy="440064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8"/>
            <p:cNvSpPr/>
            <p:nvPr/>
          </p:nvSpPr>
          <p:spPr>
            <a:xfrm>
              <a:off x="550440" y="4316760"/>
              <a:ext cx="423720" cy="158040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29"/>
            <p:cNvSpPr/>
            <p:nvPr/>
          </p:nvSpPr>
          <p:spPr>
            <a:xfrm>
              <a:off x="1006920" y="5862960"/>
              <a:ext cx="431280" cy="99036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0"/>
            <p:cNvSpPr/>
            <p:nvPr/>
          </p:nvSpPr>
          <p:spPr>
            <a:xfrm>
              <a:off x="521640" y="4364640"/>
              <a:ext cx="552240" cy="223560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1"/>
            <p:cNvSpPr/>
            <p:nvPr/>
          </p:nvSpPr>
          <p:spPr>
            <a:xfrm>
              <a:off x="46800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2"/>
            <p:cNvSpPr/>
            <p:nvPr/>
          </p:nvSpPr>
          <p:spPr>
            <a:xfrm>
              <a:off x="111240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3"/>
            <p:cNvSpPr/>
            <p:nvPr/>
          </p:nvSpPr>
          <p:spPr>
            <a:xfrm>
              <a:off x="502560" y="410796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4"/>
            <p:cNvSpPr/>
            <p:nvPr/>
          </p:nvSpPr>
          <p:spPr>
            <a:xfrm>
              <a:off x="974520" y="3146400"/>
              <a:ext cx="1411560" cy="2716560"/>
            </a:xfrm>
            <a:custGeom>
              <a:avLst/>
              <a:gdLst>
                <a:gd name="textAreaLeft" fmla="*/ 0 w 1411560"/>
                <a:gd name="textAreaRight" fmla="*/ 1411920 w 14115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5"/>
            <p:cNvSpPr/>
            <p:nvPr/>
          </p:nvSpPr>
          <p:spPr>
            <a:xfrm>
              <a:off x="107424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6"/>
            <p:cNvSpPr/>
            <p:nvPr/>
          </p:nvSpPr>
          <p:spPr>
            <a:xfrm>
              <a:off x="97452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7"/>
            <p:cNvSpPr/>
            <p:nvPr/>
          </p:nvSpPr>
          <p:spPr>
            <a:xfrm>
              <a:off x="97452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38"/>
            <p:cNvSpPr/>
            <p:nvPr/>
          </p:nvSpPr>
          <p:spPr>
            <a:xfrm>
              <a:off x="1006920" y="6322680"/>
              <a:ext cx="210960" cy="5306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reeform 11"/>
          <p:cNvSpPr/>
          <p:nvPr/>
        </p:nvSpPr>
        <p:spPr>
          <a:xfrm flipV="1">
            <a:off x="-4320" y="4911120"/>
            <a:ext cx="159048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sldNum" idx="42"/>
          </p:nvPr>
        </p:nvSpPr>
        <p:spPr>
          <a:xfrm>
            <a:off x="531720" y="4983120"/>
            <a:ext cx="78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86CD-0F4B-443B-ADC9-FAB9851CB451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6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1" name="Group 9"/>
          <p:cNvGrpSpPr/>
          <p:nvPr/>
        </p:nvGrpSpPr>
        <p:grpSpPr>
          <a:xfrm>
            <a:off x="27000" y="0"/>
            <a:ext cx="2359080" cy="6853320"/>
            <a:chOff x="27000" y="0"/>
            <a:chExt cx="2359080" cy="6853320"/>
          </a:xfrm>
        </p:grpSpPr>
        <p:sp>
          <p:nvSpPr>
            <p:cNvPr id="982" name="Freeform 27"/>
            <p:cNvSpPr/>
            <p:nvPr/>
          </p:nvSpPr>
          <p:spPr>
            <a:xfrm>
              <a:off x="27000" y="0"/>
              <a:ext cx="494640" cy="440064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28"/>
            <p:cNvSpPr/>
            <p:nvPr/>
          </p:nvSpPr>
          <p:spPr>
            <a:xfrm>
              <a:off x="550440" y="4316760"/>
              <a:ext cx="423720" cy="158040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9"/>
            <p:cNvSpPr/>
            <p:nvPr/>
          </p:nvSpPr>
          <p:spPr>
            <a:xfrm>
              <a:off x="1006920" y="5862960"/>
              <a:ext cx="431280" cy="99036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30"/>
            <p:cNvSpPr/>
            <p:nvPr/>
          </p:nvSpPr>
          <p:spPr>
            <a:xfrm>
              <a:off x="521640" y="4364640"/>
              <a:ext cx="552240" cy="223560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1"/>
            <p:cNvSpPr/>
            <p:nvPr/>
          </p:nvSpPr>
          <p:spPr>
            <a:xfrm>
              <a:off x="46800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2"/>
            <p:cNvSpPr/>
            <p:nvPr/>
          </p:nvSpPr>
          <p:spPr>
            <a:xfrm>
              <a:off x="111240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3"/>
            <p:cNvSpPr/>
            <p:nvPr/>
          </p:nvSpPr>
          <p:spPr>
            <a:xfrm>
              <a:off x="502560" y="410796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4"/>
            <p:cNvSpPr/>
            <p:nvPr/>
          </p:nvSpPr>
          <p:spPr>
            <a:xfrm>
              <a:off x="974520" y="3146400"/>
              <a:ext cx="1411560" cy="2716560"/>
            </a:xfrm>
            <a:custGeom>
              <a:avLst/>
              <a:gdLst>
                <a:gd name="textAreaLeft" fmla="*/ 0 w 1411560"/>
                <a:gd name="textAreaRight" fmla="*/ 1411920 w 14115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5"/>
            <p:cNvSpPr/>
            <p:nvPr/>
          </p:nvSpPr>
          <p:spPr>
            <a:xfrm>
              <a:off x="107424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6"/>
            <p:cNvSpPr/>
            <p:nvPr/>
          </p:nvSpPr>
          <p:spPr>
            <a:xfrm>
              <a:off x="97452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7"/>
            <p:cNvSpPr/>
            <p:nvPr/>
          </p:nvSpPr>
          <p:spPr>
            <a:xfrm>
              <a:off x="97452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8"/>
            <p:cNvSpPr/>
            <p:nvPr/>
          </p:nvSpPr>
          <p:spPr>
            <a:xfrm>
              <a:off x="1006920" y="6322680"/>
              <a:ext cx="210960" cy="5306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Freeform 11"/>
          <p:cNvSpPr/>
          <p:nvPr/>
        </p:nvSpPr>
        <p:spPr>
          <a:xfrm flipV="1">
            <a:off x="-4320" y="713160"/>
            <a:ext cx="159048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45"/>
          </p:nvPr>
        </p:nvSpPr>
        <p:spPr>
          <a:xfrm>
            <a:off x="531720" y="787320"/>
            <a:ext cx="78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8988-4605-4A6E-9781-35E4A0CCE7B2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Group 9"/>
          <p:cNvGrpSpPr/>
          <p:nvPr/>
        </p:nvGrpSpPr>
        <p:grpSpPr>
          <a:xfrm>
            <a:off x="27000" y="0"/>
            <a:ext cx="2359080" cy="6853320"/>
            <a:chOff x="27000" y="0"/>
            <a:chExt cx="2359080" cy="6853320"/>
          </a:xfrm>
        </p:grpSpPr>
        <p:sp>
          <p:nvSpPr>
            <p:cNvPr id="1051" name="Freeform 27"/>
            <p:cNvSpPr/>
            <p:nvPr/>
          </p:nvSpPr>
          <p:spPr>
            <a:xfrm>
              <a:off x="27000" y="0"/>
              <a:ext cx="494640" cy="440064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28"/>
            <p:cNvSpPr/>
            <p:nvPr/>
          </p:nvSpPr>
          <p:spPr>
            <a:xfrm>
              <a:off x="550440" y="4316760"/>
              <a:ext cx="423720" cy="158040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9"/>
            <p:cNvSpPr/>
            <p:nvPr/>
          </p:nvSpPr>
          <p:spPr>
            <a:xfrm>
              <a:off x="1006920" y="5862960"/>
              <a:ext cx="431280" cy="99036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30"/>
            <p:cNvSpPr/>
            <p:nvPr/>
          </p:nvSpPr>
          <p:spPr>
            <a:xfrm>
              <a:off x="521640" y="4364640"/>
              <a:ext cx="552240" cy="223560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1"/>
            <p:cNvSpPr/>
            <p:nvPr/>
          </p:nvSpPr>
          <p:spPr>
            <a:xfrm>
              <a:off x="46800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2"/>
            <p:cNvSpPr/>
            <p:nvPr/>
          </p:nvSpPr>
          <p:spPr>
            <a:xfrm>
              <a:off x="111240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3"/>
            <p:cNvSpPr/>
            <p:nvPr/>
          </p:nvSpPr>
          <p:spPr>
            <a:xfrm>
              <a:off x="502560" y="410796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4"/>
            <p:cNvSpPr/>
            <p:nvPr/>
          </p:nvSpPr>
          <p:spPr>
            <a:xfrm>
              <a:off x="974520" y="3146400"/>
              <a:ext cx="1411560" cy="2716560"/>
            </a:xfrm>
            <a:custGeom>
              <a:avLst/>
              <a:gdLst>
                <a:gd name="textAreaLeft" fmla="*/ 0 w 1411560"/>
                <a:gd name="textAreaRight" fmla="*/ 1411920 w 14115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5"/>
            <p:cNvSpPr/>
            <p:nvPr/>
          </p:nvSpPr>
          <p:spPr>
            <a:xfrm>
              <a:off x="107424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6"/>
            <p:cNvSpPr/>
            <p:nvPr/>
          </p:nvSpPr>
          <p:spPr>
            <a:xfrm>
              <a:off x="97452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7"/>
            <p:cNvSpPr/>
            <p:nvPr/>
          </p:nvSpPr>
          <p:spPr>
            <a:xfrm>
              <a:off x="97452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8"/>
            <p:cNvSpPr/>
            <p:nvPr/>
          </p:nvSpPr>
          <p:spPr>
            <a:xfrm>
              <a:off x="1006920" y="6322680"/>
              <a:ext cx="210960" cy="5306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Freeform 11"/>
          <p:cNvSpPr/>
          <p:nvPr/>
        </p:nvSpPr>
        <p:spPr>
          <a:xfrm flipV="1">
            <a:off x="-4320" y="713160"/>
            <a:ext cx="159048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48"/>
          </p:nvPr>
        </p:nvSpPr>
        <p:spPr>
          <a:xfrm>
            <a:off x="531720" y="787320"/>
            <a:ext cx="78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B31D-E1A7-4C44-A669-9D75FF956A89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0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/>
            <a:ahLst/>
            <a:rect l="l" t="t" r="r" b="b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51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E818-BD2E-4B22-AC5C-84899C08CE8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7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89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dt" idx="5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ftr" idx="5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sldNum" idx="5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4389-2D9F-4FD0-8DF3-EE6571E5CC9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24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258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 type="dt" idx="5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 type="ftr" idx="5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 type="sldNum" idx="57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D494-63CD-405E-B198-F397D7AFBFB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9BA5-72D5-4DB8-8D5E-5C9F1D00EC1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14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327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 type="dt" idx="5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 type="ftr" idx="5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 type="sldNum" idx="60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6424-6CAF-4B42-BA04-81AC818F089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3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396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 type="dt" idx="6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 type="ftr" idx="6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5"/>
          <p:cNvSpPr>
            <a:spLocks noGrp="1"/>
          </p:cNvSpPr>
          <p:nvPr>
            <p:ph type="sldNum" idx="6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B913-FF3B-47B6-B86A-10C03E54670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452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65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 type="dt" idx="6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 type="ftr" idx="6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 type="sldNum" idx="66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0B71-B0C8-463A-A154-E9DB3EC767A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52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34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 type="dt" idx="6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 type="ftr" idx="6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5"/>
          <p:cNvSpPr>
            <a:spLocks noGrp="1"/>
          </p:cNvSpPr>
          <p:nvPr>
            <p:ph type="sldNum" idx="6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9C3D-8709-4609-A4CE-6C2099A15B6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59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60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 type="dt" idx="7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 type="ftr" idx="7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5"/>
          <p:cNvSpPr>
            <a:spLocks noGrp="1"/>
          </p:cNvSpPr>
          <p:nvPr>
            <p:ph type="sldNum" idx="72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1FFE-F5F5-45FF-AF1B-56BBD3CBBCA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65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67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 type="dt" idx="7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 type="ftr" idx="7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5"/>
          <p:cNvSpPr>
            <a:spLocks noGrp="1"/>
          </p:cNvSpPr>
          <p:nvPr>
            <p:ph type="sldNum" idx="7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E24E-34DE-428A-BD4B-50D6D972013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72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741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 type="dt" idx="7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 type="ftr" idx="7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5"/>
          <p:cNvSpPr>
            <a:spLocks noGrp="1"/>
          </p:cNvSpPr>
          <p:nvPr>
            <p:ph type="sldNum" idx="78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F76D-AA83-47EB-B8B2-26FE7DADF38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79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810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 type="dt" idx="7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 type="ftr" idx="8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PlaceHolder 5"/>
          <p:cNvSpPr>
            <a:spLocks noGrp="1"/>
          </p:cNvSpPr>
          <p:nvPr>
            <p:ph type="sldNum" idx="81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26AE-C23B-42EA-A78B-96A9F9C9AB5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86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881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 type="dt" idx="8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PlaceHolder 4"/>
          <p:cNvSpPr>
            <a:spLocks noGrp="1"/>
          </p:cNvSpPr>
          <p:nvPr>
            <p:ph type="ftr" idx="8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PlaceHolder 5"/>
          <p:cNvSpPr>
            <a:spLocks noGrp="1"/>
          </p:cNvSpPr>
          <p:nvPr>
            <p:ph type="sldNum" idx="84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5361-5A3F-4BED-A10E-38C877184A2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93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950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 type="dt" idx="8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PlaceHolder 4"/>
          <p:cNvSpPr>
            <a:spLocks noGrp="1"/>
          </p:cNvSpPr>
          <p:nvPr>
            <p:ph type="ftr" idx="8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5"/>
          <p:cNvSpPr>
            <a:spLocks noGrp="1"/>
          </p:cNvSpPr>
          <p:nvPr>
            <p:ph type="sldNum" idx="87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826A-E0B8-464C-B72A-CA40154AF89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9"/>
          <p:cNvGrpSpPr/>
          <p:nvPr/>
        </p:nvGrpSpPr>
        <p:grpSpPr>
          <a:xfrm>
            <a:off x="27000" y="0"/>
            <a:ext cx="2359080" cy="6853320"/>
            <a:chOff x="27000" y="0"/>
            <a:chExt cx="2359080" cy="6853320"/>
          </a:xfrm>
        </p:grpSpPr>
        <p:sp>
          <p:nvSpPr>
            <p:cNvPr id="150" name="Freeform 27"/>
            <p:cNvSpPr/>
            <p:nvPr/>
          </p:nvSpPr>
          <p:spPr>
            <a:xfrm>
              <a:off x="27000" y="0"/>
              <a:ext cx="494640" cy="440064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8"/>
            <p:cNvSpPr/>
            <p:nvPr/>
          </p:nvSpPr>
          <p:spPr>
            <a:xfrm>
              <a:off x="550440" y="4316760"/>
              <a:ext cx="423720" cy="158040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9"/>
            <p:cNvSpPr/>
            <p:nvPr/>
          </p:nvSpPr>
          <p:spPr>
            <a:xfrm>
              <a:off x="1006920" y="5862960"/>
              <a:ext cx="431280" cy="99036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0"/>
            <p:cNvSpPr/>
            <p:nvPr/>
          </p:nvSpPr>
          <p:spPr>
            <a:xfrm>
              <a:off x="521640" y="4364640"/>
              <a:ext cx="552240" cy="223560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1"/>
            <p:cNvSpPr/>
            <p:nvPr/>
          </p:nvSpPr>
          <p:spPr>
            <a:xfrm>
              <a:off x="46800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111240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3"/>
            <p:cNvSpPr/>
            <p:nvPr/>
          </p:nvSpPr>
          <p:spPr>
            <a:xfrm>
              <a:off x="502560" y="410796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4"/>
            <p:cNvSpPr/>
            <p:nvPr/>
          </p:nvSpPr>
          <p:spPr>
            <a:xfrm>
              <a:off x="974520" y="3146400"/>
              <a:ext cx="1411560" cy="2716560"/>
            </a:xfrm>
            <a:custGeom>
              <a:avLst/>
              <a:gdLst>
                <a:gd name="textAreaLeft" fmla="*/ 0 w 1411560"/>
                <a:gd name="textAreaRight" fmla="*/ 1411920 w 14115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5"/>
            <p:cNvSpPr/>
            <p:nvPr/>
          </p:nvSpPr>
          <p:spPr>
            <a:xfrm>
              <a:off x="107424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6"/>
            <p:cNvSpPr/>
            <p:nvPr/>
          </p:nvSpPr>
          <p:spPr>
            <a:xfrm>
              <a:off x="97452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7"/>
            <p:cNvSpPr/>
            <p:nvPr/>
          </p:nvSpPr>
          <p:spPr>
            <a:xfrm>
              <a:off x="97452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>
              <a:off x="1006920" y="6322680"/>
              <a:ext cx="210960" cy="5306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>
              <a:gd name="textAreaLeft" fmla="*/ 0 w 1744560"/>
              <a:gd name="textAreaRight" fmla="*/ 1744920 w 174456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9"/>
          </p:nvPr>
        </p:nvSpPr>
        <p:spPr>
          <a:xfrm>
            <a:off x="531720" y="4529160"/>
            <a:ext cx="78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9E2A-EC67-43FD-9A14-C8B3F3F38F2F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0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021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 type="dt" idx="8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 type="ftr" idx="8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PlaceHolder 5"/>
          <p:cNvSpPr>
            <a:spLocks noGrp="1"/>
          </p:cNvSpPr>
          <p:nvPr>
            <p:ph type="sldNum" idx="9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4044-4E00-49ED-A5D2-995F52E528D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090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 type="dt" idx="9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PlaceHolder 4"/>
          <p:cNvSpPr>
            <a:spLocks noGrp="1"/>
          </p:cNvSpPr>
          <p:nvPr>
            <p:ph type="ftr" idx="9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PlaceHolder 5"/>
          <p:cNvSpPr>
            <a:spLocks noGrp="1"/>
          </p:cNvSpPr>
          <p:nvPr>
            <p:ph type="sldNum" idx="9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96FD-D3D9-4292-ADF5-9267518DCA3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14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159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 type="dt" idx="9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 type="ftr" idx="9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5"/>
          <p:cNvSpPr>
            <a:spLocks noGrp="1"/>
          </p:cNvSpPr>
          <p:nvPr>
            <p:ph type="sldNum" idx="96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54E0-D677-4218-AD4E-29CF03D863D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9"/>
          <p:cNvGrpSpPr/>
          <p:nvPr/>
        </p:nvGrpSpPr>
        <p:grpSpPr>
          <a:xfrm>
            <a:off x="27000" y="0"/>
            <a:ext cx="2359080" cy="6853320"/>
            <a:chOff x="27000" y="0"/>
            <a:chExt cx="2359080" cy="6853320"/>
          </a:xfrm>
        </p:grpSpPr>
        <p:sp>
          <p:nvSpPr>
            <p:cNvPr id="219" name="Freeform 27"/>
            <p:cNvSpPr/>
            <p:nvPr/>
          </p:nvSpPr>
          <p:spPr>
            <a:xfrm>
              <a:off x="27000" y="0"/>
              <a:ext cx="494640" cy="440064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8"/>
            <p:cNvSpPr/>
            <p:nvPr/>
          </p:nvSpPr>
          <p:spPr>
            <a:xfrm>
              <a:off x="550440" y="4316760"/>
              <a:ext cx="423720" cy="158040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9"/>
            <p:cNvSpPr/>
            <p:nvPr/>
          </p:nvSpPr>
          <p:spPr>
            <a:xfrm>
              <a:off x="1006920" y="5862960"/>
              <a:ext cx="431280" cy="99036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0"/>
            <p:cNvSpPr/>
            <p:nvPr/>
          </p:nvSpPr>
          <p:spPr>
            <a:xfrm>
              <a:off x="521640" y="4364640"/>
              <a:ext cx="552240" cy="223560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1"/>
            <p:cNvSpPr/>
            <p:nvPr/>
          </p:nvSpPr>
          <p:spPr>
            <a:xfrm>
              <a:off x="46800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2"/>
            <p:cNvSpPr/>
            <p:nvPr/>
          </p:nvSpPr>
          <p:spPr>
            <a:xfrm>
              <a:off x="111240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3"/>
            <p:cNvSpPr/>
            <p:nvPr/>
          </p:nvSpPr>
          <p:spPr>
            <a:xfrm>
              <a:off x="502560" y="410796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4"/>
            <p:cNvSpPr/>
            <p:nvPr/>
          </p:nvSpPr>
          <p:spPr>
            <a:xfrm>
              <a:off x="974520" y="3146400"/>
              <a:ext cx="1411560" cy="2716560"/>
            </a:xfrm>
            <a:custGeom>
              <a:avLst/>
              <a:gdLst>
                <a:gd name="textAreaLeft" fmla="*/ 0 w 1411560"/>
                <a:gd name="textAreaRight" fmla="*/ 1411920 w 14115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5"/>
            <p:cNvSpPr/>
            <p:nvPr/>
          </p:nvSpPr>
          <p:spPr>
            <a:xfrm>
              <a:off x="107424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6"/>
            <p:cNvSpPr/>
            <p:nvPr/>
          </p:nvSpPr>
          <p:spPr>
            <a:xfrm>
              <a:off x="97452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7"/>
            <p:cNvSpPr/>
            <p:nvPr/>
          </p:nvSpPr>
          <p:spPr>
            <a:xfrm>
              <a:off x="97452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8"/>
            <p:cNvSpPr/>
            <p:nvPr/>
          </p:nvSpPr>
          <p:spPr>
            <a:xfrm>
              <a:off x="1006920" y="6322680"/>
              <a:ext cx="210960" cy="5306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11"/>
          <p:cNvSpPr/>
          <p:nvPr/>
        </p:nvSpPr>
        <p:spPr>
          <a:xfrm flipV="1">
            <a:off x="-4320" y="713160"/>
            <a:ext cx="159048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2"/>
          </p:nvPr>
        </p:nvSpPr>
        <p:spPr>
          <a:xfrm>
            <a:off x="531720" y="787320"/>
            <a:ext cx="78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529C-4991-41C2-99D1-2FA2D9CDBFCC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9"/>
          <p:cNvGrpSpPr/>
          <p:nvPr/>
        </p:nvGrpSpPr>
        <p:grpSpPr>
          <a:xfrm>
            <a:off x="27000" y="0"/>
            <a:ext cx="2359080" cy="6853320"/>
            <a:chOff x="27000" y="0"/>
            <a:chExt cx="2359080" cy="6853320"/>
          </a:xfrm>
        </p:grpSpPr>
        <p:sp>
          <p:nvSpPr>
            <p:cNvPr id="288" name="Freeform 27"/>
            <p:cNvSpPr/>
            <p:nvPr/>
          </p:nvSpPr>
          <p:spPr>
            <a:xfrm>
              <a:off x="27000" y="0"/>
              <a:ext cx="494640" cy="440064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8"/>
            <p:cNvSpPr/>
            <p:nvPr/>
          </p:nvSpPr>
          <p:spPr>
            <a:xfrm>
              <a:off x="550440" y="4316760"/>
              <a:ext cx="423720" cy="158040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9"/>
            <p:cNvSpPr/>
            <p:nvPr/>
          </p:nvSpPr>
          <p:spPr>
            <a:xfrm>
              <a:off x="1006920" y="5862960"/>
              <a:ext cx="431280" cy="99036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30"/>
            <p:cNvSpPr/>
            <p:nvPr/>
          </p:nvSpPr>
          <p:spPr>
            <a:xfrm>
              <a:off x="521640" y="4364640"/>
              <a:ext cx="552240" cy="223560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1"/>
            <p:cNvSpPr/>
            <p:nvPr/>
          </p:nvSpPr>
          <p:spPr>
            <a:xfrm>
              <a:off x="46800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2"/>
            <p:cNvSpPr/>
            <p:nvPr/>
          </p:nvSpPr>
          <p:spPr>
            <a:xfrm>
              <a:off x="111240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3"/>
            <p:cNvSpPr/>
            <p:nvPr/>
          </p:nvSpPr>
          <p:spPr>
            <a:xfrm>
              <a:off x="502560" y="410796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4"/>
            <p:cNvSpPr/>
            <p:nvPr/>
          </p:nvSpPr>
          <p:spPr>
            <a:xfrm>
              <a:off x="974520" y="3146400"/>
              <a:ext cx="1411560" cy="2716560"/>
            </a:xfrm>
            <a:custGeom>
              <a:avLst/>
              <a:gdLst>
                <a:gd name="textAreaLeft" fmla="*/ 0 w 1411560"/>
                <a:gd name="textAreaRight" fmla="*/ 1411920 w 14115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5"/>
            <p:cNvSpPr/>
            <p:nvPr/>
          </p:nvSpPr>
          <p:spPr>
            <a:xfrm>
              <a:off x="107424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6"/>
            <p:cNvSpPr/>
            <p:nvPr/>
          </p:nvSpPr>
          <p:spPr>
            <a:xfrm>
              <a:off x="97452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7"/>
            <p:cNvSpPr/>
            <p:nvPr/>
          </p:nvSpPr>
          <p:spPr>
            <a:xfrm>
              <a:off x="97452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8"/>
            <p:cNvSpPr/>
            <p:nvPr/>
          </p:nvSpPr>
          <p:spPr>
            <a:xfrm>
              <a:off x="1006920" y="6322680"/>
              <a:ext cx="210960" cy="5306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11"/>
          <p:cNvSpPr/>
          <p:nvPr/>
        </p:nvSpPr>
        <p:spPr>
          <a:xfrm flipV="1">
            <a:off x="-4320" y="3177360"/>
            <a:ext cx="159048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15"/>
          </p:nvPr>
        </p:nvSpPr>
        <p:spPr>
          <a:xfrm>
            <a:off x="531720" y="3244320"/>
            <a:ext cx="78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8CC2-1FA4-4FAE-96E6-9FEAE9E40014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4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9"/>
          <p:cNvGrpSpPr/>
          <p:nvPr/>
        </p:nvGrpSpPr>
        <p:grpSpPr>
          <a:xfrm>
            <a:off x="27000" y="0"/>
            <a:ext cx="2359080" cy="6853320"/>
            <a:chOff x="27000" y="0"/>
            <a:chExt cx="2359080" cy="6853320"/>
          </a:xfrm>
        </p:grpSpPr>
        <p:sp>
          <p:nvSpPr>
            <p:cNvPr id="357" name="Freeform 27"/>
            <p:cNvSpPr/>
            <p:nvPr/>
          </p:nvSpPr>
          <p:spPr>
            <a:xfrm>
              <a:off x="27000" y="0"/>
              <a:ext cx="494640" cy="440064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8"/>
            <p:cNvSpPr/>
            <p:nvPr/>
          </p:nvSpPr>
          <p:spPr>
            <a:xfrm>
              <a:off x="550440" y="4316760"/>
              <a:ext cx="423720" cy="158040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9"/>
            <p:cNvSpPr/>
            <p:nvPr/>
          </p:nvSpPr>
          <p:spPr>
            <a:xfrm>
              <a:off x="1006920" y="5862960"/>
              <a:ext cx="431280" cy="99036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30"/>
            <p:cNvSpPr/>
            <p:nvPr/>
          </p:nvSpPr>
          <p:spPr>
            <a:xfrm>
              <a:off x="521640" y="4364640"/>
              <a:ext cx="552240" cy="223560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1"/>
            <p:cNvSpPr/>
            <p:nvPr/>
          </p:nvSpPr>
          <p:spPr>
            <a:xfrm>
              <a:off x="46800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2"/>
            <p:cNvSpPr/>
            <p:nvPr/>
          </p:nvSpPr>
          <p:spPr>
            <a:xfrm>
              <a:off x="111240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3"/>
            <p:cNvSpPr/>
            <p:nvPr/>
          </p:nvSpPr>
          <p:spPr>
            <a:xfrm>
              <a:off x="502560" y="410796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4"/>
            <p:cNvSpPr/>
            <p:nvPr/>
          </p:nvSpPr>
          <p:spPr>
            <a:xfrm>
              <a:off x="974520" y="3146400"/>
              <a:ext cx="1411560" cy="2716560"/>
            </a:xfrm>
            <a:custGeom>
              <a:avLst/>
              <a:gdLst>
                <a:gd name="textAreaLeft" fmla="*/ 0 w 1411560"/>
                <a:gd name="textAreaRight" fmla="*/ 1411920 w 14115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5"/>
            <p:cNvSpPr/>
            <p:nvPr/>
          </p:nvSpPr>
          <p:spPr>
            <a:xfrm>
              <a:off x="107424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6"/>
            <p:cNvSpPr/>
            <p:nvPr/>
          </p:nvSpPr>
          <p:spPr>
            <a:xfrm>
              <a:off x="97452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7"/>
            <p:cNvSpPr/>
            <p:nvPr/>
          </p:nvSpPr>
          <p:spPr>
            <a:xfrm>
              <a:off x="97452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8"/>
            <p:cNvSpPr/>
            <p:nvPr/>
          </p:nvSpPr>
          <p:spPr>
            <a:xfrm>
              <a:off x="1006920" y="6322680"/>
              <a:ext cx="210960" cy="5306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11"/>
          <p:cNvSpPr/>
          <p:nvPr/>
        </p:nvSpPr>
        <p:spPr>
          <a:xfrm flipV="1">
            <a:off x="-4320" y="713160"/>
            <a:ext cx="159048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8"/>
          </p:nvPr>
        </p:nvSpPr>
        <p:spPr>
          <a:xfrm>
            <a:off x="531720" y="787320"/>
            <a:ext cx="78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5551-11B4-4F22-A13F-D38C14ED0604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3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9"/>
          <p:cNvGrpSpPr/>
          <p:nvPr/>
        </p:nvGrpSpPr>
        <p:grpSpPr>
          <a:xfrm>
            <a:off x="27000" y="0"/>
            <a:ext cx="2359080" cy="6853320"/>
            <a:chOff x="27000" y="0"/>
            <a:chExt cx="2359080" cy="6853320"/>
          </a:xfrm>
        </p:grpSpPr>
        <p:sp>
          <p:nvSpPr>
            <p:cNvPr id="426" name="Freeform 27"/>
            <p:cNvSpPr/>
            <p:nvPr/>
          </p:nvSpPr>
          <p:spPr>
            <a:xfrm>
              <a:off x="27000" y="0"/>
              <a:ext cx="494640" cy="440064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8"/>
            <p:cNvSpPr/>
            <p:nvPr/>
          </p:nvSpPr>
          <p:spPr>
            <a:xfrm>
              <a:off x="550440" y="4316760"/>
              <a:ext cx="423720" cy="158040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9"/>
            <p:cNvSpPr/>
            <p:nvPr/>
          </p:nvSpPr>
          <p:spPr>
            <a:xfrm>
              <a:off x="1006920" y="5862960"/>
              <a:ext cx="431280" cy="99036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30"/>
            <p:cNvSpPr/>
            <p:nvPr/>
          </p:nvSpPr>
          <p:spPr>
            <a:xfrm>
              <a:off x="521640" y="4364640"/>
              <a:ext cx="552240" cy="223560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1"/>
            <p:cNvSpPr/>
            <p:nvPr/>
          </p:nvSpPr>
          <p:spPr>
            <a:xfrm>
              <a:off x="46800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2"/>
            <p:cNvSpPr/>
            <p:nvPr/>
          </p:nvSpPr>
          <p:spPr>
            <a:xfrm>
              <a:off x="111240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3"/>
            <p:cNvSpPr/>
            <p:nvPr/>
          </p:nvSpPr>
          <p:spPr>
            <a:xfrm>
              <a:off x="502560" y="410796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4"/>
            <p:cNvSpPr/>
            <p:nvPr/>
          </p:nvSpPr>
          <p:spPr>
            <a:xfrm>
              <a:off x="974520" y="3146400"/>
              <a:ext cx="1411560" cy="2716560"/>
            </a:xfrm>
            <a:custGeom>
              <a:avLst/>
              <a:gdLst>
                <a:gd name="textAreaLeft" fmla="*/ 0 w 1411560"/>
                <a:gd name="textAreaRight" fmla="*/ 1411920 w 14115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5"/>
            <p:cNvSpPr/>
            <p:nvPr/>
          </p:nvSpPr>
          <p:spPr>
            <a:xfrm>
              <a:off x="107424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6"/>
            <p:cNvSpPr/>
            <p:nvPr/>
          </p:nvSpPr>
          <p:spPr>
            <a:xfrm>
              <a:off x="97452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7"/>
            <p:cNvSpPr/>
            <p:nvPr/>
          </p:nvSpPr>
          <p:spPr>
            <a:xfrm>
              <a:off x="97452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8"/>
            <p:cNvSpPr/>
            <p:nvPr/>
          </p:nvSpPr>
          <p:spPr>
            <a:xfrm>
              <a:off x="1006920" y="6322680"/>
              <a:ext cx="210960" cy="5306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11"/>
          <p:cNvSpPr/>
          <p:nvPr/>
        </p:nvSpPr>
        <p:spPr>
          <a:xfrm flipV="1">
            <a:off x="-4320" y="713160"/>
            <a:ext cx="159048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21"/>
          </p:nvPr>
        </p:nvSpPr>
        <p:spPr>
          <a:xfrm>
            <a:off x="531720" y="787320"/>
            <a:ext cx="78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8ABC-10E9-41C9-917E-5FFB9F60D2EE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2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Group 9"/>
          <p:cNvGrpSpPr/>
          <p:nvPr/>
        </p:nvGrpSpPr>
        <p:grpSpPr>
          <a:xfrm>
            <a:off x="27000" y="0"/>
            <a:ext cx="2359080" cy="6853320"/>
            <a:chOff x="27000" y="0"/>
            <a:chExt cx="2359080" cy="6853320"/>
          </a:xfrm>
        </p:grpSpPr>
        <p:sp>
          <p:nvSpPr>
            <p:cNvPr id="495" name="Freeform 27"/>
            <p:cNvSpPr/>
            <p:nvPr/>
          </p:nvSpPr>
          <p:spPr>
            <a:xfrm>
              <a:off x="27000" y="0"/>
              <a:ext cx="494640" cy="440064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28"/>
            <p:cNvSpPr/>
            <p:nvPr/>
          </p:nvSpPr>
          <p:spPr>
            <a:xfrm>
              <a:off x="550440" y="4316760"/>
              <a:ext cx="423720" cy="158040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9"/>
            <p:cNvSpPr/>
            <p:nvPr/>
          </p:nvSpPr>
          <p:spPr>
            <a:xfrm>
              <a:off x="1006920" y="5862960"/>
              <a:ext cx="431280" cy="99036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30"/>
            <p:cNvSpPr/>
            <p:nvPr/>
          </p:nvSpPr>
          <p:spPr>
            <a:xfrm>
              <a:off x="521640" y="4364640"/>
              <a:ext cx="552240" cy="223560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1"/>
            <p:cNvSpPr/>
            <p:nvPr/>
          </p:nvSpPr>
          <p:spPr>
            <a:xfrm>
              <a:off x="46800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2"/>
            <p:cNvSpPr/>
            <p:nvPr/>
          </p:nvSpPr>
          <p:spPr>
            <a:xfrm>
              <a:off x="111240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3"/>
            <p:cNvSpPr/>
            <p:nvPr/>
          </p:nvSpPr>
          <p:spPr>
            <a:xfrm>
              <a:off x="502560" y="410796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4"/>
            <p:cNvSpPr/>
            <p:nvPr/>
          </p:nvSpPr>
          <p:spPr>
            <a:xfrm>
              <a:off x="974520" y="3146400"/>
              <a:ext cx="1411560" cy="2716560"/>
            </a:xfrm>
            <a:custGeom>
              <a:avLst/>
              <a:gdLst>
                <a:gd name="textAreaLeft" fmla="*/ 0 w 1411560"/>
                <a:gd name="textAreaRight" fmla="*/ 1411920 w 14115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5"/>
            <p:cNvSpPr/>
            <p:nvPr/>
          </p:nvSpPr>
          <p:spPr>
            <a:xfrm>
              <a:off x="107424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6"/>
            <p:cNvSpPr/>
            <p:nvPr/>
          </p:nvSpPr>
          <p:spPr>
            <a:xfrm>
              <a:off x="97452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7"/>
            <p:cNvSpPr/>
            <p:nvPr/>
          </p:nvSpPr>
          <p:spPr>
            <a:xfrm>
              <a:off x="97452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8"/>
            <p:cNvSpPr/>
            <p:nvPr/>
          </p:nvSpPr>
          <p:spPr>
            <a:xfrm>
              <a:off x="1006920" y="6322680"/>
              <a:ext cx="210960" cy="5306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11"/>
          <p:cNvSpPr/>
          <p:nvPr/>
        </p:nvSpPr>
        <p:spPr>
          <a:xfrm flipV="1">
            <a:off x="-4320" y="713160"/>
            <a:ext cx="159048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24"/>
          </p:nvPr>
        </p:nvSpPr>
        <p:spPr>
          <a:xfrm>
            <a:off x="531720" y="787320"/>
            <a:ext cx="78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79F8-2912-475A-906F-F8D1EDB1AC5F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Group 9"/>
          <p:cNvGrpSpPr/>
          <p:nvPr/>
        </p:nvGrpSpPr>
        <p:grpSpPr>
          <a:xfrm>
            <a:off x="27000" y="0"/>
            <a:ext cx="2359080" cy="6853320"/>
            <a:chOff x="27000" y="0"/>
            <a:chExt cx="2359080" cy="6853320"/>
          </a:xfrm>
        </p:grpSpPr>
        <p:sp>
          <p:nvSpPr>
            <p:cNvPr id="564" name="Freeform 27"/>
            <p:cNvSpPr/>
            <p:nvPr/>
          </p:nvSpPr>
          <p:spPr>
            <a:xfrm>
              <a:off x="27000" y="0"/>
              <a:ext cx="494640" cy="440064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28"/>
            <p:cNvSpPr/>
            <p:nvPr/>
          </p:nvSpPr>
          <p:spPr>
            <a:xfrm>
              <a:off x="550440" y="4316760"/>
              <a:ext cx="423720" cy="158040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9"/>
            <p:cNvSpPr/>
            <p:nvPr/>
          </p:nvSpPr>
          <p:spPr>
            <a:xfrm>
              <a:off x="1006920" y="5862960"/>
              <a:ext cx="431280" cy="99036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30"/>
            <p:cNvSpPr/>
            <p:nvPr/>
          </p:nvSpPr>
          <p:spPr>
            <a:xfrm>
              <a:off x="521640" y="4364640"/>
              <a:ext cx="552240" cy="223560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1"/>
            <p:cNvSpPr/>
            <p:nvPr/>
          </p:nvSpPr>
          <p:spPr>
            <a:xfrm>
              <a:off x="46800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2"/>
            <p:cNvSpPr/>
            <p:nvPr/>
          </p:nvSpPr>
          <p:spPr>
            <a:xfrm>
              <a:off x="111240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3"/>
            <p:cNvSpPr/>
            <p:nvPr/>
          </p:nvSpPr>
          <p:spPr>
            <a:xfrm>
              <a:off x="502560" y="410796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4"/>
            <p:cNvSpPr/>
            <p:nvPr/>
          </p:nvSpPr>
          <p:spPr>
            <a:xfrm>
              <a:off x="974520" y="3146400"/>
              <a:ext cx="1411560" cy="2716560"/>
            </a:xfrm>
            <a:custGeom>
              <a:avLst/>
              <a:gdLst>
                <a:gd name="textAreaLeft" fmla="*/ 0 w 1411560"/>
                <a:gd name="textAreaRight" fmla="*/ 1411920 w 14115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5"/>
            <p:cNvSpPr/>
            <p:nvPr/>
          </p:nvSpPr>
          <p:spPr>
            <a:xfrm>
              <a:off x="107424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6"/>
            <p:cNvSpPr/>
            <p:nvPr/>
          </p:nvSpPr>
          <p:spPr>
            <a:xfrm>
              <a:off x="97452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7"/>
            <p:cNvSpPr/>
            <p:nvPr/>
          </p:nvSpPr>
          <p:spPr>
            <a:xfrm>
              <a:off x="97452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8"/>
            <p:cNvSpPr/>
            <p:nvPr/>
          </p:nvSpPr>
          <p:spPr>
            <a:xfrm>
              <a:off x="1006920" y="6322680"/>
              <a:ext cx="210960" cy="5306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11"/>
          <p:cNvSpPr/>
          <p:nvPr/>
        </p:nvSpPr>
        <p:spPr>
          <a:xfrm flipV="1">
            <a:off x="-4320" y="4911120"/>
            <a:ext cx="159048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 type="sldNum" idx="27"/>
          </p:nvPr>
        </p:nvSpPr>
        <p:spPr>
          <a:xfrm>
            <a:off x="531720" y="4983120"/>
            <a:ext cx="78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C23D-BAD1-41CA-A261-0FA84209287C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6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26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6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6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6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6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1501920" y="1284120"/>
            <a:ext cx="10362960" cy="14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6600" spc="-1" strike="noStrike">
                <a:solidFill>
                  <a:srgbClr val="0c0448"/>
                </a:solidFill>
                <a:latin typeface="Century Gothic"/>
              </a:rPr>
              <a:t>Образование числа 7</a:t>
            </a:r>
            <a:endParaRPr b="0" lang="en-US" sz="6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15" name="Text Box 4"/>
          <p:cNvSpPr/>
          <p:nvPr/>
        </p:nvSpPr>
        <p:spPr>
          <a:xfrm>
            <a:off x="7063200" y="4905360"/>
            <a:ext cx="467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Калининград, МАДОУ ЦРР д/с № 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ельцова Е.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Прямоугольник 2"/>
          <p:cNvSpPr/>
          <p:nvPr/>
        </p:nvSpPr>
        <p:spPr>
          <a:xfrm>
            <a:off x="2216160" y="819000"/>
            <a:ext cx="8443800" cy="33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463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  <a:ea typeface="Times New Roman"/>
              </a:rPr>
              <a:t>4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лепест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«Состав числа 7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Числовой дом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Какой номер у этого дома? (7) Ребята, нам нужно заполнить все этажи в домике, возможными вариантами состава числа. Разделим число 7 на 2 меньших чи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Прямоугольник 2"/>
          <p:cNvSpPr/>
          <p:nvPr/>
        </p:nvSpPr>
        <p:spPr>
          <a:xfrm>
            <a:off x="1465200" y="47520"/>
            <a:ext cx="6096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нашел в дупле у бел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 лесных орешков мелк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 ещё 1 леж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хом заботливо укры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 и белка! Вот хозяйк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орешки посчитай-к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Прямая соединительная линия 7"/>
          <p:cNvSpPr/>
          <p:nvPr/>
        </p:nvSpPr>
        <p:spPr>
          <a:xfrm>
            <a:off x="4135320" y="4608360"/>
            <a:ext cx="1214640" cy="0"/>
          </a:xfrm>
          <a:prstGeom prst="line">
            <a:avLst/>
          </a:prstGeom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Прямая соединительная линия 9"/>
          <p:cNvSpPr/>
          <p:nvPr/>
        </p:nvSpPr>
        <p:spPr>
          <a:xfrm>
            <a:off x="4654440" y="3944880"/>
            <a:ext cx="54000" cy="1295280"/>
          </a:xfrm>
          <a:prstGeom prst="line">
            <a:avLst/>
          </a:prstGeom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Прямая соединительная линия 6"/>
          <p:cNvSpPr/>
          <p:nvPr/>
        </p:nvSpPr>
        <p:spPr>
          <a:xfrm>
            <a:off x="7561440" y="4272120"/>
            <a:ext cx="1158840" cy="0"/>
          </a:xfrm>
          <a:prstGeom prst="line">
            <a:avLst/>
          </a:prstGeom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Прямая соединительная линия 11"/>
          <p:cNvSpPr/>
          <p:nvPr/>
        </p:nvSpPr>
        <p:spPr>
          <a:xfrm>
            <a:off x="7588080" y="4608360"/>
            <a:ext cx="1160640" cy="0"/>
          </a:xfrm>
          <a:prstGeom prst="line">
            <a:avLst/>
          </a:prstGeom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Прямоугольник 13"/>
          <p:cNvSpPr/>
          <p:nvPr/>
        </p:nvSpPr>
        <p:spPr>
          <a:xfrm>
            <a:off x="8867520" y="2944800"/>
            <a:ext cx="1389240" cy="27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1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7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1" name="Рисунок 1" descr=""/>
          <p:cNvPicPr/>
          <p:nvPr/>
        </p:nvPicPr>
        <p:blipFill>
          <a:blip r:embed="rId1"/>
          <a:stretch/>
        </p:blipFill>
        <p:spPr>
          <a:xfrm>
            <a:off x="1395360" y="3119400"/>
            <a:ext cx="2241720" cy="1486080"/>
          </a:xfrm>
          <a:prstGeom prst="rect">
            <a:avLst/>
          </a:prstGeom>
          <a:ln w="0">
            <a:noFill/>
          </a:ln>
        </p:spPr>
      </p:pic>
      <p:pic>
        <p:nvPicPr>
          <p:cNvPr id="2252" name="Рисунок 2" descr=""/>
          <p:cNvPicPr/>
          <p:nvPr/>
        </p:nvPicPr>
        <p:blipFill>
          <a:blip r:embed="rId2"/>
          <a:stretch/>
        </p:blipFill>
        <p:spPr>
          <a:xfrm>
            <a:off x="1465200" y="4708440"/>
            <a:ext cx="2376720" cy="1576440"/>
          </a:xfrm>
          <a:prstGeom prst="rect">
            <a:avLst/>
          </a:prstGeom>
          <a:ln w="0">
            <a:noFill/>
          </a:ln>
        </p:spPr>
      </p:pic>
      <p:pic>
        <p:nvPicPr>
          <p:cNvPr id="2253" name="Рисунок 3" descr=""/>
          <p:cNvPicPr/>
          <p:nvPr/>
        </p:nvPicPr>
        <p:blipFill>
          <a:blip r:embed="rId3"/>
          <a:stretch/>
        </p:blipFill>
        <p:spPr>
          <a:xfrm>
            <a:off x="5521320" y="3695760"/>
            <a:ext cx="1747800" cy="1727280"/>
          </a:xfrm>
          <a:prstGeom prst="rect">
            <a:avLst/>
          </a:prstGeom>
          <a:ln w="0">
            <a:noFill/>
          </a:ln>
        </p:spPr>
      </p:pic>
      <p:pic>
        <p:nvPicPr>
          <p:cNvPr id="2254" name="Рисунок 4" descr=""/>
          <p:cNvPicPr/>
          <p:nvPr/>
        </p:nvPicPr>
        <p:blipFill>
          <a:blip r:embed="rId4"/>
          <a:stretch/>
        </p:blipFill>
        <p:spPr>
          <a:xfrm>
            <a:off x="6523200" y="142920"/>
            <a:ext cx="556884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Rectangle 2"/>
          <p:cNvSpPr/>
          <p:nvPr/>
        </p:nvSpPr>
        <p:spPr>
          <a:xfrm>
            <a:off x="2186640" y="351360"/>
            <a:ext cx="5839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ять синиц на ветку сели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ним две галки прилетел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читайте быстро детки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птиц сидит на вет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Text Box 10"/>
          <p:cNvSpPr/>
          <p:nvPr/>
        </p:nvSpPr>
        <p:spPr>
          <a:xfrm>
            <a:off x="4281840" y="4950000"/>
            <a:ext cx="419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5 + 2 = 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7" name="Рисунок 1" descr=""/>
          <p:cNvPicPr/>
          <p:nvPr/>
        </p:nvPicPr>
        <p:blipFill>
          <a:blip r:embed="rId1"/>
          <a:stretch/>
        </p:blipFill>
        <p:spPr>
          <a:xfrm>
            <a:off x="260280" y="2373480"/>
            <a:ext cx="1535040" cy="1446120"/>
          </a:xfrm>
          <a:prstGeom prst="rect">
            <a:avLst/>
          </a:prstGeom>
          <a:ln w="0">
            <a:noFill/>
          </a:ln>
        </p:spPr>
      </p:pic>
      <p:pic>
        <p:nvPicPr>
          <p:cNvPr id="2258" name="Рисунок 2" descr=""/>
          <p:cNvPicPr/>
          <p:nvPr/>
        </p:nvPicPr>
        <p:blipFill>
          <a:blip r:embed="rId2"/>
          <a:stretch/>
        </p:blipFill>
        <p:spPr>
          <a:xfrm>
            <a:off x="6335640" y="2389320"/>
            <a:ext cx="1536840" cy="1449360"/>
          </a:xfrm>
          <a:prstGeom prst="rect">
            <a:avLst/>
          </a:prstGeom>
          <a:ln w="0">
            <a:noFill/>
          </a:ln>
        </p:spPr>
      </p:pic>
      <p:pic>
        <p:nvPicPr>
          <p:cNvPr id="2259" name="Рисунок 3" descr=""/>
          <p:cNvPicPr/>
          <p:nvPr/>
        </p:nvPicPr>
        <p:blipFill>
          <a:blip r:embed="rId3"/>
          <a:stretch/>
        </p:blipFill>
        <p:spPr>
          <a:xfrm>
            <a:off x="4838760" y="2349360"/>
            <a:ext cx="1536480" cy="1451160"/>
          </a:xfrm>
          <a:prstGeom prst="rect">
            <a:avLst/>
          </a:prstGeom>
          <a:ln w="0">
            <a:noFill/>
          </a:ln>
        </p:spPr>
      </p:pic>
      <p:pic>
        <p:nvPicPr>
          <p:cNvPr id="2260" name="Рисунок 4" descr=""/>
          <p:cNvPicPr/>
          <p:nvPr/>
        </p:nvPicPr>
        <p:blipFill>
          <a:blip r:embed="rId4"/>
          <a:stretch/>
        </p:blipFill>
        <p:spPr>
          <a:xfrm>
            <a:off x="3335400" y="2338560"/>
            <a:ext cx="1535040" cy="1450800"/>
          </a:xfrm>
          <a:prstGeom prst="rect">
            <a:avLst/>
          </a:prstGeom>
          <a:ln w="0">
            <a:noFill/>
          </a:ln>
        </p:spPr>
      </p:pic>
      <p:pic>
        <p:nvPicPr>
          <p:cNvPr id="2261" name="Рисунок 5" descr=""/>
          <p:cNvPicPr/>
          <p:nvPr/>
        </p:nvPicPr>
        <p:blipFill>
          <a:blip r:embed="rId5"/>
          <a:stretch/>
        </p:blipFill>
        <p:spPr>
          <a:xfrm>
            <a:off x="1797120" y="2389320"/>
            <a:ext cx="1535040" cy="1449360"/>
          </a:xfrm>
          <a:prstGeom prst="rect">
            <a:avLst/>
          </a:prstGeom>
          <a:ln w="0">
            <a:noFill/>
          </a:ln>
        </p:spPr>
      </p:pic>
      <p:pic>
        <p:nvPicPr>
          <p:cNvPr id="2262" name="Рисунок 6" descr=""/>
          <p:cNvPicPr/>
          <p:nvPr/>
        </p:nvPicPr>
        <p:blipFill>
          <a:blip r:embed="rId6"/>
          <a:stretch/>
        </p:blipFill>
        <p:spPr>
          <a:xfrm>
            <a:off x="8261280" y="2387520"/>
            <a:ext cx="1846440" cy="1225800"/>
          </a:xfrm>
          <a:prstGeom prst="rect">
            <a:avLst/>
          </a:prstGeom>
          <a:ln w="0">
            <a:noFill/>
          </a:ln>
        </p:spPr>
      </p:pic>
      <p:pic>
        <p:nvPicPr>
          <p:cNvPr id="2263" name="Рисунок 7" descr=""/>
          <p:cNvPicPr/>
          <p:nvPr/>
        </p:nvPicPr>
        <p:blipFill>
          <a:blip r:embed="rId7"/>
          <a:stretch/>
        </p:blipFill>
        <p:spPr>
          <a:xfrm>
            <a:off x="10147320" y="2387520"/>
            <a:ext cx="184608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Rectangle 2"/>
          <p:cNvSpPr/>
          <p:nvPr/>
        </p:nvSpPr>
        <p:spPr>
          <a:xfrm>
            <a:off x="1338120" y="316440"/>
            <a:ext cx="5013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уппа малышей- ут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вать и нырять хот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тверо уплыли дале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 нырнули глубо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же утят в пру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читать я не м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Text Box 4"/>
          <p:cNvSpPr/>
          <p:nvPr/>
        </p:nvSpPr>
        <p:spPr>
          <a:xfrm>
            <a:off x="1948680" y="3732120"/>
            <a:ext cx="379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4 + 3 = 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6" name="Рисунок 1" descr=""/>
          <p:cNvPicPr/>
          <p:nvPr/>
        </p:nvPicPr>
        <p:blipFill>
          <a:blip r:embed="rId1"/>
          <a:stretch/>
        </p:blipFill>
        <p:spPr>
          <a:xfrm>
            <a:off x="6881760" y="689040"/>
            <a:ext cx="489924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Rectangle 2"/>
          <p:cNvSpPr/>
          <p:nvPr/>
        </p:nvSpPr>
        <p:spPr>
          <a:xfrm>
            <a:off x="1879920" y="344880"/>
            <a:ext cx="4908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 книжки у Павлушки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тыре – у Андрюшк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книжек у детей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-ка, сосчитай ско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AutoShape 3"/>
          <p:cNvSpPr/>
          <p:nvPr/>
        </p:nvSpPr>
        <p:spPr>
          <a:xfrm>
            <a:off x="5943600" y="32767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AutoShape 4"/>
          <p:cNvSpPr/>
          <p:nvPr/>
        </p:nvSpPr>
        <p:spPr>
          <a:xfrm>
            <a:off x="5943600" y="32767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AutoShape 5"/>
          <p:cNvSpPr/>
          <p:nvPr/>
        </p:nvSpPr>
        <p:spPr>
          <a:xfrm>
            <a:off x="5943600" y="32767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AutoShape 6"/>
          <p:cNvSpPr/>
          <p:nvPr/>
        </p:nvSpPr>
        <p:spPr>
          <a:xfrm>
            <a:off x="5943600" y="32767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AutoShape 7"/>
          <p:cNvSpPr/>
          <p:nvPr/>
        </p:nvSpPr>
        <p:spPr>
          <a:xfrm>
            <a:off x="5943600" y="32767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AutoShape 8"/>
          <p:cNvSpPr/>
          <p:nvPr/>
        </p:nvSpPr>
        <p:spPr>
          <a:xfrm>
            <a:off x="5943600" y="32767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AutoShape 10"/>
          <p:cNvSpPr/>
          <p:nvPr/>
        </p:nvSpPr>
        <p:spPr>
          <a:xfrm>
            <a:off x="5943600" y="32767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Text Box 12"/>
          <p:cNvSpPr/>
          <p:nvPr/>
        </p:nvSpPr>
        <p:spPr>
          <a:xfrm>
            <a:off x="2326320" y="3973680"/>
            <a:ext cx="3065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3+4=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6" name="Рисунок 1" descr=""/>
          <p:cNvPicPr/>
          <p:nvPr/>
        </p:nvPicPr>
        <p:blipFill>
          <a:blip r:embed="rId1"/>
          <a:stretch/>
        </p:blipFill>
        <p:spPr>
          <a:xfrm>
            <a:off x="5627520" y="2925720"/>
            <a:ext cx="3495960" cy="3003480"/>
          </a:xfrm>
          <a:prstGeom prst="rect">
            <a:avLst/>
          </a:prstGeom>
          <a:ln w="0">
            <a:noFill/>
          </a:ln>
        </p:spPr>
      </p:pic>
      <p:pic>
        <p:nvPicPr>
          <p:cNvPr id="2277" name="Рисунок 2" descr=""/>
          <p:cNvPicPr/>
          <p:nvPr/>
        </p:nvPicPr>
        <p:blipFill>
          <a:blip r:embed="rId2"/>
          <a:stretch/>
        </p:blipFill>
        <p:spPr>
          <a:xfrm>
            <a:off x="8904240" y="2814480"/>
            <a:ext cx="3068640" cy="30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2"/>
          <p:cNvSpPr/>
          <p:nvPr/>
        </p:nvSpPr>
        <p:spPr>
          <a:xfrm>
            <a:off x="1451520" y="154440"/>
            <a:ext cx="4705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а щенка-балов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гают, резвя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шалунишкам пять друз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громким лаем мча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месте будет вес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же всего друзей?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AutoShape 4"/>
          <p:cNvSpPr/>
          <p:nvPr/>
        </p:nvSpPr>
        <p:spPr>
          <a:xfrm>
            <a:off x="5943600" y="32767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Text Box 6"/>
          <p:cNvSpPr/>
          <p:nvPr/>
        </p:nvSpPr>
        <p:spPr>
          <a:xfrm>
            <a:off x="7586640" y="1014480"/>
            <a:ext cx="277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2+5=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1" name="Рисунок 1" descr=""/>
          <p:cNvPicPr/>
          <p:nvPr/>
        </p:nvPicPr>
        <p:blipFill>
          <a:blip r:embed="rId1"/>
          <a:stretch/>
        </p:blipFill>
        <p:spPr>
          <a:xfrm>
            <a:off x="6726240" y="3157560"/>
            <a:ext cx="4879800" cy="2752560"/>
          </a:xfrm>
          <a:prstGeom prst="rect">
            <a:avLst/>
          </a:prstGeom>
          <a:ln w="0">
            <a:noFill/>
          </a:ln>
        </p:spPr>
      </p:pic>
      <p:pic>
        <p:nvPicPr>
          <p:cNvPr id="2282" name="Рисунок 1" descr=""/>
          <p:cNvPicPr/>
          <p:nvPr/>
        </p:nvPicPr>
        <p:blipFill>
          <a:blip r:embed="rId2"/>
          <a:stretch/>
        </p:blipFill>
        <p:spPr>
          <a:xfrm>
            <a:off x="2033640" y="3157560"/>
            <a:ext cx="4692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Text Box 4"/>
          <p:cNvSpPr/>
          <p:nvPr/>
        </p:nvSpPr>
        <p:spPr>
          <a:xfrm>
            <a:off x="1769040" y="189000"/>
            <a:ext cx="299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5 лепест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Rectangle 5"/>
          <p:cNvSpPr/>
          <p:nvPr/>
        </p:nvSpPr>
        <p:spPr>
          <a:xfrm>
            <a:off x="2208240" y="11253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Rectangle 6"/>
          <p:cNvSpPr/>
          <p:nvPr/>
        </p:nvSpPr>
        <p:spPr>
          <a:xfrm>
            <a:off x="3879720" y="1171440"/>
            <a:ext cx="83124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ята, сколько всего зайцев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На какие две группы можно разбить зайчиков? (большие и маленькие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больших, маленьких? (4 больших и 3 маленьких) Значит 7 это 4 и ещё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Всего 7 зайчиков, 1 убежал, сколько зайчиков осталось? (6) Значит от 7 отнять 1 сколько будет? (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Было 5 зайчиков, прибежало ещё 2. Сколько стало зайчиков всего? (7) Значит к 5+2 сколько будет? (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519120" y="-36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entury Gothic"/>
              </a:rPr>
              <a:t>6 лепесток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87" name="PlaceHolder 2"/>
          <p:cNvSpPr>
            <a:spLocks noGrp="1"/>
          </p:cNvSpPr>
          <p:nvPr>
            <p:ph/>
          </p:nvPr>
        </p:nvSpPr>
        <p:spPr>
          <a:xfrm>
            <a:off x="3276360" y="412560"/>
            <a:ext cx="89154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-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Цифры перепутали свои места в числовом ряду. Помогите им ребята найти своё место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(Дети   выстраивают лепестки  с цифрами в цифровой ряд. Затем детям предлагается посчитать до 7прямым и обратным счетом.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Когда выстраивается числовой ряд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- Назови соседей числа 3 (2, 4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- Назови соседей числа 5 ( 6,  4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- Назови соседей числа 6 (5, 7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- Назовите соседа числа 7 ? (6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409320" y="123480"/>
            <a:ext cx="89103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entury Gothic"/>
              </a:rPr>
              <a:t>7 лепесток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289" name="Picture 7" descr=""/>
          <p:cNvPicPr/>
          <p:nvPr/>
        </p:nvPicPr>
        <p:blipFill>
          <a:blip r:embed="rId1"/>
          <a:stretch/>
        </p:blipFill>
        <p:spPr>
          <a:xfrm>
            <a:off x="4767120" y="426960"/>
            <a:ext cx="5823000" cy="62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0" name="Рисунок 3" descr=""/>
          <p:cNvPicPr/>
          <p:nvPr/>
        </p:nvPicPr>
        <p:blipFill>
          <a:blip r:embed="rId1"/>
          <a:stretch/>
        </p:blipFill>
        <p:spPr>
          <a:xfrm>
            <a:off x="2643120" y="923760"/>
            <a:ext cx="630072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6" name="Рисунок 1" descr=""/>
          <p:cNvPicPr/>
          <p:nvPr/>
        </p:nvPicPr>
        <p:blipFill>
          <a:blip r:embed="rId1"/>
          <a:stretch/>
        </p:blipFill>
        <p:spPr>
          <a:xfrm>
            <a:off x="1787400" y="142920"/>
            <a:ext cx="881712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7" name="Рисунок 1" descr=""/>
          <p:cNvPicPr/>
          <p:nvPr/>
        </p:nvPicPr>
        <p:blipFill>
          <a:blip r:embed="rId1"/>
          <a:stretch/>
        </p:blipFill>
        <p:spPr>
          <a:xfrm>
            <a:off x="2085840" y="527040"/>
            <a:ext cx="866772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8" name="Рисунок 1" descr=""/>
          <p:cNvPicPr/>
          <p:nvPr/>
        </p:nvPicPr>
        <p:blipFill>
          <a:blip r:embed="rId1"/>
          <a:stretch/>
        </p:blipFill>
        <p:spPr>
          <a:xfrm>
            <a:off x="2160720" y="579600"/>
            <a:ext cx="762480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TextBox 2"/>
          <p:cNvSpPr/>
          <p:nvPr/>
        </p:nvSpPr>
        <p:spPr>
          <a:xfrm>
            <a:off x="2520" y="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0" name="Picture 6" descr=""/>
          <p:cNvPicPr/>
          <p:nvPr/>
        </p:nvPicPr>
        <p:blipFill>
          <a:blip r:embed="rId1"/>
          <a:stretch/>
        </p:blipFill>
        <p:spPr>
          <a:xfrm>
            <a:off x="1560600" y="0"/>
            <a:ext cx="9198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917640" y="11088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entury Gothic"/>
              </a:rPr>
              <a:t>2 лепесток.  </a:t>
            </a:r>
            <a:r>
              <a:rPr b="0" lang="ru-RU" sz="3200" spc="-1" strike="noStrike">
                <a:solidFill>
                  <a:srgbClr val="262626"/>
                </a:solidFill>
                <a:latin typeface="Century Gothic"/>
              </a:rPr>
              <a:t>Сосчитай квадраты.</a:t>
            </a: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22" name="Прямоугольник 2"/>
          <p:cNvSpPr/>
          <p:nvPr/>
        </p:nvSpPr>
        <p:spPr>
          <a:xfrm>
            <a:off x="1052640" y="2028960"/>
            <a:ext cx="1104840" cy="1077840"/>
          </a:xfrm>
          <a:prstGeom prst="rect">
            <a:avLst/>
          </a:prstGeom>
          <a:solidFill>
            <a:srgbClr val="ff000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Прямоугольник 3"/>
          <p:cNvSpPr/>
          <p:nvPr/>
        </p:nvSpPr>
        <p:spPr>
          <a:xfrm>
            <a:off x="9193320" y="2076480"/>
            <a:ext cx="1104840" cy="1077840"/>
          </a:xfrm>
          <a:prstGeom prst="rect">
            <a:avLst/>
          </a:prstGeom>
          <a:solidFill>
            <a:srgbClr val="0070c0"/>
          </a:solidFill>
          <a:ln cap="rnd" w="158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Прямоугольник 4"/>
          <p:cNvSpPr/>
          <p:nvPr/>
        </p:nvSpPr>
        <p:spPr>
          <a:xfrm>
            <a:off x="2698920" y="2028960"/>
            <a:ext cx="1104840" cy="1077840"/>
          </a:xfrm>
          <a:prstGeom prst="rect">
            <a:avLst/>
          </a:prstGeom>
          <a:solidFill>
            <a:srgbClr val="ff000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Прямоугольник 5"/>
          <p:cNvSpPr/>
          <p:nvPr/>
        </p:nvSpPr>
        <p:spPr>
          <a:xfrm>
            <a:off x="4286160" y="2076480"/>
            <a:ext cx="1106640" cy="1077840"/>
          </a:xfrm>
          <a:prstGeom prst="rect">
            <a:avLst/>
          </a:prstGeom>
          <a:solidFill>
            <a:srgbClr val="ff000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Прямоугольник 6"/>
          <p:cNvSpPr/>
          <p:nvPr/>
        </p:nvSpPr>
        <p:spPr>
          <a:xfrm>
            <a:off x="7523280" y="2076480"/>
            <a:ext cx="1104840" cy="1077840"/>
          </a:xfrm>
          <a:prstGeom prst="rect">
            <a:avLst/>
          </a:prstGeom>
          <a:solidFill>
            <a:srgbClr val="ff000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Прямоугольник 7"/>
          <p:cNvSpPr/>
          <p:nvPr/>
        </p:nvSpPr>
        <p:spPr>
          <a:xfrm>
            <a:off x="5850000" y="2076480"/>
            <a:ext cx="1108080" cy="1077840"/>
          </a:xfrm>
          <a:prstGeom prst="rect">
            <a:avLst/>
          </a:prstGeom>
          <a:solidFill>
            <a:srgbClr val="ff000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1471680" y="13788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entury Gothic"/>
              </a:rPr>
              <a:t>Сосчитай квадраты.</a:t>
            </a: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29" name="Прямоугольник 2"/>
          <p:cNvSpPr/>
          <p:nvPr/>
        </p:nvSpPr>
        <p:spPr>
          <a:xfrm>
            <a:off x="1052640" y="2028960"/>
            <a:ext cx="1104840" cy="1077840"/>
          </a:xfrm>
          <a:prstGeom prst="rect">
            <a:avLst/>
          </a:prstGeom>
          <a:solidFill>
            <a:srgbClr val="ff000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Прямоугольник 3"/>
          <p:cNvSpPr/>
          <p:nvPr/>
        </p:nvSpPr>
        <p:spPr>
          <a:xfrm>
            <a:off x="9193320" y="2076480"/>
            <a:ext cx="1104840" cy="1077840"/>
          </a:xfrm>
          <a:prstGeom prst="rect">
            <a:avLst/>
          </a:prstGeom>
          <a:solidFill>
            <a:srgbClr val="ff000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Прямоугольник 4"/>
          <p:cNvSpPr/>
          <p:nvPr/>
        </p:nvSpPr>
        <p:spPr>
          <a:xfrm>
            <a:off x="2698920" y="2028960"/>
            <a:ext cx="1104840" cy="1077840"/>
          </a:xfrm>
          <a:prstGeom prst="rect">
            <a:avLst/>
          </a:prstGeom>
          <a:solidFill>
            <a:srgbClr val="ff000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Прямоугольник 5"/>
          <p:cNvSpPr/>
          <p:nvPr/>
        </p:nvSpPr>
        <p:spPr>
          <a:xfrm>
            <a:off x="4286160" y="2076480"/>
            <a:ext cx="1106640" cy="1077840"/>
          </a:xfrm>
          <a:prstGeom prst="rect">
            <a:avLst/>
          </a:prstGeom>
          <a:solidFill>
            <a:srgbClr val="ff000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Прямоугольник 6"/>
          <p:cNvSpPr/>
          <p:nvPr/>
        </p:nvSpPr>
        <p:spPr>
          <a:xfrm>
            <a:off x="7523280" y="2076480"/>
            <a:ext cx="1104840" cy="1077840"/>
          </a:xfrm>
          <a:prstGeom prst="rect">
            <a:avLst/>
          </a:prstGeom>
          <a:solidFill>
            <a:srgbClr val="ff000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Прямоугольник 7"/>
          <p:cNvSpPr/>
          <p:nvPr/>
        </p:nvSpPr>
        <p:spPr>
          <a:xfrm>
            <a:off x="5850000" y="2076480"/>
            <a:ext cx="1108080" cy="1077840"/>
          </a:xfrm>
          <a:prstGeom prst="rect">
            <a:avLst/>
          </a:prstGeom>
          <a:solidFill>
            <a:srgbClr val="ff000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1604880" y="328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entury Gothic"/>
              </a:rPr>
              <a:t>Сосчитай квадраты.</a:t>
            </a: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36" name="Прямоугольник 2"/>
          <p:cNvSpPr/>
          <p:nvPr/>
        </p:nvSpPr>
        <p:spPr>
          <a:xfrm>
            <a:off x="1052640" y="2028960"/>
            <a:ext cx="1104840" cy="1077840"/>
          </a:xfrm>
          <a:prstGeom prst="rect">
            <a:avLst/>
          </a:prstGeom>
          <a:solidFill>
            <a:srgbClr val="ff000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Прямоугольник 3"/>
          <p:cNvSpPr/>
          <p:nvPr/>
        </p:nvSpPr>
        <p:spPr>
          <a:xfrm>
            <a:off x="9193320" y="2076480"/>
            <a:ext cx="1104840" cy="1077840"/>
          </a:xfrm>
          <a:prstGeom prst="rect">
            <a:avLst/>
          </a:prstGeom>
          <a:solidFill>
            <a:srgbClr val="ff000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Прямоугольник 4"/>
          <p:cNvSpPr/>
          <p:nvPr/>
        </p:nvSpPr>
        <p:spPr>
          <a:xfrm>
            <a:off x="2698920" y="2028960"/>
            <a:ext cx="1104840" cy="1077840"/>
          </a:xfrm>
          <a:prstGeom prst="rect">
            <a:avLst/>
          </a:prstGeom>
          <a:solidFill>
            <a:srgbClr val="ff000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Прямоугольник 5"/>
          <p:cNvSpPr/>
          <p:nvPr/>
        </p:nvSpPr>
        <p:spPr>
          <a:xfrm>
            <a:off x="4286160" y="2076480"/>
            <a:ext cx="1106640" cy="1077840"/>
          </a:xfrm>
          <a:prstGeom prst="rect">
            <a:avLst/>
          </a:prstGeom>
          <a:solidFill>
            <a:srgbClr val="ff000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Прямоугольник 6"/>
          <p:cNvSpPr/>
          <p:nvPr/>
        </p:nvSpPr>
        <p:spPr>
          <a:xfrm>
            <a:off x="7523280" y="2076480"/>
            <a:ext cx="1104840" cy="1077840"/>
          </a:xfrm>
          <a:prstGeom prst="rect">
            <a:avLst/>
          </a:prstGeom>
          <a:solidFill>
            <a:srgbClr val="ff000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Прямоугольник 7"/>
          <p:cNvSpPr/>
          <p:nvPr/>
        </p:nvSpPr>
        <p:spPr>
          <a:xfrm>
            <a:off x="5850000" y="2076480"/>
            <a:ext cx="1108080" cy="1077840"/>
          </a:xfrm>
          <a:prstGeom prst="rect">
            <a:avLst/>
          </a:prstGeom>
          <a:solidFill>
            <a:srgbClr val="ff000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Прямоугольник 8"/>
          <p:cNvSpPr/>
          <p:nvPr/>
        </p:nvSpPr>
        <p:spPr>
          <a:xfrm>
            <a:off x="10755360" y="2076480"/>
            <a:ext cx="1106280" cy="1077840"/>
          </a:xfrm>
          <a:prstGeom prst="rect">
            <a:avLst/>
          </a:prstGeom>
          <a:solidFill>
            <a:srgbClr val="0070c0"/>
          </a:solidFill>
          <a:ln cap="rnd" w="158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1719360" y="41076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3</a:t>
            </a: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Century Gothic"/>
              </a:rPr>
              <a:t>лепесток . </a:t>
            </a: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Ответьте на вопросы</a:t>
            </a:r>
            <a:br>
              <a:rPr sz="3600"/>
            </a:br>
            <a:br>
              <a:rPr sz="3600"/>
            </a:br>
            <a:r>
              <a:rPr b="0" lang="ru-RU" sz="2200" spc="-1" strike="noStrike">
                <a:solidFill>
                  <a:srgbClr val="1a1f0d"/>
                </a:solidFill>
                <a:latin typeface="Century Gothic"/>
              </a:rPr>
              <a:t>-какое время года? (зима)</a:t>
            </a:r>
            <a:br>
              <a:rPr sz="2200"/>
            </a:br>
            <a:r>
              <a:rPr b="0" lang="ru-RU" sz="2200" spc="-1" strike="noStrike">
                <a:solidFill>
                  <a:srgbClr val="1a1f0d"/>
                </a:solidFill>
                <a:latin typeface="Century Gothic"/>
              </a:rPr>
              <a:t>- назовите весенние  месяцы (декабрь, январь, февраль)</a:t>
            </a:r>
            <a:br>
              <a:rPr sz="2200"/>
            </a:br>
            <a:r>
              <a:rPr b="0" lang="ru-RU" sz="2200" spc="-1" strike="noStrike">
                <a:solidFill>
                  <a:srgbClr val="1a1f0d"/>
                </a:solidFill>
                <a:latin typeface="Century Gothic"/>
              </a:rPr>
              <a:t>- какой месяц сейчас идёт? (декабрь)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1a1f0d"/>
                </a:solidFill>
                <a:latin typeface="Century Gothic"/>
              </a:rPr>
              <a:t>-отгадайте загадку</a:t>
            </a:r>
            <a:br>
              <a:rPr sz="2200"/>
            </a:br>
            <a:r>
              <a:rPr b="0" lang="ru-RU" sz="2200" spc="-1" strike="noStrike">
                <a:solidFill>
                  <a:srgbClr val="1a1f0d"/>
                </a:solidFill>
                <a:latin typeface="Century Gothic"/>
              </a:rPr>
              <a:t>Братцев этих ровно семь. </a:t>
            </a:r>
            <a:br>
              <a:rPr sz="2200"/>
            </a:br>
            <a:r>
              <a:rPr b="0" lang="ru-RU" sz="2200" spc="-1" strike="noStrike">
                <a:solidFill>
                  <a:srgbClr val="1a1f0d"/>
                </a:solidFill>
                <a:latin typeface="Century Gothic"/>
              </a:rPr>
              <a:t>Вам они известны всем. </a:t>
            </a:r>
            <a:br>
              <a:rPr sz="2200"/>
            </a:br>
            <a:r>
              <a:rPr b="0" lang="ru-RU" sz="2200" spc="-1" strike="noStrike">
                <a:solidFill>
                  <a:srgbClr val="1a1f0d"/>
                </a:solidFill>
                <a:latin typeface="Century Gothic"/>
              </a:rPr>
              <a:t>Каждую неделю кругом </a:t>
            </a:r>
            <a:br>
              <a:rPr sz="2200"/>
            </a:br>
            <a:r>
              <a:rPr b="0" lang="ru-RU" sz="2200" spc="-1" strike="noStrike">
                <a:solidFill>
                  <a:srgbClr val="1a1f0d"/>
                </a:solidFill>
                <a:latin typeface="Century Gothic"/>
              </a:rPr>
              <a:t>ходят братцы друг за другом. </a:t>
            </a:r>
            <a:br>
              <a:rPr sz="2200"/>
            </a:br>
            <a:r>
              <a:rPr b="0" lang="ru-RU" sz="2200" spc="-1" strike="noStrike">
                <a:solidFill>
                  <a:srgbClr val="1a1f0d"/>
                </a:solidFill>
                <a:latin typeface="Century Gothic"/>
              </a:rPr>
              <a:t>Попрощается последний </a:t>
            </a:r>
            <a:br>
              <a:rPr sz="2200"/>
            </a:br>
            <a:r>
              <a:rPr b="0" lang="ru-RU" sz="2200" spc="-1" strike="noStrike">
                <a:solidFill>
                  <a:srgbClr val="1a1f0d"/>
                </a:solidFill>
                <a:latin typeface="Century Gothic"/>
              </a:rPr>
              <a:t>Появляется передний. (Дни недели)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1a1f0d"/>
                </a:solidFill>
                <a:latin typeface="Century Gothic"/>
              </a:rPr>
              <a:t>- назовите  их.</a:t>
            </a:r>
            <a:br>
              <a:rPr sz="2200"/>
            </a:br>
            <a:r>
              <a:rPr b="0" lang="ru-RU" sz="2200" spc="-1" strike="noStrike">
                <a:solidFill>
                  <a:srgbClr val="1a1f0d"/>
                </a:solidFill>
                <a:latin typeface="Century Gothic"/>
              </a:rPr>
              <a:t>- сколько дней в неделе? (семь)</a:t>
            </a:r>
            <a:br>
              <a:rPr sz="2200"/>
            </a:b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10T10:46:18Z</dcterms:created>
  <dc:creator>strelka.eva@gmail.com</dc:creator>
  <dc:description/>
  <dc:language>en-US</dc:language>
  <cp:lastModifiedBy>strelka.eva@gmail.com</cp:lastModifiedBy>
  <dcterms:modified xsi:type="dcterms:W3CDTF">2018-12-13T19:28:30Z</dcterms:modified>
  <cp:revision>44</cp:revision>
  <dc:subject/>
  <dc:title>Презентация PowerPoint</dc:title>
</cp:coreProperties>
</file>