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2674-811B-4A84-823B-BA045FC6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E614-DE5C-4F0F-9A8F-211E4393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0C047-16E1-4CD9-96B2-02BE88C1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356E5-8A5C-42C0-AD34-AD549114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D9F8-EEDA-46A5-9262-5D20070A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318B-0530-4D7A-9588-604D1B7E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A4FD-D361-4982-8135-5F40236A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A8E7-DE14-4400-B19A-0F5366AC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F596-5472-4F78-9610-F4EDDE11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D294-19A6-4C2E-900E-99CE3A8D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7ACF-9444-46FD-86C7-808509F4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B87E-8ADA-49DB-BACB-CB36476E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33CC-CFD4-4007-A5C1-AEAB42B3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AD02-D854-47E8-ADE5-ACB22A5F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A26B-E352-405E-9DB3-517D595F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9A8D-6A22-4204-8356-5ABEC84A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5047-BAA8-4074-8F5C-4E7456E8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4C0C-B17E-4844-BAC3-C21BDD6A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8BFE-B67F-45E5-BC60-7E9A6B29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B407D-1260-4750-91C9-30867CA0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51BB-26F6-4B7E-8BCA-4C733C67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D47B-B3F1-4C74-8442-E679168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5CF8-0F2F-4A33-91A5-7FA084AF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E1DF-6305-4DCF-8901-13C595C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9dd9"/>
                </a:gs>
                <a:gs pos="100000">
                  <a:srgbClr val="0fa3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bad0d3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dc1c4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9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9dd9"/>
                </a:gs>
                <a:gs pos="50000">
                  <a:srgbClr val="08a0da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5df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A484-4488-4516-8992-4F1F9A1D566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9dd9"/>
                </a:gs>
                <a:gs pos="100000">
                  <a:srgbClr val="0fa3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bad0d3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dc1c4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9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9dd9"/>
                </a:gs>
                <a:gs pos="50000">
                  <a:srgbClr val="08a0da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5df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039E-BB70-4ED3-8CFC-16BDEE98791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2d700"/>
                </a:solidFill>
                <a:latin typeface="Arial"/>
              </a:rPr>
              <a:t>Презентация из опыта работы театрального кружка «Сказка»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700"/>
                </a:solidFill>
                <a:latin typeface="Arial"/>
              </a:rPr>
              <a:t>Руководитель:</a:t>
            </a:r>
            <a:r>
              <a:rPr b="0" lang="ru-RU" sz="2400" spc="-1" strike="noStrike">
                <a:solidFill>
                  <a:srgbClr val="e2d700"/>
                </a:solidFill>
                <a:latin typeface="Tahoma"/>
              </a:rPr>
              <a:t> Лантрат И.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d700"/>
                </a:solidFill>
                <a:latin typeface="Arial"/>
              </a:rPr>
              <a:t>Воронеж  </a:t>
            </a:r>
            <a:r>
              <a:rPr b="0" lang="ru-RU" sz="1800" spc="-1" strike="noStrike">
                <a:solidFill>
                  <a:srgbClr val="e2d700"/>
                </a:solidFill>
                <a:latin typeface="Tahoma"/>
              </a:rPr>
              <a:t>2017</a:t>
            </a:r>
            <a:r>
              <a:rPr b="0" lang="ru-RU" sz="1800" spc="-1" strike="noStrike">
                <a:solidFill>
                  <a:srgbClr val="e2d7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ff"/>
                </a:solidFill>
                <a:latin typeface="Arial"/>
              </a:rPr>
              <a:t>Виды театра в группе «Колокольчик»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стольный театр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                     (деревянный, резиновый или пластмассов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еатр п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льчиковый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еатр Би-ба-б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нусный теат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еатр на палочках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язаный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театр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Настольный театр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3800"/>
            </a:b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«Три поросёнка»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2" name="Picture 5" descr="DSC_0968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ff"/>
                </a:solidFill>
                <a:latin typeface="Tahoma"/>
              </a:rPr>
              <a:t>Театр на фланелеграфе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4" name="Picture 4" descr="DSC_0719"/>
          <p:cNvPicPr/>
          <p:nvPr/>
        </p:nvPicPr>
        <p:blipFill>
          <a:blip r:embed="rId1"/>
          <a:stretch/>
        </p:blipFill>
        <p:spPr>
          <a:xfrm>
            <a:off x="1523880" y="1447920"/>
            <a:ext cx="647712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Сказка «Теремок» </a:t>
            </a:r>
            <a:br>
              <a:rPr sz="3800"/>
            </a:b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(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театр – </a:t>
            </a: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би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-</a:t>
            </a: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ба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-</a:t>
            </a: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бо)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6" name="Picture 4" descr="DSC_0736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WP_20160506_08_23_19_Pro (1)"/>
          <p:cNvPicPr/>
          <p:nvPr/>
        </p:nvPicPr>
        <p:blipFill>
          <a:blip r:embed="rId1"/>
          <a:stretch/>
        </p:blipFill>
        <p:spPr>
          <a:xfrm>
            <a:off x="609480" y="914400"/>
            <a:ext cx="8229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ff"/>
                </a:solidFill>
                <a:latin typeface="Tahoma"/>
              </a:rPr>
              <a:t>Конусный театр</a:t>
            </a:r>
            <a:r>
              <a:rPr b="0" lang="ru-RU" sz="4200" spc="-1" strike="noStrike">
                <a:solidFill>
                  <a:srgbClr val="6600ff"/>
                </a:solidFill>
                <a:latin typeface="Arial"/>
              </a:rPr>
              <a:t> «Новый год»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9" name="Picture 5" descr="DSC_1127"/>
          <p:cNvPicPr/>
          <p:nvPr/>
        </p:nvPicPr>
        <p:blipFill>
          <a:blip r:embed="rId1"/>
          <a:stretch/>
        </p:blipFill>
        <p:spPr>
          <a:xfrm>
            <a:off x="2819520" y="1219320"/>
            <a:ext cx="364176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ff"/>
                </a:solidFill>
                <a:latin typeface="Tahoma"/>
              </a:rPr>
              <a:t>Театр масок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61" name="Picture 4" descr="DSC_1129"/>
          <p:cNvPicPr/>
          <p:nvPr/>
        </p:nvPicPr>
        <p:blipFill>
          <a:blip r:embed="rId1"/>
          <a:stretch/>
        </p:blipFill>
        <p:spPr>
          <a:xfrm>
            <a:off x="2666880" y="1219320"/>
            <a:ext cx="36766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ерчаточный театр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63" name="Picture 5" descr="DSC_1141"/>
          <p:cNvPicPr/>
          <p:nvPr/>
        </p:nvPicPr>
        <p:blipFill>
          <a:blip r:embed="rId1"/>
          <a:stretch/>
        </p:blipFill>
        <p:spPr>
          <a:xfrm>
            <a:off x="1600200" y="1447920"/>
            <a:ext cx="617220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Театр на ладошке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65" name="Picture 5" descr="DSC_0388"/>
          <p:cNvPicPr/>
          <p:nvPr/>
        </p:nvPicPr>
        <p:blipFill>
          <a:blip r:embed="rId1"/>
          <a:stretch/>
        </p:blipFill>
        <p:spPr>
          <a:xfrm>
            <a:off x="1447920" y="1447920"/>
            <a:ext cx="6400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Театр на палочках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3800"/>
            </a:b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«Репка», «Курочка Ряба»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67" name="Picture 4" descr="DSC_1028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838080" y="222444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Чем театр так хоро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ты в сказку попадёшь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верят в волшеб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дружат с чуде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Все сказки ная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Приходят в гости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Tahoma"/>
              </a:rPr>
              <a:t>Взаимодействие с родителями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Консультации для родителей на тем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оиграйте с ребёнком в сказку!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Влияние пальчикового театра на развитие мелкой моторики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Дети и театр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Совместные творческие мастерские по изготовлению декораци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остюмов и атрибут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Пополнение группы новыми видами театр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Мини-проект «Сказки моего детства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2d7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Users\user\Desktop\МАМА\Эльвира\ФОТО\Рисунки\ладони.jpeg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Цель программы: развитие способностей детей средствами театрального искусства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1.Создать условия для развития творческой активности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2.Совершенствовать артистические навы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3.Учить имитировать характерные движения сказочных животны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4.Активизировать словарь детей, совершенствовать звуковую культуру речи, интонационный строй, диалогическую реч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5.Познакомить детей с различными видами теат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6.Обучать детей элементам художественно – образных выразительных средств (интонация, мимика, пантомимик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Основные направления работы кружка: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театрально – игровая деятельность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музыкально – творческое развитие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художественно- речевая деятельность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основы театральной культуры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работа над спектаклем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66"/>
                </a:solidFill>
                <a:latin typeface="Tahoma"/>
              </a:rPr>
              <a:t>Формы работы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99072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Речевые иг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Ритмопласт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Инсценировка песен, попевок, хоровод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Использование различных видов теат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Драматизация сказ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Посещение теа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Взаимодействие с родител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Мини музей кукол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3800"/>
            </a:b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«В гостях у сказки»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5" name="Picture 5" descr="DSC_0616"/>
          <p:cNvPicPr/>
          <p:nvPr/>
        </p:nvPicPr>
        <p:blipFill>
          <a:blip r:embed="rId2"/>
          <a:stretch/>
        </p:blipFill>
        <p:spPr>
          <a:xfrm>
            <a:off x="457200" y="1828800"/>
            <a:ext cx="3589200" cy="478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SCN1380"/>
          <p:cNvPicPr/>
          <p:nvPr/>
        </p:nvPicPr>
        <p:blipFill>
          <a:blip r:embed="rId3"/>
          <a:stretch/>
        </p:blipFill>
        <p:spPr>
          <a:xfrm>
            <a:off x="4114800" y="2362320"/>
            <a:ext cx="4800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4343400" y="3048120"/>
            <a:ext cx="4403880" cy="3303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228600" y="3962520"/>
            <a:ext cx="3962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М</a:t>
            </a:r>
            <a:r>
              <a:rPr b="0" lang="ru-RU" sz="4200" spc="-1" strike="noStrike">
                <a:solidFill>
                  <a:srgbClr val="04617b"/>
                </a:solidFill>
                <a:latin typeface="Tahoma"/>
              </a:rPr>
              <a:t>узей </a:t>
            </a: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русской </a:t>
            </a:r>
            <a:r>
              <a:rPr b="0" lang="ru-RU" sz="4200" spc="-1" strike="noStrike">
                <a:solidFill>
                  <a:srgbClr val="04617b"/>
                </a:solidFill>
                <a:latin typeface="Tahoma"/>
              </a:rPr>
              <a:t>кукл</a:t>
            </a: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648320" y="1066680"/>
            <a:ext cx="3962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М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узей </a:t>
            </a: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пластмассовой игр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DSCN1381"/>
          <p:cNvPicPr/>
          <p:nvPr/>
        </p:nvPicPr>
        <p:blipFill>
          <a:blip r:embed="rId2"/>
          <a:stretch/>
        </p:blipFill>
        <p:spPr>
          <a:xfrm>
            <a:off x="304920" y="228600"/>
            <a:ext cx="4914720" cy="367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4343400" y="3200400"/>
            <a:ext cx="4403880" cy="3303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838080" y="4952880"/>
            <a:ext cx="33530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М</a:t>
            </a: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узей </a:t>
            </a: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современных кук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5410080" y="1219320"/>
            <a:ext cx="33530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М</a:t>
            </a: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узей </a:t>
            </a: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по сказ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496040" cy="3373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4419360" cy="3316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685800" y="4343400"/>
            <a:ext cx="33526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Дюймов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5105520" y="1295280"/>
            <a:ext cx="33526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Принцесса на горош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111</cp:lastModifiedBy>
  <dcterms:modified xsi:type="dcterms:W3CDTF">2018-12-13T09:48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