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3F82-A467-423D-B6EB-3613C1A3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7B05-CC16-4836-AAD0-22882B76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EC63-D052-4C7B-B0B2-7BBB382B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0CCF-A3D9-4413-AF84-2410129C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3B40-034D-4F58-A989-40B5B1E1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A1DA-1E6E-4FC5-9DEE-5C80BDBE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B177-AC52-46C2-A5BA-83747FC8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6992-8870-49D5-970B-99C46518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7D92-6876-420F-AD23-B26251DE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16C3-4D5C-48F4-AE60-75B91718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AE1D-9596-4CE4-9968-0CB77D51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2703-C6F4-4B16-AF1F-8C4CAE78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6AA3-B281-4149-AB25-62AA42D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1A3A-B986-4BA1-B88D-4B90B655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6BBF-2E3D-4E97-9FED-CFAC891D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1619-05CD-4BD8-91BB-1D6BD798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39AD-EC81-4C77-A68C-079605E8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B0B75-24D9-46F1-AD14-9E1832D1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00CCF-37BA-473B-8F67-2207C204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EFA6-D194-47AB-85C9-EBB862FC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CA25-B957-40B4-985F-AD887349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F1F96-C14B-4705-A454-659A237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0123-A099-4B5B-9CDF-923E06B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B4D2-32A3-4C1A-841B-79CD3600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9dd9"/>
                </a:gs>
                <a:gs pos="100000">
                  <a:srgbClr val="0fa3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bad0d3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dc1c4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9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9dd9"/>
                </a:gs>
                <a:gs pos="50000">
                  <a:srgbClr val="08a0da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5df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2AEC-302C-4580-9CDE-6CF0D7AE7E0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9dd9"/>
                </a:gs>
                <a:gs pos="100000">
                  <a:srgbClr val="0fa3d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bad0d3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dc1c4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50000">
                  <a:srgbClr val="d4edf1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bf5f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f5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9dd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9dd9"/>
                </a:gs>
                <a:gs pos="50000">
                  <a:srgbClr val="08a0da"/>
                </a:gs>
                <a:gs pos="100000">
                  <a:srgbClr val="009d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5df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6053-D5D4-46B1-967D-9A193533D16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e2d700"/>
                </a:solidFill>
                <a:latin typeface="Arial"/>
              </a:rPr>
              <a:t>Презентация из опыта работы театрального кружка «Сказка»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2d700"/>
                </a:solidFill>
                <a:latin typeface="Arial"/>
              </a:rPr>
              <a:t>Руководитель:</a:t>
            </a:r>
            <a:r>
              <a:rPr b="0" lang="ru-RU" sz="2400" spc="-1" strike="noStrike">
                <a:solidFill>
                  <a:srgbClr val="e2d700"/>
                </a:solidFill>
                <a:latin typeface="Tahoma"/>
              </a:rPr>
              <a:t> Лантрат И.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d700"/>
                </a:solidFill>
                <a:latin typeface="Arial"/>
              </a:rPr>
              <a:t>Воронеж  </a:t>
            </a:r>
            <a:r>
              <a:rPr b="0" lang="ru-RU" sz="1800" spc="-1" strike="noStrike">
                <a:solidFill>
                  <a:srgbClr val="e2d700"/>
                </a:solidFill>
                <a:latin typeface="Tahoma"/>
              </a:rPr>
              <a:t>2017</a:t>
            </a:r>
            <a:r>
              <a:rPr b="0" lang="ru-RU" sz="1800" spc="-1" strike="noStrike">
                <a:solidFill>
                  <a:srgbClr val="e2d7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ff"/>
                </a:solidFill>
                <a:latin typeface="Arial"/>
              </a:rPr>
              <a:t>Виды театра в группе «Колокольчик»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9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астольный театр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                     (деревянный, резиновый или пластмассовы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еатр на фланелеграф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еатр п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льчиковый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театр масо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еатр Би-ба-б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конусный теат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601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театр на палочках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92080" indent="360360">
              <a:lnSpc>
                <a:spcPct val="90000"/>
              </a:lnSpc>
              <a:spcBef>
                <a:spcPts val="7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язаный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 театр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Настольный театр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3800"/>
            </a:b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«Три поросёнка»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2" name="Picture 5" descr="DSC_0968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ff"/>
                </a:solidFill>
                <a:latin typeface="Tahoma"/>
              </a:rPr>
              <a:t>Театр на фланелеграфе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4" name="Picture 4" descr="DSC_0719"/>
          <p:cNvPicPr/>
          <p:nvPr/>
        </p:nvPicPr>
        <p:blipFill>
          <a:blip r:embed="rId1"/>
          <a:stretch/>
        </p:blipFill>
        <p:spPr>
          <a:xfrm>
            <a:off x="1523880" y="1447920"/>
            <a:ext cx="647712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Сказка «Теремок» </a:t>
            </a:r>
            <a:br>
              <a:rPr sz="3800"/>
            </a:b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(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театр – </a:t>
            </a: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би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-</a:t>
            </a: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ба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-</a:t>
            </a: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бо)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6" name="Picture 4" descr="DSC_0736"/>
          <p:cNvPicPr/>
          <p:nvPr/>
        </p:nvPicPr>
        <p:blipFill>
          <a:blip r:embed="rId1"/>
          <a:stretch/>
        </p:blipFill>
        <p:spPr>
          <a:xfrm>
            <a:off x="1295280" y="1676520"/>
            <a:ext cx="647712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WP_20160506_08_23_19_Pro (1)"/>
          <p:cNvPicPr/>
          <p:nvPr/>
        </p:nvPicPr>
        <p:blipFill>
          <a:blip r:embed="rId1"/>
          <a:stretch/>
        </p:blipFill>
        <p:spPr>
          <a:xfrm>
            <a:off x="609480" y="914400"/>
            <a:ext cx="8229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ff"/>
                </a:solidFill>
                <a:latin typeface="Tahoma"/>
              </a:rPr>
              <a:t>Конусный театр</a:t>
            </a:r>
            <a:r>
              <a:rPr b="0" lang="ru-RU" sz="4200" spc="-1" strike="noStrike">
                <a:solidFill>
                  <a:srgbClr val="6600ff"/>
                </a:solidFill>
                <a:latin typeface="Arial"/>
              </a:rPr>
              <a:t> «Новый год»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59" name="Picture 5" descr="DSC_1127"/>
          <p:cNvPicPr/>
          <p:nvPr/>
        </p:nvPicPr>
        <p:blipFill>
          <a:blip r:embed="rId1"/>
          <a:stretch/>
        </p:blipFill>
        <p:spPr>
          <a:xfrm>
            <a:off x="2819520" y="1219320"/>
            <a:ext cx="364176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ff"/>
                </a:solidFill>
                <a:latin typeface="Tahoma"/>
              </a:rPr>
              <a:t>Театр масок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61" name="Picture 4" descr="DSC_1129"/>
          <p:cNvPicPr/>
          <p:nvPr/>
        </p:nvPicPr>
        <p:blipFill>
          <a:blip r:embed="rId1"/>
          <a:stretch/>
        </p:blipFill>
        <p:spPr>
          <a:xfrm>
            <a:off x="2666880" y="1219320"/>
            <a:ext cx="36766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Перчаточный театр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63" name="Picture 5" descr="DSC_1141"/>
          <p:cNvPicPr/>
          <p:nvPr/>
        </p:nvPicPr>
        <p:blipFill>
          <a:blip r:embed="rId1"/>
          <a:stretch/>
        </p:blipFill>
        <p:spPr>
          <a:xfrm>
            <a:off x="1600200" y="1447920"/>
            <a:ext cx="617220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Театр на ладошке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65" name="Picture 5" descr="DSC_0388"/>
          <p:cNvPicPr/>
          <p:nvPr/>
        </p:nvPicPr>
        <p:blipFill>
          <a:blip r:embed="rId1"/>
          <a:stretch/>
        </p:blipFill>
        <p:spPr>
          <a:xfrm>
            <a:off x="1447920" y="1447920"/>
            <a:ext cx="640080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Театр на палочках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3800"/>
            </a:b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«Репка», «Курочка Ряба»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67" name="Picture 4" descr="DSC_1028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838080" y="222444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Чем театр так хоро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ты в сказку попадёшь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верят в волшеб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Здесь дружат с чуде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Все сказки ная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cab80"/>
                </a:solidFill>
                <a:latin typeface="Times New Roman"/>
                <a:ea typeface="Times New Roman"/>
              </a:rPr>
              <a:t>Приходят в гости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Tahoma"/>
              </a:rPr>
              <a:t>Взаимодействие с родителями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Консультации для родителей на тем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Поиграйте с ребёнком в сказку!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Влияние пальчикового театра на развитие мелкой моторики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Дети и театр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Совместные творческие мастерские по изготовлению декораци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костюмов и атрибут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Пополнение группы новыми видами театр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Мини-проект «Сказки моего детства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4"/>
          <p:cNvSpPr/>
          <p:nvPr/>
        </p:nvSpPr>
        <p:spPr>
          <a:xfrm>
            <a:off x="1447920" y="380880"/>
            <a:ext cx="670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2d700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Users\user\Desktop\МАМА\Эльвира\ФОТО\Рисунки\ладони.jpeg"/>
          <p:cNvPicPr/>
          <p:nvPr/>
        </p:nvPicPr>
        <p:blipFill>
          <a:blip r:embed="rId1"/>
          <a:stretch/>
        </p:blipFill>
        <p:spPr>
          <a:xfrm>
            <a:off x="3200400" y="1981080"/>
            <a:ext cx="3086280" cy="3086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Цель программы: развитие способностей детей средствами театрального искусства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1.Создать условия для развития творческой активности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2.Совершенствовать артистические навы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3.Учить имитировать характерные движения сказочных животны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4.Активизировать словарь детей, совершенствовать звуковую культуру речи, интонационный строй, диалогическую реч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5.Познакомить детей с различными видами теат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6.Обучать детей элементам художественно – образных выразительных средств (интонация, мимика, пантомимик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Основные направления работы кружка:</a:t>
            </a: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театрально – игровая деятельность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музыкально – творческое развитие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художественно- речевая деятельность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основы театральной культуры</a:t>
            </a:r>
            <a:br>
              <a:rPr sz="2900"/>
            </a:br>
            <a:r>
              <a:rPr b="1" lang="ru-RU" sz="2900" spc="-1" strike="noStrike">
                <a:solidFill>
                  <a:srgbClr val="6600ff"/>
                </a:solidFill>
                <a:latin typeface="Arial"/>
              </a:rPr>
              <a:t>-работа над спектаклем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66"/>
                </a:solidFill>
                <a:latin typeface="Tahoma"/>
              </a:rPr>
              <a:t>Формы работы</a:t>
            </a:r>
            <a:endParaRPr b="0" lang="en-US" sz="4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990720"/>
            <a:ext cx="5715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Речевые иг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Ритмопласт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Инсценировка песен, попевок, хоровод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Использование различных видов теат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Драматизация сказ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Посещение теа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e2d7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ahoma"/>
              </a:rPr>
              <a:t>Взаимодействие с родителям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ff"/>
                </a:solidFill>
                <a:latin typeface="Tahoma"/>
              </a:rPr>
              <a:t>Мини музей кукол</a:t>
            </a: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 </a:t>
            </a:r>
            <a:br>
              <a:rPr sz="3800"/>
            </a:br>
            <a:r>
              <a:rPr b="0" lang="ru-RU" sz="3800" spc="-1" strike="noStrike">
                <a:solidFill>
                  <a:srgbClr val="6600ff"/>
                </a:solidFill>
                <a:latin typeface="Arial"/>
              </a:rPr>
              <a:t>«В гостях у сказки»</a:t>
            </a:r>
            <a:endParaRPr b="0" lang="en-US" sz="3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35" name="Picture 5" descr="DSC_0616"/>
          <p:cNvPicPr/>
          <p:nvPr/>
        </p:nvPicPr>
        <p:blipFill>
          <a:blip r:embed="rId2"/>
          <a:stretch/>
        </p:blipFill>
        <p:spPr>
          <a:xfrm>
            <a:off x="457200" y="1828800"/>
            <a:ext cx="3589200" cy="478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DSCN1380"/>
          <p:cNvPicPr/>
          <p:nvPr/>
        </p:nvPicPr>
        <p:blipFill>
          <a:blip r:embed="rId3"/>
          <a:stretch/>
        </p:blipFill>
        <p:spPr>
          <a:xfrm>
            <a:off x="4114800" y="2362320"/>
            <a:ext cx="4800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4343400" y="3048120"/>
            <a:ext cx="4403880" cy="3303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228600" y="3962520"/>
            <a:ext cx="3962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М</a:t>
            </a:r>
            <a:r>
              <a:rPr b="0" lang="ru-RU" sz="4200" spc="-1" strike="noStrike">
                <a:solidFill>
                  <a:srgbClr val="04617b"/>
                </a:solidFill>
                <a:latin typeface="Tahoma"/>
              </a:rPr>
              <a:t>узей </a:t>
            </a: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русской </a:t>
            </a:r>
            <a:r>
              <a:rPr b="0" lang="ru-RU" sz="4200" spc="-1" strike="noStrike">
                <a:solidFill>
                  <a:srgbClr val="04617b"/>
                </a:solidFill>
                <a:latin typeface="Tahoma"/>
              </a:rPr>
              <a:t>кукл</a:t>
            </a:r>
            <a:r>
              <a:rPr b="0" lang="ru-RU" sz="4200" spc="-1" strike="noStrike">
                <a:solidFill>
                  <a:srgbClr val="04617b"/>
                </a:solidFill>
                <a:latin typeface="Arial"/>
              </a:rPr>
              <a:t>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648320" y="1066680"/>
            <a:ext cx="39621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М</a:t>
            </a: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узей </a:t>
            </a: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пластмассовой игру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DSCN1381"/>
          <p:cNvPicPr/>
          <p:nvPr/>
        </p:nvPicPr>
        <p:blipFill>
          <a:blip r:embed="rId2"/>
          <a:stretch/>
        </p:blipFill>
        <p:spPr>
          <a:xfrm>
            <a:off x="304920" y="228600"/>
            <a:ext cx="4914720" cy="3670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4343400" y="3200400"/>
            <a:ext cx="4403880" cy="3303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"/>
          <p:cNvSpPr/>
          <p:nvPr/>
        </p:nvSpPr>
        <p:spPr>
          <a:xfrm>
            <a:off x="838080" y="4952880"/>
            <a:ext cx="33530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М</a:t>
            </a: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узей </a:t>
            </a: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современных кук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5410080" y="1219320"/>
            <a:ext cx="33530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М</a:t>
            </a:r>
            <a:r>
              <a:rPr b="0" lang="ru-RU" sz="3600" spc="-1" strike="noStrike">
                <a:solidFill>
                  <a:srgbClr val="04617b"/>
                </a:solidFill>
                <a:latin typeface="Tahoma"/>
              </a:rPr>
              <a:t>узей </a:t>
            </a: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по сказк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4496040" cy="3373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4419720" y="3048120"/>
            <a:ext cx="4419360" cy="3316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685800" y="4343400"/>
            <a:ext cx="33526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Дюймов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5105520" y="1295280"/>
            <a:ext cx="33526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Arial"/>
              </a:rPr>
              <a:t>Принцесса на горош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11:15Z</dcterms:created>
  <dc:creator>USER</dc:creator>
  <dc:description/>
  <dc:language>en-US</dc:language>
  <cp:lastModifiedBy>111</cp:lastModifiedBy>
  <dcterms:modified xsi:type="dcterms:W3CDTF">2018-12-13T09:48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