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D1CF-881C-4011-9161-35AE9575D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510B-AA0F-4DC7-975C-2884BD93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09685-025D-4638-B00A-A6720F50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C9A05-ED3A-4CF3-9940-4F7C1796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94E041-AA8E-4015-8BF6-1FE44395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57D638-0265-4660-A1D5-6F9E5CEB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EB2B08-BE35-4758-ABAB-C4D1D4AC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4855B-CE8E-42EA-B83A-C47B5875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E39A7-FD30-404E-9489-EB9A7079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BC15C-F10D-477A-97D6-68A7DF05D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7918B-58D9-4D55-B478-387E7D40D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0DEAF-D8E6-4E0D-A7DC-DA1EF850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9DA3-C661-4393-8F29-DD191AAE6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BDBFED-30B6-4FAA-A579-C7FB5909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CD14E-891D-428A-8B1F-19A7156E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38CD7-EC96-40BC-9BA1-D955C67B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C2BFD-A1CA-4C54-9DEC-CA7261D3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3ADC83-4297-4E58-A274-04D76B73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1A1C80-B5CB-4E5A-AFE2-E4051361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6ADCF-23CD-4A29-9EF5-4E8282AA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98C4FE-6294-41EE-ADC0-0CE11117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1B29C3-698D-4B40-A757-F723B31E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7BC6C-3EF2-4092-BA85-524C1F1AC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5870-0EAB-45C6-B0F9-CC5137C5D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8C7E6-6B8B-4641-A977-C3C88BE03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90F06-C223-4180-9C13-64696F8C0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E4015-F649-4EB8-895D-C41C2D54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E8447-D693-4C7E-8A96-FCA1344E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546FF-D6C3-4744-A26B-52A5FE34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A1D17-CEA0-4E58-B118-BA2988B5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B157D-216C-47D3-83FB-D8791A62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E0ED4-05C4-4F18-8617-2C45A9A9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F3286-0693-4AF1-B657-F81D5A79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E478C-E4B5-49A5-8D42-1B55AE94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3D21-044A-4FED-B9F5-DE3C9445F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FDE14-9DB1-41CF-AD60-3872C055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1C536-79BE-4BC4-81F4-311305D4D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B0D7C-59DD-43EA-B54D-0CA14B6F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5998B-1635-4062-90A1-470C9CB4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2EF087-F9F8-40AB-A2AF-1EDCEAB2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CDCE7C-573E-4D03-9115-102975FE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3B949A-AE77-43B5-AAE8-862440ED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93EE48-C5AC-48F1-A7F7-7AFD00A3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7890C7-26BA-44BF-8CD0-E015F4A1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DAFC46-C1B0-4939-AFEF-4AEACBE0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0ED3-D126-45FD-B894-1B98153E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FCED22-68CE-423D-AEE0-852093A0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E9CF88-7D2C-496A-9CB3-F39EC0DE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A2DC54-A064-4D0B-908D-E412748D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59C9E1-78F4-4574-A83F-69593B4FD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D104F-F359-4413-8524-604BD796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A15C1F-8C89-44F8-96E3-BBEF80E54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0F999D-0FBB-43DE-9CF5-369D3348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C1D167-54DD-486B-B8A2-DF282A18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F4BF8F-574A-41A4-A2A7-5B23F09A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6C77EB-15E5-434C-A8FE-F9820A13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915E-E1B0-4C6F-92F4-B86DE1E9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2FD618-D8BE-48A1-9681-E00E4D09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B76FCE-F30E-4552-8EC9-037392D8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3256F5-AC54-4026-96FD-75A5C45C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4DF784-CB7D-4EA2-9F80-A5D1837F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B8B39B-A5F4-46F8-8B45-9C6C0D16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36BA89-06BD-4227-A67A-C645EA019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B6CDDD-D339-4FA6-BA70-1DEFB2D26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99F4-73E2-421F-9F51-33C6E7D8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92F4EC-F0C3-47E3-97A0-3F394D4CC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14CD-A3CD-4371-B71B-00DAFBBB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CB70A6-C469-41B4-895B-4D6CE361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7E273C-2405-4619-8505-4C3C36CC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86E0EE-E4DB-4933-8EE3-839176AC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9D1929-073E-4B83-A97A-09C7F65D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E6D222-921B-43DD-A883-71DDE776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AB1F64-E0C7-4586-9B5B-E408FE3B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4084D0-FD52-465D-93BD-300CCF3E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05B9DC-7457-4147-8F06-9E59A406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A42CD6-C506-46E0-B1C7-31AFE49B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AB8726-2CA6-4098-B476-89C44D487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710E-A0BB-4DD8-A4A8-9D305DDE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483CCC-DA83-4AE4-AB1B-50B392125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28E5D8-B05E-491B-8B32-4BAD92918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C007E6-5F74-493E-9CA3-241D1A07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FC0A07-497E-4421-81AA-BEC3DC4B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BA9A2A-F36F-474F-8883-C0D06322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986BEC-5E51-45D0-9FFE-CEDEB980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64DC29-9148-45A1-B7B4-575227EB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9A4FBE-14CE-499F-98F0-B00623FC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DE376D-1000-439B-96B3-600F5784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F3341C-10A2-49ED-9C59-85984809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DDE7-3984-4EE0-8DE4-6F431547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D5BBC7-7843-4509-B2F6-9D503C6B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5CBDE4-DD7D-4B40-A63B-A49CFA7D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A9062E-7805-4054-8376-526EA7CFF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3A42A1-3E62-44CC-AC7B-70E470D9C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4E856D-ECEB-4282-ACE7-2F222141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6C0E7D-E896-45CD-A045-7F39BEC2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322BED-7D34-4B87-BCC4-0E30CB1E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22933E-5BAC-4078-8422-3BFA920B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435F0A-B689-4C59-8992-B364B2E5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722740-EF62-4F8C-9BB1-4870182F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5747-731A-49BD-978E-4CB9116C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F9C7-982D-4995-8CA9-43BADD13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C4EB83-B242-4599-A001-17C7B0E6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0708EB-9CC5-4514-BCF1-F32A7273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10ECB0-B512-4263-A23B-42E26913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3799A9-C315-4FCF-9FFA-F06B5EA9D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E90EE1-7B11-4142-BC13-F863EF3C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446614-DA0A-4F28-92C6-FDF944CC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FA54E5-CBF3-4F00-8154-344F933D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A98791-E1ED-4B16-8119-9A8B6CB5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A545DE-CB3D-4307-B95C-2AEC5CAD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437D56-E507-4443-BFAC-BC6C94B1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330E-4D8C-4518-B823-762385F3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1049E0-1495-47D1-9E78-295975E5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BBE0D2-77EC-4A08-A9C5-4D5B8E69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713BB5-3939-417E-ADB7-410F1CF4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C54863-E7EB-411E-AEE5-2D6102F8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8AF59E-F80A-41D2-9495-3217F618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065E4A-7A4B-436C-BF53-41E281220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5A8462-6C84-4700-981A-E06BD91B1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3FBCDB-B3B9-431C-85A7-B91249558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E368B2-1BB0-4219-8AD9-CCD7B3CA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3FD0FC-C77B-4241-AAA6-A9E5EE74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C8D1-7AD8-46CC-BB98-3C5C6F2D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11783A-CE8B-4166-91D3-4F198A95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21C322-43E3-4BA7-846D-68930080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D058D9-37E0-40BF-B130-CEDB27F0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42E396-316B-428F-A22B-00916AE1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09EEB6-C2AE-4368-95A8-93F450AF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C72C63-4535-4D8B-8E8F-3A6B1A29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869C6D-8CB9-4279-AF51-E2F78A68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CC6014-5B9A-4D36-9CEE-8D0AD732C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1B2D1F-4931-4DED-A06F-FC4A90D6F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9B9335-6EE3-4CF7-8F1B-460D1579C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C34E-8B2C-46AA-B742-7F8138D06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4542DD-892A-4616-8CFD-215D0D7E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D51E01-744F-485F-AA90-5F0DE85C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57BD21-0A3E-4319-B6D4-23951E5B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B2AD90-6968-4EC2-A373-87B85DDF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3E4485-08BB-48F9-AC85-71536F62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0737A0-858F-4244-A9F0-7CC411E2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96FD2B-7067-4031-95D2-01587D55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A37FC6-8D39-4A5C-A165-A3EBCF3E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73E210-7BE0-4A06-862A-570DD275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F75F79-3394-47B4-9B3E-39792C813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957B-A4F3-442A-943C-4A474C7B1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F6E9C6-748D-4DA4-863C-93A36E85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4F14A6-ECD2-413A-BC3A-1A15F6C68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F35613-BDAF-48C8-90FA-F68753A9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8EF652-6887-4F6F-AE58-B92F2A77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5C5C6F-4D71-41ED-9CCD-C4A4528A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6F74FD-8D21-4E77-B0A5-60DBB645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B968F6-9903-46A5-9D57-E114914B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B7BD71-6C4E-4E82-8EF3-44C39457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D87F0D-D04E-40A1-9A28-0D9996F0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3045B8-83E5-4628-8781-FCEBB929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38448-6222-4AE9-BE34-CF9A7DD4A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D2C9B0-0E20-4FEF-A1E7-B363EC05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A7B9B6-8C15-4CAE-BBA3-AF4324D53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72F0B4-981B-4C8A-9D32-1BFED4238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DFF126-FE07-4A16-982D-15F17A00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C368CE-7E54-4B9A-9B14-21F3602C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154325-7996-43E0-9D33-D6D9EF5E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2358A1-62F6-4175-AB23-59FA64B6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392AE4-15F0-4928-8E45-64A114BA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E132A5-1B11-4B18-B8CE-E7E56629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7A0FFB-1626-4574-946B-0804D480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2E6BB-427C-4640-ABB4-BE6CD351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98B30E-77E7-47C4-86CA-DE3C0BD0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51ADAF-FB3E-452C-9D74-11F2F5B1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4F9751-568B-4199-8EB9-B5BEC9FC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7FFDAC-1168-4C00-B963-38828BD80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EDDD04-F2C8-46E3-8F09-1DAFCF5B8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073FD5-6782-4818-99BA-6EF4FF055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58ABFA-A186-4C47-A436-468304C3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626170-3434-4A85-A9D9-A4494A05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80DE97-9058-46B1-895E-A700E005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0E5E27-F906-4C4C-82D3-4220BD0C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A225C-DCC9-4C3B-ACD0-6432000C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DC52C3-3366-4478-95D9-B8E67DCE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24A278-0220-4C3F-9BC5-725CC619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4D92D6-C588-439E-BF13-50E6E312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917CF1-C903-4CED-9255-40ECD26A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C3CB3B-0125-4685-A807-8872D04C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E24FF4-0EFD-44A3-9DAC-C01045FD0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91FC7A-8EDE-4D8F-985E-3A2AC3097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A6EC2B-B030-465E-9B07-3E3A9978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AFA51A-08D8-4507-AB03-EDC083A9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377630-7599-4AF1-8C9A-42B6DF1E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30DBA-A2E7-41E7-8710-EAB4D542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89CDA0-E137-4563-AE00-EB06D094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4244D6-CA7E-49F6-9C18-24CDE9FF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A96A47-E1FB-4EC4-8ECB-1885F7E4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5E38C2-5EFB-4A0E-8B71-B87826C9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FE7E49-5CDF-400C-86D8-BB51E238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FCCED6-1C5C-490D-A9F9-64A076AF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9A040D-D0C6-477D-9762-F817FD82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EFF091-5DBA-452B-A535-6A86F4F18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45CE57-709E-464B-8C2C-00F7F8531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30DEBD-A94D-49C9-BE70-BF406798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AA5D4-444E-4AB3-BEA1-259CE3C9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773303-E49E-4B34-B0A2-0FFA11E7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CED7F1-B0D2-43B6-9662-2E5CD47C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1016858-DD56-4E25-BF2C-42CB197D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374DF6-FD7F-460E-90D4-B09A4C85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65B60C-C4B9-4907-957F-1C5ECD35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8C6AC2-E95F-4A1F-ADE2-98128067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C38DBC-A1C6-468E-A46C-4D6668C0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5975E9-3B33-4281-93AE-3B3D1418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2DF69F-B996-4980-AA56-95466B86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DDE199-EE76-416B-A98A-04DC9763F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C4A2-C4E4-4B87-8381-407AE84C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37996-2477-42C5-873A-B770B3A2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638143-65EE-4E9F-B10D-B01CE21B5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35A6F8C-21AE-4509-A7BC-61E8891B2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71B400-608D-42AF-B483-A7F5C300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951594-ECC4-4B53-B0E2-4A6F9568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08D2034-F62E-4A92-86B5-C9B7DEA8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EA58A8-E3EB-4905-9C5A-2CC874CC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4CAE3BE-57DE-45DD-B32D-D3C230FA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AEB24C3-D5B3-4642-8C38-368C51E6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D8C260-3048-4628-BD6B-835CE0C9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402DA89-5F37-4A80-9B9A-1DBDC4E7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C480F-663C-4D5B-A9E9-9700381C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8A02A8-84FA-4BC5-B56F-ED25B470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5B4AB0-A3D0-4A27-AFEF-D6A4958B9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3D5BFEA-C2C6-458E-A511-F4248813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016CF-51F5-41AA-ADB5-DCA3FB15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7FF2B-6D51-4A01-9EF5-2BE8BC6A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2BC79-2F2A-47BB-8B4F-F80F334A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22041-CCB3-4092-8B79-84FB61161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C2106-E7A5-4EB5-B2D5-8A12BAC8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12821-9CF1-4FD5-9DFC-5C45BEED5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23289-D282-4304-B5C9-3367D862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586C0-023F-4008-AACD-4B591CFD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9701-6797-4ADF-BDE0-BC210014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CD3B1-3DB8-4055-A977-5A10C6D6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510DE-E382-49D7-AA96-17DC2E95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075BD-B4BE-48C3-BAED-95797076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93756-87FA-4C34-AEF4-C692AE33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45432-0FD7-4831-A903-B68D6103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34F8A-9965-4773-931D-215EF141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0800F-316B-4F41-B7F3-65D0212D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DCDCA-A0E6-42BD-B2DC-0A9028743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5AA07-32CF-4464-8480-287055801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E8F3B-1E12-4A71-A94A-1AD6EE6FF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3E4A-A391-4156-BF94-E3D53F63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0E5A5-3F7D-41C9-B317-45C5231F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1578A-0DE0-4219-BFF2-A54AEF77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8E0B2-3CEB-474C-8A2C-CB3C6E69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69734-02C1-44FB-A7A5-0C494829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0635A-C3B3-47F4-955A-E37BFE2C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CEAD8-EB24-4825-9555-8ED273A3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3B23E-B8F0-4F5F-9807-4091C0EC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65F40-C77D-49A2-A50A-51A3D08E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1799F-A15C-481B-898B-B1C8F51A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82EE9-A2D7-4DBC-B2B8-2FD86591E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F7A6-37AC-4B1E-A791-DDFA14A4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08F36-1892-4735-8C39-9F3720FE0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CF3B8-4811-458C-BBF7-8E2A90C97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A8C2E-1508-4565-8C50-C1CA2D95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146B0-2C57-4E7C-A853-A784297D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EB7A9-3A23-428E-A6CF-22CA10FB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DF52A-9631-45A5-A0AA-787819A9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484AA-D630-4D6F-BE07-B70134A9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0ED04-C01C-4B01-8E7C-218255CF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40CC2-C3AB-4E01-94C8-45560E4C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B7A96-D1EF-4880-B23E-32D50B39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1BAE-E47B-47EA-8D00-36777E9C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36F8E-F86B-4E9B-BB15-941E1F44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D764E-3E02-4B35-8E8F-6A088F17D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FDE46-52A5-4316-8085-3FF1FA247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EF174-695E-44FA-A667-500C7011F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1A9E0-3871-493D-88D3-B1C6DD84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A6547-01CE-4451-92EB-F6B10D23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188AD-1D5E-46EB-91AC-A7A2C4C0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DF6DF-4FBE-422B-81EA-DF4110E9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79D89-D2F2-47C0-8E95-2A8C0F8F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FB718-2C1B-44C2-8E4A-3C44E975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031D-5541-423C-8817-503BAC34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13ABD-3B97-4EB7-8C58-1B16F2ED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883E3-F3FB-4663-97DD-E4A22A56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E13F4-6C34-4D3E-83E5-4DD76DE9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78F55-EC8E-4C73-9443-CFC48225D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7B7DC-8497-4ED5-BE5A-31770B3F8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7AA96-2B7B-4509-9D02-DA7ED3FD9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43110-735C-4CE4-A385-9E5F316E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17749-DE96-49DD-95D9-8ED1FA24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307E9-3B1B-4EB2-88CD-B17F563A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E6101-C9DB-42AD-AABD-05B119FA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E7F5-0DBE-4AD3-BF63-951A2C1D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74543-7B3E-4782-85D3-46BBAAA6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83B37-BD77-45E5-AF6E-A4BF6507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15CA9-110B-42B0-AE2B-2D86CAE2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C911B-44EB-430A-88C6-DAF82BAC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C6D1B-284D-4823-93C6-3752A901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5629D-CA85-4107-809A-AEA7622E5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AE385-C686-483A-A3A3-F2FF079EC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20B96-5BB0-4EEB-8CC0-89E85F6D1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444B3-6D41-4730-A699-66C0C21F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00EAB-A1C1-4695-A072-A655C30F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1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alibri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40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74CE-142B-416D-99FC-000E8B4BE46D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45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3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2D81-EF5E-49F6-B949-09112FC9B741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49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6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0558-2170-4A51-8391-156312E261D1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54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9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4A72-8771-4FA0-BF80-486F418123C8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87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6760-B159-42F3-AF13-236DB5E51F5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3F17-E6E2-4F79-A8A5-AC1A92FE016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F147-F34C-455D-8833-F4CC025B8D4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3223-D09D-416C-BE4F-8FF6E61A91D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B3F9-5EA9-4975-A12C-CA929808333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07E0-7637-46FA-BA49-6D92EFA088B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29AF-81C9-40DA-A363-BF95058596C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AC06-CF56-411C-BE71-234500CA6A4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D1C5-D65D-4381-A4CF-EB8BB141142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4B25-9797-4AF6-9A39-4CB43BED5BE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B59E-CB88-4E80-96D0-178660F056E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6A73-6F74-49A5-B32B-4E4C5590A73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CD7D-E2EB-40F2-8E4E-6197B4C26A9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91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0" descr="a_e2d893b5.jpg"/>
          <p:cNvPicPr/>
          <p:nvPr/>
        </p:nvPicPr>
        <p:blipFill>
          <a:blip r:embed="rId5"/>
          <a:stretch/>
        </p:blipFill>
        <p:spPr>
          <a:xfrm>
            <a:off x="142920" y="142920"/>
            <a:ext cx="1428840" cy="1896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938640" y="6500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alibri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13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0EC5-2DBC-4A55-A03A-9AAE68FA5FD0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18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B3CC-AED7-4A2A-B7B2-76311E55F517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22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9D2D-7709-4EAE-8A40-EA5FE8121CFB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27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21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05CA-BB46-4778-A20E-976D1FAE1D5E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31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9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CA7B-8349-47F9-9418-C2609936A00D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Скругленный прямоугольник 8"/>
          <p:cNvGrpSpPr/>
          <p:nvPr/>
        </p:nvGrpSpPr>
        <p:grpSpPr>
          <a:xfrm>
            <a:off x="73080" y="-55440"/>
            <a:ext cx="9064440" cy="6992640"/>
            <a:chOff x="73080" y="-55440"/>
            <a:chExt cx="9064440" cy="6992640"/>
          </a:xfrm>
        </p:grpSpPr>
        <p:pic>
          <p:nvPicPr>
            <p:cNvPr id="36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73080" y="-55440"/>
              <a:ext cx="9064440" cy="69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35120" y="592200"/>
              <a:ext cx="7745400" cy="56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4" name="Рисунок 9" descr="1263974281_6.jpg"/>
          <p:cNvPicPr/>
          <p:nvPr/>
        </p:nvPicPr>
        <p:blipFill>
          <a:blip r:embed="rId4"/>
          <a:stretch/>
        </p:blipFill>
        <p:spPr>
          <a:xfrm>
            <a:off x="6908760" y="5357880"/>
            <a:ext cx="1521000" cy="11239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4642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14EF-1EE3-4089-A3AF-C7901AEBF030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Горизонтальный свиток 4"/>
          <p:cNvSpPr/>
          <p:nvPr/>
        </p:nvSpPr>
        <p:spPr>
          <a:xfrm>
            <a:off x="1714680" y="571680"/>
            <a:ext cx="5857560" cy="2214360"/>
          </a:xfrm>
          <a:prstGeom prst="horizontalScroll">
            <a:avLst>
              <a:gd name="adj" fmla="val 12500"/>
            </a:avLst>
          </a:prstGeom>
          <a:solidFill>
            <a:srgbClr val="ddffd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71424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5e3c"/>
                </a:solidFill>
                <a:latin typeface="Calibri"/>
              </a:rPr>
              <a:t>Имя существительное</a:t>
            </a:r>
            <a:br>
              <a:rPr sz="4400"/>
            </a:br>
            <a:r>
              <a:rPr b="1" lang="ru-RU" sz="4400" spc="-1" strike="noStrike">
                <a:solidFill>
                  <a:srgbClr val="4f5e3c"/>
                </a:solidFill>
                <a:latin typeface="Calibri"/>
              </a:rPr>
              <a:t> как часть ре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subTitle"/>
          </p:nvPr>
        </p:nvSpPr>
        <p:spPr>
          <a:xfrm>
            <a:off x="3924000" y="4365720"/>
            <a:ext cx="3848040" cy="127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Ягупова И.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Box 6"/>
          <p:cNvSpPr/>
          <p:nvPr/>
        </p:nvSpPr>
        <p:spPr>
          <a:xfrm>
            <a:off x="4786200" y="658188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Прямоугольник 1"/>
          <p:cNvSpPr/>
          <p:nvPr/>
        </p:nvSpPr>
        <p:spPr>
          <a:xfrm>
            <a:off x="1403280" y="1557360"/>
            <a:ext cx="63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8d5a"/>
                </a:solidFill>
                <a:latin typeface="Calibri"/>
              </a:rPr>
              <a:t>-Наш урок подошел к конц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8d5a"/>
                </a:solidFill>
                <a:latin typeface="Calibri"/>
              </a:rPr>
              <a:t>И умный вид вам всем к лиц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8d5a"/>
                </a:solidFill>
                <a:latin typeface="Calibri"/>
              </a:rPr>
              <a:t>Все вы милы и симпатич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68d5a"/>
                </a:solidFill>
                <a:latin typeface="Calibri"/>
              </a:rPr>
              <a:t>И отвечали на «отлично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Горизонтальный свиток 1"/>
          <p:cNvSpPr/>
          <p:nvPr/>
        </p:nvSpPr>
        <p:spPr>
          <a:xfrm>
            <a:off x="1187280" y="333360"/>
            <a:ext cx="6697800" cy="1440000"/>
          </a:xfrm>
          <a:prstGeom prst="horizontalScroll">
            <a:avLst>
              <a:gd name="adj" fmla="val 12500"/>
            </a:avLst>
          </a:prstGeom>
          <a:solidFill>
            <a:srgbClr val="ddffd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5e3c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Прямоугольник 2"/>
          <p:cNvSpPr/>
          <p:nvPr/>
        </p:nvSpPr>
        <p:spPr>
          <a:xfrm>
            <a:off x="1288800" y="2565360"/>
            <a:ext cx="664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чая тетрадь с. 24 упр.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ноуровневые задания (на выбор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Приветствие учащихся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– 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а уроке я сижу –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е шумлю и не кричу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Руку тихо поднимаю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Если спросят, отвечаю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Box 3"/>
          <p:cNvSpPr/>
          <p:nvPr/>
        </p:nvSpPr>
        <p:spPr>
          <a:xfrm>
            <a:off x="4786200" y="658188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wina.ucoz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Горизонтальный свиток 2"/>
          <p:cNvSpPr/>
          <p:nvPr/>
        </p:nvSpPr>
        <p:spPr>
          <a:xfrm>
            <a:off x="1187280" y="333360"/>
            <a:ext cx="6697800" cy="1655640"/>
          </a:xfrm>
          <a:prstGeom prst="horizontalScroll">
            <a:avLst>
              <a:gd name="adj" fmla="val 12500"/>
            </a:avLst>
          </a:prstGeom>
          <a:solidFill>
            <a:srgbClr val="ddffd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5e3c"/>
                </a:solidFill>
                <a:latin typeface="Calibri"/>
              </a:rPr>
              <a:t>Каллиграфическая 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Прямоугольник 1"/>
          <p:cNvSpPr/>
          <p:nvPr/>
        </p:nvSpPr>
        <p:spPr>
          <a:xfrm>
            <a:off x="1547640" y="2637000"/>
            <a:ext cx="59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о дворе замерзли лужи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Целый день поземка кружит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али белыми дома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Это к нам пришла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Выноска-облако 4"/>
          <p:cNvSpPr/>
          <p:nvPr/>
        </p:nvSpPr>
        <p:spPr>
          <a:xfrm>
            <a:off x="5435640" y="4226040"/>
            <a:ext cx="1942920" cy="71892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fff0a4"/>
              </a:gs>
              <a:gs pos="100000">
                <a:srgbClr val="fffbe5"/>
              </a:gs>
            </a:gsLst>
            <a:lin ang="16200000"/>
          </a:gradFill>
          <a:ln w="9360">
            <a:solidFill>
              <a:srgbClr val="ccb66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Зим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7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17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evt="onNext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" dur="1" fill="hold"/>
                                  <p:tgtEl>
                                    <p:spTgt spid="11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1177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evt="onClick">
                          <p:tgtEl>
                            <p:spTgt spid="1177"/>
                          </p:tgtEl>
                        </p:cond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evt="end">
                                        <p:tn val="14"/>
                                      </p:cond>
                                    </p:stCondLst>
                                  </p:cTn>
                                  <p:tgtEl>
                                    <p:spTgt spid="1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Горизонтальный свиток 3"/>
          <p:cNvSpPr/>
          <p:nvPr/>
        </p:nvSpPr>
        <p:spPr>
          <a:xfrm>
            <a:off x="1187280" y="333360"/>
            <a:ext cx="6697800" cy="1440000"/>
          </a:xfrm>
          <a:prstGeom prst="horizontalScroll">
            <a:avLst>
              <a:gd name="adj" fmla="val 12500"/>
            </a:avLst>
          </a:prstGeom>
          <a:solidFill>
            <a:srgbClr val="ddffd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5e3c"/>
                </a:solidFill>
                <a:latin typeface="Calibri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Прямоугольник 4"/>
          <p:cNvSpPr/>
          <p:nvPr/>
        </p:nvSpPr>
        <p:spPr>
          <a:xfrm>
            <a:off x="826920" y="321300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ковь, к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уста, к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тофель, л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а, за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я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403280" y="2707920"/>
            <a:ext cx="590544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5e3c"/>
                </a:solidFill>
                <a:latin typeface="Calibri"/>
              </a:rPr>
              <a:t>Кто?     Что?</a:t>
            </a:r>
            <a:br>
              <a:rPr sz="4400"/>
            </a:br>
            <a:r>
              <a:rPr b="1" lang="ru-RU" sz="4400" spc="-1" strike="noStrike">
                <a:solidFill>
                  <a:srgbClr val="4f5e3c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Прямоугольник 2"/>
          <p:cNvSpPr/>
          <p:nvPr/>
        </p:nvSpPr>
        <p:spPr>
          <a:xfrm>
            <a:off x="1100880" y="2565360"/>
            <a:ext cx="730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 такое имя существительно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Прямоугольник 2"/>
          <p:cNvSpPr/>
          <p:nvPr/>
        </p:nvSpPr>
        <p:spPr>
          <a:xfrm>
            <a:off x="900000" y="1916280"/>
            <a:ext cx="691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5e3c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4f5e3c"/>
                </a:solidFill>
                <a:latin typeface="Calibri"/>
              </a:rPr>
              <a:t>Имя существительное – </a:t>
            </a:r>
            <a:r>
              <a:rPr b="0" lang="ru-RU" sz="3600" spc="-1" strike="noStrike">
                <a:solidFill>
                  <a:srgbClr val="4f5e3c"/>
                </a:solidFill>
                <a:latin typeface="Calibri"/>
              </a:rPr>
              <a:t>часть речи, которая обозначает предмет и отвечает на вопросы </a:t>
            </a:r>
            <a:r>
              <a:rPr b="1" lang="ru-RU" sz="3600" spc="-1" strike="noStrike">
                <a:solidFill>
                  <a:srgbClr val="4f5e3c"/>
                </a:solidFill>
                <a:latin typeface="Calibri"/>
              </a:rPr>
              <a:t>Кто? Чт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7112160" cy="128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421e"/>
                </a:solidFill>
                <a:latin typeface="Calibri"/>
              </a:rPr>
              <a:t>Игра «Кто? Что?»</a:t>
            </a:r>
            <a:endParaRPr b="1" lang="en-US" sz="4400" spc="-1" strike="noStrike">
              <a:solidFill>
                <a:srgbClr val="666699"/>
              </a:solidFill>
              <a:latin typeface="Arial Black"/>
            </a:endParaRPr>
          </a:p>
        </p:txBody>
      </p:sp>
      <p:grpSp>
        <p:nvGrpSpPr>
          <p:cNvPr id="1185" name="Group 27"/>
          <p:cNvGrpSpPr/>
          <p:nvPr/>
        </p:nvGrpSpPr>
        <p:grpSpPr>
          <a:xfrm>
            <a:off x="468360" y="1844640"/>
            <a:ext cx="1838160" cy="2238480"/>
            <a:chOff x="468360" y="1844640"/>
            <a:chExt cx="1838160" cy="2238480"/>
          </a:xfrm>
        </p:grpSpPr>
        <p:graphicFrame>
          <p:nvGraphicFramePr>
            <p:cNvPr id="1186" name="Object 10"/>
            <p:cNvGraphicFramePr/>
            <p:nvPr/>
          </p:nvGraphicFramePr>
          <p:xfrm>
            <a:off x="468360" y="1844640"/>
            <a:ext cx="1838160" cy="1866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87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1844640"/>
                      <a:ext cx="1838160" cy="186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8" name="Text Box 11"/>
            <p:cNvSpPr/>
            <p:nvPr/>
          </p:nvSpPr>
          <p:spPr>
            <a:xfrm>
              <a:off x="501480" y="3501720"/>
              <a:ext cx="160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дерев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Group 17"/>
          <p:cNvGrpSpPr/>
          <p:nvPr/>
        </p:nvGrpSpPr>
        <p:grpSpPr>
          <a:xfrm>
            <a:off x="6195960" y="2706840"/>
            <a:ext cx="1726920" cy="2023560"/>
            <a:chOff x="6195960" y="2706840"/>
            <a:chExt cx="1726920" cy="2023560"/>
          </a:xfrm>
        </p:grpSpPr>
        <p:sp>
          <p:nvSpPr>
            <p:cNvPr id="1190" name="Text Box 14"/>
            <p:cNvSpPr/>
            <p:nvPr/>
          </p:nvSpPr>
          <p:spPr>
            <a:xfrm>
              <a:off x="6302880" y="4149000"/>
              <a:ext cx="15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соба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91" name="Object 16"/>
            <p:cNvGraphicFramePr/>
            <p:nvPr/>
          </p:nvGraphicFramePr>
          <p:xfrm>
            <a:off x="6195960" y="2706840"/>
            <a:ext cx="1726920" cy="1617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92" name="Object 1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95960" y="2706840"/>
                      <a:ext cx="1726920" cy="161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93" name="Group 20"/>
          <p:cNvGrpSpPr/>
          <p:nvPr/>
        </p:nvGrpSpPr>
        <p:grpSpPr>
          <a:xfrm>
            <a:off x="6588000" y="115920"/>
            <a:ext cx="1923840" cy="2381760"/>
            <a:chOff x="6588000" y="115920"/>
            <a:chExt cx="1923840" cy="2381760"/>
          </a:xfrm>
        </p:grpSpPr>
        <p:graphicFrame>
          <p:nvGraphicFramePr>
            <p:cNvPr id="1194" name="Object 18"/>
            <p:cNvGraphicFramePr/>
            <p:nvPr/>
          </p:nvGraphicFramePr>
          <p:xfrm>
            <a:off x="6588000" y="115920"/>
            <a:ext cx="1923840" cy="2016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95" name="Object 1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588000" y="115920"/>
                      <a:ext cx="1923840" cy="20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96" name="Text Box 19"/>
            <p:cNvSpPr/>
            <p:nvPr/>
          </p:nvSpPr>
          <p:spPr>
            <a:xfrm>
              <a:off x="6699600" y="1916280"/>
              <a:ext cx="144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дожд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7" name="Group 23"/>
          <p:cNvGrpSpPr/>
          <p:nvPr/>
        </p:nvGrpSpPr>
        <p:grpSpPr>
          <a:xfrm>
            <a:off x="2987640" y="2060640"/>
            <a:ext cx="1996920" cy="1373400"/>
            <a:chOff x="2987640" y="2060640"/>
            <a:chExt cx="1996920" cy="1373400"/>
          </a:xfrm>
        </p:grpSpPr>
        <p:graphicFrame>
          <p:nvGraphicFramePr>
            <p:cNvPr id="1198" name="Object 21"/>
            <p:cNvGraphicFramePr/>
            <p:nvPr/>
          </p:nvGraphicFramePr>
          <p:xfrm>
            <a:off x="2987640" y="2060640"/>
            <a:ext cx="1996920" cy="100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99" name="Object 21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987640" y="2060640"/>
                      <a:ext cx="1996920" cy="100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00" name="Text Box 22"/>
            <p:cNvSpPr/>
            <p:nvPr/>
          </p:nvSpPr>
          <p:spPr>
            <a:xfrm>
              <a:off x="3252600" y="2852640"/>
              <a:ext cx="1508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радуг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1" name="Group 26"/>
          <p:cNvGrpSpPr/>
          <p:nvPr/>
        </p:nvGrpSpPr>
        <p:grpSpPr>
          <a:xfrm>
            <a:off x="900000" y="4292640"/>
            <a:ext cx="1673280" cy="2237400"/>
            <a:chOff x="900000" y="4292640"/>
            <a:chExt cx="1673280" cy="2237400"/>
          </a:xfrm>
        </p:grpSpPr>
        <p:graphicFrame>
          <p:nvGraphicFramePr>
            <p:cNvPr id="1202" name="Object 24"/>
            <p:cNvGraphicFramePr/>
            <p:nvPr/>
          </p:nvGraphicFramePr>
          <p:xfrm>
            <a:off x="900000" y="4292640"/>
            <a:ext cx="1650960" cy="2025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03" name="Object 2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900000" y="4292640"/>
                      <a:ext cx="1650960" cy="202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04" name="Text Box 25"/>
            <p:cNvSpPr/>
            <p:nvPr/>
          </p:nvSpPr>
          <p:spPr>
            <a:xfrm>
              <a:off x="1491840" y="5948640"/>
              <a:ext cx="10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Кат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5" name="Group 33"/>
          <p:cNvGrpSpPr/>
          <p:nvPr/>
        </p:nvGrpSpPr>
        <p:grpSpPr>
          <a:xfrm>
            <a:off x="3635280" y="4005360"/>
            <a:ext cx="4652280" cy="2442960"/>
            <a:chOff x="3635280" y="4005360"/>
            <a:chExt cx="4652280" cy="2442960"/>
          </a:xfrm>
        </p:grpSpPr>
        <p:sp>
          <p:nvSpPr>
            <p:cNvPr id="1206" name="Text Box 28"/>
            <p:cNvSpPr/>
            <p:nvPr/>
          </p:nvSpPr>
          <p:spPr>
            <a:xfrm>
              <a:off x="5831640" y="4870440"/>
              <a:ext cx="24559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пап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компьюте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mic Sans MS"/>
                </a:rPr>
                <a:t>сто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07" name="Object 32"/>
            <p:cNvGraphicFramePr/>
            <p:nvPr/>
          </p:nvGraphicFramePr>
          <p:xfrm>
            <a:off x="3635280" y="4005360"/>
            <a:ext cx="2332080" cy="2442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08" name="Object 32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635280" y="4005360"/>
                      <a:ext cx="2332080" cy="244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Text Box 5"/>
          <p:cNvSpPr/>
          <p:nvPr/>
        </p:nvSpPr>
        <p:spPr>
          <a:xfrm>
            <a:off x="569880" y="1846440"/>
            <a:ext cx="7365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Если было интересно, легко на уро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во всем разобралис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Oval 6"/>
          <p:cNvSpPr/>
          <p:nvPr/>
        </p:nvSpPr>
        <p:spPr>
          <a:xfrm>
            <a:off x="7586640" y="1996920"/>
            <a:ext cx="934920" cy="863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Rectangle 8"/>
          <p:cNvSpPr/>
          <p:nvPr/>
        </p:nvSpPr>
        <p:spPr>
          <a:xfrm>
            <a:off x="503280" y="312408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Verdana"/>
              </a:rPr>
              <a:t>Если иногда были трудности, сомнения, не совсем понравилась работ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Oval 9"/>
          <p:cNvSpPr/>
          <p:nvPr/>
        </p:nvSpPr>
        <p:spPr>
          <a:xfrm>
            <a:off x="7473960" y="3292560"/>
            <a:ext cx="934920" cy="8636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Text Box 10"/>
          <p:cNvSpPr/>
          <p:nvPr/>
        </p:nvSpPr>
        <p:spPr>
          <a:xfrm>
            <a:off x="584280" y="459756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Verdana"/>
              </a:rPr>
              <a:t>Если не разобрались в тем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Verdana"/>
              </a:rPr>
              <a:t>было не очень интерес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Oval 11"/>
          <p:cNvSpPr/>
          <p:nvPr/>
        </p:nvSpPr>
        <p:spPr>
          <a:xfrm>
            <a:off x="6516720" y="4564080"/>
            <a:ext cx="934920" cy="86364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Прямоугольник 2"/>
          <p:cNvSpPr/>
          <p:nvPr/>
        </p:nvSpPr>
        <p:spPr>
          <a:xfrm>
            <a:off x="3267000" y="83664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Горизонтальный свиток 12"/>
          <p:cNvSpPr/>
          <p:nvPr/>
        </p:nvSpPr>
        <p:spPr>
          <a:xfrm>
            <a:off x="684360" y="333360"/>
            <a:ext cx="7200720" cy="1440000"/>
          </a:xfrm>
          <a:prstGeom prst="horizontalScroll">
            <a:avLst>
              <a:gd name="adj" fmla="val 12500"/>
            </a:avLst>
          </a:prstGeom>
          <a:solidFill>
            <a:srgbClr val="ddffdd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5e3c"/>
                </a:solidFill>
                <a:latin typeface="Calibri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5T10:00:02Z</dcterms:created>
  <dc:creator>Admin</dc:creator>
  <dc:description/>
  <dc:language>en-US</dc:language>
  <cp:lastModifiedBy>User</cp:lastModifiedBy>
  <dcterms:modified xsi:type="dcterms:W3CDTF">2018-04-02T09:20:17Z</dcterms:modified>
  <cp:revision>23</cp:revision>
  <dc:subject/>
  <dc:title>Слайд 1</dc:title>
</cp:coreProperties>
</file>