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6D3-EB8E-44F4-B76F-118FAACF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BAA-8B00-4E1C-BFEC-DF0FBDD4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E862F-EADF-469F-A177-E27FDFB9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FEEB7-A824-4AB2-BCCE-E7485DB6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F06CF-0E9B-4095-B26B-416F01A7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16DF6-AC36-44AD-878A-066E30A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C5C8E-06AA-423C-9A1A-A73D871F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79FA2-BA2F-4F5F-8888-77DCBDB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D4537-B488-4506-9815-6FF80DFF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CB2C4-6773-4D4B-A4F1-21E017A4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7B35C-5F2C-4595-ACC5-9B943287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DEF77-E6F3-4F3E-A732-BD3794D3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D32-3C86-45E5-96F1-E6FEC63B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FAF09-7FDE-44D9-B9E3-9B764658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59200-B521-45FA-A253-153D93F7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BCA2B-E443-4858-B748-094A5312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716D5-F83F-4A4A-B96E-E6265818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18C75-4445-413E-A90B-DFFF4B50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3776D-2368-4F07-B55C-8E9CC3E0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8F67C-7DE4-48AC-AA96-1A33C03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DF389-3686-4136-AF0B-EDF066D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FFB12-A145-48FD-8EC8-D42BDC94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3524D-7554-4DCE-A8BF-AC529B3E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D42-E5B5-4264-87F7-BF68C97C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2BC69-AD49-4209-9AC6-2C90F360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C75AD-E8A1-4EBC-BB8A-6FA74F6B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940F6-DBD6-422B-AFC7-C90C4855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EE79A-4FD5-4B4E-8334-7938F5E1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81856-D724-4435-892B-9C9D88AF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7138D-B69C-4091-8F55-9976F297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4545F-7A07-4BF6-873F-2761E3AB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48493-F45C-4F0C-8AE4-CE751889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5C65F-9A65-4ADF-89CE-A82C7B9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AF817-8A27-4C10-8FA0-A3B44D61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793D-9F71-45AB-89C7-063B5EDD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7B56F-65F9-44E1-A7D2-6FB2A866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B8A00-D516-41CD-A107-5530531D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A59AD-8D98-471A-9F73-55110AE3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B1C87-E4B1-4901-9622-CFC39E13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256B4-3B15-4C94-BEC0-D5128F19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4F42D-02EE-4956-957D-6324D424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5370F-2E89-421E-BCC9-0CED41A7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76251-F675-4C59-8B68-8FC86FFE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D6DCB-0C2D-4786-8603-F85C08AB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CE026-560E-4FC3-B2BC-99273385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5D27-853B-4484-9727-B0559D69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7C3F4-9B4D-4478-B2D5-0B7A7ED1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C2399-E8AA-4708-A9D9-42DF969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2E997-94FF-4414-BE61-A8E4C2FA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333A0-56BE-4B62-A319-A5AF0CE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027F6-DEA1-414A-91F5-AD9FB0D1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283EB-1360-48C1-A94D-30B36EFD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A22D5-9261-471F-A86F-82CAD2A1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0D154-9F32-40DB-B69B-8730CC32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C5F8E-0B71-4CC3-AA94-6D3CCC77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82F82-2DB5-453D-9FFD-BA60888B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E9AB-B38E-40CC-BDF9-4E30617D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0D70C-C3F6-40B0-A7FB-2A744E62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F7607-D1D6-4761-A647-1305848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C2E66-7FB6-4013-A29B-4AD32BE3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ADE89-2B3F-4581-B228-6BA1EC8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FDF9A-F77F-4D07-AA28-B5DEAE9A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6097E-94E0-4F61-8C50-1F69F492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7E82D-590F-4D49-83B0-3AA0C634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AF87-67C7-4E84-9FC2-2BFCE3F9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68CD5-96E7-47AB-B405-B7804D7B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7B4E-2B92-4958-8C9F-F67D0EF5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8F482-ED59-46DB-9E16-439848A2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3F9B0-C4BF-4A2B-862A-F5A670CB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B5AD7-DD4E-4F51-AE40-09CFE29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CBF02-C181-48EF-A230-755F86A8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F6A02-B5EE-4343-A8FD-81175346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5320D-98C6-4551-A055-91D96B04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62FDB-F881-4B94-B7CC-F078F24B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74E32-38A1-48E4-939C-19E1C3E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09B82-898B-4167-B7B1-32077F21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7E234-581A-49CB-B8FD-453941AC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974D-7487-43F7-9416-29A1952C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155A8-B3B6-43A4-B9DE-1C55EBF1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8C270-89EF-45A0-81C1-EA72D2A7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462AB-F06F-44E6-8EC5-08A29E22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E008E-DDE8-4034-BE68-F58B6449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F621B-F92B-471E-8889-5B980922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3D89C-2A79-412D-B643-43F480BA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C6377-C5CA-40CF-AC3F-8CEC6C32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1AF28-2170-4F17-AD44-70B31D79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61FBB-CCAC-4BD6-803D-DA7ACE04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FDA0ED-FF9E-46BB-B3E8-F2A29D01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E53-4EDA-4F27-BE69-F724E212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90B52-3EED-4646-8437-ECDECDCE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1A377-0BA3-4B77-9C79-B7EB8BCE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5819A-84A0-4C90-8377-68D77534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DF170-6899-448A-B972-26295B97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59A971-2117-452A-91D0-27F8323A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E4C9B-C94B-4E31-BBE2-7BD02E06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5FF3F-5677-433A-B52D-1497AE71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FAF66-32DD-48F6-BF40-12018A70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500FE-66B2-4442-8242-F4B0F1CC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3FCBA-0575-428B-B8A1-2B84C73E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83C-4BDA-4171-A205-71AA5ACE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C2FA-A7B9-46EE-83E7-D47DF4C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CD4ED8-D2E8-458F-9864-D663436A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E467C-896D-4783-91D3-13B6D918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5FC65-3241-41CD-89AA-9531C8E5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FB2D5-3C1A-4DA2-B367-4B1B3379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1EC9A-FC2F-4973-89D3-5AA265DF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96A62-C61C-4FBE-B41F-C3908123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D52D4-065B-4A7B-8AE8-22E4D811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23DA8-CB94-4ACF-9ADD-3560B97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4E79D-6EF2-4D8C-B6E2-7C19EE25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E3E68-F148-4E7B-9F64-7B9424C2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EC84-5679-4DEA-8D1C-3A68824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1FECB-29C1-4B15-BF3B-DC44EDAA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C64EB-A600-47C0-B839-AC2EAD23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B1185-576A-41C5-BEC0-340DE83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711EF7-DF7E-40A0-BEB6-DC738B49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DF2CE-32CE-470D-966D-EB734A18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8C6B2-A29C-4E11-9EFE-AA61B647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53A61-A150-4BB6-A721-ADA25C3F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18CD1-9E3C-459C-A0AF-6BC2D53F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82A7F-97AF-484D-8607-3B96448D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7FCAD-DAF6-478E-AB27-E1CC4B7D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5868-001D-4FD1-BC82-B13024BC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4C5A9-5928-4385-9625-3391A779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80487-FB37-4173-8BBC-7D4E7845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3918F-064A-4C10-AF57-206C3626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EFA47-F8CD-48A6-B1F9-85EDEB8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4BBE3C-9AAE-4F1E-9280-04B938E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524E2B-E1EC-46B4-A5ED-F779EB63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CEDD96-48F7-44A2-BAA3-3E63F0BD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EF91B-FD3C-4853-999B-E4CE430C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12DCE-F7A6-4588-BBCD-FA13F286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2FF3C-567C-4E77-9039-D45DAD97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7585-5466-421B-99A5-7DF3E2D1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29989A-6D41-4B3E-9CF0-6AFE78D7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3020D-C810-4B13-851B-DE9C562E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C7739-9DCD-46A2-8D88-8E0CED76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F17B0D-EAFD-45D2-A3FA-7350EAF5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0DE5F-8E52-4D3C-9163-A4F0D738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FB7C9F-C7DA-4F92-B654-68F87E60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EDDDA-4FBA-46B0-9C85-41870A6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F64AF-0503-4781-915E-1CF9E43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1C788-A256-42F7-8629-B199E306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5861D9-5608-41F6-BDAC-04F82943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18DD-5F7C-4DDE-8E1B-B264D1D4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D10954-0E64-4A9B-90F5-7E29DFD2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DF326-2BF7-4BF6-943E-6F74B37B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71F0BF-721C-4DC9-A03E-41187351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BA5AD6-EC8C-4376-BD0A-F3099B2B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5AFF2-0941-49CC-AE2A-CEA94FAB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0C95F-9030-48B7-A114-AE6DF6DC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D1235-CF80-4B8D-9A5C-1A6397A6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0FA43D-96EA-4843-8DA0-8D0131AA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7F02C-3222-4BB0-8B94-BD3ADBAF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68B057-74D8-4967-BBD0-9FBC5C0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3116-FC14-4C1A-89C2-ED063A91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E1ECD-E9B2-4835-80B5-BE7C0A3F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B1C33-E363-4229-A6CE-9CC73F8A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BD165A-445D-461C-AAB2-97CDFFE6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B3D7E-E3D7-4D5C-9C1E-9BE29E15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BC37D-18D8-44F0-8A27-0A3B1351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2508F-5735-4BBF-B10B-2787E44C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8E79E0-3C39-43A4-A892-9931E6F7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D2E45-15B4-4395-9FB5-F5995041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414EC-8A59-4B26-ACB4-C744416F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57741-2521-4E38-9297-4AD59EA0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CCA3-1E9B-4462-95A5-0B9CB780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B9BDB-4714-4714-8E06-C8F02D08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AFDBED-01EC-44E8-BF54-EE8B8FB7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5D6915-47EC-4EFE-9A2C-F2E645D6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BE884-E180-4844-A184-888AEE61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7E49F7-FCC4-49A9-A1D3-377483B0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B0390D-CAF1-456A-9DD0-A05674A7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AEA712-E11F-4E44-B081-A21A7B0F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80FF17-7545-4968-BC0A-569BE6DE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3E930-B86E-43FD-9474-734A5497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C8DA95-5289-42FF-9FE5-5F5D6D06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BBA7-B451-452A-9407-DC6611C0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D5329C-F486-4EB3-BBED-33C69D36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0886ED-3F76-4A9C-9F77-BF763369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2B4A05-A717-4E9D-8E9A-44AAACB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FAAB52-DB6B-4D30-A902-09D8570A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242F28-E4F3-415E-82DA-1B52268A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0600A4-24B8-48E9-8A93-5B901F70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63DE9E-F24A-416C-9664-BD1D195B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E2C101-87A0-4F26-B269-85D65EA6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5AF2BC-7BAA-4949-94D3-B4605452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EC5CAC-BD9F-4D27-A53E-DD212F6D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F473-F61F-461A-AB45-C3265315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3E7252-2AEC-4AF5-9F60-BCB20CA9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005680-F4FD-41A9-B80E-E8B7CBED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C987EB-AC82-4619-B598-4B54D402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1B5AE6-FDCD-47F1-83B5-CAAC3FA2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F98D0A-E273-401F-9005-3A30D26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6F4851-5881-438E-9A28-F8B6C035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842BF-AE3A-4D32-8971-5B78B7FE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1650C-C42B-4C3B-BA49-4DE84C2F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876220-FB42-423F-B586-583069EB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672ABC-EBC5-4E76-BCA8-8BDD3374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9AC1-79A7-4E4C-A123-045D2B2A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B2AFAB-FF7C-406D-A243-89C26941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5C774B-1DD0-4026-BEB0-F100FCE5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ABE3C1-143A-4593-BB41-9BD5EB83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7E773B-9156-49BC-9208-D21CA597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CB9DB7-61AE-48B6-9D3B-5D777CFF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9F9DB8-8E17-4383-B83E-1B273352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82C2A1-2E7C-4C65-9A70-2089C9AA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AF2D7F-B695-49D8-9879-1507224D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7DC59C-2136-4FED-B8EC-B69BD7FA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996736-35DF-44A6-9748-47C5E4B8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26E-A76B-42C7-88AB-CD33DCD9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761E-534A-45B6-B6EE-BA5A93BA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A06210-D7FD-482F-BA75-45F7CFB0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0D49A0-A54F-4152-932A-DAF5888B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26E45C-F31B-45E4-9E7B-66DE2961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3E277C-F907-4285-83BD-E090ECFD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78EDC5-6256-460B-83E7-A3F9C97F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F25B6B-184D-4940-9F92-2D234DBF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977D52-D1ED-442B-BEDD-93395617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9A7CB0-AF10-47C9-AF75-B543372E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10900D-27B1-4ADB-98AB-258AD15D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24148C-45A7-4A9D-9729-5829B6C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9F91-73CD-4C08-999C-CAA368AF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81C575-B389-41D4-B71F-D1B67F63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885F78-0060-431B-801B-5CE82C8A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57BDF9-B092-45C0-BD3D-DEDB5B7E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2EE0-9F6E-4AAF-8F95-30D11A78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6014-1C5B-42FB-BB83-403A7C77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1741C-F9DC-411C-AEBC-9EB8E8E6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6EE9-1E9E-4B3B-BF87-E3F19478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0876-1610-438B-BE86-C798C86E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80EDD-6D80-45A7-A5BC-2AF7AC8C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5685F-3B7C-4A45-8932-5969A80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C79C3-FDE0-485C-A57E-9D584FDB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112-2033-490A-AD49-6E6AF596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37CAE-D7F5-415C-A31B-359C9CE4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48FCA-4F20-45F7-95D0-A837A18A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5C8AC-1E9E-4D81-A5F4-A91B6798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11BC6-0FC1-41E0-A5D7-E6CE0C6F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696A-30D8-4572-BA0B-2443491A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3FE58-712A-4FD8-8C6F-A39C2478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8AE8-7911-428C-BB54-D5140758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CD1D-69C2-40B4-B4E5-4A5DD05D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987B-FC97-49F7-ABAB-DFF67F2A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C18F2-6096-4CE3-B67B-72044F22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9AD-10F0-49E7-ABC6-833DE570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EB7E2-D107-4BB4-B015-C55BFFA5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5A34B-6541-4B5F-A6D8-5EB67619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6B737-0945-4B72-88A6-89795631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BBDD-DB07-44DD-89E9-A7871B1A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418C-B1AB-4026-A47B-D12987A0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38698-12B6-4038-8D12-BD96A9A9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303F1-3AA3-46DF-A656-87FEDA4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85BEF-E7B1-4B15-AD7B-CE3915AD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1328-FA59-4BEE-AB92-9302D868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AF66-D096-4095-8407-7EE68BBB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63B-CC53-4072-AEF5-6985292C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168EB-AE69-4FBF-A01D-ED41D431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BD00C-0CFD-4CB4-8B73-B6D0EA24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89D2C-6AFC-4395-9649-0E4CDA0F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F4551-399F-4419-BE76-BCF49120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B792F-782E-401F-8B65-7498E08E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ECA3D-08F0-4C60-952D-66E0E9EA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0A4B2-C3F5-4C55-8EA8-D8716882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D127E-D6CC-4593-BD22-74D0D557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3BEF8-2CD4-4B06-902F-C8EFA7E3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0ABA4-CDF8-443D-A633-F6135074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49D-E013-4AA9-A143-0F37400F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C2089-0080-4CE7-9C2B-5307FECD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CE54-F354-444A-A54E-6713AF2D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77984-2BD3-4054-81FD-403770C2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155F2-8651-4BAC-89E3-52639502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2C0C2-B1A2-454A-A249-19257F92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3D7F-997D-40C5-916C-9DBBAF87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7AFF7-0F5F-4039-B6A3-EEB7BEC9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BE138-F14E-4B76-BD78-11621BD8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DA9F2-AC4E-4DFC-AEE6-23922139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25316-3F21-45CF-BC63-E4CB8D18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C9C-43A0-4EC3-A02E-6D2D3FF1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F9CE1-23B1-4A94-A922-1CA6D7C3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4C41F-0540-46A4-8ECD-5087D6AF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25D56-A807-4D2E-B774-C85EEF01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E202E-763F-4755-ADB1-41DA68EC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037FC-F6B8-423D-BD6E-DBB5C46D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377EA-D6AF-47F9-A290-297DDA3A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7312-5B2E-446D-AC2E-7082697E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4BD8-E536-4949-8C62-BAAFF6F6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8E5BD-F9D6-4E11-8350-4A35DBC7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DA078-8490-4620-BF8C-4ECA82C6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0DC-58F5-41F5-BEB0-125F6043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A97FB-E0C4-4817-B3DB-86EA0A74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67C87-E660-47B6-A2E2-BBCE0C88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FE11E-6993-4B72-A0AD-10AB7960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8F2AD-29F4-49FA-BEA9-3F23B42D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B795A-F4CD-4BC7-8372-876CA9F8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AC186-08BE-4266-9E92-41399F5D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F764C-5168-46DA-9708-1CCF2C3E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E8112-1F8D-4107-9FFA-2518035D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59155-9C6A-4247-8808-8FC9A952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CA9C4-BCD5-49D8-BBBC-24F7A25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D6E9-D32E-4621-B3ED-AB928509AFD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EFCE-A94A-49B9-A3DC-662F76806F7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CAE2-BE98-46CE-94D1-6F970FA6800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54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55C1-ED05-4610-AF3F-E971F4731647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2184-5FCD-4057-A5B1-153244AA55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9D53-B7F7-4441-8FF4-A98945E157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435D-E2D5-4799-8758-FD52CA4C02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4799-89B7-43CE-996D-407D7597C4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C333-03AF-4DE9-BEF9-3BD239B7BA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249C-0727-46F7-AF01-C851233A7B8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DA9A-F289-4B6C-92C2-1B3B4957C2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11D-6388-4D13-B4D8-0B8E3B9609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1E0C-1F53-4AAC-960F-B0E84619EA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F1E-552A-4066-9F98-97B75F62AB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714F-4616-4BB6-A04F-CF152D3857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DA55-E7FA-447B-BEA0-5510E36637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66C7-466C-4195-A29E-E92C0C0311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CC0C-907D-4C65-B9C5-32D458592CA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6FE5-23A8-4FCC-8D40-9BEF578D4A5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C9AF-C556-42B4-8CEF-14C81D2F1EA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EB24-D4BC-427A-8758-CCC27B554D95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BB2D-7EDB-46B2-AE7C-005DD28AB84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628E-CB08-4525-A211-301BF1DE8C8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Имя существительное</a:t>
            </a:r>
            <a:br>
              <a:rPr sz="4400"/>
            </a:b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 как часть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3924000" y="4365720"/>
            <a:ext cx="384804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Ягупова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Прямоугольник 1"/>
          <p:cNvSpPr/>
          <p:nvPr/>
        </p:nvSpPr>
        <p:spPr>
          <a:xfrm>
            <a:off x="1403280" y="1557360"/>
            <a:ext cx="63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8d5a"/>
                </a:solidFill>
                <a:latin typeface="Calibri"/>
              </a:rPr>
              <a:t>-Наш урок подошел к ко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8d5a"/>
                </a:solidFill>
                <a:latin typeface="Calibri"/>
              </a:rPr>
              <a:t>И умный вид вам всем к лиц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8d5a"/>
                </a:solidFill>
                <a:latin typeface="Calibri"/>
              </a:rPr>
              <a:t>Все вы милы и симпатич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8d5a"/>
                </a:solidFill>
                <a:latin typeface="Calibri"/>
              </a:rPr>
              <a:t>И отвечали на «отличн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Горизонтальный свиток 1"/>
          <p:cNvSpPr/>
          <p:nvPr/>
        </p:nvSpPr>
        <p:spPr>
          <a:xfrm>
            <a:off x="1187280" y="333360"/>
            <a:ext cx="6697800" cy="144000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Прямоугольник 2"/>
          <p:cNvSpPr/>
          <p:nvPr/>
        </p:nvSpPr>
        <p:spPr>
          <a:xfrm>
            <a:off x="1288800" y="2565360"/>
            <a:ext cx="664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с. 24 упр.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уровневые задания (на выбор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ветствие учащихс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уроке я сижу 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е шумлю и не кричу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уку тихо поднимаю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Если спросят, отвечаю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Горизонтальный свиток 2"/>
          <p:cNvSpPr/>
          <p:nvPr/>
        </p:nvSpPr>
        <p:spPr>
          <a:xfrm>
            <a:off x="1187280" y="333360"/>
            <a:ext cx="6697800" cy="165564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Каллиграфическая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1"/>
          <p:cNvSpPr/>
          <p:nvPr/>
        </p:nvSpPr>
        <p:spPr>
          <a:xfrm>
            <a:off x="1547640" y="263700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 дворе замерзли луж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ый день поземка кружи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ли белыми дом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о к нам пришл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Выноска-облако 4"/>
          <p:cNvSpPr/>
          <p:nvPr/>
        </p:nvSpPr>
        <p:spPr>
          <a:xfrm>
            <a:off x="5435640" y="4226040"/>
            <a:ext cx="1942920" cy="7189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Next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1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Горизонтальный свиток 3"/>
          <p:cNvSpPr/>
          <p:nvPr/>
        </p:nvSpPr>
        <p:spPr>
          <a:xfrm>
            <a:off x="1187280" y="333360"/>
            <a:ext cx="6697800" cy="144000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4"/>
          <p:cNvSpPr/>
          <p:nvPr/>
        </p:nvSpPr>
        <p:spPr>
          <a:xfrm>
            <a:off x="826920" y="3213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ковь, к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уста, к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тофель, л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, за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03280" y="2707920"/>
            <a:ext cx="5905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Кто?     Что?</a:t>
            </a:r>
            <a:br>
              <a:rPr sz="4400"/>
            </a:b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Прямоугольник 2"/>
          <p:cNvSpPr/>
          <p:nvPr/>
        </p:nvSpPr>
        <p:spPr>
          <a:xfrm>
            <a:off x="1100880" y="2565360"/>
            <a:ext cx="730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Прямоугольник 2"/>
          <p:cNvSpPr/>
          <p:nvPr/>
        </p:nvSpPr>
        <p:spPr>
          <a:xfrm>
            <a:off x="900000" y="1916280"/>
            <a:ext cx="691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5e3c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4f5e3c"/>
                </a:solidFill>
                <a:latin typeface="Calibri"/>
              </a:rPr>
              <a:t>Имя существительное – </a:t>
            </a:r>
            <a:r>
              <a:rPr b="0" lang="ru-RU" sz="3600" spc="-1" strike="noStrike">
                <a:solidFill>
                  <a:srgbClr val="4f5e3c"/>
                </a:solidFill>
                <a:latin typeface="Calibri"/>
              </a:rPr>
              <a:t>часть речи, которая обозначает предмет и отвечает на вопросы </a:t>
            </a:r>
            <a:r>
              <a:rPr b="1" lang="ru-RU" sz="3600" spc="-1" strike="noStrike">
                <a:solidFill>
                  <a:srgbClr val="4f5e3c"/>
                </a:solidFill>
                <a:latin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112160" cy="12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421e"/>
                </a:solidFill>
                <a:latin typeface="Calibri"/>
              </a:rPr>
              <a:t>Игра «Кто? Что?»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grpSp>
        <p:nvGrpSpPr>
          <p:cNvPr id="1185" name="Group 27"/>
          <p:cNvGrpSpPr/>
          <p:nvPr/>
        </p:nvGrpSpPr>
        <p:grpSpPr>
          <a:xfrm>
            <a:off x="468360" y="1844640"/>
            <a:ext cx="1838160" cy="2238480"/>
            <a:chOff x="468360" y="1844640"/>
            <a:chExt cx="1838160" cy="2238480"/>
          </a:xfrm>
        </p:grpSpPr>
        <p:graphicFrame>
          <p:nvGraphicFramePr>
            <p:cNvPr id="1186" name="Object 10"/>
            <p:cNvGraphicFramePr/>
            <p:nvPr/>
          </p:nvGraphicFramePr>
          <p:xfrm>
            <a:off x="468360" y="1844640"/>
            <a:ext cx="1838160" cy="186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7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844640"/>
                      <a:ext cx="1838160" cy="186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8" name="Text Box 11"/>
            <p:cNvSpPr/>
            <p:nvPr/>
          </p:nvSpPr>
          <p:spPr>
            <a:xfrm>
              <a:off x="501480" y="3501720"/>
              <a:ext cx="160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дерев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17"/>
          <p:cNvGrpSpPr/>
          <p:nvPr/>
        </p:nvGrpSpPr>
        <p:grpSpPr>
          <a:xfrm>
            <a:off x="6195960" y="2706840"/>
            <a:ext cx="1726920" cy="2023560"/>
            <a:chOff x="6195960" y="2706840"/>
            <a:chExt cx="1726920" cy="2023560"/>
          </a:xfrm>
        </p:grpSpPr>
        <p:sp>
          <p:nvSpPr>
            <p:cNvPr id="1190" name="Text Box 14"/>
            <p:cNvSpPr/>
            <p:nvPr/>
          </p:nvSpPr>
          <p:spPr>
            <a:xfrm>
              <a:off x="6302880" y="414900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1" name="Object 16"/>
            <p:cNvGraphicFramePr/>
            <p:nvPr/>
          </p:nvGraphicFramePr>
          <p:xfrm>
            <a:off x="6195960" y="2706840"/>
            <a:ext cx="1726920" cy="161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2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95960" y="2706840"/>
                      <a:ext cx="1726920" cy="161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3" name="Group 20"/>
          <p:cNvGrpSpPr/>
          <p:nvPr/>
        </p:nvGrpSpPr>
        <p:grpSpPr>
          <a:xfrm>
            <a:off x="6588000" y="115920"/>
            <a:ext cx="1923840" cy="2381760"/>
            <a:chOff x="6588000" y="115920"/>
            <a:chExt cx="1923840" cy="2381760"/>
          </a:xfrm>
        </p:grpSpPr>
        <p:graphicFrame>
          <p:nvGraphicFramePr>
            <p:cNvPr id="1194" name="Object 18"/>
            <p:cNvGraphicFramePr/>
            <p:nvPr/>
          </p:nvGraphicFramePr>
          <p:xfrm>
            <a:off x="6588000" y="115920"/>
            <a:ext cx="1923840" cy="20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5" name="Object 1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88000" y="115920"/>
                      <a:ext cx="1923840" cy="20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6" name="Text Box 19"/>
            <p:cNvSpPr/>
            <p:nvPr/>
          </p:nvSpPr>
          <p:spPr>
            <a:xfrm>
              <a:off x="6699600" y="191628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дожд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Group 23"/>
          <p:cNvGrpSpPr/>
          <p:nvPr/>
        </p:nvGrpSpPr>
        <p:grpSpPr>
          <a:xfrm>
            <a:off x="2987640" y="2060640"/>
            <a:ext cx="1996920" cy="1373400"/>
            <a:chOff x="2987640" y="2060640"/>
            <a:chExt cx="1996920" cy="1373400"/>
          </a:xfrm>
        </p:grpSpPr>
        <p:graphicFrame>
          <p:nvGraphicFramePr>
            <p:cNvPr id="1198" name="Object 21"/>
            <p:cNvGraphicFramePr/>
            <p:nvPr/>
          </p:nvGraphicFramePr>
          <p:xfrm>
            <a:off x="2987640" y="2060640"/>
            <a:ext cx="1996920" cy="100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9" name="Object 2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87640" y="2060640"/>
                      <a:ext cx="199692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0" name="Text Box 22"/>
            <p:cNvSpPr/>
            <p:nvPr/>
          </p:nvSpPr>
          <p:spPr>
            <a:xfrm>
              <a:off x="3252600" y="2852640"/>
              <a:ext cx="150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радуг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26"/>
          <p:cNvGrpSpPr/>
          <p:nvPr/>
        </p:nvGrpSpPr>
        <p:grpSpPr>
          <a:xfrm>
            <a:off x="900000" y="4292640"/>
            <a:ext cx="1673280" cy="2237400"/>
            <a:chOff x="900000" y="4292640"/>
            <a:chExt cx="1673280" cy="2237400"/>
          </a:xfrm>
        </p:grpSpPr>
        <p:graphicFrame>
          <p:nvGraphicFramePr>
            <p:cNvPr id="1202" name="Object 24"/>
            <p:cNvGraphicFramePr/>
            <p:nvPr/>
          </p:nvGraphicFramePr>
          <p:xfrm>
            <a:off x="900000" y="4292640"/>
            <a:ext cx="1650960" cy="2025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03" name="Object 2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00000" y="4292640"/>
                      <a:ext cx="1650960" cy="20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4" name="Text Box 25"/>
            <p:cNvSpPr/>
            <p:nvPr/>
          </p:nvSpPr>
          <p:spPr>
            <a:xfrm>
              <a:off x="1491840" y="594864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Кат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33"/>
          <p:cNvGrpSpPr/>
          <p:nvPr/>
        </p:nvGrpSpPr>
        <p:grpSpPr>
          <a:xfrm>
            <a:off x="3635280" y="4005360"/>
            <a:ext cx="4652280" cy="2442960"/>
            <a:chOff x="3635280" y="4005360"/>
            <a:chExt cx="4652280" cy="2442960"/>
          </a:xfrm>
        </p:grpSpPr>
        <p:sp>
          <p:nvSpPr>
            <p:cNvPr id="1206" name="Text Box 28"/>
            <p:cNvSpPr/>
            <p:nvPr/>
          </p:nvSpPr>
          <p:spPr>
            <a:xfrm>
              <a:off x="5831640" y="4870440"/>
              <a:ext cx="2455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пап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компьют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сто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7" name="Object 32"/>
            <p:cNvGraphicFramePr/>
            <p:nvPr/>
          </p:nvGraphicFramePr>
          <p:xfrm>
            <a:off x="3635280" y="4005360"/>
            <a:ext cx="2332080" cy="2442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08" name="Object 3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005360"/>
                      <a:ext cx="2332080" cy="24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Text Box 5"/>
          <p:cNvSpPr/>
          <p:nvPr/>
        </p:nvSpPr>
        <p:spPr>
          <a:xfrm>
            <a:off x="569880" y="1846440"/>
            <a:ext cx="736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Если было интересно, легко на уро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о всем разобрали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6"/>
          <p:cNvSpPr/>
          <p:nvPr/>
        </p:nvSpPr>
        <p:spPr>
          <a:xfrm>
            <a:off x="7586640" y="1996920"/>
            <a:ext cx="93492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8"/>
          <p:cNvSpPr/>
          <p:nvPr/>
        </p:nvSpPr>
        <p:spPr>
          <a:xfrm>
            <a:off x="503280" y="31240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иногда были трудности, сомнения, не совсем понравилась рабо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val 9"/>
          <p:cNvSpPr/>
          <p:nvPr/>
        </p:nvSpPr>
        <p:spPr>
          <a:xfrm>
            <a:off x="7473960" y="3292560"/>
            <a:ext cx="934920" cy="8636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10"/>
          <p:cNvSpPr/>
          <p:nvPr/>
        </p:nvSpPr>
        <p:spPr>
          <a:xfrm>
            <a:off x="584280" y="45975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Verdana"/>
              </a:rPr>
              <a:t>Если не разобрались в тем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Verdana"/>
              </a:rPr>
              <a:t>было не очень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11"/>
          <p:cNvSpPr/>
          <p:nvPr/>
        </p:nvSpPr>
        <p:spPr>
          <a:xfrm>
            <a:off x="6516720" y="4564080"/>
            <a:ext cx="934920" cy="8636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2"/>
          <p:cNvSpPr/>
          <p:nvPr/>
        </p:nvSpPr>
        <p:spPr>
          <a:xfrm>
            <a:off x="3267000" y="83664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Горизонтальный свиток 12"/>
          <p:cNvSpPr/>
          <p:nvPr/>
        </p:nvSpPr>
        <p:spPr>
          <a:xfrm>
            <a:off x="684360" y="333360"/>
            <a:ext cx="7200720" cy="144000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User</cp:lastModifiedBy>
  <dcterms:modified xsi:type="dcterms:W3CDTF">2018-04-02T09:20:17Z</dcterms:modified>
  <cp:revision>23</cp:revision>
  <dc:subject/>
  <dc:title>Слайд 1</dc:title>
</cp:coreProperties>
</file>