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02A-448A-4496-BFB9-A7648C23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774-90BB-4C94-9735-D57E5C55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745-0C09-4584-A476-806BA0F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BB1-854B-46DC-BC42-52EFA21B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3018-6F0F-4CB1-9570-E24EA395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A3AD-573F-4504-9FB7-566B7499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393-4F6A-4259-942D-C2EBEB4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0B59-9E48-4673-84F9-F7031BEE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1D08-AF8C-4C00-805F-20EE288E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C1AE-7128-4E08-815C-D990F869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0E3-2D88-4A5F-8246-34ABCA4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865-60F1-4631-BF62-4BEBE0F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B36-E346-4B13-9A5A-503F176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449B-2E4A-4610-8778-5A6143F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221-C48B-4A82-A3AE-7C9B685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DACF-A21F-4306-9C7B-33A00AE2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40A6-8C68-4495-9159-EA5AEFA2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92E-B54D-414E-A192-82A80C2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75D-6D15-46B1-BA89-09286B5D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E4D-9FC8-4D67-90B7-6A80F76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176-25CE-4F64-A26B-7D832AC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3D2-1F99-494C-9F7F-E2EF697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155-6482-4577-9218-8C2EF43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C61-7AA1-484E-8074-CCFA02A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CF8-68D4-4274-9FF1-1EF117AD9D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D0E7-F78F-4EA8-8F9D-217CE1370C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640" y="1557000"/>
            <a:ext cx="8253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общение и распространение личного педагогического опы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: Гайсина Э.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КОУ «Нефте- юганская  школа-интернат для обучающихся с ограниченными возможностями здоровь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" descr="C:\Users\Uzer\Desktop\ДЛЯ САЙТА ФОТО И ГРАМОТЫ\FullSizeRender-21-05-17-20-03.jpg"/>
          <p:cNvPicPr/>
          <p:nvPr/>
        </p:nvPicPr>
        <p:blipFill>
          <a:blip r:embed="rId1"/>
          <a:stretch/>
        </p:blipFill>
        <p:spPr>
          <a:xfrm>
            <a:off x="7380360" y="1557360"/>
            <a:ext cx="1344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Сформированность навыка чтения у обучающихся, воспитанников 5 класса на начало 2015-2016 учебного года</a:t>
            </a: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258920" y="2286000"/>
          <a:ext cx="68151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86000"/>
                    <a:ext cx="6815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редства реализации задач индивидуальных образовательных маршрутов</a:t>
            </a:r>
            <a:br>
              <a:rPr sz="1400"/>
            </a:b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по формированию навыка чт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907920"/>
          <a:ext cx="8001000" cy="56023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520"/>
                <a:gridCol w="2000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бегл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прави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осмысл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»Речевая разминк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рительные диктанты по системе И. Т. Федорен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Жужжащее чтени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тение в темпе скороговор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кратное чтение (засекается врем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за учителем с переходом на незнако- мую часть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тренировка в чтении с модифици рованием за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по отработке произносительных навыко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учивание скороговорор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дифференциация сходных слогов и слов6 ла-ра, дом-то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родственных слов, отличающихся друг от друга одной из морфем: трава-травка, нырял-нырну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лов, имеющих одинаковую приставку, но разные корни: увял-увёл-увё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Образец правильного чтения учител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однократное чтение текста вместе с деть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бинированное чте- ние с заданием  вовре -мя включиться в хоро в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ряженн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детей за чте- нием друг друг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по разви -тию смысловой догадки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лов с 1-2 пропущенными гласны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незаконченных предложе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связных текстов с пропущенны ми слов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огнозировани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идумать своё название рассказ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Редактирование деформированного тек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ловарная рабо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оставление пла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ересказ прочитанно- 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одробный; краткий, выборочный; с измене нием лица рассказчи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 опорным словам;  по план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веты на вопросы по содержани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оставление вопросов к текс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Устное рисова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в отчётли вом произнесении зву ков, слогов, слов, чистоговорок, скорого ворок, четверостиш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оров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жание образцу выразительного чт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по ролям, драматизация тек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ботка интонации, логических пауз, темпа чтения, тона и силы голо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 Обращение внимания на авторские характе -ристики персонажей (прошептал, испуганно произнёс); на эмоцио- нальный фон произве- дения (грусть, радость, печаль, страх, тревога  и т. п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1) Упражнение по отработке произносительных навыков;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2) «Догадайся, какие слова пропущены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ю 047"/>
          <p:cNvPicPr/>
          <p:nvPr/>
        </p:nvPicPr>
        <p:blipFill>
          <a:blip r:embed="rId1"/>
          <a:stretch/>
        </p:blipFill>
        <p:spPr>
          <a:xfrm>
            <a:off x="426960" y="1603440"/>
            <a:ext cx="81504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Применение на уроке приёма В. Ф. Базарного «Смена динамических поз»</a:t>
            </a:r>
            <a:br>
              <a:rPr sz="18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Работа за конторками В. Ф. Базарного способствует предупреждению переутомления на уроке, профилактике заболеваний опорно-двигательного аппарата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95280" y="2420640"/>
            <a:ext cx="5040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ю 044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спользование иллюстративного материала на уроке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(описание картины А. Пластова «Первый снег»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10920" y="1752480"/>
            <a:ext cx="468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ю 049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бъяснение словарных слов с использованием иллюстративного материа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ю 050"/>
          <p:cNvPicPr/>
          <p:nvPr/>
        </p:nvPicPr>
        <p:blipFill>
          <a:blip r:embed="rId1"/>
          <a:stretch/>
        </p:blipFill>
        <p:spPr>
          <a:xfrm>
            <a:off x="539640" y="1773360"/>
            <a:ext cx="7920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Упражнение по развитию смысловой догадки: </a:t>
            </a:r>
            <a:br>
              <a:rPr sz="18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чтение текста с пропущенными слов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ю 043"/>
          <p:cNvPicPr/>
          <p:nvPr/>
        </p:nvPicPr>
        <p:blipFill>
          <a:blip r:embed="rId1"/>
          <a:stretch/>
        </p:blipFill>
        <p:spPr>
          <a:xfrm>
            <a:off x="684360" y="1700280"/>
            <a:ext cx="8135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Упражнения, направленные на развитие смысловой догадк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. Работа с таблицей слов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2. Упражнения на различение (мел-мель, мал-мял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3. Назови лишнее слово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4. Назови одним словом (группа слов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5. Составление слова из букв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6. Перевертыш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7. Чтение двусложных слов с одной пропущенной гласной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Г…ра, п…ле, к…с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8. Чтение слов с двумя пропущенными гласными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Д…р…во, в…т…р и так далее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9. Чтение незаконченных предложений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Дверь была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Солнце уже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Утром шел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0. Чтение связных текстов с пропущенными словами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После холодной зимы наступила 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Яркое … прогревает землю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1. Прогнозирование (по названию догадайся, о чем будем читать?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2. Придумай свое название рассказу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3. Работа с деформированным текстом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4. Зрительные диктан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Словарная рабо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тодические  требования: на каждом этапе урока – не более 3 с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1. Подготовительный этап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ширность объяснения значения слов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можность объяснения слова вне контекс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мысловая значимость для понимания фактического содержа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водится предварительное чтение слов со сложной слоговой структурой: со стечение 3-4 и более согласных, с удвоенной согласной, слов с ь ъ зна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2. Первичное чтение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 – краткость пояснения значения слов, подбор синоним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3. Аналитическое чтение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 являются слова от контекста: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ногозначные слова с переносным значение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разеологические обороты реч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удожественно-изобразительные средства произведения: метаморфозы, эпитеты, сравнения, олицетвор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активации словарного запаса ставить вопрос таким образом, чтобы дети в своих ответах употребляли изучаемые слова; при составлении пунктов  плана так же включали необходимые сло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ежпредметная связь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какими словами познакомились, составьте словосочетания, предло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I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Упражнения направленные на формирование навыка смыслового чтения, речевых умений и навык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 Составление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дические требования к составлению план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 должен отразить основные моменты сюжета, т.е. воспроизводить события и последовательность. А также характерные черты персонажей, лексику произвед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лжны логически подводить обучающихся к выделению главной мыс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готовки плана в младших классах составляются в виде развернутых или вопросительных. С 6-го класса составляется цитатный план. С 8 класса пункты плана могут быть в форме назывных предло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 специальной (коррекционной) школе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вида составляется простой по степени детализации план, который включает только основные пункты без подразделения на подпунк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 Пересказ прочитан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ды пересказ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дробны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борочны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 изменением лица рассказчи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есказ по опорным слова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есказ по план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. Ответы на вопросы по содерж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. Проблемные вопрос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5. Устное рисова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6. Оценка поступков героев, характеристика герое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4680" y="333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Verdana"/>
              </a:rPr>
              <a:t>«Технология обобщения и распространения личного педагогического опыт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5640" y="2565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едагогический работник, со сформированным представлением о необходимости обобщения и распространения личного педагогического 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Задачи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зучить теоретические аспекты технологии обобщения и распространения личного педагогического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знакомиться с опытом коллег в области обобщения и распространения педагогического 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пробировать различные способы обобщения и распространения личного педагогического опыт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V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Виды работ над текс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Чтение по готовому план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Чтение с сокращением текста (дети убирают предложения или слова, которые можно пропустить. Подготовка к сложному (краткому) пересказу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 Чтение, поиск отрывка к рисун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 Нахождение в тексте отрывка, который поможет ответить на вопро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 Чтение отрывка, к которому можно подобрать пословиц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. Нахождение предложения или отрывка, отражающего главную мысл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. Беседа с сопровождением выборочного текс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. Нахождение в тексте выв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. Нахождение в тексте предложений, выражающих главную мысль произвед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Тема: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336699"/>
                </a:solidFill>
                <a:latin typeface="Verdana"/>
              </a:rPr>
              <a:t>Реализация задач индивидуальных образовательных маршрутов по формированию навыка чтения через использование коррекционно-развивающих приё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Цель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учающийся, воспитанник, владеющий навыком беглого, правильного, осмысленного, выразительного чте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Задачи: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еспечить теоретическую и практическую базу для работы над темо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определить уровень сформированности навыка чтения на основе диагност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простроить индивидуальную образовательную траекто- рию на каждого обучающегося, воспитанника с учё -том выявленных пробле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подобрать и апробировать наиболее эффективные коррекционно-развивающие приёмы, обеспечивающие индивидуальный подход к обучающим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 мониторинг динамики разви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Актуальность выбора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6699"/>
                </a:solidFill>
                <a:latin typeface="Verdana"/>
              </a:rPr>
              <a:t>Выбор темы обусловлен необходимостью целенаправленной коррекционно-развивающей  работы с обучающимися, имеющими низкий уровень речевого развития и навыков чт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чинами затруднения в овладении навыками чтения у детей-олигофренов явля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–общее недоразвитие речи  и  возникающая на этой основе несформированность фонематического восприятия ( отсюда и недостаточность звукового анализа и синтеза,нарушение произносительной стороны речи, бедность словаря, несовершенство грамматического строя речи 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-слабость зрительного восприят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-пониженные работоспособность и внима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-слабое развитие смысловой догадк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-недостаточно сформированная оперативная память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-затруднения в понимании логических связе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се это приводит к тому, что обучающиеся читают текст со значительными искажениями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ускают, переставляют, заменяют буквы, слоги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ивают конец одного и начало второго слова, теряют строку, пропускают строки и д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шибки, нарушающие правильность чтения, являются </a:t>
            </a: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типичны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для обучающихся, представляют собой явление довольно </a:t>
            </a: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стойкое,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которое тормозит развитие навыка беглого чт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2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Эффективность дальнейшего обучения всем другим учебным предметам напрямую зависит от того, как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сформированы у них навыки чт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аким образом,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качество ЗУ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обучающихся по всем учебным предметам зависит от того, насколько правильно организована работа на уроке по коррекции вышеперечисленных недостатков и реализации главных задач уроков чтения: выработке у детей навыков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беглого, осмысленного, правильного и выразительного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чт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казателем хорошей результативности работы по формированию навыков чтения явится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успешность овладения ими программным материалом по всем предметам,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что, в конечном итоге, будет способствовать их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успешной социальной адапт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иагностически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ределение уровня сформи -рованности навыка чтения на основе диагностики. Постановка задач индивидуальных образовательных маршрутов на основе выявленных пробл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одготовительный этап: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пределение наиболее эффективных коррекционно-развивающих приёмов работы. Обеспечение практической базы ( специаль -ная литература, дидактический и раздаточный мате- риа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актически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обирование приёмов работы на практике с учётом индивидуальных возможностей каждого обучающегося, воспитанни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ониторинговы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вести диагностику.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следить результативность обучения на уровне возможностей  обучающегося, воспитанни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-3349800" y="5012640"/>
            <a:ext cx="15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Эффективность обучения школьников всем другим учебным предметам напрямую зависит от того, как сформирован у них навык чтения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Сформированный навык чтения характеризуется единством 4-х компонент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правильнос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беглос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осмысленност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вырази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Сформированность навыка чтения у обучающихся, воспитанников  5 класса на начало 2015-2016 учебного г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7640" y="2602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8099280" cy="43196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280"/>
                <a:gridCol w="2016360"/>
                <a:gridCol w="1547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г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мыс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стато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ень ниже достаточ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4:18:31Z</dcterms:created>
  <dc:creator>1</dc:creator>
  <dc:description/>
  <dc:language>en-US</dc:language>
  <cp:lastModifiedBy>Uzer</cp:lastModifiedBy>
  <dcterms:modified xsi:type="dcterms:W3CDTF">2018-12-13T15:36:02Z</dcterms:modified>
  <cp:revision>40</cp:revision>
  <dc:subject/>
  <dc:title>Обобщение педагогического опыта</dc:title>
</cp:coreProperties>
</file>