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FF0-C93A-433E-A96B-8240ADC0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43F-425D-4789-BB66-C3ECC54C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A6B-487A-4B3B-BA09-98AC7683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CBB-C6F8-48FF-9F82-7FCF2A65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BE23-A99C-4CEE-A530-743B8307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78D5-5F6C-4D21-A3B7-C4670ECB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D1C9-38F3-4620-B679-6BE7726E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6F9E-0634-414C-AE9F-A96F2AA7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30A5-A57B-4938-B1A8-A508CAB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358A-52A4-4304-801D-57DC153C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1751-A436-4195-9560-4E9B2FDC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E32-81A3-45E6-9DAF-F960AC2F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573A-EF8A-47F0-9D5C-8199B6BB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634B-AC1F-4CC6-B8E9-C3929C2F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6E9F-DC76-449E-8AF0-6CB76617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8C53-1F66-45AA-8156-0DDD7542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DD25-28F0-41DF-80C4-855FAF08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617-696F-426E-ABFE-2EB06382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5C2-02B4-4275-96DE-4888D0DE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C18-F9E1-4D77-9AFB-1AE371A1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3DF-1B0F-4A40-9E40-35EE5D49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025-AB8A-4AB4-8EFF-97499226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2D4-27F7-4FD3-8A57-5C40B668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316-3667-4FDE-83AB-26407445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3DD-B04C-42F8-8872-7C33C2794B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48DF-3F05-47E7-A780-3421472B16A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66640" y="1557000"/>
            <a:ext cx="8253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общение и распространение личного педагогического опы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итель: Гайсина Э.А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КОУ «Нефте- юганская  школа-интернат для обучающихся с ограниченными возможностями здоровь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3" descr="C:\Users\Uzer\Desktop\ДЛЯ САЙТА ФОТО И ГРАМОТЫ\FullSizeRender-21-05-17-20-03.jpg"/>
          <p:cNvPicPr/>
          <p:nvPr/>
        </p:nvPicPr>
        <p:blipFill>
          <a:blip r:embed="rId1"/>
          <a:stretch/>
        </p:blipFill>
        <p:spPr>
          <a:xfrm>
            <a:off x="7380360" y="1557360"/>
            <a:ext cx="13446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Сформированность навыка чтения у обучающихся, воспитанников 5 класса на начало 2015-2016 учебного года</a:t>
            </a:r>
            <a:r>
              <a:rPr b="1" i="1" lang="ru-RU" sz="20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14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258920" y="2286000"/>
          <a:ext cx="68151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86000"/>
                    <a:ext cx="68151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Средства реализации задач индивидуальных образовательных маршрутов</a:t>
            </a:r>
            <a:br>
              <a:rPr sz="1400"/>
            </a:b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 по формированию навыка чт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907920"/>
          <a:ext cx="8001000" cy="5602320"/>
        </p:xfrm>
        <a:graphic>
          <a:graphicData uri="http://schemas.openxmlformats.org/drawingml/2006/table">
            <a:tbl>
              <a:tblPr/>
              <a:tblGrid>
                <a:gridCol w="2000160"/>
                <a:gridCol w="2000160"/>
                <a:gridCol w="2000520"/>
                <a:gridCol w="20001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бегл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прави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осмысл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36699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»Речевая разминк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рительные диктанты по системе И. Т. Федоренк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Жужжащее чтение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Чтение в темпе скороговорк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ногократное чтение (засекается время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за учителем с переходом на незнако- мую часть текс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тренировка в чтении с модифици рованием зад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жнения по отработке произносительных навыков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учивание скороговорорк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дифференциация сходных слогов и слов6 ла-ра, дом-то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чтение родственных слов, отличающихся друг от друга одной из морфем: трава-травка, нырял-нырнул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слов, имеющих одинаковую приставку, но разные корни: увял-увёл-увёз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Образец правильного чтения учителе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однократное чтение текста вместе с деть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бинированное чте- ние с заданием  вовре -мя включиться в хоро вое чт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пряженное чт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детей за чте- нием друг друг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жнения по разви -тию смысловой догадки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слов с 1-2 пропущенными гласны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чтение незаконченных предложений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чтение связных текстов с пропущенны ми слова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прогнозировани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придумать своё название рассказ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Редактирование деформированного текс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Словарная рабо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Составление план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Пересказ прочитанно- г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подробный; краткий, выборочный; с измене нием лица рассказчик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 опорным словам;  по план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Ответы на вопросы по содержанию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Составление вопросов к текст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Устное рисова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жнения в отчётли вом произнесении зву ков, слогов, слов, чистоговорок, скорого ворок, четверостиш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Хоровое чт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ажание образцу выразительного чте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ение по ролям, драматизация текс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работка интонации, логических пауз, темпа чтения, тона и силы голос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cc0000"/>
                        </a:buClr>
                        <a:buFont typeface="Verdan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 Обращение внимания на авторские характе -ристики персонажей (прошептал, испуганно произнёс); на эмоцио- нальный фон произве- дения (грусть, радость, печаль, страх, тревога  и т. п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001000" cy="46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1) Упражнение по отработке произносительных навыков;</a:t>
            </a:r>
            <a:br>
              <a:rPr sz="1800"/>
            </a:b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2) «Догадайся, какие слова пропущены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4" descr="ю 047"/>
          <p:cNvPicPr/>
          <p:nvPr/>
        </p:nvPicPr>
        <p:blipFill>
          <a:blip r:embed="rId1"/>
          <a:stretch/>
        </p:blipFill>
        <p:spPr>
          <a:xfrm>
            <a:off x="426960" y="1603440"/>
            <a:ext cx="81504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Применение на уроке приёма В. Ф. Базарного «Смена динамических поз»</a:t>
            </a:r>
            <a:br>
              <a:rPr sz="1800"/>
            </a:b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Работа за конторками В. Ф. Базарного способствует предупреждению переутомления на уроке, профилактике заболеваний опорно-двигательного аппарата</a:t>
            </a: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95280" y="2420640"/>
            <a:ext cx="50403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ю 044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спользование иллюстративного материала на уроке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 (описание картины А. Пластова «Первый снег»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10920" y="1752480"/>
            <a:ext cx="4681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ю 049"/>
          <p:cNvPicPr/>
          <p:nvPr/>
        </p:nvPicPr>
        <p:blipFill>
          <a:blip r:embed="rId1"/>
          <a:stretch/>
        </p:blipFill>
        <p:spPr>
          <a:xfrm>
            <a:off x="971640" y="1700280"/>
            <a:ext cx="727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Объяснение словарных слов с использованием иллюстративного материал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ю 050"/>
          <p:cNvPicPr/>
          <p:nvPr/>
        </p:nvPicPr>
        <p:blipFill>
          <a:blip r:embed="rId1"/>
          <a:stretch/>
        </p:blipFill>
        <p:spPr>
          <a:xfrm>
            <a:off x="539640" y="1773360"/>
            <a:ext cx="7920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Упражнение по развитию смысловой догадки: </a:t>
            </a:r>
            <a:br>
              <a:rPr sz="1800"/>
            </a:b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чтение текста с пропущенными слов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ю 043"/>
          <p:cNvPicPr/>
          <p:nvPr/>
        </p:nvPicPr>
        <p:blipFill>
          <a:blip r:embed="rId1"/>
          <a:stretch/>
        </p:blipFill>
        <p:spPr>
          <a:xfrm>
            <a:off x="684360" y="1700280"/>
            <a:ext cx="8135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Рекомендации</a:t>
            </a: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по использованию коррекционно-развивающих приёмов для формирования навыка осознанного чт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6699"/>
                </a:solidFill>
                <a:uFillTx/>
                <a:latin typeface="Verdana"/>
              </a:rPr>
              <a:t>I</a:t>
            </a:r>
            <a:r>
              <a:rPr b="1" lang="ru-RU" sz="1400" spc="-1" strike="noStrike" u="sng">
                <a:solidFill>
                  <a:srgbClr val="336699"/>
                </a:solidFill>
                <a:uFillTx/>
                <a:latin typeface="Verdana"/>
              </a:rPr>
              <a:t>. Упражнения, направленные на развитие смысловой догадк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. Работа с таблицей слов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2. Упражнения на различение (мел-мель, мал-мял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3. Назови лишнее слово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4. Назови одним словом (группа слов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5. Составление слова из букв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6. Перевертыши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7. Чтение двусложных слов с одной пропущенной гласной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Г…ра, п…ле, к…сА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8. Чтение слов с двумя пропущенными гласными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Д…р…во, в…т…р и так далее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9. Чтение незаконченных предложений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Дверь была… 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Солнце уже… 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Утром шел… 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0. Чтение связных текстов с пропущенными словами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После холодной зимы наступила … 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Яркое … прогревает землю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1. Прогнозирование (по названию догадайся, о чем будем читать?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2. Придумай свое название рассказу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3. Работа с деформированным текстом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14. Зрительные диктанты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Рекомендации</a:t>
            </a: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по использованию коррекционно-развивающих приёмов для формирования навыка осознанного чт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6699"/>
                </a:solidFill>
                <a:uFillTx/>
                <a:latin typeface="Verdana"/>
              </a:rPr>
              <a:t>II</a:t>
            </a:r>
            <a:r>
              <a:rPr b="1" lang="ru-RU" sz="1400" spc="-1" strike="noStrike" u="sng">
                <a:solidFill>
                  <a:srgbClr val="336699"/>
                </a:solidFill>
                <a:uFillTx/>
                <a:latin typeface="Verdana"/>
              </a:rPr>
              <a:t>. Словарная работ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тодические  требования: на каждом этапе урока – не более 3 с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1. Подготовительный этап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(Критерии отбора слов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бширность объяснения значения слов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можность объяснения слова вне контекст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мысловая значимость для понимания фактического содержа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водится предварительное чтение слов со сложной слоговой структурой: со стечение 3-4 и более согласных, с удвоенной согласной, слов с ь ъ знака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2. Первичное чтение.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(Критерии отбора слов – краткость пояснения значения слов, подбор синоним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3. Аналитическое чтение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(Критерии отбора слов являются слова от контекста: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ногозначные слова с переносным значение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Фразеологические обороты реч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удожественно-изобразительные средства произведения: метаморфозы, эпитеты, сравнения, олицетвор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ля активации словарного запаса ставить вопрос таким образом, чтобы дети в своих ответах употребляли изучаемые слова; при составлении пунктов  плана так же включали необходимые сло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Межпредметная связь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 какими словами познакомились, составьте словосочетания, предлож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Рекомендации</a:t>
            </a: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по использованию коррекционно-развивающих приёмов для формирования навыка осознанного чт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6699"/>
                </a:solidFill>
                <a:uFillTx/>
                <a:latin typeface="Verdana"/>
              </a:rPr>
              <a:t>III</a:t>
            </a:r>
            <a:r>
              <a:rPr b="1" lang="ru-RU" sz="1400" spc="-1" strike="noStrike" u="sng">
                <a:solidFill>
                  <a:srgbClr val="336699"/>
                </a:solidFill>
                <a:uFillTx/>
                <a:latin typeface="Verdana"/>
              </a:rPr>
              <a:t>. Упражнения направленные на формирование навыка смыслового чтения, речевых умений и навык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. Составление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тодические требования к составлению план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 должен отразить основные моменты сюжета, т.е. воспроизводить события и последовательность. А также характерные черты персонажей, лексику произвед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олжны логически подводить обучающихся к выделению главной мысл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готовки плана в младших классах составляются в виде развернутых или вопросительных. С 6-го класса составляется цитатный план. С 8 класса пункты плана могут быть в форме назывных предложен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 специальной (коррекционной) школе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вида составляется простой по степени детализации план, который включает только основные пункты без подразделения на подпункт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. Пересказ прочитан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ды пересказ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дробны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ыборочны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 изменением лица рассказчи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есказ по опорным слова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есказ по план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. Ответы на вопросы по содерж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. Проблемные вопрос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5. Устное рисован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6. Оценка поступков героев, характеристика герое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4680" y="333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Verdana"/>
              </a:rPr>
              <a:t>«Технология обобщения и распространения личного педагогического опыта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15640" y="256500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едагогический работник, со сформированным представлением о необходимости обобщения и распространения личного педагогического опы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Задачи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зучить теоретические аспекты технологии обобщения и распространения личного педагогического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знакомиться с опытом коллег в области обобщения и распространения педагогического опы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Апробировать различные способы обобщения и распространения личного педагогического опыта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Рекомендации</a:t>
            </a:r>
            <a:br>
              <a:rPr sz="1800"/>
            </a:b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по использованию коррекционно-развивающих приёмов для формирования навыка осознанного чт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6699"/>
                </a:solidFill>
                <a:uFillTx/>
                <a:latin typeface="Verdana"/>
              </a:rPr>
              <a:t>IV</a:t>
            </a:r>
            <a:r>
              <a:rPr b="1" lang="ru-RU" sz="1400" spc="-1" strike="noStrike" u="sng">
                <a:solidFill>
                  <a:srgbClr val="336699"/>
                </a:solidFill>
                <a:uFillTx/>
                <a:latin typeface="Verdana"/>
              </a:rPr>
              <a:t>. Виды работ над текст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. Чтение по готовому план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Чтение с сокращением текста (дети убирают предложения или слова, которые можно пропустить. Подготовка к сложному (краткому) пересказу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. Чтение, поиск отрывка к рисунк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. Нахождение в тексте отрывка, который поможет ответить на вопро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. Чтение отрывка, к которому можно подобрать пословиц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6. Нахождение предложения или отрывка, отражающего главную мысль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7. Беседа с сопровождением выборочного текст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8. Нахождение в тексте выв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9. Нахождение в тексте предложений, выражающих главную мысль произвед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1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Тема: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336699"/>
                </a:solidFill>
                <a:latin typeface="Verdana"/>
              </a:rPr>
              <a:t>Реализация задач индивидуальных образовательных маршрутов по формированию навыка чтения через использование коррекционно-развивающих приём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Цель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учающийся, воспитанник, владеющий навыком беглого, правильного, осмысленного, выразительного чтения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Задачи: -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еспечить теоретическую и практическую базу для работы над темо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определить уровень сформированности навыка чтения на основе диагности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простроить индивидуальную образовательную траекто- рию на каждого обучающегося, воспитанника с учё -том выявленных пробле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подобрать и апробировать наиболее эффективные коррекционно-развивающие приёмы, обеспечивающие индивидуальный подход к обучающим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-  мониторинг динамики развит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Verdana"/>
              </a:rPr>
              <a:t>Актуальность выбора те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6699"/>
                </a:solidFill>
                <a:latin typeface="Verdana"/>
              </a:rPr>
              <a:t>Выбор темы обусловлен необходимостью целенаправленной коррекционно-развивающей  работы с обучающимися, имеющими низкий уровень речевого развития и навыков чт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Причинами затруднения в овладении навыками чтения у детей-олигофренов являю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–общее недоразвитие речи  и  возникающая на этой основе несформированность фонематического восприятия ( отсюда и недостаточность звукового анализа и синтеза,нарушение произносительной стороны речи, бедность словаря, несовершенство грамматического строя речи 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-слабость зрительного восприят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-пониженные работоспособность и внимани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-слабое развитие смысловой догадк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-недостаточно сформированная оперативная память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-затруднения в понимании логических связе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В результа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се это приводит к тому, что обучающиеся читают текст со значительными искажениями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опускают, переставляют, заменяют буквы, слоги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ливают конец одного и начало второго слова, теряют строку, пропускают строки и др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шибки, нарушающие правильность чтения, являются </a:t>
            </a:r>
            <a:r>
              <a:rPr b="0" lang="ru-RU" sz="2100" spc="-1" strike="noStrike">
                <a:solidFill>
                  <a:srgbClr val="cc0000"/>
                </a:solidFill>
                <a:latin typeface="Verdana"/>
              </a:rPr>
              <a:t>типичным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для обучающихся, представляют собой явление довольно </a:t>
            </a:r>
            <a:r>
              <a:rPr b="0" lang="ru-RU" sz="2100" spc="-1" strike="noStrike">
                <a:solidFill>
                  <a:srgbClr val="cc0000"/>
                </a:solidFill>
                <a:latin typeface="Verdana"/>
              </a:rPr>
              <a:t>стойкое,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которое тормозит развитие навыка беглого чт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8001000" cy="24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Verdana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Эффективность дальнейшего обучения всем другим учебным предметам напрямую зависит от того, как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сформированы у них навыки чте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аким образом,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качество ЗУН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обучающихся по всем учебным предметам зависит от того, насколько правильно организована работа на уроке по коррекции вышеперечисленных недостатков и реализации главных задач уроков чтения: выработке у детей навыков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беглого, осмысленного, правильного и выразительного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чте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казателем хорошей результативности работы по формированию навыков чтения явится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успешность овладения ими программным материалом по всем предметам,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что, в конечном итоге, будет способствовать их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успешной социальной адапта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Диагностический этап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ределение уровня сформи -рованности навыка чтения на основе диагностики. Постановка задач индивидуальных образовательных маршрутов на основе выявленных пробле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Подготовительный этап: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Определение наиболее эффективных коррекционно-развивающих приёмов работы. Обеспечение практической базы ( специаль -ная литература, дидактический и раздаточный мате- риал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Практический этап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пробирование приёмов работы на практике с учётом индивидуальных возможностей каждого обучающегося, воспитанни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Мониторинговый этап: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вести диагностику.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следить результативность обучения на уровне возможностей  обучающегося, воспитанник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-3349800" y="5012640"/>
            <a:ext cx="15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66280" y="549360"/>
            <a:ext cx="80010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Эффективность обучения школьников всем другим учебным предметам напрямую зависит от того, как сформирован у них навык чтения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Verdana"/>
              </a:rPr>
              <a:t>Сформированный навык чтения характеризуется единством 4-х компонент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- правильност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- беглост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- осмысленности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- вырази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Сформированность навыка чтения у обучающихся, воспитанников  5 класса на начало 2015-2016 учебного г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7640" y="2602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773360"/>
          <a:ext cx="8099280" cy="431964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  <a:gridCol w="1511280"/>
                <a:gridCol w="2016360"/>
                <a:gridCol w="1547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в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ег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авиль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мысл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раз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стато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вень ниже достаточ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изки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4:18:31Z</dcterms:created>
  <dc:creator>1</dc:creator>
  <dc:description/>
  <dc:language>en-US</dc:language>
  <cp:lastModifiedBy>Uzer</cp:lastModifiedBy>
  <dcterms:modified xsi:type="dcterms:W3CDTF">2018-12-13T15:36:02Z</dcterms:modified>
  <cp:revision>40</cp:revision>
  <dc:subject/>
  <dc:title>Обобщение педагогического опыта</dc:title>
</cp:coreProperties>
</file>