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4E06-F752-4165-BE2D-F3E400D104D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6F53-71F7-4E26-9086-EB84DF799EC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2488-6B55-43DB-82A2-1E2CB123B69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8B05-77EA-4DBB-9F68-C730358BB45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C24B-BFE5-4999-94FF-9CB0860DC3E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66ED-271C-4688-AAB0-E32E260135E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B1A0-BA30-41F4-85C3-02E51FF8CFA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3E3E-ED52-491D-9948-680B50514F9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B735-BD39-4148-93BD-B77EC2892AB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0D8F-CE06-4658-924F-EAB1B267ADE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7F64-960E-48E1-8430-5B648D9140E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7513-BA68-4206-8516-2F1CB199DD9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9E28-4FB4-4112-9762-AB70814A4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1499-E25E-4D7D-B10D-9AFCD0D9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A216-B2CF-4321-8636-9BAFE7C2E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B654-35EE-4FC6-9254-9648DC70A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50C4-963A-4B1E-B57C-60B44F35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FDF8-EA2B-4C57-A97A-29FC4693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9C50-07E3-4160-9F64-A8E57CE5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DA55-2FCC-4D1E-A8FB-207513DD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FFA5-38AC-41EB-90DB-98425AD2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DC21-EAA6-4549-BD16-84F28CC9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EF34-81CF-4D0E-BDBF-C709ED43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3668-B7EC-4234-A174-4F418AC8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7375-C035-4494-A0A0-A0069630EE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s://yandex.ru/search/?text=&#1082;&#1072;&#1088;&#1090;&#1080;&#1085;&#1082;&#1080;" TargetMode="External"/><Relationship Id="rId3" Type="http://schemas.openxmlformats.org/officeDocument/2006/relationships/hyperlink" Target="https://yandex.ru/search/?text=&#1082;&#1072;&#1088;&#1090;&#1080;&#1085;&#1082;&#1080;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468360" y="633240"/>
            <a:ext cx="7920000" cy="42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53735"/>
                </a:solidFill>
                <a:latin typeface="Comic Sans MS"/>
              </a:rPr>
              <a:t>Муниципальное дошкольное 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53735"/>
                </a:solidFill>
                <a:latin typeface="Comic Sans MS"/>
              </a:rPr>
              <a:t>«Детский сад №24-общеразвивающего вида» г. Ух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3735"/>
                </a:solidFill>
                <a:latin typeface="Comic Sans MS"/>
              </a:rPr>
              <a:t>Консультация для родителей детей дошкольного возра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53735"/>
                </a:solidFill>
                <a:latin typeface="Comic Sans MS"/>
              </a:rPr>
              <a:t>Песочная терапия в развитии творческих способностей детей дошкольного возрас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3909960" y="5165640"/>
            <a:ext cx="56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одготовила педагог-психолог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рлова Надежда Юр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3564000" y="61898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г. Ухта, 201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3"/>
          <p:cNvSpPr/>
          <p:nvPr/>
        </p:nvSpPr>
        <p:spPr>
          <a:xfrm>
            <a:off x="2627280" y="1460520"/>
            <a:ext cx="54007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46c0a"/>
                </a:solidFill>
                <a:latin typeface="Comic Sans MS"/>
              </a:rPr>
              <a:t>Кроме самой песочницы вам понадобятся различные атрибу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46c0a"/>
                </a:solidFill>
                <a:latin typeface="Comic Sans MS"/>
              </a:rPr>
              <a:t>Фигурки</a:t>
            </a:r>
            <a:br>
              <a:rPr sz="1600"/>
            </a:br>
            <a:r>
              <a:rPr b="1" lang="ru-RU" sz="1600" spc="-1" strike="noStrike">
                <a:solidFill>
                  <a:srgbClr val="e46c0a"/>
                </a:solidFill>
                <a:latin typeface="Comic Sans MS"/>
              </a:rPr>
              <a:t>1. Люди.</a:t>
            </a:r>
            <a:br>
              <a:rPr sz="1600"/>
            </a:br>
            <a:r>
              <a:rPr b="1" lang="ru-RU" sz="1600" spc="-1" strike="noStrike">
                <a:solidFill>
                  <a:srgbClr val="e46c0a"/>
                </a:solidFill>
                <a:latin typeface="Comic Sans MS"/>
              </a:rPr>
              <a:t>2. Наземных животных и насекомых.</a:t>
            </a:r>
            <a:br>
              <a:rPr sz="1600"/>
            </a:br>
            <a:r>
              <a:rPr b="1" lang="ru-RU" sz="1600" spc="-1" strike="noStrike">
                <a:solidFill>
                  <a:srgbClr val="e46c0a"/>
                </a:solidFill>
                <a:latin typeface="Comic Sans MS"/>
              </a:rPr>
              <a:t>3. Летающих животных и насекомых.</a:t>
            </a:r>
            <a:br>
              <a:rPr sz="1600"/>
            </a:br>
            <a:r>
              <a:rPr b="1" lang="ru-RU" sz="1600" spc="-1" strike="noStrike">
                <a:solidFill>
                  <a:srgbClr val="e46c0a"/>
                </a:solidFill>
                <a:latin typeface="Comic Sans MS"/>
              </a:rPr>
              <a:t>4. Обитателей водного мира.</a:t>
            </a:r>
            <a:br>
              <a:rPr sz="1600"/>
            </a:br>
            <a:r>
              <a:rPr b="1" lang="ru-RU" sz="1600" spc="-1" strike="noStrike">
                <a:solidFill>
                  <a:srgbClr val="e46c0a"/>
                </a:solidFill>
                <a:latin typeface="Comic Sans MS"/>
              </a:rPr>
              <a:t>5. Жилища и дома с мебелью.</a:t>
            </a:r>
            <a:br>
              <a:rPr sz="1600"/>
            </a:br>
            <a:r>
              <a:rPr b="1" lang="ru-RU" sz="1600" spc="-1" strike="noStrike">
                <a:solidFill>
                  <a:srgbClr val="e46c0a"/>
                </a:solidFill>
                <a:latin typeface="Comic Sans MS"/>
              </a:rPr>
              <a:t>6. Домашняя утварь (посуда, предметы обихода, убранства стола).</a:t>
            </a:r>
            <a:br>
              <a:rPr sz="1600"/>
            </a:br>
            <a:r>
              <a:rPr b="1" lang="ru-RU" sz="1600" spc="-1" strike="noStrike">
                <a:solidFill>
                  <a:srgbClr val="e46c0a"/>
                </a:solidFill>
                <a:latin typeface="Comic Sans MS"/>
              </a:rPr>
              <a:t>7. Деревья и другие растения.</a:t>
            </a:r>
            <a:br>
              <a:rPr sz="1600"/>
            </a:br>
            <a:r>
              <a:rPr b="1" lang="ru-RU" sz="1600" spc="-1" strike="noStrike">
                <a:solidFill>
                  <a:srgbClr val="e46c0a"/>
                </a:solidFill>
                <a:latin typeface="Comic Sans MS"/>
              </a:rPr>
              <a:t>8. Объекты небесного пространства (солнце, луна, звезды, радуга, облака).</a:t>
            </a:r>
            <a:br>
              <a:rPr sz="1600"/>
            </a:br>
            <a:r>
              <a:rPr b="1" lang="ru-RU" sz="1600" spc="-1" strike="noStrike">
                <a:solidFill>
                  <a:srgbClr val="e46c0a"/>
                </a:solidFill>
                <a:latin typeface="Comic Sans MS"/>
              </a:rPr>
              <a:t>9. Транспортные средства.</a:t>
            </a:r>
            <a:br>
              <a:rPr sz="1600"/>
            </a:br>
            <a:r>
              <a:rPr b="1" lang="ru-RU" sz="1600" spc="-1" strike="noStrike">
                <a:solidFill>
                  <a:srgbClr val="e46c0a"/>
                </a:solidFill>
                <a:latin typeface="Comic Sans MS"/>
              </a:rPr>
              <a:t>10. Объекты среды обитания человека (заборы, изгороди, мосты, ворота, дорожные знаки).</a:t>
            </a:r>
            <a:br>
              <a:rPr sz="1600"/>
            </a:br>
            <a:r>
              <a:rPr b="1" lang="ru-RU" sz="1600" spc="-1" strike="noStrike">
                <a:solidFill>
                  <a:srgbClr val="e46c0a"/>
                </a:solidFill>
                <a:latin typeface="Comic Sans MS"/>
              </a:rPr>
              <a:t>11. Объекты ландшафта и естественной активности Земли (вулканы, горы).</a:t>
            </a:r>
            <a:br>
              <a:rPr sz="1600"/>
            </a:br>
            <a:r>
              <a:rPr b="1" lang="ru-RU" sz="1600" spc="-1" strike="noStrike">
                <a:solidFill>
                  <a:srgbClr val="e46c0a"/>
                </a:solidFill>
                <a:latin typeface="Comic Sans MS"/>
              </a:rPr>
              <a:t>12. Аксессуары (бусы, ткани.).</a:t>
            </a:r>
            <a:br>
              <a:rPr sz="1600"/>
            </a:br>
            <a:r>
              <a:rPr b="1" lang="ru-RU" sz="1600" spc="-1" strike="noStrike">
                <a:solidFill>
                  <a:srgbClr val="e46c0a"/>
                </a:solidFill>
                <a:latin typeface="Comic Sans MS"/>
              </a:rPr>
              <a:t>13. Естественные природные предметы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Прямоугольник 2" descr=""/>
          <p:cNvPicPr/>
          <p:nvPr/>
        </p:nvPicPr>
        <p:blipFill>
          <a:blip r:embed="rId2"/>
          <a:stretch/>
        </p:blipFill>
        <p:spPr>
          <a:xfrm>
            <a:off x="2054160" y="334800"/>
            <a:ext cx="6267600" cy="1195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1476360" y="765000"/>
            <a:ext cx="720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Comic Sans MS"/>
              </a:rPr>
              <a:t>Всё, что встречается в окружающем мире, может занять достойное место в коллекции. Если для занятий не хватает каких-либо фигурок-образов, их можно вылепить из пластилина, глины, теста, вырезать из бумаги. Коллекция фигурок располагается на полках. Если места на полках недостаточно для размещения всей коллекции, то могут использоваться и прозрачные короб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2" descr=""/>
          <p:cNvPicPr/>
          <p:nvPr/>
        </p:nvPicPr>
        <p:blipFill>
          <a:blip r:embed="rId2"/>
          <a:stretch/>
        </p:blipFill>
        <p:spPr>
          <a:xfrm>
            <a:off x="2916360" y="3500280"/>
            <a:ext cx="4943520" cy="2953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1763640" y="449280"/>
            <a:ext cx="64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mic Sans MS"/>
              </a:rPr>
              <a:t>Несмотря на то, что мир современных игрушек просто поражает, игры в песочнице не устаре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Песочница также как и раньше – излюбленное  место де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Прямоугольник 2" descr=""/>
          <p:cNvPicPr/>
          <p:nvPr/>
        </p:nvPicPr>
        <p:blipFill>
          <a:blip r:embed="rId2"/>
          <a:stretch/>
        </p:blipFill>
        <p:spPr>
          <a:xfrm>
            <a:off x="689040" y="2279520"/>
            <a:ext cx="7832520" cy="174960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2771640" y="468144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mic Sans MS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1763640" y="836640"/>
            <a:ext cx="6481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Arial"/>
              </a:rPr>
              <a:t>Список используемой литерату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e46c0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Arial"/>
              </a:rPr>
              <a:t>О.Б. Сапожникова, Е.В. Гарнова, «Песочная терапия в развитии дошкольников», 2015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e46c0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Arial"/>
              </a:rPr>
              <a:t>Мариелла Зейц «Пишем и рисуем на песке. Настольная песочница», 2010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e46c0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Arial"/>
              </a:rPr>
              <a:t>Т.Д. Зинкевич-Евстигнеева Т.М. Грабенко « Чудеса на песке» практикум по песочной терапии. Из-во « Речь» 2005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Arial"/>
              </a:rPr>
              <a:t>Использованные интернет ресур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e46c0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s://yandex.ru/search/?text=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карти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e46c0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Arial"/>
              </a:rPr>
              <a:t>https://yandex.ru/image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e46c0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2"/>
          <p:cNvSpPr/>
          <p:nvPr/>
        </p:nvSpPr>
        <p:spPr>
          <a:xfrm>
            <a:off x="826920" y="333360"/>
            <a:ext cx="749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«Истоки способностей и дарований детей – на кончиках их  пальцев. От пальцев, образно говоря, идут тончайшие нити – ручейки, которые питают источник творческой мысли. Другими словами, чем больше мастерства в детской руке, тем умнее ребенок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Arial"/>
              </a:rPr>
              <a:t>В. Сухомлински</a:t>
            </a:r>
            <a:r>
              <a:rPr b="0" lang="ru-RU" sz="2800" spc="-1" strike="noStrike">
                <a:solidFill>
                  <a:srgbClr val="984807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2"/>
          <p:cNvSpPr/>
          <p:nvPr/>
        </p:nvSpPr>
        <p:spPr>
          <a:xfrm>
            <a:off x="1763640" y="10944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Comic Sans MS"/>
              </a:rPr>
              <a:t>Что такое песочная терап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395280" y="922320"/>
            <a:ext cx="8567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omic Sans MS"/>
              </a:rPr>
              <a:t>Это–одна из разновидностей игровой терап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omic Sans MS"/>
              </a:rPr>
              <a:t>Песочная терапия-техника, которая позволяет раскрыть индивидуальность каждого ребенка, разрешить его психологические затруднения, развить способность осознавать свои желания и возможность их реал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omic Sans MS"/>
              </a:rPr>
              <a:t>Играя с песком, у ребенка возникает чувство безопасности, так как песочный мир – это мир под контро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omic Sans MS"/>
              </a:rPr>
              <a:t>Игры с песком способны заинтересовать, отвлечь, расслабить ребенка, а значит, обеспечить наиболее успешное выполнение задания или же эффективный способ подачи материала. Песочную терапию можно использовать в работе с детьми, начиная с трех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" descr=""/>
          <p:cNvPicPr/>
          <p:nvPr/>
        </p:nvPicPr>
        <p:blipFill>
          <a:blip r:embed="rId2"/>
          <a:stretch/>
        </p:blipFill>
        <p:spPr>
          <a:xfrm>
            <a:off x="2997360" y="4149720"/>
            <a:ext cx="5256000" cy="2519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1920" y="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Comic Sans MS"/>
              </a:rPr>
              <a:t>Варианты работы с песком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Текст 8"/>
          <p:cNvSpPr/>
          <p:nvPr/>
        </p:nvSpPr>
        <p:spPr>
          <a:xfrm>
            <a:off x="324000" y="1736640"/>
            <a:ext cx="4309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lnSpc>
                <a:spcPct val="100000"/>
              </a:lnSpc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omic Sans MS"/>
              </a:rPr>
              <a:t>Рисование песком на световом ст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Текст 10"/>
          <p:cNvSpPr/>
          <p:nvPr/>
        </p:nvSpPr>
        <p:spPr>
          <a:xfrm>
            <a:off x="1042920" y="4398840"/>
            <a:ext cx="4041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Comic Sans MS"/>
              </a:rPr>
              <a:t>Использование настольной песоч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4932360" y="1017720"/>
            <a:ext cx="3670200" cy="2298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3"/>
          <a:stretch/>
        </p:blipFill>
        <p:spPr>
          <a:xfrm>
            <a:off x="5219640" y="4005360"/>
            <a:ext cx="3382920" cy="2298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4"/>
          <p:cNvSpPr/>
          <p:nvPr/>
        </p:nvSpPr>
        <p:spPr>
          <a:xfrm>
            <a:off x="884160" y="93816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6c0a"/>
                </a:solidFill>
                <a:latin typeface="Comic Sans MS"/>
              </a:rPr>
              <a:t>Рисование песком — это маленькое чу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4221000" y="1598760"/>
            <a:ext cx="4680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e46c0a"/>
                </a:solidFill>
                <a:latin typeface="Arial"/>
              </a:rPr>
              <a:t>Чудеснее песка нет для детей забав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e46c0a"/>
                </a:solidFill>
                <a:latin typeface="Arial"/>
              </a:rPr>
              <a:t>Его всегда имеется в достатк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e46c0a"/>
                </a:solidFill>
                <a:latin typeface="Arial"/>
              </a:rPr>
              <a:t>Течет он нежно так сквозь рук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e46c0a"/>
                </a:solidFill>
                <a:latin typeface="Arial"/>
              </a:rPr>
              <a:t>Что не сравнить его не с чем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e46c0a"/>
                </a:solidFill>
                <a:latin typeface="Arial"/>
              </a:rPr>
              <a:t>Иоаххим Рингельнац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6"/>
          <p:cNvSpPr/>
          <p:nvPr/>
        </p:nvSpPr>
        <p:spPr>
          <a:xfrm>
            <a:off x="4371840" y="3645000"/>
            <a:ext cx="414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Comic Sans MS"/>
              </a:rPr>
              <a:t>Рисование песком на стекле в последнее время стало очень популярным занятием. Существует  огромное количество необычных способов и техник рисования, но рисование песком - завораживает. Песок - материал, который притягивает к себе. Его сыпучесть привлекает и детей, и взрослых</a:t>
            </a:r>
            <a:r>
              <a:rPr b="0" lang="ru-RU" sz="1800" spc="-1" strike="noStrike">
                <a:solidFill>
                  <a:srgbClr val="e46c0a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7" descr=""/>
          <p:cNvPicPr/>
          <p:nvPr/>
        </p:nvPicPr>
        <p:blipFill>
          <a:blip r:embed="rId2"/>
          <a:stretch/>
        </p:blipFill>
        <p:spPr>
          <a:xfrm>
            <a:off x="441360" y="1712880"/>
            <a:ext cx="3762360" cy="231156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8" descr=""/>
          <p:cNvPicPr/>
          <p:nvPr/>
        </p:nvPicPr>
        <p:blipFill>
          <a:blip r:embed="rId3"/>
          <a:stretch/>
        </p:blipFill>
        <p:spPr>
          <a:xfrm>
            <a:off x="2054160" y="189000"/>
            <a:ext cx="6461280" cy="585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2473200" y="244152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Comic Sans MS"/>
              </a:rPr>
              <a:t>Улучшает пам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2560680" y="417600"/>
            <a:ext cx="625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Comic Sans MS"/>
              </a:rPr>
              <a:t>Рисование песком развив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1816200" y="125568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Comic Sans MS"/>
              </a:rPr>
              <a:t>Мелкую моторику кистей р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2050920" y="189540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Comic Sans MS"/>
              </a:rPr>
              <a:t>Работу моз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1"/>
          <p:cNvSpPr/>
          <p:nvPr/>
        </p:nvSpPr>
        <p:spPr>
          <a:xfrm>
            <a:off x="2905200" y="305604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Comic Sans MS"/>
              </a:rPr>
              <a:t>Пластику дви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3365640" y="3657600"/>
            <a:ext cx="53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Comic Sans MS"/>
              </a:rPr>
              <a:t>Снимает эмоциональное напря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13" descr=""/>
          <p:cNvPicPr/>
          <p:nvPr/>
        </p:nvPicPr>
        <p:blipFill>
          <a:blip r:embed="rId2"/>
          <a:stretch/>
        </p:blipFill>
        <p:spPr>
          <a:xfrm>
            <a:off x="2376360" y="4427640"/>
            <a:ext cx="6624720" cy="2292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2"/>
          <p:cNvSpPr/>
          <p:nvPr/>
        </p:nvSpPr>
        <p:spPr>
          <a:xfrm>
            <a:off x="1619280" y="1268280"/>
            <a:ext cx="7200720" cy="51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e46c0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Comic Sans MS"/>
              </a:rPr>
              <a:t>Рисование указательным пальцем по тонкому слою пе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e46c0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e46c0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e46c0a"/>
                </a:solidFill>
                <a:latin typeface="Comic Sans MS"/>
              </a:rPr>
              <a:t>Кулаком, ладонью, ребром большого пальца, щепотью, мизинцами, насыпью из кулачка, одновременное использование нескольких паль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e46c0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e46c0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Comic Sans MS"/>
              </a:rPr>
              <a:t>Доработка образов в фигурах, полученных трафаре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e46c0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e46c0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Comic Sans MS"/>
              </a:rPr>
              <a:t>Расчистка слоя песка при помощи различных предметов, таких как: ребристый мячик, деревянные фигурные рей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e46c0a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Comic Sans MS"/>
              </a:rPr>
              <a:t>4. При помощи кист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Comic Sans MS"/>
              </a:rPr>
              <a:t>5. Рисовать можно двумя руками симметрично, что способствует центриров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Прямоугольник 3" descr=""/>
          <p:cNvPicPr/>
          <p:nvPr/>
        </p:nvPicPr>
        <p:blipFill>
          <a:blip r:embed="rId2"/>
          <a:stretch/>
        </p:blipFill>
        <p:spPr>
          <a:xfrm>
            <a:off x="1762200" y="317520"/>
            <a:ext cx="6553080" cy="590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6" descr=""/>
          <p:cNvPicPr/>
          <p:nvPr/>
        </p:nvPicPr>
        <p:blipFill>
          <a:blip r:embed="rId2"/>
          <a:stretch/>
        </p:blipFill>
        <p:spPr>
          <a:xfrm>
            <a:off x="2987640" y="3429000"/>
            <a:ext cx="4762440" cy="3284640"/>
          </a:xfrm>
          <a:prstGeom prst="rect">
            <a:avLst/>
          </a:prstGeom>
          <a:ln w="0">
            <a:noFill/>
          </a:ln>
        </p:spPr>
      </p:pic>
      <p:sp>
        <p:nvSpPr>
          <p:cNvPr id="75" name="TextBox 7"/>
          <p:cNvSpPr/>
          <p:nvPr/>
        </p:nvSpPr>
        <p:spPr>
          <a:xfrm>
            <a:off x="1839960" y="1409760"/>
            <a:ext cx="7057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omic Sans MS"/>
              </a:rPr>
              <a:t>Все, наверное, замечали, что не только дети , но и взрослые, оказавшись на пляже, вдруг начинают увлеченно строить замки из песка? И это не случай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omic Sans MS"/>
              </a:rPr>
              <a:t>Как приятно погружать руки в песок и пропускать песчинки сквозь пальцы. Мельчайшие частички песка активизируют чувствительные нервные окончания на кончиках пальцев и ладон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Прямоугольник 1" descr=""/>
          <p:cNvPicPr/>
          <p:nvPr/>
        </p:nvPicPr>
        <p:blipFill>
          <a:blip r:embed="rId3"/>
          <a:stretch/>
        </p:blipFill>
        <p:spPr>
          <a:xfrm>
            <a:off x="2273400" y="334800"/>
            <a:ext cx="5462640" cy="646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Прямоугольник 2" descr=""/>
          <p:cNvPicPr/>
          <p:nvPr/>
        </p:nvPicPr>
        <p:blipFill>
          <a:blip r:embed="rId2"/>
          <a:stretch/>
        </p:blipFill>
        <p:spPr>
          <a:xfrm>
            <a:off x="353880" y="268200"/>
            <a:ext cx="8979120" cy="160992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1692360" y="1860480"/>
            <a:ext cx="52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Comic Sans MS"/>
              </a:rPr>
              <a:t>Формирование коммуникативных навы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5"/>
          <p:cNvSpPr/>
          <p:nvPr/>
        </p:nvSpPr>
        <p:spPr>
          <a:xfrm>
            <a:off x="2106720" y="232884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Comic Sans MS"/>
              </a:rPr>
              <a:t>Улучшение памяти, внимания и образного мыш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6"/>
          <p:cNvSpPr/>
          <p:nvPr/>
        </p:nvSpPr>
        <p:spPr>
          <a:xfrm>
            <a:off x="2627280" y="2873520"/>
            <a:ext cx="39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Comic Sans MS"/>
              </a:rPr>
              <a:t>Развитие мелкой моторики р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7"/>
          <p:cNvSpPr/>
          <p:nvPr/>
        </p:nvSpPr>
        <p:spPr>
          <a:xfrm>
            <a:off x="3036240" y="3357720"/>
            <a:ext cx="40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Comic Sans MS"/>
              </a:rPr>
              <a:t>Избавление от тревог и страх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8"/>
          <p:cNvSpPr/>
          <p:nvPr/>
        </p:nvSpPr>
        <p:spPr>
          <a:xfrm>
            <a:off x="2411280" y="4076640"/>
            <a:ext cx="5908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6c0a"/>
                </a:solidFill>
                <a:latin typeface="Comic Sans MS"/>
              </a:rPr>
              <a:t>Работа с песком успокаивает (особенно гиперактивных детей) – в нем как будто содержится живительная солнечная энергия, которая подзаряжает нас позитивными эмоциями</a:t>
            </a:r>
            <a:r>
              <a:rPr b="0" lang="ru-RU" sz="1800" spc="-1" strike="noStrike">
                <a:solidFill>
                  <a:srgbClr val="e46c0a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9:20:27Z</dcterms:created>
  <dc:creator>Надежда</dc:creator>
  <dc:description/>
  <dc:language>en-US</dc:language>
  <cp:lastModifiedBy>user</cp:lastModifiedBy>
  <dcterms:modified xsi:type="dcterms:W3CDTF">2018-12-14T04:57:22Z</dcterms:modified>
  <cp:revision>51</cp:revision>
  <dc:subject/>
  <dc:title>PRESENTATION  NAME</dc:title>
</cp:coreProperties>
</file>