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86D-E7F8-4786-8C7F-BE3247C619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0E4-16A4-46B1-9E23-E90F95FFB3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629D-7620-42F4-BAFA-5182EB84F2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1169-1C99-49CB-A143-5D371AA9E9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305-D0E0-4AAA-9C04-7DC19FB9BE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DA1-483C-4F78-B119-F51340F1E1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C54-6F9A-4844-9C5C-DF175C9AB3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F40-F9FD-4741-8186-8B9D5F0F9B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97D-6752-4C9C-A7B0-56488B2C4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BF6-73F8-464F-A72D-E3408D1668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504-DBF9-444C-8404-E02870EDD4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96E9-561A-4C6A-8E4B-9EDDC2E2BE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B2B-8F88-4310-AA3C-4CFF2417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E2E-02C0-4471-BA3C-13376021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23-2AFB-49A7-8C15-11D73426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3D2-F787-4DA7-8DEC-869B6051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ABF-0D3B-4220-9F06-19E210B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61A-2796-4B35-A7A8-CC4A827B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D6-8B55-4520-B5C5-47765B3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39C-6421-438B-B83C-F52372B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063-71FC-4A7A-A787-94C7813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845-CD4D-4DE3-B5A4-330F824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F00-F356-4295-AAE3-7E1498F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086-2D5C-4377-B31B-8A3448C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264-E03D-4EA9-9248-72407D8DC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yandex.ru/search/?text=&#1082;&#1072;&#1088;&#1090;&#1080;&#1085;&#1082;&#1080;" TargetMode="External"/><Relationship Id="rId3" Type="http://schemas.openxmlformats.org/officeDocument/2006/relationships/hyperlink" Target="https://yandex.ru/search/?text=&#1082;&#1072;&#1088;&#1090;&#1080;&#1085;&#1082;&#1080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68360" y="633240"/>
            <a:ext cx="79200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Comic Sans MS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Comic Sans MS"/>
              </a:rPr>
              <a:t>«Детский сад №24-общеразвивающего вида» г. Ух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Консультация для родителей детей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omic Sans MS"/>
              </a:rPr>
              <a:t>Песочная терапия в развитии творческих способностей детей дошкольного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09960" y="516564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готовила педагог-психолог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рлова Надежд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564000" y="6189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. Ухта,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2627280" y="1460520"/>
            <a:ext cx="540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Кроме самой песочницы вам понадобятся различные атрибу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Comic Sans MS"/>
              </a:rPr>
              <a:t>Фигурки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. Люди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2. Наземных животных и насекомых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3. Летающих животных и насекомых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4. Обитателей водного мира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5. Жилища и дома с мебелью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6. Домашняя утварь (посуда, предметы обихода, убранства стола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7. Деревья и другие растения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8. Объекты небесного пространства (солнце, луна, звезды, радуга, облака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9. Транспортные средства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0. Объекты среды обитания человека (заборы, изгороди, мосты, ворота, дорожные знаки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1. Объекты ландшафта и естественной активности Земли (вулканы, горы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2. Аксессуары (бусы, ткани.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3. Естественные природные предметы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2054160" y="334800"/>
            <a:ext cx="6267600" cy="119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76360" y="76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Всё, что встречается в окружающем мире, может занять достойное место в коллекции. Если для занятий не хватает каких-либо фигурок-образов, их можно вылепить из пластилина, глины, теста, вырезать из бумаги. Коллекция фигурок располагается на полках. Если места на полках недостаточно для размещения всей коллекции, то могут использоваться и прозрачные кор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4943520" cy="29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763640" y="44928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Несмотря на то, что мир современных игрушек просто поражает, игры в песочнице не устар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есочница также как и раньше – излюбленное  место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689040" y="2279520"/>
            <a:ext cx="7832520" cy="1749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771640" y="46814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763640" y="836640"/>
            <a:ext cx="648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Список используем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О.Б. Сапожникова, Е.В. Гарнова, «Песочная терапия в развитии дошкольников», 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Мариелла Зейц «Пишем и рисуем на песке. Настольная песочница»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Т.Д. Зинкевич-Евстигнеева Т.М. Грабенко « Чудеса на песке» практикум по песочной терапии. Из-во « Речь» 200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Использованные интернет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yandex.ru/search/?text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"/>
              </a:rPr>
              <a:t>https://yandex.ru/imag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826920" y="333360"/>
            <a:ext cx="749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«Истоки способностей и дарований детей – на кончиках их  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енок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В. Сухомлински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763640" y="1094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Что такое песочная терап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95280" y="922320"/>
            <a:ext cx="85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Это–одна из разновидностей игровой тера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Песочная терапия-техника, которая позволяет раскрыть индивидуальность каждого ребенка, разрешить его психологические затруднения, развить способность осознавать свои желания и возможность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Играя с песком, у ребенка возникает чувство безопасности, так как песочный мир – это мир под контро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Игры с песком способны заинтересовать, отвлечь, расслабить ребенка, а значит, обеспечить наиболее успешное выполнение задания или же эффективный способ подачи материала. Песочную терапию можно использовать в работе с детьми, начиная с трех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2997360" y="4149720"/>
            <a:ext cx="5256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omic Sans MS"/>
              </a:rPr>
              <a:t>Варианты работы с песк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екст 8"/>
          <p:cNvSpPr/>
          <p:nvPr/>
        </p:nvSpPr>
        <p:spPr>
          <a:xfrm>
            <a:off x="324000" y="1736640"/>
            <a:ext cx="4309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Рисование песком на световом ст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Текст 10"/>
          <p:cNvSpPr/>
          <p:nvPr/>
        </p:nvSpPr>
        <p:spPr>
          <a:xfrm>
            <a:off x="1042920" y="4398840"/>
            <a:ext cx="4041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Использование настольной песоч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932360" y="1017720"/>
            <a:ext cx="367020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82920" cy="229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4"/>
          <p:cNvSpPr/>
          <p:nvPr/>
        </p:nvSpPr>
        <p:spPr>
          <a:xfrm>
            <a:off x="884160" y="938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Comic Sans MS"/>
              </a:rPr>
              <a:t>Рисование песком — это маленькое чу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221000" y="1598760"/>
            <a:ext cx="46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Чудеснее песка нет для детей заб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Его всегда имеется в достат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Течет он нежно так сквозь ру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Что не сравнить его не с ч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Иоаххим Рингельна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371840" y="3645000"/>
            <a:ext cx="414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исование песком на стекле в последнее время стало очень популярным занятием. Существует  огромное количество необычных способов и техник рисования, но рисование песком - завораживает. Песок - материал, который притягивает к себе. Его сыпучесть привлекает и детей, и взрослых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"/>
          <p:cNvPicPr/>
          <p:nvPr/>
        </p:nvPicPr>
        <p:blipFill>
          <a:blip r:embed="rId2"/>
          <a:stretch/>
        </p:blipFill>
        <p:spPr>
          <a:xfrm>
            <a:off x="441360" y="1712880"/>
            <a:ext cx="3762360" cy="23115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8" descr=""/>
          <p:cNvPicPr/>
          <p:nvPr/>
        </p:nvPicPr>
        <p:blipFill>
          <a:blip r:embed="rId3"/>
          <a:stretch/>
        </p:blipFill>
        <p:spPr>
          <a:xfrm>
            <a:off x="2054160" y="189000"/>
            <a:ext cx="6461280" cy="58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473200" y="24415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Улучшает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560680" y="417600"/>
            <a:ext cx="625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omic Sans MS"/>
              </a:rPr>
              <a:t>Рисование песком разви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816200" y="12556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Мелкую моторику кистей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050920" y="18954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Работу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905200" y="305604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Пластику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365640" y="3657600"/>
            <a:ext cx="53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Снимает эмоциональное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3" descr=""/>
          <p:cNvPicPr/>
          <p:nvPr/>
        </p:nvPicPr>
        <p:blipFill>
          <a:blip r:embed="rId2"/>
          <a:stretch/>
        </p:blipFill>
        <p:spPr>
          <a:xfrm>
            <a:off x="2376360" y="4427640"/>
            <a:ext cx="6624720" cy="229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619280" y="1268280"/>
            <a:ext cx="720072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исование указательным пальцем по тонкому слою пе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Кулаком, ладонью, ребром большого пальца, щепотью, мизинцами, насыпью из кулачка, одновременное использование нескольких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Доработка образов в фигурах, полученных трафар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счистка слоя песка при помощи различных предметов, таких как: ребристый мячик, деревянные фигурные р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4. При помощи к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5. Рисовать можно двумя руками симметрично, что способствует центр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317520"/>
            <a:ext cx="6553080" cy="59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4762440" cy="3284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839960" y="1409760"/>
            <a:ext cx="70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Все, наверное, замечали, что не только дети , но и взрослые, оказавшись на пляже, вдруг начинают увлеченно строить замки из песка? И это не случай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Как приятно погружать руки в песок и пропускать песчинки сквозь пальцы. Мельчайшие частички песка активизируют чувствительные нервные окончания на кончиках пальцев и ладо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" descr=""/>
          <p:cNvPicPr/>
          <p:nvPr/>
        </p:nvPicPr>
        <p:blipFill>
          <a:blip r:embed="rId3"/>
          <a:stretch/>
        </p:blipFill>
        <p:spPr>
          <a:xfrm>
            <a:off x="2273400" y="334800"/>
            <a:ext cx="546264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8979120" cy="1609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692360" y="1860480"/>
            <a:ext cx="52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Формирование коммуникативны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106720" y="2328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Улучшение памяти, внимания и образн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2627280" y="287352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звитие мелкой моторики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036240" y="335772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Избавление от тревог и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411280" y="4076640"/>
            <a:ext cx="590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бота с песком успокаивает (особенно гиперактивных детей) – в нем как будто содержится живительная солнечная энергия, которая подзаряжает нас позитивными эмоциями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Надежда</dc:creator>
  <dc:description/>
  <dc:language>en-US</dc:language>
  <cp:lastModifiedBy>user</cp:lastModifiedBy>
  <dcterms:modified xsi:type="dcterms:W3CDTF">2018-12-14T04:57:22Z</dcterms:modified>
  <cp:revision>51</cp:revision>
  <dc:subject/>
  <dc:title>PRESENTATION  NAME</dc:title>
</cp:coreProperties>
</file>