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614-F394-4EF7-B5AF-B33DD246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B0D-BCB5-4BBC-88A3-4E6F890C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2D4D-DA84-4550-B545-26CC0C08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3DC-8407-4DF0-A605-25CFC7FA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2F8-F7A2-4D67-9A94-5B077BA7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D71-E916-4B1F-9269-02CA4BBC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CB0-FE10-4C3A-B359-33566CB4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286-0B7C-4579-8268-53BBF9C2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AB4-47E6-4C4E-ACA8-C1237529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EE8-32AC-4C02-A45C-C6350BEB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4E1-236D-4C60-9141-E91D0460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0F6-A717-4874-A2BA-5E3E2D97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6AE9-6495-4FA0-9A3D-A25729E97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06292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рганизация трудовой деятельности при ознакомлении детей с окружающим миром на прогулке «Высадка многолетних растений на клумб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Падалкина Татьян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Воронеж 2016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ЦЕЛЬ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уточнить знания детей о растениях, прививать интерес посад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растений на клумб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218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акрепить знания о многолетних, однолетних, комнатных и лекарственных растениях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Воспитывать любовь к природ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Развивать любознатель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395280" y="333360"/>
            <a:ext cx="8208720" cy="4462560"/>
            <a:chOff x="395280" y="333360"/>
            <a:chExt cx="8208720" cy="4462560"/>
          </a:xfrm>
        </p:grpSpPr>
        <p:cxnSp>
          <p:nvCxnSpPr>
            <p:cNvPr id="49" name="_s4126"/>
            <p:cNvCxnSpPr>
              <a:stCxn id="50" idx="0"/>
              <a:endCxn id="51" idx="2"/>
            </p:cNvCxnSpPr>
            <p:nvPr/>
          </p:nvCxnSpPr>
          <p:spPr>
            <a:xfrm flipV="1" rot="16200000">
              <a:off x="5649120" y="967680"/>
              <a:ext cx="893160" cy="31928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4122"/>
            <p:cNvCxnSpPr>
              <a:stCxn id="53" idx="0"/>
              <a:endCxn id="51" idx="2"/>
            </p:cNvCxnSpPr>
            <p:nvPr/>
          </p:nvCxnSpPr>
          <p:spPr>
            <a:xfrm flipV="1" rot="16200000">
              <a:off x="4584960" y="2031840"/>
              <a:ext cx="893160" cy="1064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4121"/>
            <p:cNvCxnSpPr>
              <a:stCxn id="55" idx="0"/>
              <a:endCxn id="51" idx="2"/>
            </p:cNvCxnSpPr>
            <p:nvPr/>
          </p:nvCxnSpPr>
          <p:spPr>
            <a:xfrm flipH="1" flipV="1" rot="5400000">
              <a:off x="3522240" y="2032920"/>
              <a:ext cx="893160" cy="1062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4120"/>
            <p:cNvCxnSpPr>
              <a:stCxn id="57" idx="0"/>
              <a:endCxn id="51" idx="2"/>
            </p:cNvCxnSpPr>
            <p:nvPr/>
          </p:nvCxnSpPr>
          <p:spPr>
            <a:xfrm flipH="1" flipV="1" rot="5400000">
              <a:off x="2457000" y="967680"/>
              <a:ext cx="893160" cy="31932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1" name="_s4116"/>
            <p:cNvSpPr/>
            <p:nvPr/>
          </p:nvSpPr>
          <p:spPr>
            <a:xfrm>
              <a:off x="3587760" y="33336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РАСТ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4117"/>
            <p:cNvSpPr/>
            <p:nvPr/>
          </p:nvSpPr>
          <p:spPr>
            <a:xfrm>
              <a:off x="395280" y="301104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ОДНОЛЕТ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4118"/>
            <p:cNvSpPr/>
            <p:nvPr/>
          </p:nvSpPr>
          <p:spPr>
            <a:xfrm>
              <a:off x="2523240" y="301104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МНОГОЛ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4119"/>
            <p:cNvSpPr/>
            <p:nvPr/>
          </p:nvSpPr>
          <p:spPr>
            <a:xfrm>
              <a:off x="4651560" y="301104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КОМНА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4125"/>
            <p:cNvSpPr/>
            <p:nvPr/>
          </p:nvSpPr>
          <p:spPr>
            <a:xfrm>
              <a:off x="6779880" y="3011040"/>
              <a:ext cx="1824120" cy="17848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ЛЕКАКРСТВ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1789200" cy="172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716360" y="4869000"/>
            <a:ext cx="1800360" cy="1728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56000" y="4869000"/>
            <a:ext cx="180000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804000" y="4869000"/>
            <a:ext cx="1871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Заг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Голова на нож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В голове горо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(ма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284720" y="1916280"/>
            <a:ext cx="457524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Зага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олотой и молод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 неделю стал сед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 денечка через д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лысела го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рячу-ка в карм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ывши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одуванч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211640" y="1989000"/>
            <a:ext cx="47163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2. Работа в тетрад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668952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. Практическ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5373360"/>
            <a:ext cx="8218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Высадка цветов многолетних на                                            клум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050920" y="1413000"/>
            <a:ext cx="491328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765680" cy="357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270828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05:04:40Z</dcterms:created>
  <dc:creator>user</dc:creator>
  <dc:description/>
  <dc:language>en-US</dc:language>
  <cp:lastModifiedBy>USER</cp:lastModifiedBy>
  <dcterms:modified xsi:type="dcterms:W3CDTF">2018-12-14T12:32:28Z</dcterms:modified>
  <cp:revision>7</cp:revision>
  <dc:subject/>
  <dc:title>Организация трудовой деятельности при ознакомлении детей с окружающим миром на прогулке «Высадка многолетних растений на клумбе»</dc:title>
</cp:coreProperties>
</file>