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7AAF-221F-4B89-B340-14709EC8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D33C-7365-45B2-8EA3-27B1EDF0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2933-7E28-4507-98AF-1798A078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DC19-CED4-441D-92CE-E8FB9A31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3DF-D2CB-4935-B36F-D2DB3DC6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A874-8033-4F00-811C-5DAA54C3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D7D-9088-4F71-9AFC-AAC020D3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855-8255-4337-9ED8-83DB2568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A8AA-8903-4E89-9838-477562AF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EE52-8F3B-416F-992D-E4B47B56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0077-B30C-4FB5-9063-8B04F7A6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66EA-2E0A-447F-AEDB-3C85274C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60B6-7C71-4912-95D6-14BF981A6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806292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рганизация трудовой деятельности при ознакомлении детей с окружающим миром на прогулке «Высадка многолетних растений на клумб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Разработ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Падалкина Татьяна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Воронеж 2016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ЦЕЛЬ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уточнить знания детей о растениях, прививать интерес посадк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растений на клумб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2184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Закрепить знания о многолетних, однолетних, комнатных и лекарственных растения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Воспитывать любовь к природ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азвивать любознатель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395280" y="333360"/>
            <a:ext cx="8208720" cy="4462560"/>
            <a:chOff x="395280" y="333360"/>
            <a:chExt cx="8208720" cy="4462560"/>
          </a:xfrm>
        </p:grpSpPr>
        <p:cxnSp>
          <p:nvCxnSpPr>
            <p:cNvPr id="49" name="_s4126"/>
            <p:cNvCxnSpPr>
              <a:stCxn id="50" idx="0"/>
              <a:endCxn id="51" idx="2"/>
            </p:cNvCxnSpPr>
            <p:nvPr/>
          </p:nvCxnSpPr>
          <p:spPr>
            <a:xfrm flipV="1" rot="16200000">
              <a:off x="5649120" y="967680"/>
              <a:ext cx="893160" cy="31928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4122"/>
            <p:cNvCxnSpPr>
              <a:stCxn id="53" idx="0"/>
              <a:endCxn id="51" idx="2"/>
            </p:cNvCxnSpPr>
            <p:nvPr/>
          </p:nvCxnSpPr>
          <p:spPr>
            <a:xfrm flipV="1" rot="16200000">
              <a:off x="4584960" y="2031840"/>
              <a:ext cx="893160" cy="1064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4121"/>
            <p:cNvCxnSpPr>
              <a:stCxn id="55" idx="0"/>
              <a:endCxn id="51" idx="2"/>
            </p:cNvCxnSpPr>
            <p:nvPr/>
          </p:nvCxnSpPr>
          <p:spPr>
            <a:xfrm flipH="1" flipV="1" rot="5400000">
              <a:off x="3522240" y="2032920"/>
              <a:ext cx="893160" cy="10623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4120"/>
            <p:cNvCxnSpPr>
              <a:stCxn id="57" idx="0"/>
              <a:endCxn id="51" idx="2"/>
            </p:cNvCxnSpPr>
            <p:nvPr/>
          </p:nvCxnSpPr>
          <p:spPr>
            <a:xfrm flipH="1" flipV="1" rot="5400000">
              <a:off x="2457000" y="967680"/>
              <a:ext cx="893160" cy="31932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1" name="_s4116"/>
            <p:cNvSpPr/>
            <p:nvPr/>
          </p:nvSpPr>
          <p:spPr>
            <a:xfrm>
              <a:off x="3587760" y="33336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РАСТ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4117"/>
            <p:cNvSpPr/>
            <p:nvPr/>
          </p:nvSpPr>
          <p:spPr>
            <a:xfrm>
              <a:off x="395280" y="301104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ОДНОЛЕТ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4118"/>
            <p:cNvSpPr/>
            <p:nvPr/>
          </p:nvSpPr>
          <p:spPr>
            <a:xfrm>
              <a:off x="2523240" y="301104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МНОГОЛ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4119"/>
            <p:cNvSpPr/>
            <p:nvPr/>
          </p:nvSpPr>
          <p:spPr>
            <a:xfrm>
              <a:off x="4651560" y="301104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КОМНАТ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4125"/>
            <p:cNvSpPr/>
            <p:nvPr/>
          </p:nvSpPr>
          <p:spPr>
            <a:xfrm>
              <a:off x="6779880" y="301104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ЛЕКАКРСТВ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4869000"/>
            <a:ext cx="1789200" cy="1728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716360" y="4869000"/>
            <a:ext cx="1800360" cy="1728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556000" y="4869000"/>
            <a:ext cx="1800000" cy="1655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804000" y="4869000"/>
            <a:ext cx="1871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ага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Голова на нож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В голове горо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(ма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457524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Зага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олотой и моло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 неделю стал сед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 денечка через д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лысела гол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рячу-ка в карман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ывши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одуванчи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211640" y="1989000"/>
            <a:ext cx="47163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2. Работа в тетрадя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668952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. Практическ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5373360"/>
            <a:ext cx="8218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Высадка цветов многолетних на                                            клумб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491328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4765680" cy="3573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4000" y="2708280"/>
            <a:ext cx="5111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05:04:40Z</dcterms:created>
  <dc:creator>user</dc:creator>
  <dc:description/>
  <dc:language>en-US</dc:language>
  <cp:lastModifiedBy>USER</cp:lastModifiedBy>
  <dcterms:modified xsi:type="dcterms:W3CDTF">2018-12-14T12:32:28Z</dcterms:modified>
  <cp:revision>7</cp:revision>
  <dc:subject/>
  <dc:title>Организация трудовой деятельности при ознакомлении детей с окружающим миром на прогулке «Высадка многолетних растений на клумбе»</dc:title>
</cp:coreProperties>
</file>