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24.jpeg" ContentType="image/jpe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25A-D405-4A3C-A8D7-1DB7940E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A4F-0241-4515-B06C-AF1EE70B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F60-AAF6-4B98-8617-F8004CAA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D0C4-D19E-44F4-AA97-F79B2101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A2A-8BDA-43B9-80CD-D6C4882A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952-113A-40F5-AD85-586E12D0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900-E29A-4C89-B60B-C7C344A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ED7-5C44-442C-B400-D8F02A89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CF0-F1D2-4DA2-8210-5C4DB3EC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C04-A143-443A-9B9C-9D07B550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501-AFB5-4A31-B9CD-E0514FF5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B5A-E214-4674-B579-28A028C8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5170-25C4-4943-ADC0-3D2E4C1A66D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tube.ru/img/otkritka_dedmoroz_ng.jpg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element22"/>
          <p:cNvPicPr/>
          <p:nvPr/>
        </p:nvPicPr>
        <p:blipFill>
          <a:blip r:embed="rId2"/>
          <a:stretch/>
        </p:blipFill>
        <p:spPr>
          <a:xfrm>
            <a:off x="3200400" y="0"/>
            <a:ext cx="2411280" cy="53341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. 5"/>
          <p:cNvSpPr/>
          <p:nvPr/>
        </p:nvSpPr>
        <p:spPr>
          <a:xfrm>
            <a:off x="1600200" y="1143000"/>
            <a:ext cx="5576760" cy="7621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С  НАСТУПАЮЩИМ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2018  ГОДО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. 7"/>
          <p:cNvSpPr/>
          <p:nvPr/>
        </p:nvSpPr>
        <p:spPr>
          <a:xfrm>
            <a:off x="1752480" y="3048120"/>
            <a:ext cx="5715000" cy="20574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Предложения по проведению нового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7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«ОСОБЕННОСТИ ПЕЙНТБОЛА В ЗИМНИЙ ПЕРИОД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е 7"/>
          <p:cNvSpPr/>
          <p:nvPr/>
        </p:nvSpPr>
        <p:spPr>
          <a:xfrm>
            <a:off x="228600" y="1143000"/>
            <a:ext cx="8458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й программе вам придется почувствовать себя в роли участника настоящих боевых действий и поучаствовать в грандиозном пейнтбольном турнире! Здесь всё, как в настоящем военном сражении: разработка военной стратегии, атака и поражение противника! Но игра в пейнтбол заключается не в том, чтобы сидеть в засаде, прижавшись к товарищу спина к спине и крепко зажмурив глаза. Здесь чувства и эмоции накалены до предела, а мысли и желания направлены только на то, чтобы «выжить» и остаться в игре!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8" descr="ready"/>
          <p:cNvPicPr/>
          <p:nvPr/>
        </p:nvPicPr>
        <p:blipFill>
          <a:blip r:embed="rId2"/>
          <a:stretch/>
        </p:blipFill>
        <p:spPr>
          <a:xfrm>
            <a:off x="3200400" y="4267080"/>
            <a:ext cx="2819520" cy="195912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99" name="Рисунок 9" descr="544874_backyard_guerrilla"/>
          <p:cNvPicPr/>
          <p:nvPr/>
        </p:nvPicPr>
        <p:blipFill>
          <a:blip r:embed="rId3"/>
          <a:stretch/>
        </p:blipFill>
        <p:spPr>
          <a:xfrm>
            <a:off x="838080" y="3809880"/>
            <a:ext cx="2000520" cy="266724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100" name="Рисунок 11" descr="123418459645258"/>
          <p:cNvPicPr/>
          <p:nvPr/>
        </p:nvPicPr>
        <p:blipFill>
          <a:blip r:embed="rId4"/>
          <a:stretch/>
        </p:blipFill>
        <p:spPr>
          <a:xfrm>
            <a:off x="6400800" y="4114800"/>
            <a:ext cx="2286000" cy="22860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Картинка 442 из 486">
            <a:hlinkClick r:id="rId2"/>
          </p:cNvPr>
          <p:cNvPicPr/>
          <p:nvPr/>
        </p:nvPicPr>
        <p:blipFill>
          <a:blip r:embed="rId3"/>
          <a:srcRect l="0" t="0" r="0" b="19658"/>
          <a:stretch/>
        </p:blipFill>
        <p:spPr>
          <a:xfrm>
            <a:off x="6184800" y="2666880"/>
            <a:ext cx="295920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Поле 12"/>
          <p:cNvSpPr/>
          <p:nvPr/>
        </p:nvSpPr>
        <p:spPr>
          <a:xfrm>
            <a:off x="533520" y="838080"/>
            <a:ext cx="7619760" cy="49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Будем рады сотрудничеству и с удовольствием ответим на Ваши вопрос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Давайте обсуждат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ОВОГОДНИЙ ДЕТЕКТИ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ле 6"/>
          <p:cNvSpPr/>
          <p:nvPr/>
        </p:nvSpPr>
        <p:spPr>
          <a:xfrm>
            <a:off x="380880" y="1295280"/>
            <a:ext cx="5029200" cy="530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если прямо на новогоднем вечере вы оказываетесь вовлечёнными в самую, что ни на есть, настоящую детективную историю? Но не простую, а новогоднюю. Все готово к Новому Году: и Дед Мороз, и Снегурочка, и даже успела покрыться сверкающим инеем Снежная Королева, но кого-то не хватает. Произошло несчастье – пропал давний напарник по новогодним праздникам Деда Мороза – Санта Клаус, который как раз должен был приехать на торжество. Кто подстроил эт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помогут ответить на этот вопрос, конечно же, улики! Они будут всплывать перед участниками в процессе различных головоломок, конкурсов и испытаний. Главное, правильно ими воспользовать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9" descr="santa-claus"/>
          <p:cNvPicPr/>
          <p:nvPr/>
        </p:nvPicPr>
        <p:blipFill>
          <a:blip r:embed="rId2"/>
          <a:stretch/>
        </p:blipFill>
        <p:spPr>
          <a:xfrm>
            <a:off x="5715000" y="1387440"/>
            <a:ext cx="3124080" cy="2560680"/>
          </a:xfrm>
          <a:prstGeom prst="rect">
            <a:avLst/>
          </a:prstGeom>
          <a:ln w="50760">
            <a:solidFill>
              <a:srgbClr val="ccecff"/>
            </a:solidFill>
            <a:miter/>
          </a:ln>
        </p:spPr>
      </p:pic>
      <p:pic>
        <p:nvPicPr>
          <p:cNvPr id="52" name="Рисунок 10" descr="12b"/>
          <p:cNvPicPr/>
          <p:nvPr/>
        </p:nvPicPr>
        <p:blipFill>
          <a:blip r:embed="rId3"/>
          <a:stretch/>
        </p:blipFill>
        <p:spPr>
          <a:xfrm>
            <a:off x="5715000" y="4233960"/>
            <a:ext cx="3200400" cy="2293920"/>
          </a:xfrm>
          <a:prstGeom prst="rect">
            <a:avLst/>
          </a:prstGeom>
          <a:ln w="507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ОВОГОДНИЙ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ПЕРЕПОЛОХ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. 7"/>
          <p:cNvSpPr/>
          <p:nvPr/>
        </p:nvSpPr>
        <p:spPr>
          <a:xfrm>
            <a:off x="380880" y="685800"/>
            <a:ext cx="8458200" cy="325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д Мороз и все, все, все… озабочены пропажей Символа Старого Года и призывают Вас сыграть ключевую роль в поисках. Вам предстоит собрать все времена этого года (весну, лето, осень и зиму) и, тем самым, вернуть его символ – Корову  – в обширную коллекцию счетовода времен – Деду Морозу. В вашем распоряжении множество увлекательных заданий и новогодних головоломок, за успешное прохождение которых Вас щедро наградят красочными листьями, фруктами, цветами и узорными снежинкам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олько если этого добра будет достаточно, прямо в зале появится корова! Осталось только поймать и вернуть беглеца! Ну и конечно, поприветствовать новорожденный год – год Тиг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8" descr="IMG_4795"/>
          <p:cNvPicPr/>
          <p:nvPr/>
        </p:nvPicPr>
        <p:blipFill>
          <a:blip r:embed="rId2"/>
          <a:srcRect l="2029" t="0" r="6635" b="0"/>
          <a:stretch/>
        </p:blipFill>
        <p:spPr>
          <a:xfrm>
            <a:off x="4343400" y="3962520"/>
            <a:ext cx="3538440" cy="257796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57" name="Рисунок 17" descr="дм и с"/>
          <p:cNvPicPr/>
          <p:nvPr/>
        </p:nvPicPr>
        <p:blipFill>
          <a:blip r:embed="rId3"/>
          <a:stretch/>
        </p:blipFill>
        <p:spPr>
          <a:xfrm>
            <a:off x="1066680" y="3962520"/>
            <a:ext cx="2525760" cy="259236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НОВОГОДНЯЯ СМЕХОТЕРОП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ле 5"/>
          <p:cNvSpPr/>
          <p:nvPr/>
        </p:nvSpPr>
        <p:spPr>
          <a:xfrm>
            <a:off x="228600" y="914400"/>
            <a:ext cx="51055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т праздник отмечается только раз в год в тот самый день, когда старый год уже давно идет, а новый еще даже не собирается наступать. Вас ожидают неожиданные и смешные приключения, которые начнутся уже на пути к главному месту праздника. Начиная с водителя-экстремала без прав, управляющего Вашим транспортным средством, заканчивая шуточным мастер-классом на тему: как быть «настоящим» Дедом Морозом. Также на такой беззаботной и немного сумасшедшей вечеринке Вас ожидает множество сюрпризов и конкурсов. Встретим Новый Год с улыбк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о3"/>
          <p:cNvPicPr/>
          <p:nvPr/>
        </p:nvPicPr>
        <p:blipFill>
          <a:blip r:embed="rId2"/>
          <a:stretch/>
        </p:blipFill>
        <p:spPr>
          <a:xfrm>
            <a:off x="5410080" y="1117440"/>
            <a:ext cx="3353040" cy="2249640"/>
          </a:xfrm>
          <a:prstGeom prst="rect">
            <a:avLst/>
          </a:prstGeom>
          <a:ln w="50760">
            <a:solidFill>
              <a:srgbClr val="ccecff"/>
            </a:solidFill>
            <a:miter/>
          </a:ln>
        </p:spPr>
      </p:pic>
      <p:pic>
        <p:nvPicPr>
          <p:cNvPr id="62" name="Рисунок 10" descr="IMG_2574"/>
          <p:cNvPicPr/>
          <p:nvPr/>
        </p:nvPicPr>
        <p:blipFill>
          <a:blip r:embed="rId3"/>
          <a:stretch/>
        </p:blipFill>
        <p:spPr>
          <a:xfrm>
            <a:off x="5410080" y="3714840"/>
            <a:ext cx="3353040" cy="2514600"/>
          </a:xfrm>
          <a:prstGeom prst="rect">
            <a:avLst/>
          </a:prstGeom>
          <a:ln w="50760">
            <a:solidFill>
              <a:srgbClr val="cce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2" descr="paper5"/>
          <p:cNvPicPr/>
          <p:nvPr/>
        </p:nvPicPr>
        <p:blipFill>
          <a:blip r:embed="rId1"/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НЕОЛИМПИЙСКИЕ ИГ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ле 5"/>
          <p:cNvSpPr/>
          <p:nvPr/>
        </p:nvSpPr>
        <p:spPr>
          <a:xfrm>
            <a:off x="228600" y="914400"/>
            <a:ext cx="495288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оводу будущей Зимней Олимпиады году в одной далёкой олимпийской деревушке было решено провести отборочный тур спортсменов в сборную России. В попытке доказать свои спортивные навыки и прибыла сюда команда спортсме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снове программы «Неолимпийские игры» лежит командная игра, задания которой с точностью да наоборот повторяют зимние виды спорта. Именно здесь вы сможете принять участие в необычном кёрлинге, где игра ведётся не камнями, а… обычными утюгами, в соревнованиях по биатлону стрелять придётся из рогатки, а в фигурном катании участники вместо коньков одевают ролик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IMG_0969"/>
          <p:cNvPicPr/>
          <p:nvPr/>
        </p:nvPicPr>
        <p:blipFill>
          <a:blip r:embed="rId2"/>
          <a:stretch/>
        </p:blipFill>
        <p:spPr>
          <a:xfrm>
            <a:off x="5334120" y="1219320"/>
            <a:ext cx="3429000" cy="22860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67" name="Рисунок 8" descr="IMG_1035"/>
          <p:cNvPicPr/>
          <p:nvPr/>
        </p:nvPicPr>
        <p:blipFill>
          <a:blip r:embed="rId3"/>
          <a:stretch/>
        </p:blipFill>
        <p:spPr>
          <a:xfrm>
            <a:off x="5257800" y="3733920"/>
            <a:ext cx="1695600" cy="236196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68" name="Рисунок 9" descr="IMG_1071"/>
          <p:cNvPicPr/>
          <p:nvPr/>
        </p:nvPicPr>
        <p:blipFill>
          <a:blip r:embed="rId4"/>
          <a:stretch/>
        </p:blipFill>
        <p:spPr>
          <a:xfrm>
            <a:off x="7162920" y="3733920"/>
            <a:ext cx="1622160" cy="24382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69" name="Рисунок 10" descr="IMG_1035"/>
          <p:cNvPicPr/>
          <p:nvPr/>
        </p:nvPicPr>
        <p:blipFill>
          <a:blip r:embed="rId5"/>
          <a:stretch/>
        </p:blipFill>
        <p:spPr>
          <a:xfrm>
            <a:off x="5257800" y="3733920"/>
            <a:ext cx="1695600" cy="236196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"Равнение на Новый год"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ле 5"/>
          <p:cNvSpPr/>
          <p:nvPr/>
        </p:nvSpPr>
        <p:spPr>
          <a:xfrm>
            <a:off x="380880" y="914400"/>
            <a:ext cx="6096240" cy="28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ковник «Петренко» выходит поприветствовать гостей, он раздает всем военные поручения: переодеться в раздевалке! Приступить к приему аперитива! Всем веселиться! Приступить к празднованию НГ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день все обращаются друг к другу только по уставу. Полковнику выпала великая честь вести данный праздник. Особо отличившиеся смогут попробовать меню полевой кух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ограмме: - военизированные эстаф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7" descr="DSC05545"/>
          <p:cNvPicPr/>
          <p:nvPr/>
        </p:nvPicPr>
        <p:blipFill>
          <a:blip r:embed="rId2"/>
          <a:stretch/>
        </p:blipFill>
        <p:spPr>
          <a:xfrm>
            <a:off x="6629400" y="914400"/>
            <a:ext cx="2228760" cy="29718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74" name="Рисунок 8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429000" cy="257184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75" name="Рисунок 9" descr=""/>
          <p:cNvPicPr/>
          <p:nvPr/>
        </p:nvPicPr>
        <p:blipFill>
          <a:blip r:embed="rId4"/>
          <a:stretch/>
        </p:blipFill>
        <p:spPr>
          <a:xfrm>
            <a:off x="5029200" y="4105440"/>
            <a:ext cx="3429000" cy="25714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76" name="Рисунок 11" descr="DSC05545"/>
          <p:cNvPicPr/>
          <p:nvPr/>
        </p:nvPicPr>
        <p:blipFill>
          <a:blip r:embed="rId5"/>
          <a:stretch/>
        </p:blipFill>
        <p:spPr>
          <a:xfrm>
            <a:off x="6629400" y="914400"/>
            <a:ext cx="2228760" cy="29718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НОВОГОДНИЕ ГУЛЯНИЯ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оле 8"/>
          <p:cNvSpPr/>
          <p:nvPr/>
        </p:nvSpPr>
        <p:spPr>
          <a:xfrm>
            <a:off x="685800" y="990720"/>
            <a:ext cx="708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28600" y="838080"/>
            <a:ext cx="8686800" cy="3385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хочется нам в преддверие Нового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чно, громко и необычно отпраздновать наступление следующего года, да так, чтобы потом весь год припоминать и рассказывать, как это было. Ведь бытует всеобщее мнение: как встретишь новый год, так его и проведе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иглашаем вас на настоящие ярмарочные гулянья! Праздник строится в духе и традициях русской ярмарки, веселой, звонкой, залихватской, со скоморохами и цыганами, торговцами и зеваками, самоварами и калачами, блинами и медовухой! Приготовьтесь встретить здесь не только традиционные избушку на курьих ножках и ковер-самолет, но и шарманщика с попугаем, фокусников и прочие заморские неожиданност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0" descr="IMG_5981"/>
          <p:cNvPicPr/>
          <p:nvPr/>
        </p:nvPicPr>
        <p:blipFill>
          <a:blip r:embed="rId2"/>
          <a:stretch/>
        </p:blipFill>
        <p:spPr>
          <a:xfrm>
            <a:off x="3348000" y="4357800"/>
            <a:ext cx="2743200" cy="20574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82" name="Picture 3" descr="D:\LOV_5STARS\Заказ 366\0768.jpg"/>
          <p:cNvPicPr/>
          <p:nvPr/>
        </p:nvPicPr>
        <p:blipFill>
          <a:blip r:embed="rId3"/>
          <a:stretch/>
        </p:blipFill>
        <p:spPr>
          <a:xfrm>
            <a:off x="123840" y="4343400"/>
            <a:ext cx="3048120" cy="207180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83" name="Picture 11" descr="IMG_6119"/>
          <p:cNvPicPr/>
          <p:nvPr/>
        </p:nvPicPr>
        <p:blipFill>
          <a:blip r:embed="rId4"/>
          <a:stretch/>
        </p:blipFill>
        <p:spPr>
          <a:xfrm>
            <a:off x="6257880" y="4343400"/>
            <a:ext cx="2786040" cy="20890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504d"/>
                </a:solidFill>
                <a:latin typeface="Calibri"/>
              </a:rPr>
              <a:t>«ЗИМНЯЯ ВИТОМИНОМАНИЯ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оле 8"/>
          <p:cNvSpPr/>
          <p:nvPr/>
        </p:nvSpPr>
        <p:spPr>
          <a:xfrm>
            <a:off x="228600" y="533520"/>
            <a:ext cx="8686800" cy="426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от снова зима безжалостно врывается в нашу жизнь! Последние теплые деньки заканчиваются, все кругом покрывается снегом, а купальные принадлежности спрятаны глубоко в шкаф. Но ведь за что-то мы любим зиму! И в первую очередь, за множество веселых развлечений и длительные праздники. Но у зимы тоже есть недостатки, и главный из них это нехватка витаминов! Но как запастись витаминами, чтобы хватило на весь следующий год? Тем более, что лета еще так далек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ьно для этого у нас есть "витаминная скорая помощь". Наши доктора готовы помочь вам обрести здоровье и хорошее настроение, но только не все так просто! Нужно всем вместе как следует постараться, чтобы раздобыть витамины. Но результат стоит того, ведь красивые, здоровые и улыбающиеся лица - это то, что нам нужно! Только счастливая и запасшаяся витаминами команда может легко пережить злую зиму не замерзая и не уныва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0" descr=""/>
          <p:cNvPicPr/>
          <p:nvPr/>
        </p:nvPicPr>
        <p:blipFill>
          <a:blip r:embed="rId2"/>
          <a:stretch/>
        </p:blipFill>
        <p:spPr>
          <a:xfrm>
            <a:off x="3200400" y="4795920"/>
            <a:ext cx="2666880" cy="19000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88" name="Рисунок 11" descr="IMG_2962"/>
          <p:cNvPicPr/>
          <p:nvPr/>
        </p:nvPicPr>
        <p:blipFill>
          <a:blip r:embed="rId3"/>
          <a:stretch/>
        </p:blipFill>
        <p:spPr>
          <a:xfrm>
            <a:off x="6400800" y="4791240"/>
            <a:ext cx="2514600" cy="18856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89" name="Рисунок 12" descr="IMG_2938"/>
          <p:cNvPicPr/>
          <p:nvPr/>
        </p:nvPicPr>
        <p:blipFill>
          <a:blip r:embed="rId4"/>
          <a:stretch/>
        </p:blipFill>
        <p:spPr>
          <a:xfrm>
            <a:off x="228600" y="4781520"/>
            <a:ext cx="2590920" cy="19432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paper5"/>
          <p:cNvPicPr/>
          <p:nvPr/>
        </p:nvPicPr>
        <p:blipFill>
          <a:blip r:embed="rId1">
            <a:lum contrast="6000"/>
          </a:blip>
          <a:srcRect l="0" t="0" r="0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c0504d"/>
                </a:solidFill>
                <a:latin typeface="Calibri"/>
              </a:rPr>
              <a:t>«НОВОГОДНИЙ ПЕРЕВОРОТ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ле 8"/>
          <p:cNvSpPr/>
          <p:nvPr/>
        </p:nvSpPr>
        <p:spPr>
          <a:xfrm>
            <a:off x="304920" y="533520"/>
            <a:ext cx="861048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ый год – самый желанный и долгожданный праздник для каждого из нас!                         Мы ждем его наступления с нетерпением: наряжаем елку, приглашаем гостей, покупаем подарки родным и близким! А что, если он вдруг не наступит, что если вдруг время остановится или, если хуже всего, и вовсе пойдет в обратную сторону! Такого не может случится, скажете Вы, это фантастика, волшебство какое-то! Но разве Новый год – не волшебный праздник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а новая новогодняя программа «Новогодний переворот» дает Вам возможность не только окунуться в настоящую сказку, где  есть и добро, и зло, но и испытать свою команду на прочность в тяжелом поединке с нечистой силой, уготовившей сложные испытания и хитроумные ловушки на каждом шаг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9" descr="IMG_2640"/>
          <p:cNvPicPr/>
          <p:nvPr/>
        </p:nvPicPr>
        <p:blipFill>
          <a:blip r:embed="rId2"/>
          <a:stretch/>
        </p:blipFill>
        <p:spPr>
          <a:xfrm>
            <a:off x="685800" y="3962520"/>
            <a:ext cx="3429000" cy="25714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  <p:pic>
        <p:nvPicPr>
          <p:cNvPr id="94" name="Рисунок 10" descr="IMG_2634"/>
          <p:cNvPicPr/>
          <p:nvPr/>
        </p:nvPicPr>
        <p:blipFill>
          <a:blip r:embed="rId3"/>
          <a:stretch/>
        </p:blipFill>
        <p:spPr>
          <a:xfrm>
            <a:off x="4800600" y="3962520"/>
            <a:ext cx="3429000" cy="2571480"/>
          </a:xfrm>
          <a:prstGeom prst="rect">
            <a:avLst/>
          </a:prstGeom>
          <a:ln w="507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nnameD</dc:creator>
  <dc:description/>
  <dc:language>en-US</dc:language>
  <cp:lastModifiedBy>pc</cp:lastModifiedBy>
  <dcterms:modified xsi:type="dcterms:W3CDTF">2018-12-12T10:07:40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