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B90-CE58-495E-8D99-F997842A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C05-8B7A-476F-8CED-F5D25C4F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AB4-750B-4E53-9496-C015EBBE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E3C-441E-44E0-B5B6-7B623A72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B768-CF56-4FDA-8019-3FB96070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1118-FF86-4AFF-AAFF-4130E320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8A39-D327-4DE2-9A66-9ED45E9B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7CEC-16D8-4133-8B2D-106EF7F4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CA7E-3C3F-462C-97E8-C8055327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DF9A-2A0C-4278-B9D5-234F5E53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5B3D-58E3-4E2F-9925-1BD6E893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255-AA43-4DBB-AE06-820AC72D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6BCB-0505-4A6D-AFB3-0D248AD8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5C07-7B48-48A4-994B-E534B091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91EA-6A9E-4DC5-97C8-C3D96659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4C2F-5B65-47B6-BA2A-5A1B0EB8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A121-03FC-41F7-A349-0F91EB2A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FAB79-9456-40F5-B7DC-0B3A3270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8ED0B-AA5B-4412-A16F-17E5FFD6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E3EA-1423-4C5D-AA9F-69BBAA23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9B69A-03D9-44EE-925D-CCF6705B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35E2F-1C41-4E42-BF9A-98D0B319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FAB-C5B2-4AB6-BAC5-02AE22BA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BF480-90A6-40A4-BA72-89FD5332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5E119-7CB4-4335-9E86-C801F3CF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F9B5-598B-4C49-97B6-55B09049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0B559-C26A-4C38-9BA8-47210386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21B1E-328D-4142-B738-A80F6361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18C61-94DD-422A-8219-60F1606D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15C07-A6DC-43F0-A463-C0DB89E6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67809-A45C-443B-8216-0AFDCA95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A2ED8-97F9-4DE9-849F-1F45B3BB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654E4-D88F-4537-A6E9-C6C4E849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9918-F934-467F-9037-91A0BFCE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4FBED-5377-48F6-9FD3-D7272F80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79B0F-F004-484F-B8F0-88216A75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827C8-08BD-4D40-9B84-A950ED3F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3191E-1F7C-4C70-BFF3-D65217B5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BA421-0143-45FA-9E6F-FBCF4ACF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A5880-2174-4B20-B3DA-3C8FCD13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BE54B-4DAE-459D-8CAD-C793AFD4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33452-F0D6-49C9-9D97-D80D4187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7BB78-B5A6-499B-BEA4-7786692C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7ADA-78ED-4A20-AF8D-3389E189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E5F-9828-40C9-A4AA-B00AC197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693-E4ED-4EB2-B50B-6BFD2DBD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700-8BC1-451E-9B8D-5B8BABD2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C7C-C778-4F54-8779-A542DF88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4C79-39DE-4BE6-9F84-0E63600EA33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FA3A-B790-4801-AC07-1158344258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56E7-9034-477A-A607-84D9C35247F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632C-CF44-487E-A44D-54C003C381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85960" y="892080"/>
            <a:ext cx="7372080" cy="96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одительское собрание для подготовительных групп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376092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«Готовимся к школе вместе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Picture 4" descr="IMG_8449"/>
          <p:cNvPicPr/>
          <p:nvPr/>
        </p:nvPicPr>
        <p:blipFill>
          <a:blip r:embed="rId1"/>
          <a:stretch/>
        </p:blipFill>
        <p:spPr>
          <a:xfrm>
            <a:off x="4140360" y="-7203960"/>
            <a:ext cx="4644720" cy="3097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DSC00163"/>
          <p:cNvPicPr/>
          <p:nvPr/>
        </p:nvPicPr>
        <p:blipFill>
          <a:blip r:embed="rId2"/>
          <a:stretch/>
        </p:blipFill>
        <p:spPr>
          <a:xfrm>
            <a:off x="4643280" y="1538280"/>
            <a:ext cx="42498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058"/>
                </a:solidFill>
                <a:latin typeface="Times New Roman"/>
              </a:rPr>
              <a:t>ЦЕЛИ ВЗАИМОДЕЙСТВИЯ ДОУ С СЕМЬЯМИ ДЕТЕЙ СТАРШЕГО ДОШКОЛЬНОГО ВОЗРАСТ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50560" y="3060720"/>
            <a:ext cx="72025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04058"/>
                </a:solidFill>
                <a:latin typeface="Arial"/>
              </a:rPr>
              <a:t>Подготовить родителей к принятию новой социальной позиции ребенка – позиции школьни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4425d"/>
                </a:solidFill>
                <a:latin typeface="Arial"/>
              </a:rPr>
              <a:t>Качественно подготовить ребенка к школе, позитивно настроить ребенка и родителей на перспективу школьного об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0160" y="83016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Психологическая готовность к школе представляет собой комплекс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взаимосвязанных направлений развития ребёнка: физическая, личностная, мотивационно-волевая, интеллектуальная, социальная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нятие готовности включает в себя несколько характеристик. Во-первых, определенный интеллектуальный уровень развития. У ребенка должно быть представление об окружающем мире, умение ориентироваться в нем. Не забудем про определенный запас знаний, развитие мыслительных и психических процессов. Интеллектуальная готовность предполагает также, что у малыша сформированы определенные умения. Он может услышать, выделить задачу, которую ставит перед ним взрослый и заниматься 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роме того, ребенок должен хотеть идти в школу. И здесь мы, взрослые должны уметь разграничивать внутреннюю мотивацию от внешней. То есть, дошкольник должен идти в школу потому, что хочет много знать, ожидает, что там будет интересно, а не потому, что мы купим ему за это новый конструктор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21520" y="973800"/>
            <a:ext cx="7498080" cy="66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ШКОЛЬНАЯ ГОТОВНОСТЬ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332000" y="184464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5640" y="2492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тивационная готовно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258920" y="386064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835280" y="4437000"/>
            <a:ext cx="29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олевая готовно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7308720" y="184464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4572000" y="25131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нтеллектуальна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товно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AutoShape 12"/>
          <p:cNvSpPr/>
          <p:nvPr/>
        </p:nvSpPr>
        <p:spPr>
          <a:xfrm>
            <a:off x="7308720" y="371628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5003640" y="43131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сихологическая готовно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836280"/>
            <a:ext cx="769320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СЯТЬ СОВЕТОВ РОДИТЕЛЯМ БУДУЩЕГО ПЕРВОКЛАСС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1.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ните, что вы выбираете школу не для себя, а для вашего ребенка, поэтому попробуйте учесть все факторы, кото­рые могут осложнить его обу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язательно познакомьтесь со школой, условиям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учения, педагог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ыясните, по какой программе будет учиться ваш ребенок, какая будет у него нагрузка (сколько уроков в день, есть ли обязательные дополнительные занят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4.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знайте, когда начинаются занятия, и рассчитайте, сколько времени необходимо на дорогу в школу. Добавьте еще час на утренние процедуры и завтрак— не придется ли вставать слитком ра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старайтесь познакомиться и побеседовать с учи­тельницей вашего ребенка. Подумайте, сможет ли она учесть его особенности (и захочет л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6.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очните, в какое время ребенок будет возвращаться домой из школы. Это необходимо, если вы планируете какие-либо дополнительные занятия (музыкальная школа, кружки, секц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одготовьте место для занятий ребенка д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8.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настраивайте ребенка только на успех, но и не запугивайте  неудачам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9.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ните, что адаптация к школе не простой про­цесс и происходит совсем не быстро! Первые месяцы могут быть очень сложными. Хорошо, если в этот период привыкания к школе кто-то из взрослых будет рядом с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к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10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относитесь к первым неудачам ребенка как к краху всех ваших надежд. Помните: ему очень нужны ваша вера в него, умная помощь и поддерж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09:42:44Z</dcterms:created>
  <dc:creator>Admin</dc:creator>
  <dc:description/>
  <dc:language>en-US</dc:language>
  <cp:lastModifiedBy>Пользователь Windows</cp:lastModifiedBy>
  <dcterms:modified xsi:type="dcterms:W3CDTF">2018-12-14T09:55:10Z</dcterms:modified>
  <cp:revision>3</cp:revision>
  <dc:subject/>
  <dc:title>ШКОЛЬНАЯ ГОТОВНОСТЬ</dc:title>
</cp:coreProperties>
</file>