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98E-CF06-45A4-835A-30FCB838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549-E4D7-4153-B754-08975C7C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73A-806A-45E1-9A21-065C6A7F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12D-1924-4DDA-BA1A-0BD11880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50E2-4711-45B4-8E96-8FFB7B2F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92E8-3927-4208-9106-C1986C9F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3CE-4202-4A0A-B51D-EE7455CF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A348-DF05-4F52-9936-CF334068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C3FC-C1E2-4D86-B127-1594929E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9417-87DC-45EE-9C94-58481E48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44F9-BCBF-4F3A-9503-F7CA6EFA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2A5-952B-434B-A987-95690971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3590-0FF2-4D3B-9018-11F20924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87B-595B-4CFE-9DF0-F53CF14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44B-C6B3-42AD-81D8-C2A3FE5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DA4C-62DD-4682-87E2-C0E2F999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5D90-46FD-4B3D-8351-D5A38504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90EE3-9336-493C-8F01-B1A573BB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44AD6-050D-4EBE-8AA8-3FE55A71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E8C7C-FFC7-4844-88FA-C393923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0E11-A5B1-4B8D-A07A-A09DD8F6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E152-5D42-42D1-B954-5D22CAF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CBA-A331-4AFD-B8F8-47BCB95A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836B-BAF7-4311-A6EF-2D642B6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B7CB7-750B-40F4-9ABA-1BD68B3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D89A-304C-4428-A7D3-013D5F8E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C1E9-E9D6-4F91-86EE-5D252526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E3A3-0AF3-4037-8F97-2284A2EC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B4DD-219C-4D92-A31A-A0EC440C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AADFE-BF0E-4EFE-8DF8-33F99B68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F2F3-847B-477B-A05C-E2BADA65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97A5-9F54-4033-A4DF-490E19D8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2204B-FD39-42B7-84F7-041AD2F9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A6B-884D-474A-9A78-8626DE41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5D97-5559-45C0-A3C8-32556D6D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12DC-AE7F-4504-8FB5-40BD3446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17DF-148D-4518-BD82-DF415DB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6E10-85FC-451E-AA50-EC582884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A3B6-DAEE-42F1-B6F9-35D73D2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A9EB-7A61-479A-8388-7EBAA2BD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969A5-8640-48BD-A5BB-44317A67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D0540-2CE9-4509-BC86-503D12FE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E026-A655-430B-BCB7-84DA1597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D2B-6D00-4F64-828F-410D99D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FE6-7AB7-4D67-BD96-E7E2CBD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4D2-2B78-4624-9F87-876122B9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726-3306-4DA3-9006-FF74D4D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C35-98EE-4287-A160-ED8B2BD5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B156-F132-4A31-BF54-516F0F05C9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54A5-B9E8-4CAB-AB84-8E8C298DD6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C115-0544-4FB8-AC35-D6FE65F177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1266-D03A-4F3B-BBC1-4885913538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85960" y="892080"/>
            <a:ext cx="7372080" cy="96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одительское собрание для подготовительных групп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3760920" cy="23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«Готовимся к школе вместе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4" descr="IMG_8449"/>
          <p:cNvPicPr/>
          <p:nvPr/>
        </p:nvPicPr>
        <p:blipFill>
          <a:blip r:embed="rId1"/>
          <a:stretch/>
        </p:blipFill>
        <p:spPr>
          <a:xfrm>
            <a:off x="4140360" y="-7203960"/>
            <a:ext cx="46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DSC00163"/>
          <p:cNvPicPr/>
          <p:nvPr/>
        </p:nvPicPr>
        <p:blipFill>
          <a:blip r:embed="rId2"/>
          <a:stretch/>
        </p:blipFill>
        <p:spPr>
          <a:xfrm>
            <a:off x="4643280" y="1538280"/>
            <a:ext cx="42498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4058"/>
                </a:solidFill>
                <a:latin typeface="Times New Roman"/>
              </a:rPr>
              <a:t>ЦЕЛИ ВЗАИМОДЕЙСТВИЯ ДОУ С СЕМЬЯМИ ДЕТЕЙ СТАРШЕГО ДОШКОЛЬНОГО ВОЗРАСТА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50560" y="3060720"/>
            <a:ext cx="72025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04058"/>
                </a:solidFill>
                <a:latin typeface="Arial"/>
              </a:rPr>
              <a:t>Подготовить родителей к принятию новой социальной позиции ребенка – позиции школь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4425d"/>
                </a:solidFill>
                <a:latin typeface="Arial"/>
              </a:rPr>
              <a:t>Качественно подготовить ребенка к школе, позитивно настроить ребенка и родителей на перспективу школьного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0160" y="83016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Психологическая готовность к школе представляет собой комплекс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взаимосвязанных направлений развития ребёнка: физическая, личностная, мотивационно-волевая, интеллектуальная, социальная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онятие готовности включает в себя несколько характеристик. Во-первых, определенный интеллектуальный уровень развития. У ребенка должно быть представление об окружающем мире, умение ориентироваться в нем. Не забудем про определенный запас знаний, развитие мыслительных и психических процессов. Интеллектуальная готовность предполагает также, что у малыша сформированы определенные умения. Он может услышать, выделить задачу, которую ставит перед ним взрослый и заниматься 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Кроме того, ребенок должен хотеть идти в школу. И здесь мы, взрослые должны уметь разграничивать внутреннюю мотивацию от внешней. То есть, дошкольник должен идти в школу потому, что хочет много знать, ожидает, что там будет интересно, а не потому, что мы купим ему за это новый конструктор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21520" y="973800"/>
            <a:ext cx="7498080" cy="6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ШКОЛЬНАЯ ГОТОВНОСТЬ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332000" y="1844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2195640" y="249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тивационн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258920" y="386064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835280" y="4437000"/>
            <a:ext cx="29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олев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7308720" y="18446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572000" y="25131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нтеллектуальна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7308720" y="37162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5003640" y="43131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сихологическая готовност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836280"/>
            <a:ext cx="76932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СЯТЬ СОВЕТОВ РОДИТЕЛЯМ БУДУЩЕГО ПЕРВОКЛАСС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1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вы выбираете школу не для себя, а для вашего ребенка, поэтому попробуйте учесть все факторы, кото­рые могут осложнить его обу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язательно познакомьтесь со школой, условиям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учения, педагог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ясните, по какой программе будет учиться ваш ребенок, какая будет у него нагрузка (сколько уроков в день, есть ли обязательные дополнительные занят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4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найте, когда начинаются занятия, и рассчитайте, сколько времени необходимо на дорогу в школу. Добавьте еще час на утренние процедуры и завтрак— не придется ли вставать слитком ра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арайтесь познакомиться и побеседовать с учи­тельницей вашего ребенка. Подумайте, сможет ли она учесть его особенности (и захочет л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6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очните, в какое время ребенок будет возвращаться домой из школы. Это необходимо, если вы планируете какие-либо дополнительные занятия (музыкальная школа, кружки, секц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одготовьте место для занятий ребенка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8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страивайте ребенка только на успех, но и не запугивайте  неудачам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9.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адаптация к школе не простой про­цесс и происходит совсем не быстро! Первые месяцы могут быть очень сложными. Хорошо, если в этот период привыкания к школе кто-то из взрослых будет рядом с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бенк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Совет 10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относитесь к первым неудачам ребенка как к краху всех ваших надежд. Помните: ему очень нужны ваша вера в него, умная помощь и поддерж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9:42:44Z</dcterms:created>
  <dc:creator>Admin</dc:creator>
  <dc:description/>
  <dc:language>en-US</dc:language>
  <cp:lastModifiedBy>Пользователь Windows</cp:lastModifiedBy>
  <dcterms:modified xsi:type="dcterms:W3CDTF">2018-12-14T09:55:10Z</dcterms:modified>
  <cp:revision>3</cp:revision>
  <dc:subject/>
  <dc:title>ШКОЛЬНАЯ ГОТОВНОСТЬ</dc:title>
</cp:coreProperties>
</file>