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C40-0897-4D74-B73A-C689EC9F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221-47C1-4F90-A867-E7743892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4E4-EA5E-4254-8AA2-768ED79A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F8A-E6F6-4BDF-B216-60C1552B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A842-66CA-472A-821B-1CC606FA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8F66-E00E-4498-9133-F17F7639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44CE-BA68-4294-8D6D-AD49F945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81E7-35B4-45FF-B4C1-9AE41A3D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85EC-6069-446F-ACD4-77F13B20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D826-4E68-4C96-BB40-D1755FA2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5AD2-B821-4193-8E7B-BDE39CA4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71F-FD5C-4447-AF73-099D07E9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71B6-EC02-48B7-B221-850B98E9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06FC-6FAF-4B26-9853-40B3FF41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12B7-E783-434D-BA1D-C4032DC5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9328-669A-488D-9CFC-A78E42A9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F95F-547E-4CE3-BB26-FFD84C35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B2C3B-4AFD-46FD-B51B-F2D7CED6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DC35C-3535-49DD-A160-C640234D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2A861-C1AD-4F49-B7C9-BE88FD06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CFBF-755E-4BC0-B8E6-CF9BEB37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7E933-1CF1-4741-B360-92AAE316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3BC4-C583-4A13-AC72-1A50722C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0CC81-DE0C-4D01-9E7C-62D2537E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4850A-AD16-4C49-AB51-3ADA3F7F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A6CB2-793D-45CC-ACEC-A55F9DFE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F872B-6224-478E-900C-3A3DDFD9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F0C5A-B393-4979-BA78-1846F8E7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1AE64-02C1-43AF-872F-35C12082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7F6F-F738-4F33-AF54-25CE1914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B55-2203-4138-95F1-A14149F4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279-7403-40D5-9994-763697A0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ECD-5B4E-43F3-8077-D955C3C3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B30F-FB49-48D2-83F7-7EC0B38D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44A-53CC-41FD-A381-F9C7751A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6AA-36BA-4193-8609-5A74AF13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DD27-954F-403D-8D36-2FC979D1654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3A6C-E6EB-41D8-9BDA-34A68630F0E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2F9A-523A-4E4B-9031-E4FDE9649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Урок развития реч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Ятаган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1268280"/>
            <a:ext cx="77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Ятаган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- большой кривой турецкий кинжал, отточенный с одной сторо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42920" y="595008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Ятаган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- кличка ко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31188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Эфа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5373720"/>
            <a:ext cx="792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Эф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пустынная гадю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дна из самых ядовитых зм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751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Аллах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34136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Аллах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 исламе  главный, единственный бог, творец всего суще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400536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Лье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Ль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- Французская мера длины, равная 4,4 к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92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Междуречь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область между реками  Тигр и Евфрат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20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Ассирия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древнее государство на территории совр. Ира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125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Лира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название валюты. Национальная валюта Тур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628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Бе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- господин. Ставится после имени собственного (</a:t>
            </a: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Рифат-бе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13372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Гяур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 этим именем турки презрительно зовут всех иноверц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637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Шайтан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злой дух, дьявол (в исламской мифологи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141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Хива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город в Узбекистане. На рубеже нашей эры столица Хивинского х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860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Ахалтекинец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древняя порода лоша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437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Ятага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большой кривой турецкий кинжал, отточенный с одной стороны. Кличка ко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192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Эфа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пустынная гадюка. Одна из самых ядовитых зм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695920"/>
            <a:ext cx="88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Алла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в исламе  главный (единственный) бо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272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Ль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Французская мера длины, равная 4,4 к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Задание для работ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4960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пишите несколько слов или словосочетаний, которые передают ваши впечатления от услышанного текст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берите одно или два наиболее значимых, точно выражающих ваши впечатления и составьте с ними 1-2 предложен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Работа  с заглавием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4963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очитайте текст самостоятельно. Подумайте и обсудите в группах, как можно озаглавить текст и предложите от группы вариант заглав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496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Оригинальное название текста, данное ему автором 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«Старые сапоги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Работа  по карточкам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Тема урока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Обучение элементам анализа текст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9280" y="1484280"/>
            <a:ext cx="85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Текст, который мы сегодня анализируем – это отрывок из книги Бориса Акунина «Турецкий Гамбит»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Жанр этого текста определен самим автором как  «фронтовая зарисовка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Ключевые слова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слова-символ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71280" y="2349360"/>
            <a:ext cx="7777080" cy="38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«мягче лошадиных губ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«репей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«как в бальных туфля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 зеркальном паркете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«капитуляция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42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тарый софийский еврей Исаак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321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75640" cy="51577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Соф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76280"/>
            <a:ext cx="914400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Имя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-  мудрая (греческ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Столица Болгарии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город с очень древней историей. До 1870г . находилась под османским владычеством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Соф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1337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Новые  слов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688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Междуречь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303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Междуречь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- область между реками Тигр и Евфрат (в Западной Азии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-147600"/>
            <a:ext cx="9144000" cy="70326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Ассир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981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Ассири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- древнее государ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на территории современного Ирак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Лир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458136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Лир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- название валюты в ряде стран. Национальная валюта Тур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5400360" cy="2759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588000" y="1628640"/>
            <a:ext cx="17002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33336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Бек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- господи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тавится после имени собственного (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Рифат-бек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2492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Гяур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 этим именем турки презрительно зовут всех иноверце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4508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Шайтан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злой дух, дьявол (в исламской мифолог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Хива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508464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Хив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- город в Узбекистан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снован на рубеже нашей эры, столица Хивинского хан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840720" cy="4565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Ахалтекинец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5516640"/>
            <a:ext cx="72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Ахалтекинец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древняя ахалтекинская порода лоша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8:47:56Z</dcterms:created>
  <dc:creator>user</dc:creator>
  <dc:description/>
  <dc:language>en-US</dc:language>
  <cp:lastModifiedBy>user</cp:lastModifiedBy>
  <dcterms:modified xsi:type="dcterms:W3CDTF">2009-01-21T07:18:57Z</dcterms:modified>
  <cp:revision>25</cp:revision>
  <dc:subject/>
  <dc:title>Урок развития речи</dc:title>
</cp:coreProperties>
</file>