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46F-B1EF-4477-A449-DD6D3ED1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F6B6-17E0-4A43-BA18-F356FB9F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8300-F4F2-4275-B744-047C1E78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DFA5-CEE6-4617-B7A9-9DF36EE4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AF9D-4B76-4435-81C1-C05A90A9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4A10-39AB-4DDB-9B55-40AF9014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2097-E603-4906-B325-73953F27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AA93-2E5F-4C25-8064-E4261EDE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478B-9923-4705-99A6-3CDC8C4C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CD4A-C35E-4D93-9131-C2D33D02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D1ED-C31E-4741-9192-D3F54027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F05-76B1-4B60-B3F3-3C1386B0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4CB2-36B1-4F19-BF01-3BF9942F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929A-0A89-47A3-AE08-B0F9DE5B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8D7F-D303-4067-96AC-E1824C26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94B2-A305-4273-8EB3-81C6F478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1B6F-5072-47F3-AF49-A3E3EEA8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A700D-F238-48D0-A30A-BBF7F505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62CDD-1A57-49AB-A89B-35261C2F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8CE14-F36E-467C-9005-B2F76090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BD12C-EBE1-4C5B-93B0-F6F45417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EE93D-00F9-4669-BC56-68A75747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3DCF-4943-445F-AAEE-764D14B6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9266A-D7ED-4380-9155-E9DF56E9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A70C0-0E5A-4EEA-A213-BC992D01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6EEB5-6561-4292-97B4-59402516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2204E-D0C5-4E97-9516-08D0E992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EC45F-74F5-4707-AB26-9D80329B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DD735-7336-4451-9F7B-AA1CCE48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895A0-48AF-430D-90D7-D7410722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460-F268-40AB-88C4-2EE84CDC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897-1772-4D24-A2D9-617D0D29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E69-1505-4727-B918-EC600B50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A5E4-7E9E-465A-B6A4-E3901541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469-9DB7-4D3D-A6B9-2E5C0CDC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CF7-1E05-421F-956C-3C6036B0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8035-B715-479C-96CF-859A487224E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6E7B-CD1D-40B7-B6CC-B33A76A9AA6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246E-6942-4673-BE12-4AE365F7B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Урок развития реч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Ятаган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1268280"/>
            <a:ext cx="77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Ятаган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- большой кривой турецкий кинжал, отточенный с одной сторо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42920" y="595008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Ятаган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- кличка ко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31188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Эфа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5373720"/>
            <a:ext cx="792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Эф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пустынная гадю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дна из самых ядовитых зм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751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Аллах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134136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Аллах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в исламе  главный, единственный бог, творец всего суще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4005360"/>
            <a:ext cx="7772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Лье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8360" y="51577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Ль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- Французская мера длины, равная 4,4 к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92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Междуречье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область между реками  Тигр и Евфрат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620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Ассирия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- древнее государство на территории совр. Ира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125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Лира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название валюты. Национальная валюта Тур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628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Бек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- господин. Ставится после имени собственного (</a:t>
            </a: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Рифат-бек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13372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Гяур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 этим именем турки презрительно зовут всех иноверце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637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Шайтан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злой дух, дьявол (в исламской мифологи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141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Хива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город в Узбекистане. На рубеже нашей эры столица Хивинского ха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860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Ахалтекинец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– древняя порода лоша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44370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Ятаган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большой кривой турецкий кинжал, отточенный с одной стороны. Кличка кон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5192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Эфа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пустынная гадюка. Одна из самых ядовитых зм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695920"/>
            <a:ext cx="88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Аллах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в исламе  главный (единственный) бо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272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Лье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Французская мера длины, равная 4,4 к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Задание для работ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24000" y="1413000"/>
            <a:ext cx="84960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апишите несколько слов или словосочетаний, которые передают ваши впечатления от услышанного текст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берите одно или два наиболее значимых, точно выражающих ваши впечатления и составьте с ними 1-2 предложения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Работа  с заглавием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4963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рочитайте текст самостоятельно. Подумайте и обсудите в группах, как можно озаглавить текст и предложите от группы вариант заглав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4963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Оригинальное название текста, данное ему автором 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«Старые сапоги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Работа  по карточкам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Тема урока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Обучение элементам анализа текст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9280" y="1484280"/>
            <a:ext cx="85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Текст, который мы сегодня анализируем – это отрывок из книги Бориса Акунина «Турецкий Гамбит».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Жанр этого текста определен самим автором как  «фронтовая зарисовка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Ключевые слова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слова-символ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71280" y="2349360"/>
            <a:ext cx="7777080" cy="38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«мягче лошадиных губ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«репей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«как в бальных туфлях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 зеркальном паркете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«капитуляция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842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тарый софийский еврей Исаак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4321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675640" cy="51577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Соф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76280"/>
            <a:ext cx="9144000" cy="11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Имя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-  мудрая (греческ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Столица Болгарии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город с очень древней историей. До 1870г . находилась под османским владычеством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Соф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21337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Новые  слов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688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Междуречь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303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Междуречь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- область между реками Тигр и Евфрат (в Западной Азии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-147600"/>
            <a:ext cx="9144000" cy="70326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Ассир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981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Ассири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- древнее государ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на территории современного Ирака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Лир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458136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Лир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- название валюты в ряде стран. Национальная валюта Тур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5400360" cy="2759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588000" y="1628640"/>
            <a:ext cx="17002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33336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Бек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- господи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тавится после имени собственного (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Рифат-бек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2492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Гяур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 этим именем турки презрительно зовут всех иноверце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4508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Шайтан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злой дух, дьявол (в исламской мифологи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Хива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508464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Хив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- город в Узбекистан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снован на рубеже нашей эры, столица Хивинского хан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840720" cy="45658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Ахалтекинец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5516640"/>
            <a:ext cx="72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Ахалтекинец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древняя ахалтекинская порода лошад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8:47:56Z</dcterms:created>
  <dc:creator>user</dc:creator>
  <dc:description/>
  <dc:language>en-US</dc:language>
  <cp:lastModifiedBy>user</cp:lastModifiedBy>
  <dcterms:modified xsi:type="dcterms:W3CDTF">2009-01-21T07:18:57Z</dcterms:modified>
  <cp:revision>25</cp:revision>
  <dc:subject/>
  <dc:title>Урок развития речи</dc:title>
</cp:coreProperties>
</file>