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0ACC-0FEA-4406-A866-E7F0416DC8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ышивка крестом. 4А клас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FF00-E302-4725-ADEC-E587FCD076D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исероплетение. 4Б и ГПД №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B170-7D84-47F8-B66F-954CF04D7A1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ягкая игрушка. 4Б клас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D41E-4A91-4A83-ACFD-285D64C0E13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ные виды деятельности 4Б клас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331E-37ED-4B67-A97D-2993EDB33EB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оё увлечение - ришель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F718-DC74-4A37-997B-D12B97F1441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Крючок, бумага и фантазия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4973-641E-41CC-92E6-A0CEF752064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Штриховка карандашо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0C31-8B73-4B28-8571-3182237AE7D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нообразие видов деятель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81B4-FC13-4698-B91C-4319AFA37E2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ботаем спицами и с бумаго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1370-BF76-4A15-8802-FECF80992F6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зображение на бумаг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EB96-6D5C-439D-8CA8-9E342435CDB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учение вышивке кресто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6FED-EA91-4991-9FAF-EEB0D1E8ACC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FF16-8D8E-4142-B990-94002B908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204000"/>
            <a:ext cx="822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E4C0-3E28-4E0D-A428-512BDCE7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20400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20400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ADF2-1BF9-4ED3-887E-090AB3190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20400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20400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20400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FCDC-F570-4FF6-BBFF-68E5FB2A6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250AF-DFB4-4627-BCC8-059A6175D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2622-459A-415D-ABAB-D181F15B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B95C-D0DF-45A8-839D-65F720DB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0FB5-82E4-4CCD-BAE3-DF31758F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27B2-0903-42CA-B738-3DC9D35C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00160"/>
            <a:ext cx="822960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A91F-91AD-43E8-8DDE-7C3DE08F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20400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0B23-F348-408A-A04F-742D8A88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42ED-AA69-492A-9EE7-0BA8CE4D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20400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605B-BBA4-48EB-A4AD-A39189F5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204000"/>
            <a:ext cx="822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45233-61E9-46A3-8CD8-662988BA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204000"/>
            <a:ext cx="822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462C-7094-4D19-84DF-5FD3E310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20400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20400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E342-CFC8-4AEB-9DF8-EA421626E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20400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20400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20400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B0A4-6B3C-4CD8-89AE-66D0A9BC3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E62D7-4DAC-4F1C-863B-8405F0B41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DEEB9-BA86-4336-A78F-B97EDF94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E9565-67E8-448E-929E-BC051DF2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A8B9A-021D-49FC-B0C3-42C42EFF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850E7-0E00-4307-81C9-2DCBF1D9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6967-6642-4A69-893B-A39A1DA1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00160"/>
            <a:ext cx="822960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3096D-2686-41B1-9938-2469429C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20400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1938F-23A2-41BA-8D98-2CDF3CE7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20400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28572-9374-4442-A4DD-60BC6511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204000"/>
            <a:ext cx="822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1889F-D485-472C-9271-102F054D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204000"/>
            <a:ext cx="822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45403-F8B7-4AE9-B38A-8656FE65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20400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20400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41580-57D9-44A8-8BC4-036E849F3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20400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20400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20400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07DCE-8B3C-47D7-8938-B887E5758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201AE-C711-448C-9F9C-14F605998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A2F1E-E99C-484D-BEF1-4D147606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1FC17-C99C-4BB7-B514-4FF0F1A1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63CB-8372-44A9-B194-31A63378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83499-2A7B-424E-B9CF-041DEED8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2B66F-196A-497A-A1F9-EDA51D6C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00160"/>
            <a:ext cx="822960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2A64A-07DC-439A-8DB7-E7C6CCC4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0400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C1088-2B75-4082-BF33-45D6E69D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20400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7371E-0340-47D4-ADC8-EFDC6D1E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204000"/>
            <a:ext cx="822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93534-CCA4-4F51-BE8F-BCC965BB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204000"/>
            <a:ext cx="822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5DBEA-687F-4BFF-A694-C604C196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20400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20400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C5706-FFD3-44BC-8988-F0F611DFD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20400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20400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20400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4FF6E-1DFB-4D31-8B9E-6F5F83685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3D916-9293-439B-84FA-DB5C4084B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6088-5321-43ED-93A5-EA63B1E6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7C9CF-219A-4086-B0D8-E827A1AC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4804A-4729-4F6B-8636-34386CA0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ADF5F-C8BC-4791-B782-D648B38D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E234F-5871-4076-A726-57070573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00160"/>
            <a:ext cx="822960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9A897-1214-41CF-A23C-C94B627C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20400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C629E-BDB7-4FEC-B052-5D655859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20400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40C52-FE07-450E-AEC9-90BDE0D9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204000"/>
            <a:ext cx="822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CD8C7-586A-4F01-87C4-43120D2B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204000"/>
            <a:ext cx="822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C81BE-5C8A-4893-9B8C-0290873D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20400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20400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903A1-7F72-421F-BA50-A0B7E3C2C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00160"/>
            <a:ext cx="822960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4B8B-C9CB-456B-BC5D-BD5D424A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20400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20400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20400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81B29-08FE-45E4-9006-10CC97350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E31C7-07B4-4624-BA6D-8F452649E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C3874-F1DD-41E0-A9F2-643F2A63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E8A07-A169-4B7F-8F19-5E001C8D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E23FC-E40F-447A-813A-2C727254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20361-DC65-436F-8855-68F24CC1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00160"/>
            <a:ext cx="822960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61A98-8E63-43E2-B5A1-A34FCD17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20400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D9A32-8174-4554-83C9-25B2FD9F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20400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D3087-57FC-4523-B5ED-E26B438C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204000"/>
            <a:ext cx="822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77AE5-F452-4832-8712-19A10F0E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20400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D02D-C130-469F-A6CF-F5FBF38A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204000"/>
            <a:ext cx="822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44CD8-25B6-49E7-AF94-49B58AD3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20400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20400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764C3-3D95-4CBD-B6B0-42EB92AA5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20400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20400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20400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CB613-6194-4944-9F08-04A0D63B0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B3EAC-E699-4E33-8373-06C36EE86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6E6E7-2304-4644-90E8-9F8BC90F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A265A-B98F-40D6-B70E-E2E39181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223DE-8BA1-4F7A-B6EC-BA03397F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27629-1217-4129-A0BF-B8E6E56C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00160"/>
            <a:ext cx="822960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99F64-D1D9-440B-9B1D-5EC6F745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20400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11438-6142-44CC-87E7-0283C96E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20400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63BE-338A-4198-B2CA-899598FA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20400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2E3D1-AFC8-4E1A-96AB-28ACCE54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204000"/>
            <a:ext cx="822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01EC1-141E-4D07-9902-B22A934F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204000"/>
            <a:ext cx="822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671F5-2A02-4519-BC61-B8FB45D1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20400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20400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9088E-A479-4564-ADD6-FDEBDF8E3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20400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20400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20400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8A037-AFAC-415F-B1A8-45059FBB7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204000"/>
            <a:ext cx="822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BDB9-8E53-48D2-B33F-5004AEE8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1160"/>
            <a:ext cx="9131040" cy="512748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4680"/>
            <a:ext cx="9137520" cy="513396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3711600"/>
            <a:ext cx="2673360" cy="142560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93840" indent="-33660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23240" indent="-25128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972000" indent="-20088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206720" indent="-1843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407960" indent="-1843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407960" indent="-1843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407960" indent="-1843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4861080"/>
            <a:ext cx="213336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4861080"/>
            <a:ext cx="425916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4861080"/>
            <a:ext cx="50328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BB7D-C2BE-4F59-8E6E-F03ABD2461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1160"/>
            <a:ext cx="9131040" cy="512748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4680"/>
            <a:ext cx="9137520" cy="513396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3711600"/>
            <a:ext cx="2673360" cy="142560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790760" y="3778920"/>
            <a:ext cx="141912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93840" indent="-33660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23240" indent="-25128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972000" indent="-20088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206720" indent="-1843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407960" indent="-1843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407960" indent="-1843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407960" indent="-1843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4510080"/>
            <a:ext cx="5791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4238640"/>
            <a:ext cx="5791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4314960"/>
            <a:ext cx="5032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728E-5555-410D-81EA-9083A3D59CBE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1160"/>
            <a:ext cx="9131040" cy="512748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4680"/>
            <a:ext cx="9137520" cy="513396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3711600"/>
            <a:ext cx="2673360" cy="142560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93840" indent="-33660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23240" indent="-25128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972000" indent="-20088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206720" indent="-1843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407960" indent="-1843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407960" indent="-1843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407960" indent="-1843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4858920"/>
            <a:ext cx="21333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4861080"/>
            <a:ext cx="425916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4861080"/>
            <a:ext cx="50328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1047-39B6-4E35-B6D5-EFEBB465363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4320"/>
            <a:ext cx="9131040" cy="512784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790760" y="70560"/>
            <a:ext cx="141912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6480"/>
            <a:ext cx="2673360" cy="142560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4320"/>
            <a:ext cx="9137520" cy="513396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93840" indent="-33660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23240" indent="-25128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972000" indent="-20088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206720" indent="-1843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407960" indent="-1843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407960" indent="-1843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407960" indent="-1843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485748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4861080"/>
            <a:ext cx="426096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608040"/>
            <a:ext cx="50328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67B9-807F-4F4D-9349-27ED8E0F674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93840" indent="-33660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23240" indent="-25128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972000" indent="-20088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206720" indent="-1843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407960" indent="-1843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407960" indent="-1843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407960" indent="-1843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4861080"/>
            <a:ext cx="213012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4861080"/>
            <a:ext cx="426096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4862520"/>
            <a:ext cx="50328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2908-0312-48FB-B59B-14C4F7DD1B8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93840" indent="-33660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23240" indent="-25128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972000" indent="-20088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206720" indent="-1843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407960" indent="-1843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407960" indent="-1843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407960" indent="-1843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4916160"/>
            <a:ext cx="213372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4916160"/>
            <a:ext cx="514332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4916160"/>
            <a:ext cx="50328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A86F-A956-476D-AF52-40805C11E67A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93840" indent="-33660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23240" indent="-25128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972000" indent="-20088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206720" indent="-1843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407960" indent="-1843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407960" indent="-1843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407960" indent="-1843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4916160"/>
            <a:ext cx="210168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4917600"/>
            <a:ext cx="4948200" cy="2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4916160"/>
            <a:ext cx="36648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F813-02AA-4281-8E8E-0EBF875F5A00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8656920" cy="1871640"/>
          </a:xfrm>
          <a:prstGeom prst="rect">
            <a:avLst/>
          </a:prstGeom>
          <a:ln w="0">
            <a:noFill/>
          </a:ln>
        </p:spPr>
      </p:pic>
      <p:pic>
        <p:nvPicPr>
          <p:cNvPr id="309" name="Подзаголовок 4" descr=""/>
          <p:cNvPicPr/>
          <p:nvPr/>
        </p:nvPicPr>
        <p:blipFill>
          <a:blip r:embed="rId2"/>
          <a:stretch/>
        </p:blipFill>
        <p:spPr>
          <a:xfrm>
            <a:off x="1231920" y="1914480"/>
            <a:ext cx="655308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Прямоугольник 2"/>
          <p:cNvSpPr/>
          <p:nvPr/>
        </p:nvSpPr>
        <p:spPr>
          <a:xfrm>
            <a:off x="6858000" y="500040"/>
            <a:ext cx="214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005f"/>
                </a:solidFill>
                <a:latin typeface="Arial"/>
              </a:rPr>
              <a:t>Вышивка крест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005f"/>
                </a:solidFill>
                <a:latin typeface="Arial"/>
              </a:rPr>
              <a:t>4А кла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Рисунок 3" descr="F:\Журавлева\DSCF2803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611280" y="339840"/>
            <a:ext cx="594036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Прямоугольник 2"/>
          <p:cNvSpPr/>
          <p:nvPr/>
        </p:nvSpPr>
        <p:spPr>
          <a:xfrm>
            <a:off x="7000920" y="0"/>
            <a:ext cx="171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5005f"/>
                </a:solidFill>
                <a:latin typeface="Arial"/>
              </a:rPr>
              <a:t>Вышивка крест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5005f"/>
                </a:solidFill>
                <a:latin typeface="Arial"/>
              </a:rPr>
              <a:t>4А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Рисунок 3" descr="F:\Журавлева\DSCF2812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468360" y="411120"/>
            <a:ext cx="594036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Прямоугольник 2"/>
          <p:cNvSpPr/>
          <p:nvPr/>
        </p:nvSpPr>
        <p:spPr>
          <a:xfrm>
            <a:off x="857160" y="4219560"/>
            <a:ext cx="70009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005f"/>
                </a:solidFill>
                <a:latin typeface="Arial"/>
              </a:rPr>
              <a:t>Бисероплетение. 4Б и ГПД №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Рисунок 3" descr="F:\Журавлева\IMG_20170313_132743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619280" y="627120"/>
            <a:ext cx="594036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F:\Журавлева\IMG_20170313_132751.jpg"/>
          <p:cNvPicPr/>
          <p:nvPr/>
        </p:nvPicPr>
        <p:blipFill>
          <a:blip r:embed="rId1"/>
          <a:stretch/>
        </p:blipFill>
        <p:spPr>
          <a:xfrm>
            <a:off x="3214800" y="0"/>
            <a:ext cx="2892240" cy="5145120"/>
          </a:xfrm>
          <a:prstGeom prst="rect">
            <a:avLst/>
          </a:prstGeom>
          <a:ln w="0">
            <a:noFill/>
          </a:ln>
        </p:spPr>
      </p:pic>
      <p:sp>
        <p:nvSpPr>
          <p:cNvPr id="333" name="Прямоугольник 2"/>
          <p:cNvSpPr/>
          <p:nvPr/>
        </p:nvSpPr>
        <p:spPr>
          <a:xfrm>
            <a:off x="6143760" y="428760"/>
            <a:ext cx="300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005f"/>
                </a:solidFill>
                <a:latin typeface="Arial"/>
              </a:rPr>
              <a:t>Мягкая игрушка и вышивк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005f"/>
                </a:solidFill>
                <a:latin typeface="Arial"/>
              </a:rPr>
              <a:t>4Б кла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3" descr="F:\Журавлева\IMG_20170313_132803.jpg"/>
          <p:cNvPicPr/>
          <p:nvPr/>
        </p:nvPicPr>
        <p:blipFill>
          <a:blip r:embed="rId2"/>
          <a:stretch/>
        </p:blipFill>
        <p:spPr>
          <a:xfrm>
            <a:off x="0" y="0"/>
            <a:ext cx="317988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F:\Журавлева\IMG_20170313_132900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928960" y="0"/>
            <a:ext cx="2892240" cy="51436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" descr="F:\Журавлева\IMG_20170313_132907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0" y="0"/>
            <a:ext cx="2894040" cy="5143680"/>
          </a:xfrm>
          <a:prstGeom prst="rect">
            <a:avLst/>
          </a:prstGeom>
          <a:ln w="0">
            <a:noFill/>
          </a:ln>
        </p:spPr>
      </p:pic>
      <p:sp>
        <p:nvSpPr>
          <p:cNvPr id="337" name="Прямоугольник 3"/>
          <p:cNvSpPr/>
          <p:nvPr/>
        </p:nvSpPr>
        <p:spPr>
          <a:xfrm>
            <a:off x="5857920" y="357120"/>
            <a:ext cx="328608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75005f"/>
                </a:solidFill>
                <a:latin typeface="Arial"/>
              </a:rPr>
              <a:t>Разные виды деятельности 4Б класс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F:\Журавлева\IMG_20170313_132835.jpg"/>
          <p:cNvPicPr/>
          <p:nvPr/>
        </p:nvPicPr>
        <p:blipFill>
          <a:blip r:embed="rId1"/>
          <a:stretch/>
        </p:blipFill>
        <p:spPr>
          <a:xfrm>
            <a:off x="0" y="0"/>
            <a:ext cx="2894040" cy="51436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F:\Журавлева\IMG_20170313_132849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2928960" y="0"/>
            <a:ext cx="2892240" cy="5143680"/>
          </a:xfrm>
          <a:prstGeom prst="rect">
            <a:avLst/>
          </a:prstGeom>
          <a:ln w="0">
            <a:noFill/>
          </a:ln>
        </p:spPr>
      </p:pic>
      <p:sp>
        <p:nvSpPr>
          <p:cNvPr id="340" name="Прямоугольник 3"/>
          <p:cNvSpPr/>
          <p:nvPr/>
        </p:nvSpPr>
        <p:spPr>
          <a:xfrm>
            <a:off x="5929200" y="357120"/>
            <a:ext cx="292896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75005f"/>
                </a:solidFill>
                <a:latin typeface="Arial"/>
              </a:rPr>
              <a:t>Разные виды деятельности 4Б класс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Заголовок 1" descr=""/>
          <p:cNvPicPr/>
          <p:nvPr/>
        </p:nvPicPr>
        <p:blipFill>
          <a:blip r:embed="rId1"/>
          <a:stretch/>
        </p:blipFill>
        <p:spPr>
          <a:xfrm>
            <a:off x="450720" y="731880"/>
            <a:ext cx="8242560" cy="93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Прямоугольник 2"/>
          <p:cNvSpPr/>
          <p:nvPr/>
        </p:nvSpPr>
        <p:spPr>
          <a:xfrm>
            <a:off x="6858000" y="2387520"/>
            <a:ext cx="207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2002c"/>
                </a:solidFill>
                <a:latin typeface="Arial"/>
              </a:rPr>
              <a:t>Моё увлечение - ришель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Рисунок 3" descr="C:\Users\ДСШ\Desktop\Документы 2013-2014\ФОТО 2013-2014\32.Журавлёва. Сохранение искусства предков\IMG_5180.JPG"/>
          <p:cNvPicPr/>
          <p:nvPr/>
        </p:nvPicPr>
        <p:blipFill>
          <a:blip r:embed="rId1"/>
          <a:stretch/>
        </p:blipFill>
        <p:spPr>
          <a:xfrm>
            <a:off x="539640" y="411120"/>
            <a:ext cx="594036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Прямоугольник 3"/>
          <p:cNvSpPr/>
          <p:nvPr/>
        </p:nvSpPr>
        <p:spPr>
          <a:xfrm>
            <a:off x="6786720" y="285840"/>
            <a:ext cx="2357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2002c"/>
                </a:solidFill>
                <a:latin typeface="Arial"/>
              </a:rPr>
              <a:t>«Крючок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2002c"/>
                </a:solidFill>
                <a:latin typeface="Arial"/>
              </a:rPr>
              <a:t>бумаг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2002c"/>
                </a:solidFill>
                <a:latin typeface="Arial"/>
              </a:rPr>
              <a:t>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2002c"/>
                </a:solidFill>
                <a:latin typeface="Arial"/>
              </a:rPr>
              <a:t>фантази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Рисунок 4" descr="F:\Журавлева\DSCF2814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468360" y="268200"/>
            <a:ext cx="594036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Прямоугольник 2"/>
          <p:cNvSpPr/>
          <p:nvPr/>
        </p:nvSpPr>
        <p:spPr>
          <a:xfrm>
            <a:off x="6715080" y="642960"/>
            <a:ext cx="242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2bd8"/>
                </a:solidFill>
                <a:latin typeface="Arial"/>
              </a:rPr>
              <a:t>Штриховка карандаш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Рисунок 3" descr="F:\Журавлева\DSCF2815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395280" y="411120"/>
            <a:ext cx="594036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Прямоугольник 2"/>
          <p:cNvSpPr/>
          <p:nvPr/>
        </p:nvSpPr>
        <p:spPr>
          <a:xfrm>
            <a:off x="6858000" y="928800"/>
            <a:ext cx="22860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75005f"/>
                </a:solidFill>
                <a:latin typeface="Arial"/>
              </a:rPr>
              <a:t>Разнообразие видов деятельности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Рисунок 3" descr="F:\Журавлева\DSCF2792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395280" y="339840"/>
            <a:ext cx="594036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рямоугольник 2"/>
          <p:cNvSpPr/>
          <p:nvPr/>
        </p:nvSpPr>
        <p:spPr>
          <a:xfrm>
            <a:off x="6929280" y="285840"/>
            <a:ext cx="2000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005f"/>
                </a:solidFill>
                <a:latin typeface="Arial"/>
              </a:rPr>
              <a:t>Работаем спицами 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005f"/>
                </a:solidFill>
                <a:latin typeface="Arial"/>
              </a:rPr>
              <a:t>с бумаг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Рисунок 3" descr="F:\Журавлева\DSCF2795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611280" y="411120"/>
            <a:ext cx="594036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Прямоугольник 2"/>
          <p:cNvSpPr/>
          <p:nvPr/>
        </p:nvSpPr>
        <p:spPr>
          <a:xfrm>
            <a:off x="6715080" y="285840"/>
            <a:ext cx="2428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005f"/>
                </a:solidFill>
                <a:latin typeface="Arial"/>
              </a:rPr>
              <a:t>Изобра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005f"/>
                </a:solidFill>
                <a:latin typeface="Arial"/>
              </a:rPr>
              <a:t>ж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005f"/>
                </a:solidFill>
                <a:latin typeface="Arial"/>
              </a:rPr>
              <a:t>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005f"/>
                </a:solidFill>
                <a:latin typeface="Arial"/>
              </a:rPr>
              <a:t>бумаг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Рисунок 3" descr="F:\Журавлева\DSCF2799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324000" y="339840"/>
            <a:ext cx="594036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Прямоугольник 4"/>
          <p:cNvSpPr/>
          <p:nvPr/>
        </p:nvSpPr>
        <p:spPr>
          <a:xfrm>
            <a:off x="6858000" y="28584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005f"/>
                </a:solidFill>
                <a:latin typeface="Arial"/>
              </a:rPr>
              <a:t>Обучение вышивке крест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Рисунок 3" descr="F:\Журавлева\DSCF2801.JPG"/>
          <p:cNvPicPr/>
          <p:nvPr/>
        </p:nvPicPr>
        <p:blipFill>
          <a:blip r:embed="rId1"/>
          <a:stretch/>
        </p:blipFill>
        <p:spPr>
          <a:xfrm>
            <a:off x="468360" y="339840"/>
            <a:ext cx="594036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Прямоугольник 2"/>
          <p:cNvSpPr/>
          <p:nvPr/>
        </p:nvSpPr>
        <p:spPr>
          <a:xfrm>
            <a:off x="6858000" y="285840"/>
            <a:ext cx="214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005f"/>
                </a:solidFill>
                <a:latin typeface="Arial"/>
              </a:rPr>
              <a:t>Вышивка крест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005f"/>
                </a:solidFill>
                <a:latin typeface="Arial"/>
              </a:rPr>
              <a:t>4А кла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Рисунок 3" descr="F:\Журавлева\DSCF2807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684360" y="339840"/>
            <a:ext cx="594036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2T07:56:24Z</dcterms:created>
  <dc:creator>школа</dc:creator>
  <dc:description/>
  <dc:language>en-US</dc:language>
  <cp:lastModifiedBy>Mur</cp:lastModifiedBy>
  <dcterms:modified xsi:type="dcterms:W3CDTF">2018-12-14T14:01:07Z</dcterms:modified>
  <cp:revision>323</cp:revision>
  <dc:subject/>
  <dc:title>ОРГАНИЗАЦИЯ  ПАТРИОТИЧЕСКОЙ РАБОТЫ В  МОУ ДУБЕНСКОЙ СРЕДНЕЙ ОБЩЕОБРАЗОВАТЕЛЬНОЙ ШКОЛЕ</dc:title>
</cp:coreProperties>
</file>