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6A87-5CEA-4DE5-8DCB-047ECB0F11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шивка крестом. 4А кла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1DD5-B403-4006-888F-1C859E2B08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исероплетение. 4Б и ГПД №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33FC-7035-4023-AB9A-8375A70A2B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ягкая игрушка. 4Б кла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005F-3975-4B79-97AF-477AEDFDAC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ные виды деятельности 4Б кла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B8A5-693A-45C9-A171-E5D90DC630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ё увлечение - ришель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7B9A-8A07-4140-8557-34E3DCBA04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Крючок, бумага и фантазия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EFB4-3F04-4AD0-AD31-4E5605E3C0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триховка карандаш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B8EC-3974-4824-83E7-12447C313D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нообразие видов деятель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A98E-74F8-4C37-BF35-3510F64639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ботаем спицами и с бумаг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A62A-C1A4-459E-A469-BDC5BBAF29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зображение на бумаг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4D94-2A96-4736-B721-791DAFFDEB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учение вышивке крест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E824-FE05-491B-8DF0-0EFB4AA076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4F2-A77D-4130-819B-A21FA1C7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389-CC98-43D6-BC4C-6620E521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D3B-1DB3-40F3-A9B1-4A91C1BD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C13-C741-42F9-9E55-AFED0F32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FF7D-7BCE-4FD0-AA6E-876B1C1A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1B84-DD18-4B4C-8D71-11CD4802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ACEA-46D2-4986-864B-44CCB4FF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EA2E-F95F-46EF-B1A4-D976D552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F6BA-7ACE-4F51-8172-AEA545B2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0016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0064-426F-4720-A1B3-AA38B2CF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7EFC-CED4-4C0D-A670-1E3CB71D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35C-B86C-4673-8483-84F60C94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3990-8F78-4302-8FA8-9BAB8EA6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4307-7975-40B3-A57C-3A54FE8A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9ABB-4F79-410C-AD9E-C1868B92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E94F-B8C6-42D9-92A0-9A9854F7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D3FC-8392-4188-B2FB-219118C0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BF945-EEC1-4E65-9AE9-537F5A5F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298E1-1134-42A7-BFBF-99A74646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79CF2-9190-4533-8135-1C12B390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A511F-0ED6-4A82-A693-B5F7E5D7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EFAAB-A7EF-4B31-B991-40995E0A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F98-C2D4-4A66-9408-0BE05998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0016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3499C-2F3A-42ED-8E62-9226C70E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3D883-B847-4955-887D-0FCC806B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FE8CA-0562-491B-89F3-D7383B49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06E94-4AF2-45AF-8CD3-B5C9DC7C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8234B-1F2A-40C7-9578-13FADA9C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8FAA0-D96D-45BF-BC20-48F7145F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85446-D537-42A7-9C7C-A8B6C162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FEAB8-BA6C-405A-A2A0-A624398F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A9251-5F31-427A-B4A9-91C8841D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0DCCB-E85F-4538-92CD-AB975C50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A3A-3717-450F-9896-F3230A38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09F20-FCAB-463B-B4B3-E4F67203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68F43-498E-4901-9F40-A4DEA610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0016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62416-C0BD-45ED-87D2-5B7AF8E3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9AEE3-7EC4-4EB1-9A0A-61E9AEA0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72F3C-8C0A-468C-8EA4-D2A7F517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3311C-86FD-4B11-9284-DEBD27B0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43B2E-2501-46AA-836C-BA80A42F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8FDCC-2C25-4DE3-B826-FBE356E9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1C7E3-F965-4351-B004-4CBA0518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05658-4B57-483C-8341-355D7AB7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76B-34EB-4E8F-A9DE-3D43CC5E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C242B-3FB8-4282-B51E-FDFF90EA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31513-457F-45A3-98A3-642D5BD8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1F51A-1855-4213-9308-EF216ABF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EAEDE-54B6-42A6-B62B-3B1EBC16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0016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EDDB4-EFD0-4D8B-8DE6-BB76B7D8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BEE14-8A9A-4F17-B7B4-8B63EB81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225CE-463D-48EB-8DCC-3A164B8B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E7424-9E22-4F6F-9E1A-A5333066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036BE-BE4A-4BDC-B979-66C453E6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6FCC0-068B-47BF-BAC8-169BAA80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016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DE36-BCCA-4645-8ABD-41646A3E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0D520-EF2C-4E3B-A7E2-1FD0752E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8790D-7CAA-45A7-A54A-61880E79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068BC-751B-4ED7-BA02-19034B49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965E5-86B3-4340-BA52-06548463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8FB41-6B6A-49D3-BAE1-B009956B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9ACDA-848C-4441-9EE8-72A30771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0016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CB88B-32A1-4BCF-BA5B-697365C5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FB585-5131-4ABC-8452-8F59E30E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78A57-E579-4396-9CE7-F1793C71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734DB-18D8-4099-A0E7-EA32F7C1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25C9-3927-4EC6-8CFF-C02B712A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4DFD0-D5E4-433C-8828-1619153B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82D50-6A4F-45C0-9DEF-B2F470F9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2A117-BD16-4467-BA23-CCEC0814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EE677-B4D0-4B25-8C3B-F108B6DC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CFFBB-1070-43E6-A199-01C23040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63FE8-3CF0-484F-8D47-1208B46A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12F6C-FEFB-4CF8-9D15-24E94C8A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7941F-E05C-48C4-9075-A0E306F6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0016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91400-12DA-4718-99A6-23C55203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D6C5B-951F-4A25-9498-46F41D3F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AA3-4076-4F4D-B04F-F802682E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49E82-50DB-4DF4-A5D3-A4EE0A3B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EA730-83B7-4325-A4B4-C57C8AE0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CBA3E-90CF-4F4E-ABD9-6921EFA7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20400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7C602-5227-45FD-AB9F-52212E36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204000"/>
            <a:ext cx="264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82910-66DD-4ECE-AEBD-8A845FF7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204000"/>
            <a:ext cx="8229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736-5DBF-4131-A23F-33AC8997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1160"/>
            <a:ext cx="9131040" cy="512748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4680"/>
            <a:ext cx="9137520" cy="513396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3711600"/>
            <a:ext cx="2673360" cy="142560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366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23240" indent="-25128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972000" indent="-20088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206720" indent="-1843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407960" indent="-1843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4861080"/>
            <a:ext cx="21333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4861080"/>
            <a:ext cx="4259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4861080"/>
            <a:ext cx="50328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D97B-3D12-409D-BCDC-F2CCE1875E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1160"/>
            <a:ext cx="9131040" cy="512748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4680"/>
            <a:ext cx="9137520" cy="513396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3711600"/>
            <a:ext cx="2673360" cy="142560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790760" y="3778920"/>
            <a:ext cx="141912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366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23240" indent="-25128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972000" indent="-20088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206720" indent="-1843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407960" indent="-1843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4510080"/>
            <a:ext cx="5791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4238640"/>
            <a:ext cx="5791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4314960"/>
            <a:ext cx="5032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5685-7A6A-430E-A197-47A88D0C10D8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1160"/>
            <a:ext cx="9131040" cy="512748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4680"/>
            <a:ext cx="9137520" cy="513396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3711600"/>
            <a:ext cx="2673360" cy="142560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366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23240" indent="-25128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972000" indent="-20088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206720" indent="-1843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407960" indent="-1843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4858920"/>
            <a:ext cx="21333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4861080"/>
            <a:ext cx="4259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4861080"/>
            <a:ext cx="50328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74B0-13A0-4EEE-BB1D-D02E0E33E0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4320"/>
            <a:ext cx="9131040" cy="512784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790760" y="70560"/>
            <a:ext cx="141912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6480"/>
            <a:ext cx="2673360" cy="142560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4320"/>
            <a:ext cx="9137520" cy="513396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366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23240" indent="-25128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972000" indent="-20088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206720" indent="-1843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407960" indent="-1843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48574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4861080"/>
            <a:ext cx="42609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608040"/>
            <a:ext cx="50328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41D8-DCC5-4BA9-94FE-B9BB650BDDE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366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23240" indent="-25128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972000" indent="-20088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206720" indent="-1843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407960" indent="-1843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4861080"/>
            <a:ext cx="213012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4861080"/>
            <a:ext cx="42609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4862520"/>
            <a:ext cx="50328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0A55-1BD4-4A81-BCC2-7CF6E27C75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366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23240" indent="-25128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972000" indent="-20088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206720" indent="-1843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407960" indent="-1843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4916160"/>
            <a:ext cx="213372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4916160"/>
            <a:ext cx="514332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4916160"/>
            <a:ext cx="5032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5DB6-6FBF-4781-87D9-35AC1014C1E8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0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3660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23240" indent="-25128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972000" indent="-20088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206720" indent="-1843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407960" indent="-1843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407960" indent="-1843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4916160"/>
            <a:ext cx="21016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4917600"/>
            <a:ext cx="494820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4916160"/>
            <a:ext cx="3664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06A6-8D83-45A4-9878-AB99ADEC3FB0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656920" cy="187164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4" descr=""/>
          <p:cNvPicPr/>
          <p:nvPr/>
        </p:nvPicPr>
        <p:blipFill>
          <a:blip r:embed="rId2"/>
          <a:stretch/>
        </p:blipFill>
        <p:spPr>
          <a:xfrm>
            <a:off x="1231920" y="1914480"/>
            <a:ext cx="65530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2"/>
          <p:cNvSpPr/>
          <p:nvPr/>
        </p:nvSpPr>
        <p:spPr>
          <a:xfrm>
            <a:off x="6858000" y="500040"/>
            <a:ext cx="214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Вышивка крест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4А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Рисунок 3" descr="F:\Журавлева\DSCF2803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11280" y="339840"/>
            <a:ext cx="59403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2"/>
          <p:cNvSpPr/>
          <p:nvPr/>
        </p:nvSpPr>
        <p:spPr>
          <a:xfrm>
            <a:off x="7000920" y="0"/>
            <a:ext cx="171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05f"/>
                </a:solidFill>
                <a:latin typeface="Arial"/>
              </a:rPr>
              <a:t>Вышивка крест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5005f"/>
                </a:solidFill>
                <a:latin typeface="Arial"/>
              </a:rPr>
              <a:t>4А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Рисунок 3" descr="F:\Журавлева\DSCF2812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68360" y="411120"/>
            <a:ext cx="5940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2"/>
          <p:cNvSpPr/>
          <p:nvPr/>
        </p:nvSpPr>
        <p:spPr>
          <a:xfrm>
            <a:off x="857160" y="4219560"/>
            <a:ext cx="7000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Бисероплетение. 4Б и ГПД №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Рисунок 3" descr="F:\Журавлева\IMG_20170313_132743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619280" y="627120"/>
            <a:ext cx="59403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F:\Журавлева\IMG_20170313_132751.jpg"/>
          <p:cNvPicPr/>
          <p:nvPr/>
        </p:nvPicPr>
        <p:blipFill>
          <a:blip r:embed="rId1"/>
          <a:stretch/>
        </p:blipFill>
        <p:spPr>
          <a:xfrm>
            <a:off x="3214800" y="0"/>
            <a:ext cx="2892240" cy="514512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2"/>
          <p:cNvSpPr/>
          <p:nvPr/>
        </p:nvSpPr>
        <p:spPr>
          <a:xfrm>
            <a:off x="6143760" y="428760"/>
            <a:ext cx="30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Мягкая игрушка и вышив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4Б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3" descr="F:\Журавлева\IMG_20170313_132803.jpg"/>
          <p:cNvPicPr/>
          <p:nvPr/>
        </p:nvPicPr>
        <p:blipFill>
          <a:blip r:embed="rId2"/>
          <a:stretch/>
        </p:blipFill>
        <p:spPr>
          <a:xfrm>
            <a:off x="0" y="0"/>
            <a:ext cx="317988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F:\Журавлева\IMG_20170313_132900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928960" y="0"/>
            <a:ext cx="2892240" cy="51436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F:\Журавлева\IMG_20170313_132907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0" y="0"/>
            <a:ext cx="2894040" cy="514368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3"/>
          <p:cNvSpPr/>
          <p:nvPr/>
        </p:nvSpPr>
        <p:spPr>
          <a:xfrm>
            <a:off x="5857920" y="357120"/>
            <a:ext cx="32860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75005f"/>
                </a:solidFill>
                <a:latin typeface="Arial"/>
              </a:rPr>
              <a:t>Разные виды деятельности 4Б класс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F:\Журавлева\IMG_20170313_132835.jpg"/>
          <p:cNvPicPr/>
          <p:nvPr/>
        </p:nvPicPr>
        <p:blipFill>
          <a:blip r:embed="rId1"/>
          <a:stretch/>
        </p:blipFill>
        <p:spPr>
          <a:xfrm>
            <a:off x="0" y="0"/>
            <a:ext cx="2894040" cy="5143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F:\Журавлева\IMG_20170313_132849.jpg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928960" y="0"/>
            <a:ext cx="2892240" cy="514368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3"/>
          <p:cNvSpPr/>
          <p:nvPr/>
        </p:nvSpPr>
        <p:spPr>
          <a:xfrm>
            <a:off x="5929200" y="357120"/>
            <a:ext cx="2928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75005f"/>
                </a:solidFill>
                <a:latin typeface="Arial"/>
              </a:rPr>
              <a:t>Разные виды деятельности 4Б класс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0720" y="731880"/>
            <a:ext cx="824256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2"/>
          <p:cNvSpPr/>
          <p:nvPr/>
        </p:nvSpPr>
        <p:spPr>
          <a:xfrm>
            <a:off x="6858000" y="2387520"/>
            <a:ext cx="20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002c"/>
                </a:solidFill>
                <a:latin typeface="Arial"/>
              </a:rPr>
              <a:t>Моё увлечение - ришел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Рисунок 3" descr="C:\Users\ДСШ\Desktop\Документы 2013-2014\ФОТО 2013-2014\32.Журавлёва. Сохранение искусства предков\IMG_5180.JPG"/>
          <p:cNvPicPr/>
          <p:nvPr/>
        </p:nvPicPr>
        <p:blipFill>
          <a:blip r:embed="rId1"/>
          <a:stretch/>
        </p:blipFill>
        <p:spPr>
          <a:xfrm>
            <a:off x="539640" y="411120"/>
            <a:ext cx="5940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3"/>
          <p:cNvSpPr/>
          <p:nvPr/>
        </p:nvSpPr>
        <p:spPr>
          <a:xfrm>
            <a:off x="6786720" y="285840"/>
            <a:ext cx="235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002c"/>
                </a:solidFill>
                <a:latin typeface="Arial"/>
              </a:rPr>
              <a:t>«Крючо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002c"/>
                </a:solidFill>
                <a:latin typeface="Arial"/>
              </a:rPr>
              <a:t>бумаг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002c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2002c"/>
                </a:solidFill>
                <a:latin typeface="Arial"/>
              </a:rPr>
              <a:t>фантаз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Рисунок 4" descr="F:\Журавлева\DSCF2814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468360" y="268200"/>
            <a:ext cx="594036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2"/>
          <p:cNvSpPr/>
          <p:nvPr/>
        </p:nvSpPr>
        <p:spPr>
          <a:xfrm>
            <a:off x="6715080" y="64296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2bd8"/>
                </a:solidFill>
                <a:latin typeface="Arial"/>
              </a:rPr>
              <a:t>Штриховка карандаш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Рисунок 3" descr="F:\Журавлева\DSCF2815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95280" y="411120"/>
            <a:ext cx="5940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ик 2"/>
          <p:cNvSpPr/>
          <p:nvPr/>
        </p:nvSpPr>
        <p:spPr>
          <a:xfrm>
            <a:off x="6858000" y="928800"/>
            <a:ext cx="22860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75005f"/>
                </a:solidFill>
                <a:latin typeface="Arial"/>
              </a:rPr>
              <a:t>Разнообразие видов деятельности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Рисунок 3" descr="F:\Журавлева\DSCF2792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95280" y="339840"/>
            <a:ext cx="59403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2"/>
          <p:cNvSpPr/>
          <p:nvPr/>
        </p:nvSpPr>
        <p:spPr>
          <a:xfrm>
            <a:off x="6929280" y="285840"/>
            <a:ext cx="200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Работаем спицами 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с бумаг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Рисунок 3" descr="F:\Журавлева\DSCF2795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11280" y="411120"/>
            <a:ext cx="5940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2"/>
          <p:cNvSpPr/>
          <p:nvPr/>
        </p:nvSpPr>
        <p:spPr>
          <a:xfrm>
            <a:off x="6715080" y="285840"/>
            <a:ext cx="242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Изобр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ж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бумаг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Рисунок 3" descr="F:\Журавлева\DSCF2799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24000" y="339840"/>
            <a:ext cx="59403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4"/>
          <p:cNvSpPr/>
          <p:nvPr/>
        </p:nvSpPr>
        <p:spPr>
          <a:xfrm>
            <a:off x="6858000" y="28584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Обучение вышивке крест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Рисунок 3" descr="F:\Журавлева\DSCF2801.JPG"/>
          <p:cNvPicPr/>
          <p:nvPr/>
        </p:nvPicPr>
        <p:blipFill>
          <a:blip r:embed="rId1"/>
          <a:stretch/>
        </p:blipFill>
        <p:spPr>
          <a:xfrm>
            <a:off x="468360" y="339840"/>
            <a:ext cx="59403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2"/>
          <p:cNvSpPr/>
          <p:nvPr/>
        </p:nvSpPr>
        <p:spPr>
          <a:xfrm>
            <a:off x="6858000" y="285840"/>
            <a:ext cx="214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Вышивка крест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5005f"/>
                </a:solidFill>
                <a:latin typeface="Arial"/>
              </a:rPr>
              <a:t>4А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Рисунок 3" descr="F:\Журавлева\DSCF2807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84360" y="339840"/>
            <a:ext cx="59403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07:56:24Z</dcterms:created>
  <dc:creator>школа</dc:creator>
  <dc:description/>
  <dc:language>en-US</dc:language>
  <cp:lastModifiedBy>Mur</cp:lastModifiedBy>
  <dcterms:modified xsi:type="dcterms:W3CDTF">2018-12-14T14:01:07Z</dcterms:modified>
  <cp:revision>323</cp:revision>
  <dc:subject/>
  <dc:title>ОРГАНИЗАЦИЯ  ПАТРИОТИЧЕСКОЙ РАБОТЫ В  МОУ ДУБЕНСКОЙ СРЕДНЕЙ ОБЩЕОБРАЗОВАТЕЛЬНОЙ ШКОЛЕ</dc:title>
</cp:coreProperties>
</file>