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3CAC-2D12-46AE-9B62-A9128E84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F465-C954-4C7B-BD86-FDAB6737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4321-E954-491D-9D90-2F354A70B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BD2A-7D77-41AD-B0C7-55FBF0C11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3248-2892-4468-ADBD-23A33888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72E3-AC0A-4E40-A895-8C904D44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C041-2F9D-4429-9250-4BE85B48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3E53-2ED1-4A73-B652-9DB3E1A6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5A0E-3EBC-43E5-A2EE-B3B9FBC9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5004-AB3D-44D5-8762-F214D79C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0ED2-0405-4817-8EA6-7F578097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B0FB-CFF4-4C77-B144-9C9E881A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91EF-5C5F-4FC6-8947-C68AF798E1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weden4rus.nu/rus/visual/fotos/image.asp?id=3214" TargetMode="External"/><Relationship Id="rId2" Type="http://schemas.openxmlformats.org/officeDocument/2006/relationships/hyperlink" Target="http://minomos.narod.ru/Galery/15.ht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514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ИСТИНА И ЕЕ КРИТЕРИ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21800" y="357120"/>
            <a:ext cx="4707000" cy="450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Человеку важно, «чтобы предмет его воли... был объективным благом... предмет и содержание его мысли были объективно истинны и предмет его чувства был объективно прекрасен, т. е. не только для него, но и для всех безусловно». (В.С.Соловье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Владелец\Desktop\2a084f88b89f870d47cbe6faa8c_prev.jpg"/>
          <p:cNvPicPr/>
          <p:nvPr/>
        </p:nvPicPr>
        <p:blipFill>
          <a:blip r:embed="rId1"/>
          <a:stretch/>
        </p:blipFill>
        <p:spPr>
          <a:xfrm>
            <a:off x="5500800" y="642960"/>
            <a:ext cx="295740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омер слайд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C6AC-D5FC-40BF-BE58-23BAA70A91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Критерии истин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Эмпирики считали, что источником и обоснованием всех знаний является чувственный опыт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У рационалистов — критерием истины выступал разу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Конвенционалисткие теории исходили из того, что истинное научное знание – это соглашение между исследователями — «конвенци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Прагматические теории истины предполагают, что истинным является то сознание, которое способствует решению практических задач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актика не может рассматриваться как универсальный критерий истины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C:\Users\Владелец\Desktop\642549db55eaf4a3a88a672ce52490f4_big.jpg"/>
          <p:cNvPicPr/>
          <p:nvPr/>
        </p:nvPicPr>
        <p:blipFill>
          <a:blip r:embed="rId1"/>
          <a:stretch/>
        </p:blipFill>
        <p:spPr>
          <a:xfrm>
            <a:off x="428760" y="1785960"/>
            <a:ext cx="6143400" cy="434016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357120" y="6215040"/>
            <a:ext cx="514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ритерий истинности - те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6643800" y="2143080"/>
            <a:ext cx="2357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сли практическую задачу удалось решить, значит, полнота знания о предмете достигнута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6658920" y="5929200"/>
            <a:ext cx="238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каз от иде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вития 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трелка вниз 7"/>
          <p:cNvSpPr/>
          <p:nvPr/>
        </p:nvSpPr>
        <p:spPr>
          <a:xfrm>
            <a:off x="7572240" y="492912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215968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Формы ист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учная ист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ыденная или житейская ист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удожественная ист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равственная ист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Users\Владелец\Desktop\gamlet28-2.jpg"/>
          <p:cNvPicPr/>
          <p:nvPr/>
        </p:nvPicPr>
        <p:blipFill>
          <a:blip r:embed="rId1"/>
          <a:stretch/>
        </p:blipFill>
        <p:spPr>
          <a:xfrm>
            <a:off x="500040" y="3286080"/>
            <a:ext cx="2273400" cy="2928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C:\Users\Владелец\Desktop\iCAN2I0U0.jpg"/>
          <p:cNvPicPr/>
          <p:nvPr/>
        </p:nvPicPr>
        <p:blipFill>
          <a:blip r:embed="rId2"/>
          <a:stretch/>
        </p:blipFill>
        <p:spPr>
          <a:xfrm>
            <a:off x="3214800" y="3357720"/>
            <a:ext cx="2143080" cy="2566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C:\Users\Владелец\Desktop\90965.jpg"/>
          <p:cNvPicPr/>
          <p:nvPr/>
        </p:nvPicPr>
        <p:blipFill>
          <a:blip r:embed="rId3"/>
          <a:stretch/>
        </p:blipFill>
        <p:spPr>
          <a:xfrm>
            <a:off x="6143760" y="3357720"/>
            <a:ext cx="2286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иды истин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53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бсолютная ист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5080" y="1142640"/>
            <a:ext cx="42847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носительная ист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174760"/>
            <a:ext cx="3828960" cy="395136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деал, предел к которому стремиться  наше зн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лное, исчерпывающее знание о предмете, тот элемент знаний, который не может быть опровергнут в будущ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786200" y="2143080"/>
            <a:ext cx="3786480" cy="395136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пути к абсолютной  истине  мы получаем относительные исти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нания, которые будут  изменяться, углубляться,     заменяться новыми в процессе развития позн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войства ист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356840"/>
            <a:ext cx="35434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нкретность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зависимость истины от места, времени и других условий её получ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Объективность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это такое содержание наших знаний, которое не зависит ни от  человека, ни от человечест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600200"/>
            <a:ext cx="385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C:\Users\Владелец\Desktop\tT711755.jpg"/>
          <p:cNvPicPr/>
          <p:nvPr/>
        </p:nvPicPr>
        <p:blipFill>
          <a:blip r:embed="rId1"/>
          <a:stretch/>
        </p:blipFill>
        <p:spPr>
          <a:xfrm>
            <a:off x="4429080" y="1500120"/>
            <a:ext cx="42148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СТИНА И ЗАБЛУЖДЕ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785880"/>
            <a:ext cx="482904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«Ум человека уподобляется неровному зеркалу, которое, примешивая к природе вещей свою природу, отражает вещи в искривленном и обезображенном виде».(Ф.Бэкон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Это заблуждения, истоки которых коренятся в самой человеческой природе, в особенностях нашего позна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Волна 4"/>
          <p:cNvSpPr/>
          <p:nvPr/>
        </p:nvSpPr>
        <p:spPr>
          <a:xfrm>
            <a:off x="5786280" y="1000080"/>
            <a:ext cx="2928960" cy="1200240"/>
          </a:xfrm>
          <a:custGeom>
            <a:avLst/>
            <a:gdLst>
              <a:gd name="textAreaLeft" fmla="*/ 33840 w 2928960"/>
              <a:gd name="textAreaRight" fmla="*/ 2963160 w 2928960"/>
              <a:gd name="textAreaTop" fmla="*/ 299880 h 1200240"/>
              <a:gd name="textAreaBottom" fmla="*/ 900360 h 1200240"/>
            </a:gdLst>
            <a:ahLst/>
            <a:rect l="textAreaLeft" t="textAreaTop" r="textAreaRight" b="textAreaBottom"/>
            <a:pathLst>
              <a:path w="21600" h="21600">
                <a:moveTo>
                  <a:pt x="250" y="2700"/>
                </a:moveTo>
                <a:cubicBezTo>
                  <a:pt x="7325" y="-6865"/>
                  <a:pt x="14525" y="12265"/>
                  <a:pt x="21600" y="2700"/>
                </a:cubicBezTo>
                <a:lnTo>
                  <a:pt x="21350" y="18900"/>
                </a:lnTo>
                <a:cubicBezTo>
                  <a:pt x="14275" y="28465"/>
                  <a:pt x="7075" y="9335"/>
                  <a:pt x="0" y="18900"/>
                </a:cubicBezTo>
                <a:close/>
              </a:path>
            </a:pathLst>
          </a:cu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5968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«полнотелость» — признак здоровь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Волна 5"/>
          <p:cNvSpPr/>
          <p:nvPr/>
        </p:nvSpPr>
        <p:spPr>
          <a:xfrm>
            <a:off x="5929200" y="2286000"/>
            <a:ext cx="2714760" cy="1414440"/>
          </a:xfrm>
          <a:custGeom>
            <a:avLst/>
            <a:gdLst>
              <a:gd name="textAreaLeft" fmla="*/ 0 w 2714760"/>
              <a:gd name="textAreaRight" fmla="*/ 2715120 w 2714760"/>
              <a:gd name="textAreaTop" fmla="*/ 353520 h 1414440"/>
              <a:gd name="textAreaBottom" fmla="*/ 1060920 h 14144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всякая власть от Б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5572080" y="4572000"/>
            <a:ext cx="3143160" cy="192348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сутствие полной и точной информации об интересующем нас предмете, а также необходимых средств для ее обрабо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низ 8"/>
          <p:cNvSpPr/>
          <p:nvPr/>
        </p:nvSpPr>
        <p:spPr>
          <a:xfrm>
            <a:off x="6572160" y="357192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428760" y="3105000"/>
            <a:ext cx="8143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weden4rus.nu/rus/visual/fotos/image.asp?id=32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minomos.narod.ru/Galery/15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eurosmi.ru/science/4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his.1september.ru/2002/01/5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catalog.catalog.catalog.ww.infanata.org/2008/10/page/4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activerain.com/blogs/sashad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univer.omsk.su/omsk/Edu/Math/eevklid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rkm.kz/node/6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eva.ru/eva-life/contest/contest-photo.xhtml?contestEntryId=90965&amp;showAll=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428760" y="1928880"/>
            <a:ext cx="57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тература: Боголюбов Л.Н., Обществознание 19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фильный уровень, М., «Просвещение», 200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тернет-ресур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385776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ое знание следует считать истинным?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В какой мере оно доступно познающему человеку? 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ими способами достигаетс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Владелец\Desktop\85038.jpg"/>
          <p:cNvPicPr/>
          <p:nvPr/>
        </p:nvPicPr>
        <p:blipFill>
          <a:blip r:embed="rId1"/>
          <a:stretch/>
        </p:blipFill>
        <p:spPr>
          <a:xfrm>
            <a:off x="4143240" y="857160"/>
            <a:ext cx="470088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Овальная выноска 1"/>
          <p:cNvSpPr/>
          <p:nvPr/>
        </p:nvSpPr>
        <p:spPr>
          <a:xfrm>
            <a:off x="5143680" y="214200"/>
            <a:ext cx="4000320" cy="2143080"/>
          </a:xfrm>
          <a:prstGeom prst="wedgeEllipseCallout">
            <a:avLst>
              <a:gd name="adj1" fmla="val -8328"/>
              <a:gd name="adj2" fmla="val 70777"/>
            </a:avLst>
          </a:prstGeom>
          <a:solidFill>
            <a:srgbClr val="21596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Calibri"/>
              </a:rPr>
              <a:t>«истина есть тождество вещи и представл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6357960" y="5857920"/>
            <a:ext cx="189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ма Аквин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Users\Владелец\Desktop\foma%20akvinskii.jpg"/>
          <p:cNvPicPr/>
          <p:nvPr/>
        </p:nvPicPr>
        <p:blipFill>
          <a:blip r:embed="rId1"/>
          <a:stretch/>
        </p:blipFill>
        <p:spPr>
          <a:xfrm>
            <a:off x="6286680" y="2857680"/>
            <a:ext cx="1714320" cy="2954160"/>
          </a:xfrm>
          <a:prstGeom prst="rect">
            <a:avLst/>
          </a:prstGeom>
          <a:ln w="0">
            <a:noFill/>
          </a:ln>
        </p:spPr>
      </p:pic>
      <p:sp>
        <p:nvSpPr>
          <p:cNvPr id="49" name="Овальная выноска 4"/>
          <p:cNvSpPr/>
          <p:nvPr/>
        </p:nvSpPr>
        <p:spPr>
          <a:xfrm>
            <a:off x="2428920" y="1214280"/>
            <a:ext cx="3357360" cy="2357640"/>
          </a:xfrm>
          <a:prstGeom prst="wedgeEllipseCallout">
            <a:avLst>
              <a:gd name="adj1" fmla="val 50537"/>
              <a:gd name="adj2" fmla="val 47217"/>
            </a:avLst>
          </a:prstGeom>
          <a:solidFill>
            <a:srgbClr val="31859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Calibri"/>
              </a:rPr>
              <a:t>«Слово «истина» означает соответствие мысли предмету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4000680" y="635796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. Декар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:\Users\Владелец\Desktop\1248862562_nb_pinacoteca_unknown_flemish_or_french_xvii.jpg"/>
          <p:cNvPicPr/>
          <p:nvPr/>
        </p:nvPicPr>
        <p:blipFill>
          <a:blip r:embed="rId2"/>
          <a:stretch/>
        </p:blipFill>
        <p:spPr>
          <a:xfrm>
            <a:off x="4000680" y="3571920"/>
            <a:ext cx="2092320" cy="2786040"/>
          </a:xfrm>
          <a:prstGeom prst="rect">
            <a:avLst/>
          </a:prstGeom>
          <a:ln w="0">
            <a:noFill/>
          </a:ln>
        </p:spPr>
      </p:pic>
      <p:sp>
        <p:nvSpPr>
          <p:cNvPr id="52" name="Овальная выноска 7"/>
          <p:cNvSpPr/>
          <p:nvPr/>
        </p:nvSpPr>
        <p:spPr>
          <a:xfrm rot="20838600">
            <a:off x="171000" y="133200"/>
            <a:ext cx="2998800" cy="3594240"/>
          </a:xfrm>
          <a:prstGeom prst="wedgeEllipseCallout">
            <a:avLst>
              <a:gd name="adj1" fmla="val 9282"/>
              <a:gd name="adj2" fmla="val 59180"/>
            </a:avLst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984807"/>
                </a:solidFill>
                <a:latin typeface="Calibri"/>
              </a:rPr>
              <a:t>важнейшее свойство истинного знания — его </a:t>
            </a:r>
            <a:r>
              <a:rPr b="1" i="1" lang="ru-RU" sz="2000" spc="-1" strike="noStrike">
                <a:solidFill>
                  <a:srgbClr val="984807"/>
                </a:solidFill>
                <a:latin typeface="Calibri"/>
              </a:rPr>
              <a:t>объективность, </a:t>
            </a:r>
            <a:r>
              <a:rPr b="1" lang="ru-RU" sz="2000" spc="-1" strike="noStrike">
                <a:solidFill>
                  <a:srgbClr val="984807"/>
                </a:solidFill>
                <a:latin typeface="Calibri"/>
              </a:rPr>
              <a:t>независимость от сознания человека, его пристрастий и интере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928800" y="63579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зиция Аристо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C:\Users\Владелец\Desktop\normal_af_30b_aristotel.jpg"/>
          <p:cNvPicPr/>
          <p:nvPr/>
        </p:nvPicPr>
        <p:blipFill>
          <a:blip r:embed="rId3"/>
          <a:stretch/>
        </p:blipFill>
        <p:spPr>
          <a:xfrm>
            <a:off x="1428840" y="4071960"/>
            <a:ext cx="171432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2160" y="471492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ЧТО КАЖДОМУ КАЖЕТСЯ, ТО И ДОСТОВЕРНО». (ПРОТАГОР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1800" y="1214280"/>
            <a:ext cx="4349880" cy="319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«что одно и то же существует и не существует, что оно и плохо и хорошо, что другие противолежащие друг другу высказывания также верны…» ( критика позиции Протагора Аристотелем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Users\Владелец\Desktop\78681-050-6C5A2B1A.jpg"/>
          <p:cNvPicPr/>
          <p:nvPr/>
        </p:nvPicPr>
        <p:blipFill>
          <a:blip r:embed="rId1"/>
          <a:stretch/>
        </p:blipFill>
        <p:spPr>
          <a:xfrm>
            <a:off x="5286240" y="214200"/>
            <a:ext cx="3276720" cy="44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 человек может удостовериться в истинности своих знаний о предмете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Прямоугольник 2" descr=""/>
          <p:cNvPicPr/>
          <p:nvPr/>
        </p:nvPicPr>
        <p:blipFill>
          <a:blip r:embed="rId1"/>
          <a:stretch/>
        </p:blipFill>
        <p:spPr>
          <a:xfrm>
            <a:off x="-7023240" y="2962440"/>
            <a:ext cx="354240" cy="93312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3" descr=""/>
          <p:cNvPicPr/>
          <p:nvPr/>
        </p:nvPicPr>
        <p:blipFill>
          <a:blip r:embed="rId2"/>
          <a:stretch/>
        </p:blipFill>
        <p:spPr>
          <a:xfrm>
            <a:off x="1573200" y="1925640"/>
            <a:ext cx="6321600" cy="1146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Владелец\Desktop\argue.jpg"/>
          <p:cNvPicPr/>
          <p:nvPr/>
        </p:nvPicPr>
        <p:blipFill>
          <a:blip r:embed="rId3"/>
          <a:stretch/>
        </p:blipFill>
        <p:spPr>
          <a:xfrm>
            <a:off x="2286000" y="314316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РИТЕРИИ ИСТИН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785880"/>
            <a:ext cx="168588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Эмпирики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00120"/>
            <a:ext cx="28288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84807"/>
                </a:solidFill>
                <a:latin typeface="Calibri"/>
              </a:rPr>
              <a:t>источник и обоснование всех знаний - чувственный опыт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84807"/>
                </a:solidFill>
                <a:latin typeface="Calibri"/>
              </a:rPr>
              <a:t>ощущения являются единственным источником и основанием знания (сенсуалисты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84807"/>
                </a:solidFill>
                <a:latin typeface="Calibri"/>
              </a:rPr>
              <a:t>Мышление рассматривается как производное от ощущени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499920" y="785880"/>
            <a:ext cx="518652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ритика позиции эмпир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357360" y="1642680"/>
            <a:ext cx="5329080" cy="478620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на уровнях восприятия и представления для получения целостной картины мира наше сознание использует элементы обобщенных знани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чувственный опыт может давать искаженное представление о действительност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многие теоретические постулаты, лежащие в основе научного знания, нельзя обосновать опытным путем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чувственный опыт есть результат понимания, интерпретац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РИТЕРИИ ИСТИН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856800"/>
            <a:ext cx="404028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рационалис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13840" y="1785960"/>
            <a:ext cx="342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итерием истины выступает разу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 образец истинного знания принималась математика, начинающаяся с очевидных истин и использующая методы логического выведения нового знания из несомненных посылок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720" y="856800"/>
            <a:ext cx="404172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ит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071600" y="1785960"/>
            <a:ext cx="4614840" cy="464328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удности в определении безусловных основ познания (Декарт - «врожденные идеи», Лейбниц - «врожденные интуи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вклидова и неевклидова геометрия - идеал теоретически обоснованного знания. Какая же из них соответствует действительному пространству, является истинно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Users\Владелец\Desktop\evklid_5.jpg"/>
          <p:cNvPicPr/>
          <p:nvPr/>
        </p:nvPicPr>
        <p:blipFill>
          <a:blip r:embed="rId1"/>
          <a:stretch/>
        </p:blipFill>
        <p:spPr>
          <a:xfrm>
            <a:off x="6072120" y="285840"/>
            <a:ext cx="2714760" cy="3467160"/>
          </a:xfrm>
          <a:prstGeom prst="rect">
            <a:avLst/>
          </a:prstGeom>
          <a:ln w="57240">
            <a:solidFill>
              <a:srgbClr val="215968"/>
            </a:solidFill>
            <a:miter/>
          </a:ln>
        </p:spPr>
      </p:pic>
      <p:pic>
        <p:nvPicPr>
          <p:cNvPr id="73" name="Picture 3" descr="C:\Users\Владелец\Desktop\photo.jpg"/>
          <p:cNvPicPr/>
          <p:nvPr/>
        </p:nvPicPr>
        <p:blipFill>
          <a:blip r:embed="rId2"/>
          <a:stretch/>
        </p:blipFill>
        <p:spPr>
          <a:xfrm>
            <a:off x="214200" y="358920"/>
            <a:ext cx="2571840" cy="3321000"/>
          </a:xfrm>
          <a:prstGeom prst="rect">
            <a:avLst/>
          </a:prstGeom>
          <a:ln w="57240">
            <a:solidFill>
              <a:srgbClr val="215968"/>
            </a:solidFill>
            <a:miter/>
          </a:ln>
        </p:spPr>
      </p:pic>
      <p:sp>
        <p:nvSpPr>
          <p:cNvPr id="74" name="TextBox 4"/>
          <p:cNvSpPr/>
          <p:nvPr/>
        </p:nvSpPr>
        <p:spPr>
          <a:xfrm>
            <a:off x="3000240" y="571680"/>
            <a:ext cx="29289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ждая из системы аксиом Евклида, Лобачевского и Римана была теоретически строга, возникал вопрос о том, какая же из них соответствует действительному пространству, является истин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285840" y="4357800"/>
            <a:ext cx="8429400" cy="210564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Основные положения Евклида суть также не что иное, как соглашение, и было бы настолько же неразумно доискиваться, истинны ли они или ложны». (А. Пуанкаре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оронники такой точки зрения –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онвенциалис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 таком подходе вопрос об истинности вообще сним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F625-FB8C-421A-B7EE-AF0267FA45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СТИНА И ЕЁ КРИТЕР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857160" y="2492280"/>
            <a:ext cx="2643120" cy="719280"/>
          </a:xfrm>
          <a:prstGeom prst="rect">
            <a:avLst/>
          </a:prstGeom>
          <a:solidFill>
            <a:srgbClr val="93cddd"/>
          </a:solidFill>
          <a:ln w="93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5968"/>
                </a:solidFill>
                <a:latin typeface="Calibri"/>
              </a:rPr>
              <a:t>ИСТ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3571920" y="2714760"/>
            <a:ext cx="1439640" cy="288720"/>
          </a:xfrm>
          <a:prstGeom prst="rightArrow">
            <a:avLst>
              <a:gd name="adj1" fmla="val 50000"/>
              <a:gd name="adj2" fmla="val 124657"/>
            </a:avLst>
          </a:prstGeom>
          <a:solidFill>
            <a:srgbClr val="2159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7"/>
          <p:cNvSpPr/>
          <p:nvPr/>
        </p:nvSpPr>
        <p:spPr>
          <a:xfrm>
            <a:off x="0" y="3716280"/>
            <a:ext cx="5000760" cy="178596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 ОТЛИЧИТЬ ИСТИНУ ОТ ЗАБЛУЖД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ЗНАНИЕ ИСТИННО, КОГДА ОНО  ЛОГИЧНО СТРОЙ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КОГДА ЗНАНИЕ ПОЛЕЗНО ДЛЯ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9"/>
          <p:cNvSpPr/>
          <p:nvPr/>
        </p:nvSpPr>
        <p:spPr>
          <a:xfrm>
            <a:off x="5357880" y="1500120"/>
            <a:ext cx="3571920" cy="4727520"/>
          </a:xfrm>
          <a:custGeom>
            <a:avLst/>
            <a:gdLst>
              <a:gd name="textAreaLeft" fmla="*/ 174240 w 3571920"/>
              <a:gd name="textAreaRight" fmla="*/ 3397680 w 3571920"/>
              <a:gd name="textAreaTop" fmla="*/ 174240 h 4727520"/>
              <a:gd name="textAreaBottom" fmla="*/ 4553280 h 4727520"/>
            </a:gdLst>
            <a:ahLst/>
            <a:rect l="textAreaLeft" t="textAreaTop" r="textAreaRight" b="textAreaBottom"/>
            <a:pathLst>
              <a:path w="21600" h="28587">
                <a:moveTo>
                  <a:pt x="3600" y="0"/>
                </a:moveTo>
                <a:arcTo wR="3600" hR="3600" stAng="16200000" swAng="-5400000"/>
                <a:lnTo>
                  <a:pt x="0" y="24987"/>
                </a:lnTo>
                <a:arcTo wR="3600" hR="3600" stAng="10800000" swAng="-5400000"/>
                <a:lnTo>
                  <a:pt x="18000" y="285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Calibri"/>
              </a:rPr>
              <a:t>Критерий истины – </a:t>
            </a:r>
            <a:r>
              <a:rPr b="1" lang="ru-RU" sz="3200" spc="-1" strike="noStrike">
                <a:solidFill>
                  <a:srgbClr val="215968"/>
                </a:solidFill>
                <a:latin typeface="Calibri"/>
              </a:rPr>
              <a:t>практи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71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актическое взаимодействие наблюдаемого явления с каким-либо други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териальное производство, накопленный опыт,  научный эксперим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1"/>
          <p:cNvSpPr/>
          <p:nvPr/>
        </p:nvSpPr>
        <p:spPr>
          <a:xfrm>
            <a:off x="1928880" y="5429160"/>
            <a:ext cx="4033800" cy="936720"/>
          </a:xfrm>
          <a:custGeom>
            <a:avLst/>
            <a:gdLst>
              <a:gd name="textAreaLeft" fmla="*/ 705960 w 4033800"/>
              <a:gd name="textAreaRight" fmla="*/ 2924640 w 4033800"/>
              <a:gd name="textAreaTop" fmla="*/ 125280 h 936720"/>
              <a:gd name="textAreaBottom" fmla="*/ 811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185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6:58:34Z</dcterms:created>
  <dc:creator>Владелец</dc:creator>
  <dc:description/>
  <dc:language>en-US</dc:language>
  <cp:lastModifiedBy>COMP</cp:lastModifiedBy>
  <dcterms:modified xsi:type="dcterms:W3CDTF">2011-10-08T13:31:54Z</dcterms:modified>
  <cp:revision>18</cp:revision>
  <dc:subject/>
  <dc:title>Истина и ее критерии</dc:title>
</cp:coreProperties>
</file>