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416-CDCC-4713-8B21-92DDB6BB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4BF-D3F8-4520-B9C5-C7552742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58F-818F-4ADE-90FE-2BF3AFD1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412-BDB4-4DC4-AB24-EFB40E4A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742-51FA-413A-AD61-9A1C14DD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091-CFF9-48F3-A372-9B81D100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D49-F31C-4623-8AA1-298F4B0F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08B-812E-4FE0-A78B-FEFE0796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17C-A23B-4D48-805F-D841A5C9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DF0-128B-42FA-A237-6F29D8C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41F-0D42-4554-95FD-2D9A7D9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499-4896-4E99-B1CD-50221663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96C16-8A56-4C35-A0C0-E517CD2BE7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-58680"/>
            <a:ext cx="8607600" cy="26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Презентация по лексической теме: «Посуда».</a:t>
            </a:r>
            <a:br>
              <a:rPr sz="4700"/>
            </a:b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Выполнила учитель — логопед</a:t>
            </a:r>
            <a:br>
              <a:rPr sz="4700"/>
            </a:b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Борис Елена Николаевн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060640" y="2101680"/>
            <a:ext cx="596736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Что случилось с посудой?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41240" y="1979640"/>
            <a:ext cx="4478400" cy="381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151600" y="1979640"/>
            <a:ext cx="4387680" cy="39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157400" y="2101680"/>
            <a:ext cx="1938240" cy="22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852720" y="2101680"/>
            <a:ext cx="2365560" cy="227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810480" y="2101680"/>
            <a:ext cx="2271600" cy="227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561000" y="4684680"/>
            <a:ext cx="2772000" cy="2077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из чего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3651120" y="4781520"/>
            <a:ext cx="2772000" cy="1884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6"/>
          <a:stretch/>
        </p:blipFill>
        <p:spPr>
          <a:xfrm>
            <a:off x="1211400" y="4587840"/>
            <a:ext cx="1831680" cy="22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741240" y="600120"/>
            <a:ext cx="8607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MS Gothic"/>
              </a:rPr>
              <a:t>Как называется посуда для...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41240" y="2197080"/>
            <a:ext cx="2772000" cy="2077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3651120" y="2522520"/>
            <a:ext cx="2772000" cy="183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810480" y="2101680"/>
            <a:ext cx="2271600" cy="227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6810480" y="4587840"/>
            <a:ext cx="2271600" cy="22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3780000" y="4680000"/>
            <a:ext cx="2700000" cy="19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741240" y="5014800"/>
            <a:ext cx="277200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741240" y="231300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дин - много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651120" y="2197080"/>
            <a:ext cx="2772000" cy="207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6764400" y="2101680"/>
            <a:ext cx="2365200" cy="227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6561000" y="4684680"/>
            <a:ext cx="2772000" cy="207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3780000" y="4680000"/>
            <a:ext cx="2519280" cy="192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990720" y="4587840"/>
            <a:ext cx="2271600" cy="22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900000" y="2049480"/>
            <a:ext cx="4132440" cy="281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340000" y="4859280"/>
            <a:ext cx="3600360" cy="2451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Сервиз какой?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219640" y="2052720"/>
            <a:ext cx="43801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емейка слов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0360" y="2160720"/>
            <a:ext cx="2772000" cy="2077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029120" y="1979640"/>
            <a:ext cx="2271600" cy="22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060720" y="485928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4"/>
          <a:stretch/>
        </p:blipFill>
        <p:spPr>
          <a:xfrm>
            <a:off x="468360" y="1920960"/>
            <a:ext cx="2771640" cy="186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5"/>
          <a:stretch/>
        </p:blipFill>
        <p:spPr>
          <a:xfrm>
            <a:off x="6840360" y="4859280"/>
            <a:ext cx="29512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6"/>
          <a:stretch/>
        </p:blipFill>
        <p:spPr>
          <a:xfrm>
            <a:off x="249120" y="4859280"/>
            <a:ext cx="2271960" cy="22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386000" y="2101680"/>
            <a:ext cx="73184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22:19:29Z</dcterms:created>
  <dc:creator/>
  <dc:description/>
  <dc:language>en-US</dc:language>
  <cp:lastModifiedBy>User</cp:lastModifiedBy>
  <dcterms:modified xsi:type="dcterms:W3CDTF">2018-12-15T09:07:09Z</dcterms:modified>
  <cp:revision>2</cp:revision>
  <dc:subject/>
  <dc:title>Презентация по лексической теме: «Посуда». Выполнила учитель — логопед Борис Елена Николаевна</dc:title>
</cp:coreProperties>
</file>