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EF6-2872-4DD8-888C-41614417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149B-848A-4D7A-B6E7-C0F7F28F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4C1-9453-4298-91CC-E61A2C84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480-7B47-4413-90A5-1F8C7A1F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9BB-C597-471C-96C0-BAB53621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FF2-BA28-427D-BB41-2DA8F792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8D8-A966-46D8-9B12-691DE4DD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87E-C5E0-4463-A2D9-B6F86A45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14A-0024-4CDE-9086-1E635F60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C18-FA9D-4B58-A1AC-E74CADA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85D-1109-40BC-946E-34A86669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D2F-ADE0-4FC4-A570-51934A71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54389-1A05-44D2-87D6-AAD4119A95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image" Target="../media/image20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-58680"/>
            <a:ext cx="8607600" cy="26337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Презентация по лексической теме: «Посуда».</a:t>
            </a:r>
            <a:br>
              <a:rPr sz="4700"/>
            </a:b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Выполнила учитель — логопед</a:t>
            </a:r>
            <a:br>
              <a:rPr sz="4700"/>
            </a:b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Борис Елена Николаевна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060640" y="2101680"/>
            <a:ext cx="5967360" cy="47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Что случилось с посудой?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41240" y="1979640"/>
            <a:ext cx="4478400" cy="3814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151600" y="1979640"/>
            <a:ext cx="4387680" cy="39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1157400" y="2101680"/>
            <a:ext cx="1938240" cy="22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3852720" y="2101680"/>
            <a:ext cx="2365560" cy="2271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6810480" y="2101680"/>
            <a:ext cx="2271600" cy="2271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6561000" y="4684680"/>
            <a:ext cx="2772000" cy="2077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из чего?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5"/>
          <a:stretch/>
        </p:blipFill>
        <p:spPr>
          <a:xfrm>
            <a:off x="3651120" y="4781520"/>
            <a:ext cx="2772000" cy="1884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6"/>
          <a:stretch/>
        </p:blipFill>
        <p:spPr>
          <a:xfrm>
            <a:off x="1211400" y="4587840"/>
            <a:ext cx="183168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741240" y="600120"/>
            <a:ext cx="86076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Как называется посуда для...</a:t>
            </a:r>
            <a:br>
              <a:rPr sz="4700"/>
            </a:b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41240" y="219708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3651120" y="2522520"/>
            <a:ext cx="2772000" cy="183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810480" y="2101680"/>
            <a:ext cx="2271600" cy="227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6810480" y="4587840"/>
            <a:ext cx="2271600" cy="22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3780000" y="4680000"/>
            <a:ext cx="2700000" cy="197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741240" y="5014800"/>
            <a:ext cx="2772000" cy="15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41240" y="2313000"/>
            <a:ext cx="277200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дин - много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651120" y="219708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6764400" y="2101680"/>
            <a:ext cx="2365200" cy="2271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6561000" y="468468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3780000" y="4680000"/>
            <a:ext cx="2519280" cy="192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990720" y="4587840"/>
            <a:ext cx="227160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900000" y="2049480"/>
            <a:ext cx="4132440" cy="281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340000" y="4859280"/>
            <a:ext cx="3600360" cy="2451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Сервиз какой?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5219640" y="2052720"/>
            <a:ext cx="438012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емейка слов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0360" y="2160720"/>
            <a:ext cx="2772000" cy="2077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029120" y="1979640"/>
            <a:ext cx="2271600" cy="22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060720" y="4859280"/>
            <a:ext cx="32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4"/>
          <a:stretch/>
        </p:blipFill>
        <p:spPr>
          <a:xfrm>
            <a:off x="468360" y="1920960"/>
            <a:ext cx="2771640" cy="186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5"/>
          <a:stretch/>
        </p:blipFill>
        <p:spPr>
          <a:xfrm>
            <a:off x="6840360" y="4859280"/>
            <a:ext cx="29512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6"/>
          <a:stretch/>
        </p:blipFill>
        <p:spPr>
          <a:xfrm>
            <a:off x="249120" y="4859280"/>
            <a:ext cx="2271960" cy="22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Спасибо за внимание!!!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386000" y="2101680"/>
            <a:ext cx="73184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22:19:29Z</dcterms:created>
  <dc:creator/>
  <dc:description/>
  <dc:language>en-US</dc:language>
  <cp:lastModifiedBy>User</cp:lastModifiedBy>
  <dcterms:modified xsi:type="dcterms:W3CDTF">2018-12-15T09:07:09Z</dcterms:modified>
  <cp:revision>2</cp:revision>
  <dc:subject/>
  <dc:title>Презентация по лексической теме: «Посуда». Выполнила учитель — логопед Борис Елена Николаевна</dc:title>
</cp:coreProperties>
</file>