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46F3-6273-4F03-9A26-377745E21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1288-965B-46F3-82B4-89D0950D9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ADBA-49D5-48F1-B25E-FDE069846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E6E1-3F2F-4776-AABC-D008B3DB94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4AF6-997D-424D-8777-787DF41C4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6E52-BD2A-46C6-93BF-F459C5B76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F5DE-7386-4387-8FB4-FCB73CF33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1C55D-43CB-4E7A-A420-736307DF6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836E-F88E-4803-85B9-26492267F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318E-15DB-4BC4-859B-168AFB70C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0141-30E7-4D6B-9A64-4AFC784C6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B0F2-7163-4592-9058-8FCF8E167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CC855-1033-4E81-BECC-AF1164939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69228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1197000"/>
            <a:ext cx="84247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оект по т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«Обучение детей среднего дошкольного возра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равилам дорожного движ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Воспитатель детского сада №2 «Малы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Горчухина Светла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первая квалификационная катег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г. Манту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5880" y="285840"/>
            <a:ext cx="7772400" cy="49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1655640" cy="208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-13644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1197000"/>
            <a:ext cx="4038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жде чем переходить дорогу, - продолжил Кузя, нужно убедиться, а безопасна ли она? Остановись у края проезжей части, посмотри налево, если нет машин, то дойди до середины дороги и остановись. Посмотри направо. Убедившись, что и справой стороны нет транспорта, можешь переходить доро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йдя проезжую часть дороги, они вышли на тротуар, и Мила опять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ы с вами пешеходы! А всем пешеходам разрешено ходить по тротуару и специальным пешеходным дорожкам, по правой сторо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 шли они по тротуару вдоль дороги. Видели много интересного и необычного для Лунтика. Ему казалось, что проезжающие по дороге машины – это огромные жуки со светящимися глаз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они подошли к перекрёстку, Лунтик остановился от удивления, увидев светоф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это за трёхглазое существо? – спросил он. Мила с Кузей переглянулись и мило улыбнул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Лунтик, -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ОФ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дин из главных помощников дорожного движения. Он подскажет тебе, как безопасно перейти дорогу. Красный свет для пешеходов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Жёлтый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Зелёный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Никогда не переходи улицу на красный сигнал светофора, даже если поблизости нет проезжающего транспорта. И вдруг, их разговор прерывает громкий спор. Мила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73528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-17316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836640"/>
            <a:ext cx="4038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мотрите, это же Пупсень и Вупсень. Они стояли на краю тротуара возле самой дороги и спорили, кто первый будет переходить дорогу. Не зная правил дорожного движения, они очень боялись, а ещё, потому что уже попадали в дорожно-транспортное  происшествие. И тут на удивление Кузи и Милы, Лунтик подошёл к ним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рогие, Пупсень и Вупсень, помните, дорога таит в себе много опасностей и неожиданностей, поэтому всегда будьте внимательными. Переходя дорогу, НЕЛЬЗЯ останавливаться, разговаривать, толкаться и спорить. Мила подошла к Лунтику и сказ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ы молодец, ведь по вине этих спорщиков могла произойти авар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нтику было очень приятно, что его похвалили, и они продолжили свой путь дальше. Пройдя по тротуару ещё немного вперёд, Кузя остановился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т мы и пришли, нам осталось перейти на другую сторону дор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ак же мы перейдём, здесь же нет пешеходного перехода? – спросил Лунт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то есть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ЗЕМНЫЙ ПЕРЕ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ветил Ку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й, что вы, я под землёй не полезу, там темно и страш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все не страшно, – возразила Мила – туда ведут специальные ступеньки, там светло и простор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в просьбу бабы Капы, друзья пошли обратно. На обратном пути, Лунтик уже ничего не боялся, и уже сам следовал правилам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1727280" cy="1721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16895" t="0" r="0" b="0"/>
          <a:stretch/>
        </p:blipFill>
        <p:spPr>
          <a:xfrm>
            <a:off x="6372360" y="4437000"/>
            <a:ext cx="249228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64000" y="1557360"/>
            <a:ext cx="5184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аким образом, в результате реализации проекта мы получили следующие  результ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повышение эффективности обучения дошкольников по ПД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- у воспитанников сформированы навыки безопасного поведения на дорогах, они не только знают правила дорожного движения,  но и применяют эти знания в дорожных ситуациях, что способствует актуализация в будущем потребности в безопасном образе жизни в сфере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-324000" y="981000"/>
            <a:ext cx="413244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333360"/>
            <a:ext cx="7772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Цель: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формирование знаний о правилах безопасного поведения на дороге и в транспор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205000"/>
            <a:ext cx="6400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3200" spc="-1" strike="noStrike">
                <a:solidFill>
                  <a:srgbClr val="cc00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Формировать знания о правилах безопасности дорожного движения в качестве пешехода и пассажира транспортного сре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сширять представления детей об улице, о её частях (тротуар, проезжая часть, пешеходный перехо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Закрепить знания детей о дорожных знаках и сигналах светоф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AutoNum type="arabicPeriod"/>
              <a:tabLst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Воспитывать у детей желание приходить на помощь другим, желание правильно вести себя на у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09480"/>
                <a:tab algn="l" pos="1523880"/>
                <a:tab algn="l" pos="2438280"/>
                <a:tab algn="l" pos="3352680"/>
                <a:tab algn="l" pos="4267080"/>
                <a:tab algn="l" pos="5181480"/>
                <a:tab algn="l" pos="6095880"/>
                <a:tab algn="l" pos="7010280"/>
                <a:tab algn="l" pos="7924680"/>
                <a:tab algn="l" pos="8839080"/>
                <a:tab algn="l" pos="9753480"/>
                <a:tab algn="l" pos="10667880"/>
                <a:tab algn="l" pos="1078236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о статистике, примерно три четверти всех ДТП с участием детей происходит в результате их непродуманных действий. Среди них наиболее частыми являются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1.  Переход через проезжую часть вне установленных для перехода мест 35-40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2.  Неожиданный выход из-за движущихся или стоящих транспортных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редств или других препятствий, мешающих обзору 25-30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3.  Неподчинение сигналам светофора 10-15%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4.  Игры на проезжей части и ходьба по ней при наличии тротуара    5-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ак можно уберечь от необдуманных действий на дорог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Как не допустить рост ДТП с участием детей?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ля этого необходимо рассматривать обучение правилам дорожного движения как часть учебно-воспитательной работы детского сада. При этом важнейшими условиями обучения должны являться регулярность занятий, их непрерывность, преемственность, систематич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26920" y="260280"/>
            <a:ext cx="777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Этапы работы над проек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1052640"/>
            <a:ext cx="64008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5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Подготовительный  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дбор материала по Правилам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ссматривание рисунков, фотографий о дорожных  ситуац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очинение  сказки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готовление атрибутов к игровой театрализован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зготовление макета  перекрё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28840" y="1071720"/>
            <a:ext cx="64008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Основной этап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1. Знакомство со сказкой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2. Беседа по ска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3. Обыгрывание сюжета сказки с использованием макета «перекрёсток» и настольного теа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4. Драматизация ска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03280" y="1341360"/>
            <a:ext cx="6408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Заключительный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каз части сказки для родителей «Как Лунтик учил правила дорожного дв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еренос в самостоя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бсуждение ситуаций связанных с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914560" cy="2171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14560" cy="2171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43280" y="1628640"/>
            <a:ext cx="403884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35640" y="1413000"/>
            <a:ext cx="2914560" cy="2171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500720" y="4292640"/>
            <a:ext cx="291456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268360" y="260280"/>
            <a:ext cx="4678200" cy="6305760"/>
            <a:chOff x="2268360" y="260280"/>
            <a:chExt cx="4678200" cy="6305760"/>
          </a:xfrm>
        </p:grpSpPr>
        <p:sp>
          <p:nvSpPr>
            <p:cNvPr id="67" name=""/>
            <p:cNvSpPr/>
            <p:nvPr/>
          </p:nvSpPr>
          <p:spPr>
            <a:xfrm>
              <a:off x="2331360" y="260280"/>
              <a:ext cx="4553280" cy="6305760"/>
            </a:xfrm>
            <a:prstGeom prst="rect">
              <a:avLst/>
            </a:prstGeom>
            <a:solidFill>
              <a:srgbClr val="f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4349880" y="-1669680"/>
              <a:ext cx="5158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329000" y="-198720"/>
              <a:ext cx="5554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4353120" y="-972720"/>
              <a:ext cx="50940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6200000">
              <a:off x="4329000" y="590400"/>
              <a:ext cx="55584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4329000" y="2164680"/>
              <a:ext cx="555480" cy="4677120"/>
            </a:xfrm>
            <a:prstGeom prst="pie">
              <a:avLst/>
            </a:prstGeom>
            <a:solidFill>
              <a:srgbClr val="f6f3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4353120" y="1417680"/>
              <a:ext cx="50940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4262760" y="3073680"/>
              <a:ext cx="690480" cy="4677120"/>
            </a:xfrm>
            <a:prstGeom prst="pie">
              <a:avLst/>
            </a:prstGeom>
            <a:solidFill>
              <a:srgbClr val="e1d7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556000" y="549360"/>
            <a:ext cx="4103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ЛУНТИК УЧИЛ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АВИЛ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ДОРОЖНОГ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5805360"/>
            <a:ext cx="2109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928960" y="2071800"/>
          <a:ext cx="3111480" cy="3168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28960" y="2071800"/>
                    <a:ext cx="3111480" cy="31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27468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800080"/>
                </a:solidFill>
                <a:latin typeface="Arial"/>
              </a:rPr>
              <a:t>«КАК ЛУНТИК УЧИЛ ПРАВИЛА ДОРОЖНОГО ДВИЖЕНИ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920" y="836640"/>
            <a:ext cx="460872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жды на  Землю с Луны свалился странный малыш. И  поэтому его так и назвали - Лунтик. Он не умел: не писать, не читать, а ещё не знал правил дорожного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ми кого он встретил, очутившись на Земле, были кузнечик Кузя и божья коровка Мила. Они очень подружились, и все дни проводили вместе. Однажды им нужно было поехать в город по просьбе бабы Капы. Друзья решили взять с собой Лунтика, чтобы показать и рассказать ему, как нужно правильно вести себя  на улицах города, так как правила дорожного движения нужно знать  взрослым  и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тановке они дождались нужного автобуса, идущего в гор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транспорте нужно быть  внимательным. Не стоит задерживаться в дверях, лучше пройти в середину салона, а то ты можешь помешать другим пассажирам, – сказала Мила Лунтику, заходя в автоб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т же добавил Ку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язательно держись за поручни, Лунтик. Водитель может резко затормозить, избегая аварии. И не забудь, что к выходу нужно подготовиться заранее, чтобы не пришлось спешить и толк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Кузя с Милой учили своего друга, как правильно вести себя в общественном транспорте, автобус прибыл в город. Выйдя из автобуса, Лунтик  поспешил перейти  улицу, но тут Кузя остановил его  и сказ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ак делать нельзя. Выйдя из транспорта, не торопись. Ты должен взять себе за правило: переходить улицу только тогда, когда транспорт уедет от остан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еходить дорогу мы будем по «зебре» - продолжила Мила. Лунтик очень удивил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 как мы пойдём по «зебре», она же убежи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ся, Лунтик, «зебра» - это так называют чёрные и белые полоски на асфальте, по которым пешеходы переходят дорогу. А по-другому – это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ШЕХОДНЫЙ ПЕРЕХОД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877080" y="4653000"/>
            <a:ext cx="2044800" cy="2041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933720"/>
            <a:ext cx="40388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9447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4:45:28Z</dcterms:created>
  <dc:creator>Customer</dc:creator>
  <dc:description/>
  <dc:language>en-US</dc:language>
  <cp:lastModifiedBy/>
  <dcterms:modified xsi:type="dcterms:W3CDTF">2018-12-15T13:16:37Z</dcterms:modified>
  <cp:revision>17</cp:revision>
  <dc:subject/>
  <dc:title>Слайд 1</dc:title>
</cp:coreProperties>
</file>