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12.png" ContentType="image/png"/>
  <Override PartName="/ppt/media/image7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97924-2BAC-4B05-B3BD-385FBFFD6E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66D03-237B-4CC5-9092-B197B2B2B1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0AAB3-AC6F-4CB5-8359-C587CB6CC7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DE20A-0C00-4C9D-B8C1-54673B4F36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06F2B-6F93-4D8A-8351-3AEF0D1CEE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207F2-3425-4938-84EB-6950851919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0934A-52F8-4227-B920-F81B251144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BCE5E-A1D3-4AB7-817D-D93D683407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4A7D1-9125-4502-9049-D6FD3EA9CD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086E8-85DE-4FAD-99DE-E4155F8F9D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CC6E5-E0B9-48F2-A944-C2FA21E029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FC5BC-29B6-4DD2-9FAB-65C9DD9B5C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5BB2CD1-6459-4683-881F-CBCCE734F4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258920" y="692280"/>
            <a:ext cx="6861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1197000"/>
            <a:ext cx="8424720" cy="47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Проект по тем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«Обучение детей среднего дошкольного возрас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правилам дорожного движе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Подготов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Воспитатель детского сада №2 «Малыш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Горчухина Светлана Юр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(первая квалификационная категор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г. Мантур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85880" y="285840"/>
            <a:ext cx="7772400" cy="49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68360" y="907920"/>
            <a:ext cx="1655640" cy="20894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57200" y="-13644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050920" y="1197000"/>
            <a:ext cx="403884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ежде чем переходить дорогу, - продолжил Кузя, нужно убедиться, а безопасна ли она? Остановись у края проезжей части, посмотри налево, если нет машин, то дойди до середины дороги и остановись. Посмотри направо. Убедившись, что и справой стороны нет транспорта, можешь переходить дорог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йдя проезжую часть дороги, они вышли на тротуар, и Мила опять сказал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Мы с вами пешеходы! А всем пешеходам разрешено ходить по тротуару и специальным пешеходным дорожкам, по правой сторо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го шли они по тротуару вдоль дороги. Видели много интересного и необычного для Лунтика. Ему казалось, что проезжающие по дороге машины – это огромные жуки со светящимися глаз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да они подошли к перекрёстку, Лунтик остановился от удивления, увидев светофо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Что это за трёхглазое существо? – спросил он. Мила с Кузей переглянулись и мило улыбнулис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Лунтик, - эт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ВЕТОФО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дин из главных помощников дорожного движения. Он подскажет тебе, как безопасно перейти дорогу. Красный свет для пешеходов –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! Жёлтый –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ЖД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Зелёный –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Д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Никогда не переходи улицу на красный сигнал светофора, даже если поблизости нет проезжающего транспорта. И вдруг, их разговор прерывает громкий спор. Мила сказал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6227640" y="4508640"/>
            <a:ext cx="273528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57200" y="-17316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24000" y="836640"/>
            <a:ext cx="403884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мотрите, это же Пупсень и Вупсень. Они стояли на краю тротуара возле самой дороги и спорили, кто первый будет переходить дорогу. Не зная правил дорожного движения, они очень боялись, а ещё, потому что уже попадали в дорожно-транспортное  происшествие. И тут на удивление Кузи и Милы, Лунтик подошёл к ним и сказа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Дорогие, Пупсень и Вупсень, помните, дорога таит в себе много опасностей и неожиданностей, поэтому всегда будьте внимательными. Переходя дорогу, НЕЛЬЗЯ останавливаться, разговаривать, толкаться и спорить. Мила подошла к Лунтику и сказал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Ты молодец, ведь по вине этих спорщиков могла произойти авар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унтику было очень приятно, что его похвалили, и они продолжили свой путь дальше. Пройдя по тротуару ещё немного вперёд, Кузя остановился и сказа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от мы и пришли, нам осталось перейти на другую сторону доро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А как же мы перейдём, здесь же нет пешеходного перехода? – спросил Лунт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Зато есть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ДЗЕМНЫЙ ПЕРЕХОД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ответил Куз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й, что вы, я под землёй не полезу, там темно и страш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овсе не страшно, – возразила Мила – туда ведут специальные ступеньки, там светло и просторн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нив просьбу бабы Капы, друзья пошли обратно. На обратном пути, Лунтик уже ничего не боялся, и уже сам следовал правилам дорожного дви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68360" y="765000"/>
            <a:ext cx="1727280" cy="1721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rcRect l="16895" t="0" r="0" b="0"/>
          <a:stretch/>
        </p:blipFill>
        <p:spPr>
          <a:xfrm>
            <a:off x="6372360" y="4437000"/>
            <a:ext cx="2492280" cy="218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564000" y="1557360"/>
            <a:ext cx="51847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Таким образом, в результате реализации проекта мы получили следующие  результа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- повышение эффективности обучения дошкольников по ПДД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- у воспитанников сформированы навыки безопасного поведения на дорогах, они не только знают правила дорожного движения,  но и применяют эти знания в дорожных ситуациях, что способствует актуализация в будущем потребности в безопасном образе жизни в сфере дорожного дви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-324000" y="981000"/>
            <a:ext cx="4132440" cy="551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4360" y="333360"/>
            <a:ext cx="777240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cc0099"/>
                </a:solidFill>
                <a:latin typeface="Arial"/>
              </a:rPr>
              <a:t>Цель: </a:t>
            </a: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формирование знаний о правилах безопасного поведения на дороге и в транспор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03280" y="2205000"/>
            <a:ext cx="64008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9480" indent="-608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1" i="1" lang="ru-RU" sz="3200" spc="-1" strike="noStrike">
                <a:solidFill>
                  <a:srgbClr val="cc0099"/>
                </a:solidFill>
                <a:latin typeface="Arial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Arial"/>
              <a:buAutoNum type="arabicPeriod"/>
              <a:tabLst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Формировать знания о правилах безопасности дорожного движения в качестве пешехода и пассажира транспортного сред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Arial"/>
              <a:buAutoNum type="arabicPeriod"/>
              <a:tabLst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Расширять представления детей об улице, о её частях (тротуар, проезжая часть, пешеходный переход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Arial"/>
              <a:buAutoNum type="arabicPeriod"/>
              <a:tabLst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Закрепить знания детей о дорожных знаках и сигналах светофо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Arial"/>
              <a:buAutoNum type="arabicPeriod"/>
              <a:tabLst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Воспитывать у детей желание приходить на помощь другим, желание правильно вести себя на улиц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Актуаль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168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По статистике, примерно три четверти всех ДТП с участием детей происходит в результате их непродуманных действий. Среди них наиболее частыми являются: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1.  Переход через проезжую часть вне установленных для перехода мест 35-40%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2.  Неожиданный выход из-за движущихся или стоящих транспортных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средств или других препятствий, мешающих обзору 25-30%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3.  Неподчинение сигналам светофора 10-15%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4.  Игры на проезжей части и ходьба по ней при наличии тротуара    5-1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Как можно уберечь от необдуманных действий на дорог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Как не допустить рост ДТП с участием детей? 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Для этого необходимо рассматривать обучение правилам дорожного движения как часть учебно-воспитательной работы детского сада. При этом важнейшими условиями обучения должны являться регулярность занятий, их непрерывность, преемственность, систематичн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71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26920" y="260280"/>
            <a:ext cx="77724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Этапы работы над проект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03280" y="1052640"/>
            <a:ext cx="640080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57200" indent="-4557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Arial"/>
              </a:rPr>
              <a:t>Подготовительный  эта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Подбор материала по Правилам дорожного дви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Рассматривание рисунков, фотографий о дорожных  ситуац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Сочинение  сказки «Как Лунтик учил правила дорожного движени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Изготовление атрибутов к игровой театрализованн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Изготовление макета  перекрёст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428840" y="1071720"/>
            <a:ext cx="640080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Arial"/>
              </a:rPr>
              <a:t>Основной этап рабо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1. Знакомство со сказкой «Как Лунтик учил правила дорожного движени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2. Беседа по сказ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3. Обыгрывание сюжета сказки с использованием макета «перекрёсток» и настольного теат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4. Драматизация сказ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403280" y="1341360"/>
            <a:ext cx="64087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Arial"/>
              </a:rPr>
              <a:t>Заключительный эта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ff"/>
              </a:buClr>
              <a:buFont typeface="Arial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Показ части сказки для родителей «Как Лунтик учил правила дорожного движени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ff"/>
              </a:buClr>
              <a:buFont typeface="Arial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Перенос в самостоятельную деятель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Обсуждение ситуаций связанных с ПД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476360" y="1413000"/>
            <a:ext cx="2914560" cy="21715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68360" y="4221000"/>
            <a:ext cx="2914560" cy="2171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643280" y="1628640"/>
            <a:ext cx="4038840" cy="21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35640" y="1413000"/>
            <a:ext cx="2914560" cy="21715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4500720" y="4292640"/>
            <a:ext cx="2914560" cy="217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6" name=""/>
          <p:cNvGrpSpPr/>
          <p:nvPr/>
        </p:nvGrpSpPr>
        <p:grpSpPr>
          <a:xfrm>
            <a:off x="2268360" y="260280"/>
            <a:ext cx="4678200" cy="6305760"/>
            <a:chOff x="2268360" y="260280"/>
            <a:chExt cx="4678200" cy="6305760"/>
          </a:xfrm>
        </p:grpSpPr>
        <p:sp>
          <p:nvSpPr>
            <p:cNvPr id="67" name=""/>
            <p:cNvSpPr/>
            <p:nvPr/>
          </p:nvSpPr>
          <p:spPr>
            <a:xfrm>
              <a:off x="2331360" y="260280"/>
              <a:ext cx="4553280" cy="6305760"/>
            </a:xfrm>
            <a:prstGeom prst="rect">
              <a:avLst/>
            </a:pr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rot="16200000">
              <a:off x="4349880" y="-1669680"/>
              <a:ext cx="515880" cy="4677120"/>
            </a:xfrm>
            <a:prstGeom prst="pie">
              <a:avLst/>
            </a:prstGeom>
            <a:solidFill>
              <a:srgbClr val="e1d7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329000" y="-198720"/>
              <a:ext cx="555480" cy="4677120"/>
            </a:xfrm>
            <a:prstGeom prst="pie">
              <a:avLst/>
            </a:prstGeom>
            <a:solidFill>
              <a:srgbClr val="e1d7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rot="5400000">
              <a:off x="4353120" y="-972720"/>
              <a:ext cx="509400" cy="4677120"/>
            </a:xfrm>
            <a:prstGeom prst="pie">
              <a:avLst/>
            </a:prstGeom>
            <a:solidFill>
              <a:srgbClr val="f6f3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rot="16200000">
              <a:off x="4329000" y="590400"/>
              <a:ext cx="555840" cy="4677120"/>
            </a:xfrm>
            <a:prstGeom prst="pie">
              <a:avLst/>
            </a:prstGeom>
            <a:solidFill>
              <a:srgbClr val="f6f3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4329000" y="2164680"/>
              <a:ext cx="555480" cy="4677120"/>
            </a:xfrm>
            <a:prstGeom prst="pie">
              <a:avLst/>
            </a:prstGeom>
            <a:solidFill>
              <a:srgbClr val="f6f3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4353120" y="1417680"/>
              <a:ext cx="509400" cy="4677120"/>
            </a:xfrm>
            <a:prstGeom prst="pie">
              <a:avLst/>
            </a:prstGeom>
            <a:solidFill>
              <a:srgbClr val="e1d7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4262760" y="3073680"/>
              <a:ext cx="690480" cy="4677120"/>
            </a:xfrm>
            <a:prstGeom prst="pie">
              <a:avLst/>
            </a:prstGeom>
            <a:solidFill>
              <a:srgbClr val="e1d7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2556000" y="549360"/>
            <a:ext cx="41036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АК ЛУНТИК УЧИЛ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РАВИЛА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ДОРОЖНОГО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ВИ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84720" y="5805360"/>
            <a:ext cx="2109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928960" y="2071800"/>
          <a:ext cx="3111480" cy="3168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28960" y="2071800"/>
                    <a:ext cx="3111480" cy="31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800080"/>
                </a:solidFill>
                <a:latin typeface="Arial"/>
              </a:rPr>
              <a:t>«КАК ЛУНТИК УЧИЛ ПРАВИЛА ДОРОЖНОГО ДВИЖЕНИЯ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50920" y="836640"/>
            <a:ext cx="460872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ажды на  Землю с Луны свалился странный малыш. И  поэтому его так и назвали - Лунтик. Он не умел: не писать, не читать, а ещё не знал правил дорожного дви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ми кого он встретил, очутившись на Земле, были кузнечик Кузя и божья коровка Мила. Они очень подружились, и все дни проводили вместе. Однажды им нужно было поехать в город по просьбе бабы Капы. Друзья решили взять с собой Лунтика, чтобы показать и рассказать ему, как нужно правильно вести себя  на улицах города, так как правила дорожного движения нужно знать  взрослым  и дет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остановке они дождались нужного автобуса, идущего в горо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 транспорте нужно быть  внимательным. Не стоит задерживаться в дверях, лучше пройти в середину салона, а то ты можешь помешать другим пассажирам, – сказала Мила Лунтику, заходя в автобу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т же добавил Куз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бязательно держись за поручни, Лунтик. Водитель может резко затормозить, избегая аварии. И не забудь, что к выходу нужно подготовиться заранее, чтобы не пришлось спешить и толкать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 Кузя с Милой учили своего друга, как правильно вести себя в общественном транспорте, автобус прибыл в город. Выйдя из автобуса, Лунтик  поспешил перейти  улицу, но тут Кузя остановил его  и сказа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Так делать нельзя. Выйдя из транспорта, не торопись. Ты должен взять себе за правило: переходить улицу только тогда, когда транспорт уедет от останов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ереходить дорогу мы будем по «зебре» - продолжила Мила. Лунтик очень удивил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А как мы пойдём по «зебре», она же убежит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 бойся, Лунтик, «зебра» - это так называют чёрные и белые полоски на асфальте, по которым пешеходы переходят дорогу. А по-другому – это называют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ШЕХОДНЫЙ ПЕРЕХОД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877080" y="4653000"/>
            <a:ext cx="2044800" cy="20415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643280" y="3933720"/>
            <a:ext cx="4038840" cy="21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933720"/>
            <a:ext cx="4038840" cy="21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79280" y="907920"/>
            <a:ext cx="1944720" cy="2016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6T14:45:28Z</dcterms:created>
  <dc:creator>Customer</dc:creator>
  <dc:description/>
  <dc:language>en-US</dc:language>
  <cp:lastModifiedBy/>
  <dcterms:modified xsi:type="dcterms:W3CDTF">2018-12-15T13:16:37Z</dcterms:modified>
  <cp:revision>17</cp:revision>
  <dc:subject/>
  <dc:title>Слайд 1</dc:title>
</cp:coreProperties>
</file>