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7F68-18C8-4A0A-ADA2-16C2842E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86738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2280" y="4644720"/>
            <a:ext cx="86738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7DA-C148-4BF1-97C8-8EEB8AD1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684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A6AB-77E1-4F0A-AC94-FFC49954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25200" y="206820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8120" y="206820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2280" y="464472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25200" y="464472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8120" y="464472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29A5-4F69-4BCF-959E-A9C0A269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92280" y="2068200"/>
            <a:ext cx="86738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867384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92280" y="414360"/>
            <a:ext cx="8673840" cy="69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228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2280" y="2068200"/>
            <a:ext cx="86738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A4D5-7BCB-42CD-BD8B-76F14CE9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3684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92280" y="4644720"/>
            <a:ext cx="86738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86738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92280" y="4644720"/>
            <a:ext cx="86738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228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3684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25200" y="206820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8120" y="206820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92280" y="464472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25200" y="464472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58120" y="464472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92280" y="2068200"/>
            <a:ext cx="86738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867384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867384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5DF-8341-4319-A398-F1F6EDED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92280" y="414360"/>
            <a:ext cx="8673840" cy="69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9228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3684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2280" y="4644720"/>
            <a:ext cx="86738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86738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92280" y="4644720"/>
            <a:ext cx="86738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9228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3684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625200" y="206820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58120" y="206820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92280" y="464472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625200" y="464472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558120" y="464472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631-9AFA-49E1-8381-2A7CB3DC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F192-E701-4EF8-A78D-9B3F29A9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92280" y="414360"/>
            <a:ext cx="8673840" cy="69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5393-E20F-43C8-BF21-6F89D638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228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3E7B-894B-454A-85EC-85C8293F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684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07CC-6208-4615-9E8C-A5C77976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2280" y="4644720"/>
            <a:ext cx="86738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F66B-A91A-465C-9F8B-444D368C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2280" y="2068200"/>
            <a:ext cx="867384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1" marL="75420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2" marL="125748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3" marL="175896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4" marL="226224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5" marL="226224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6" marL="226224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7203600"/>
            <a:ext cx="22618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32160" y="7203600"/>
            <a:ext cx="3394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3880" y="7203600"/>
            <a:ext cx="22618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3848-B744-4E8E-BBCE-AC859DE7C5F2}" type="slidenum">
              <a:rPr b="0" lang="ru-RU" sz="13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оугольник 6"/>
          <p:cNvSpPr/>
          <p:nvPr/>
        </p:nvSpPr>
        <p:spPr>
          <a:xfrm>
            <a:off x="10287000" y="0"/>
            <a:ext cx="1828800" cy="7767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alibri Light"/>
                <a:ea typeface="Calibri"/>
              </a:rPr>
              <a:t>Печать</a:t>
            </a:r>
            <a:endParaRPr b="0" lang="en-US" sz="14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Печать на разных принтерах может отличаться, поэтому обязательно сделайте несколько пробных распечаток. Если выравнивание не идеально, поэкспериментируйте с параметром "Масштабировать по листу". Чтобы отобразить его, в диалоговом окне "Печать" нажмите "Слайды размером во всю страницу"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Вы заметили метки на линии сгиба? Они едва видны, но если вы не хотите, чтобы они отображались в вашей брошюре, последовательно нажмите "Вид", "Образец слайдов" и удалите их перед печатью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alibri Light"/>
                <a:ea typeface="Calibri"/>
              </a:rPr>
              <a:t>Настройка содержимого</a:t>
            </a:r>
            <a:endParaRPr b="0" lang="en-US" sz="14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Заполнители в этой брошюре уже отформатированы. Если вы хотите добавить в текст маркеры или удалить их, на вкладке "Главная" нажмите кнопку "Маркеры"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Если требуются дополнительные заполнители для заголовков, субтитров или основного текста, скопируйте нужное содержимое и перетащите его в соответствующее место. Смарт-направляющие PowerPoint помогут вам выровнять его относительно других элементов на странице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Хотите заменить предложенные изображения? Нет проблем! Выберите изображение, нажмите клавишу Удалить, а затем — значок для добавления вашей картинки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Если вставленная фотография  не совсем подходит по размеру, ее легко обрезать. Для этого выберите изображение, а затем в разделе "Работа с рисунками" на вкладке "Формат" в группе "Размер" нажмите кнопку "Обрезка"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6"/>
          <p:cNvSpPr/>
          <p:nvPr/>
        </p:nvSpPr>
        <p:spPr>
          <a:xfrm>
            <a:off x="10287000" y="0"/>
            <a:ext cx="1828800" cy="7767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alibri Light"/>
                <a:ea typeface="Calibri"/>
              </a:rPr>
              <a:t>Печать</a:t>
            </a:r>
            <a:endParaRPr b="0" lang="en-US" sz="14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Печать на разных принтерах может отличаться, поэтому обязательно сделайте несколько пробных распечаток. Если выравнивание не идеально, поэкспериментируйте с параметром "Масштабировать по листу". Чтобы отобразить его, в диалоговом окне "Печать" нажмите "Слайды размером во всю страницу"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Вы заметили метки на линии сгиба? Они едва видны, но если вы не хотите, чтобы они отображались в вашей брошюре, последовательно нажмите "Вид", "Образец слайдов" и удалите их перед печатью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alibri Light"/>
                <a:ea typeface="Calibri"/>
              </a:rPr>
              <a:t>Настройка содержимого</a:t>
            </a:r>
            <a:endParaRPr b="0" lang="en-US" sz="14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Заполнители в этой брошюре уже отформатированы. Если вы хотите добавить в текст маркеры или удалить их, на вкладке "Главная" нажмите кнопку "Маркеры"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Если требуются дополнительные заполнители для заголовков, субтитров или основного текста, скопируйте нужное содержимое и перетащите его в соответствующее место. Смарт-направляющие PowerPoint помогут вам выровнять его относительно других элементов на странице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Хотите заменить предложенные изображения? Нет проблем! Выберите изображение, нажмите клавишу Удалить, а затем — значок для добавления вашей картинки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Если вставленная фотография  не совсем подходит по размеру, ее легко обрезать. Для этого выберите изображение, а затем в разделе "Работа с рисунками" на вкладке "Формат" в группе "Размер" нажмите кнопку "Обрезка"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3" name="Прямая соединительная линия 2"/>
          <p:cNvSpPr/>
          <p:nvPr/>
        </p:nvSpPr>
        <p:spPr>
          <a:xfrm>
            <a:off x="3292560" y="0"/>
            <a:ext cx="0" cy="7772400"/>
          </a:xfrm>
          <a:prstGeom prst="line">
            <a:avLst/>
          </a:prstGeom>
          <a:ln w="6480">
            <a:solidFill>
              <a:srgbClr val="c8c8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4" name="Прямая соединительная линия 7"/>
          <p:cNvSpPr/>
          <p:nvPr/>
        </p:nvSpPr>
        <p:spPr>
          <a:xfrm>
            <a:off x="6675480" y="0"/>
            <a:ext cx="0" cy="7772400"/>
          </a:xfrm>
          <a:prstGeom prst="line">
            <a:avLst/>
          </a:prstGeom>
          <a:ln w="6480">
            <a:solidFill>
              <a:srgbClr val="c8c8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457200" y="457200"/>
            <a:ext cx="2359080" cy="182520"/>
          </a:xfrm>
          <a:prstGeom prst="rect">
            <a:avLst/>
          </a:prstGeom>
          <a:solidFill>
            <a:srgbClr val="6e86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457200" y="6854760"/>
            <a:ext cx="2359080" cy="457200"/>
          </a:xfrm>
          <a:prstGeom prst="rect">
            <a:avLst/>
          </a:prstGeom>
          <a:solidFill>
            <a:srgbClr val="6e86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457200" y="4737240"/>
            <a:ext cx="2359080" cy="2074680"/>
          </a:xfrm>
          <a:prstGeom prst="rect">
            <a:avLst/>
          </a:prstGeom>
          <a:solidFill>
            <a:srgbClr val="94a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3757680" y="457200"/>
            <a:ext cx="2450880" cy="182520"/>
          </a:xfrm>
          <a:prstGeom prst="rect">
            <a:avLst/>
          </a:prstGeom>
          <a:solidFill>
            <a:srgbClr val="6886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3757680" y="6854760"/>
            <a:ext cx="2450880" cy="457200"/>
          </a:xfrm>
          <a:prstGeom prst="rect">
            <a:avLst/>
          </a:prstGeom>
          <a:solidFill>
            <a:srgbClr val="6886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50" name="Прямоугольник 15"/>
          <p:cNvSpPr/>
          <p:nvPr/>
        </p:nvSpPr>
        <p:spPr>
          <a:xfrm>
            <a:off x="7142040" y="457200"/>
            <a:ext cx="2449800" cy="182520"/>
          </a:xfrm>
          <a:prstGeom prst="rect">
            <a:avLst/>
          </a:prstGeom>
          <a:solidFill>
            <a:srgbClr val="6886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51" name="Прямоугольник 16"/>
          <p:cNvSpPr/>
          <p:nvPr/>
        </p:nvSpPr>
        <p:spPr>
          <a:xfrm>
            <a:off x="7142040" y="6854760"/>
            <a:ext cx="2449800" cy="457200"/>
          </a:xfrm>
          <a:prstGeom prst="rect">
            <a:avLst/>
          </a:prstGeom>
          <a:solidFill>
            <a:srgbClr val="6886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7142040" y="1901880"/>
            <a:ext cx="2449800" cy="146160"/>
          </a:xfrm>
          <a:prstGeom prst="rect">
            <a:avLst/>
          </a:prstGeom>
          <a:solidFill>
            <a:srgbClr val="a4b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92280" y="2068200"/>
            <a:ext cx="867384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1" marL="75420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2" marL="125748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3" marL="175896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4" marL="226224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5" marL="226224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6" marL="226224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10287000" y="0"/>
            <a:ext cx="1828800" cy="7767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alibri Light"/>
                <a:ea typeface="Calibri"/>
              </a:rPr>
              <a:t>Печать</a:t>
            </a:r>
            <a:endParaRPr b="0" lang="en-US" sz="14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Печать на разных принтерах может отличаться, поэтому обязательно сделайте несколько пробных распечаток. Если выравнивание не идеально, поэкспериментируйте с параметром "Масштабировать по листу". Чтобы отобразить его, в диалоговом окне "Печать" нажмите "Слайды размером во всю страницу"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Вы заметили метки на линии сгиба? Они едва видны, но если вы не хотите, чтобы они отображались в вашей брошюре, последовательно нажмите "Вид", "Образец слайдов" и удалите их перед печатью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alibri Light"/>
                <a:ea typeface="Calibri"/>
              </a:rPr>
              <a:t>Настройка содержимого</a:t>
            </a:r>
            <a:endParaRPr b="0" lang="en-US" sz="14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Заполнители в этой брошюре уже отформатированы. Если вы хотите добавить в текст маркеры или удалить их, на вкладке "Главная" нажмите кнопку "Маркеры"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Если требуются дополнительные заполнители для заголовков, субтитров или основного текста, скопируйте нужное содержимое и перетащите его в соответствующее место. Смарт-направляющие PowerPoint помогут вам выровнять его относительно других элементов на странице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Хотите заменить предложенные изображения? Нет проблем! Выберите изображение, нажмите клавишу Удалить, а затем — значок для добавления вашей картинки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Если вставленная фотография  не совсем подходит по размеру, ее легко обрезать. Для этого выберите изображение, а затем в разделе "Работа с рисунками" на вкладке "Формат" в группе "Размер" нажмите кнопку "Обрезка"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92" name="Прямая соединительная линия 7"/>
          <p:cNvSpPr/>
          <p:nvPr/>
        </p:nvSpPr>
        <p:spPr>
          <a:xfrm>
            <a:off x="6765840" y="0"/>
            <a:ext cx="0" cy="7772400"/>
          </a:xfrm>
          <a:prstGeom prst="line">
            <a:avLst/>
          </a:prstGeom>
          <a:ln w="6480">
            <a:solidFill>
              <a:srgbClr val="c8c8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93" name="Прямоугольник 31"/>
          <p:cNvSpPr/>
          <p:nvPr/>
        </p:nvSpPr>
        <p:spPr>
          <a:xfrm>
            <a:off x="3849840" y="685800"/>
            <a:ext cx="2450880" cy="3949560"/>
          </a:xfrm>
          <a:prstGeom prst="rect">
            <a:avLst/>
          </a:prstGeom>
          <a:solidFill>
            <a:srgbClr val="eae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94" name="Прямая соединительная линия 2"/>
          <p:cNvSpPr/>
          <p:nvPr/>
        </p:nvSpPr>
        <p:spPr>
          <a:xfrm>
            <a:off x="3382920" y="0"/>
            <a:ext cx="0" cy="7772400"/>
          </a:xfrm>
          <a:prstGeom prst="line">
            <a:avLst/>
          </a:prstGeom>
          <a:ln w="6480">
            <a:solidFill>
              <a:srgbClr val="c8c8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457200" y="457200"/>
            <a:ext cx="2451240" cy="182520"/>
          </a:xfrm>
          <a:prstGeom prst="rect">
            <a:avLst/>
          </a:prstGeom>
          <a:solidFill>
            <a:srgbClr val="6886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96" name="Прямоугольник 9"/>
          <p:cNvSpPr/>
          <p:nvPr/>
        </p:nvSpPr>
        <p:spPr>
          <a:xfrm>
            <a:off x="457200" y="6854760"/>
            <a:ext cx="2451240" cy="457200"/>
          </a:xfrm>
          <a:prstGeom prst="rect">
            <a:avLst/>
          </a:prstGeom>
          <a:solidFill>
            <a:srgbClr val="6886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97" name="Прямоугольник 12"/>
          <p:cNvSpPr/>
          <p:nvPr/>
        </p:nvSpPr>
        <p:spPr>
          <a:xfrm>
            <a:off x="3849840" y="457200"/>
            <a:ext cx="2450880" cy="182520"/>
          </a:xfrm>
          <a:prstGeom prst="rect">
            <a:avLst/>
          </a:prstGeom>
          <a:solidFill>
            <a:srgbClr val="6e86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98" name="Прямоугольник 13"/>
          <p:cNvSpPr/>
          <p:nvPr/>
        </p:nvSpPr>
        <p:spPr>
          <a:xfrm>
            <a:off x="3849840" y="6854760"/>
            <a:ext cx="2450880" cy="457200"/>
          </a:xfrm>
          <a:prstGeom prst="rect">
            <a:avLst/>
          </a:prstGeom>
          <a:solidFill>
            <a:srgbClr val="6e86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99" name="Прямоугольник 15"/>
          <p:cNvSpPr/>
          <p:nvPr/>
        </p:nvSpPr>
        <p:spPr>
          <a:xfrm>
            <a:off x="7232760" y="457200"/>
            <a:ext cx="2359080" cy="182520"/>
          </a:xfrm>
          <a:prstGeom prst="rect">
            <a:avLst/>
          </a:prstGeom>
          <a:solidFill>
            <a:srgbClr val="6886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00" name="Прямоугольник 16"/>
          <p:cNvSpPr/>
          <p:nvPr/>
        </p:nvSpPr>
        <p:spPr>
          <a:xfrm>
            <a:off x="7232760" y="6854760"/>
            <a:ext cx="2359080" cy="457200"/>
          </a:xfrm>
          <a:prstGeom prst="rect">
            <a:avLst/>
          </a:prstGeom>
          <a:solidFill>
            <a:srgbClr val="6886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92280" y="2068200"/>
            <a:ext cx="867384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1" marL="75420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2" marL="125748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3" marL="175896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4" marL="226224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5" marL="226224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6" marL="226224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170840" y="685800"/>
            <a:ext cx="2449440" cy="12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Прогулки по городу Выкса</a:t>
            </a:r>
            <a:endParaRPr b="0" lang="en-US" sz="36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75040" y="5155920"/>
            <a:ext cx="2449440" cy="2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6886bc"/>
                </a:solidFill>
                <a:latin typeface="Constantia"/>
              </a:rPr>
              <a:t>МБДОУ Д/с № 27 «Сказка»</a:t>
            </a:r>
            <a:endParaRPr b="0" lang="en-US" sz="1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05200" y="6076440"/>
            <a:ext cx="244944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607060, Нижегородская обл., Выкса,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м-он. Центральный, зд. 16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98800" y="5590800"/>
            <a:ext cx="235584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ru-RU" sz="1100" spc="-1" strike="noStrike">
                <a:solidFill>
                  <a:srgbClr val="595959"/>
                </a:solidFill>
                <a:latin typeface="Constantia"/>
              </a:rPr>
              <a:t>+7 (83177) 3-13-07</a:t>
            </a:r>
            <a:endParaRPr b="0" lang="en-US" sz="11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757680" y="6985080"/>
            <a:ext cx="2449440" cy="18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3000"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r>
              <a:rPr b="0" lang="ru-RU" sz="1000" spc="-1" strike="noStrike">
                <a:solidFill>
                  <a:srgbClr val="595959"/>
                </a:solidFill>
                <a:latin typeface="Constantia"/>
              </a:rPr>
              <a:t>E-mail: Skaska27@bk.ru</a:t>
            </a:r>
            <a:endParaRPr b="0" lang="en-US" sz="1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288720" y="685440"/>
            <a:ext cx="2779560" cy="37782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anchor="ctr">
            <a:normAutofit fontScale="92000"/>
          </a:bodyPr>
          <a:p>
            <a:pPr indent="0">
              <a:lnSpc>
                <a:spcPct val="130000"/>
              </a:lnSpc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Таким образом, ребенок во время совместных прогулок с родителями по улицам города Выкса, закрепит полученные знания об истории родного города, известных людях, основных исторических и природных достопримечательностях, известных людях и памятных местах. Задача родителей способствовать всестороннему развитию ребенка, задавая вопросы и внимательно выслушивая ответы. </a:t>
            </a:r>
            <a:endParaRPr b="0" lang="en-US" sz="1100" spc="-1" strike="noStrike">
              <a:solidFill>
                <a:srgbClr val="595959"/>
              </a:solidFill>
              <a:latin typeface="Constantia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onstantia"/>
              </a:rPr>
              <a:t>Помните</a:t>
            </a: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: взрослому не следует забывать, что очень многое зависит от того, как он сам относиться к тому, что сообщает детям.</a:t>
            </a:r>
            <a:endParaRPr b="0" lang="en-US" sz="1100" spc="-1" strike="noStrike">
              <a:solidFill>
                <a:srgbClr val="595959"/>
              </a:solidFill>
              <a:latin typeface="Constantia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</a:tabLst>
            </a:pPr>
            <a:endParaRPr b="0" lang="en-US" sz="1100" spc="-1" strike="noStrike">
              <a:solidFill>
                <a:srgbClr val="595959"/>
              </a:solidFill>
              <a:latin typeface="Constantia"/>
            </a:endParaRPr>
          </a:p>
        </p:txBody>
      </p:sp>
      <p:pic>
        <p:nvPicPr>
          <p:cNvPr id="145" name="Рисунок 1" descr=""/>
          <p:cNvPicPr/>
          <p:nvPr/>
        </p:nvPicPr>
        <p:blipFill>
          <a:blip r:embed="rId1"/>
          <a:srcRect l="20425" t="0" r="10448" b="0"/>
          <a:stretch/>
        </p:blipFill>
        <p:spPr>
          <a:xfrm>
            <a:off x="7170840" y="2066760"/>
            <a:ext cx="2442960" cy="4745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7"/>
          <p:cNvSpPr/>
          <p:nvPr/>
        </p:nvSpPr>
        <p:spPr>
          <a:xfrm>
            <a:off x="7945560" y="6773760"/>
            <a:ext cx="211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одготовила: воспитатель</a:t>
            </a: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оловей Ю.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6846840" y="71280"/>
            <a:ext cx="32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БДОУ Д/С №27 «Сказка»</a:t>
            </a: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pic>
        <p:nvPicPr>
          <p:cNvPr id="148" name="Рисунок 10" descr=""/>
          <p:cNvPicPr/>
          <p:nvPr/>
        </p:nvPicPr>
        <p:blipFill>
          <a:blip r:embed="rId2"/>
          <a:srcRect l="31352" t="0" r="31352" b="0"/>
          <a:stretch/>
        </p:blipFill>
        <p:spPr>
          <a:xfrm>
            <a:off x="425520" y="4708440"/>
            <a:ext cx="2463840" cy="210348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2"/>
          <p:cNvSpPr/>
          <p:nvPr/>
        </p:nvSpPr>
        <p:spPr>
          <a:xfrm>
            <a:off x="3639240" y="629748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www.margiestravel.com</a:t>
            </a: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pic>
        <p:nvPicPr>
          <p:cNvPr id="150" name="Рисунок 2" descr=""/>
          <p:cNvPicPr/>
          <p:nvPr/>
        </p:nvPicPr>
        <p:blipFill>
          <a:blip r:embed="rId3"/>
          <a:srcRect l="27051" t="0" r="27051" b="0"/>
          <a:stretch/>
        </p:blipFill>
        <p:spPr>
          <a:xfrm>
            <a:off x="3757680" y="685800"/>
            <a:ext cx="24508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3005280"/>
            <a:ext cx="2451240" cy="6616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rmAutofit fontScale="88000"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6886bc"/>
                </a:solidFill>
                <a:latin typeface="Constantia"/>
              </a:rPr>
              <a:t>Совместная прогулка с детьми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09800" y="691920"/>
            <a:ext cx="2724120" cy="52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91440" bIns="91440" anchor="ctr">
            <a:normAutofit fontScale="97000"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rgbClr val="6e865b"/>
                </a:solidFill>
                <a:latin typeface="Constantia"/>
              </a:rPr>
              <a:t>Семья играет важную роль в формировании личности человека. Воспитать своего ребенка — великое искусство, так как сам процесс воспитания – это непрерывная работа сердца, разума, воли родителя. Приходится повседневно искать пути подхода к ребенку, думать над разрешением конкретных ситуаций, возникших в общении. Здоровый микроклимат семьи зависит от атмосферы дружбы, доверия между взрослыми. Помочь правильному развитию физического и психического здоровья ребенка помогут совместные прогулки. Такие прогулки надолго остаются в памяти у детей. С особой силой запечатлеваются посещение любимых мест в разное время.  В выходные дни, когда взрослые могут выделить больше времени для общения с ребенком, можно совершить целевые прогулки по городу. Такой вид прогулок расширит кругозор детей, разовьет связную речь, наблюдательность, память, будет способствовать расширению и закреплению знаний о достопримечательностях родного города, природных объектах. Появится способность сравнивать, делать выводы. Воспитывать чувства любви к родному городу и малой Родине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236000" y="696960"/>
            <a:ext cx="2358720" cy="473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6886bc"/>
                </a:solidFill>
                <a:latin typeface="Constantia"/>
              </a:rPr>
              <a:t>Объекты рекомендуемые к посещению:</a:t>
            </a:r>
            <a:endParaRPr b="0" lang="en-US" sz="1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72520" y="3703680"/>
            <a:ext cx="27752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В старшем дошкольном возрасте расширяется круг представлений детей об окружающем их мире и социальной действительности. У детей повышается потребность в общении не только со сверстниками, но и со </a:t>
            </a:r>
            <a:r>
              <a:rPr b="0" lang="ru-RU" sz="900" spc="-1" strike="noStrike" u="sng">
                <a:solidFill>
                  <a:srgbClr val="595959"/>
                </a:solidFill>
                <a:uFillTx/>
                <a:latin typeface="Constantia"/>
              </a:rPr>
              <a:t>взрослыми</a:t>
            </a: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: им хочется поделиться своими впечатлениями об увиденном или услышанном. формируя у детей положительно-эмоциональное отношение к происходящему, мы можем помочь им овладеть не только диалогом, но и монологом. сообщая ребятам знания, воспитывая в них такие нравственные качества. как чувство привязанности к своему </a:t>
            </a:r>
            <a:r>
              <a:rPr b="1" lang="ru-RU" sz="900" spc="-1" strike="noStrike">
                <a:solidFill>
                  <a:srgbClr val="595959"/>
                </a:solidFill>
                <a:latin typeface="Constantia"/>
              </a:rPr>
              <a:t>родному городу</a:t>
            </a: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, восхищение его красотой, необходимо совершать </a:t>
            </a:r>
            <a:r>
              <a:rPr b="1" lang="ru-RU" sz="900" spc="-1" strike="noStrike">
                <a:solidFill>
                  <a:srgbClr val="595959"/>
                </a:solidFill>
                <a:latin typeface="Constantia"/>
              </a:rPr>
              <a:t>прогулку</a:t>
            </a: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 по окрестностям микрорайона, паркам, скверам, улицам города. Поэтому городская тематика является благодатной почвой для всестороннего развития детей, и в первую очередь речевого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 indent="0">
              <a:lnSpc>
                <a:spcPct val="105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 indent="0">
              <a:lnSpc>
                <a:spcPct val="105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7095960" y="1169640"/>
            <a:ext cx="269424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Constantia"/>
              <a:buChar char="-"/>
            </a:pP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Площадь Металлургов: здесь можно рассмотреть аллею металлургов, природный памятник нижний пруд, музей Баташевых-Шепелевых, скульптуру «Времена года» и др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Constantia"/>
              <a:buChar char="-"/>
            </a:pP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Красная площадь: здесь можно увидеть отлитый из чугуна памятник В.И.Ленину, здание ДК им. Лепсе, скульптуру «Ангел Мира»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Constantia"/>
              <a:buChar char="-"/>
            </a:pP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Площадь Октябрьской революции: обсуждаем с детьми мемориал посвященный павшим героям в ВОВ, монумент «Вечный Огонь»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Constantia"/>
              <a:buChar char="-"/>
            </a:pP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Парк культуры и отдыха: здесь расположены многообразные объекты современного искусства, а так же памятник «Семи коммунарам», символ Выксы – железная роза и др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Constantia"/>
              <a:buChar char="-"/>
            </a:pP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Комсомольская площадь, памятник неизвестному солдату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Constantia"/>
              <a:buChar char="-"/>
            </a:pP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У главного здания ВМЗ, памятник основателям города Выкса – Братьям Баташевым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</p:txBody>
      </p:sp>
      <p:pic>
        <p:nvPicPr>
          <p:cNvPr id="156" name="Рисунок 4" descr=""/>
          <p:cNvPicPr/>
          <p:nvPr/>
        </p:nvPicPr>
        <p:blipFill>
          <a:blip r:embed="rId1"/>
          <a:srcRect l="14135" t="0" r="14135" b="0"/>
          <a:stretch/>
        </p:blipFill>
        <p:spPr>
          <a:xfrm>
            <a:off x="457200" y="685800"/>
            <a:ext cx="2451240" cy="22766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6" descr=""/>
          <p:cNvPicPr/>
          <p:nvPr/>
        </p:nvPicPr>
        <p:blipFill>
          <a:blip r:embed="rId2"/>
          <a:stretch/>
        </p:blipFill>
        <p:spPr>
          <a:xfrm>
            <a:off x="3710160" y="5919840"/>
            <a:ext cx="2724120" cy="16239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1" descr=""/>
          <p:cNvPicPr/>
          <p:nvPr/>
        </p:nvPicPr>
        <p:blipFill>
          <a:blip r:embed="rId3"/>
          <a:stretch/>
        </p:blipFill>
        <p:spPr>
          <a:xfrm>
            <a:off x="7095960" y="4840200"/>
            <a:ext cx="269424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31T14:30:51Z</dcterms:created>
  <dc:creator/>
  <dc:description/>
  <cp:keywords/>
  <dc:language>en-US</dc:language>
  <cp:lastModifiedBy/>
  <dcterms:modified xsi:type="dcterms:W3CDTF">2018-12-15T18:05:5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4881799991</vt:lpwstr>
  </property>
</Properties>
</file>