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2E5-ACD8-464E-84E4-E8AB628B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064-C779-47F4-8DC4-8269DF2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1F-AC77-4C81-BD31-774ABB30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67C-D19B-4E97-B722-F268384A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DDE-0E98-422A-BD3A-D6959065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002-AD40-41D6-AB55-38A356E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9B8-2525-4828-9D40-24DC7D0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16C-7249-475F-BB74-6F658C7E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C24-CBE8-444F-82DB-FD7616D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2E4-230A-4A59-887B-C70489D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4F1-2CE3-4396-BE58-FA562ED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601-2ED1-463B-9E1E-97F8D48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A5B2-1A70-4754-A79B-CD67B145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17200">
            <a:off x="1979280" y="11592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52360" y="1052640"/>
            <a:ext cx="8567640" cy="23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dern Fashion Magazin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3068640"/>
            <a:ext cx="28764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Stars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228600">
            <a:off x="826920" y="4005000"/>
            <a:ext cx="187200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134000">
            <a:off x="4140360" y="4723920"/>
            <a:ext cx="1871640" cy="165600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058800">
            <a:off x="6876720" y="342864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8785440" cy="633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Good morning, ki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yellow blouse (or top) with an orang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bel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n orange skirt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rown and yellow shoes on your feet and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tigh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your le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5097" t="0" r="4428" b="0"/>
          <a:stretch/>
        </p:blipFill>
        <p:spPr>
          <a:xfrm>
            <a:off x="539640" y="1700280"/>
            <a:ext cx="3780000" cy="446400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Let’s do spor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grey sports jacket with a white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anor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white trouser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lack and grey trainers on you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When, Where,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720" y="1989000"/>
            <a:ext cx="403848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nice long blue dress with whit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la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(or it may be a su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lue and whit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high hee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you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9408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Let’s sing and dan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038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stya may put white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short-sle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irt and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dar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jean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ap may also put white shirt and blue jeans with a belt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may be a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ir shirts (pink hea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1600200"/>
            <a:ext cx="330372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Telling stories about 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168" r="0" b="0"/>
          <a:stretch/>
        </p:blipFill>
        <p:spPr>
          <a:xfrm>
            <a:off x="684360" y="1628640"/>
            <a:ext cx="4186080" cy="241308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bright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multicolou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irt and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lue shorts on (or it may be trous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white shoes with white socks on your feet and a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bei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ight brown) hat on your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14453" r="0" b="0"/>
          <a:stretch/>
        </p:blipFill>
        <p:spPr>
          <a:xfrm>
            <a:off x="4870440" y="1627200"/>
            <a:ext cx="3529080" cy="24163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390000">
            <a:off x="395280" y="2491920"/>
            <a:ext cx="842472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505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 for attention!</a:t>
            </a:r>
            <a:endParaRPr b="0" lang="en-US" sz="6000" spc="1" strike="noStrike">
              <a:ln w="9360">
                <a:solidFill>
                  <a:srgbClr val="ff505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4640"/>
            <a:ext cx="8785440" cy="604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4221000"/>
            <a:ext cx="1872000" cy="165600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47628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5:08:38Z</dcterms:created>
  <dc:creator>Даша</dc:creator>
  <dc:description/>
  <dc:language>en-US</dc:language>
  <cp:lastModifiedBy>Даша</cp:lastModifiedBy>
  <dcterms:modified xsi:type="dcterms:W3CDTF">2018-12-15T14:10:10Z</dcterms:modified>
  <cp:revision>4</cp:revision>
  <dc:subject/>
  <dc:title>Слайд 1</dc:title>
</cp:coreProperties>
</file>