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81C-65DE-4062-ABFE-D619A163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37E-2E99-4DED-8FE1-FEA2E398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C43-B95C-4E45-909B-507E3282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F7D-648A-4AEA-B9D6-C7B376FD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5467-8B29-46B2-B2F7-3F21663D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C888-9089-40A1-938D-5AEBF6DE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531C-4B52-46BA-9B44-8A30A8E4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4FDA-466E-4CE7-B9FC-C81BE3E2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BF0D-4206-49AB-9F4D-7C12B24E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3763-E462-47B4-B913-B8014B8D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6D8A-12D7-4352-92B9-29FB3671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35E-DE9A-485F-8612-5D5EBD29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8015-D1A2-44DC-B39D-A3D3EBC1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675E-D6E7-4157-B710-FD347AF2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ADCA-AC53-46B9-A70B-22357A71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6281-621A-46D8-87D6-72750AF1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3C8D-E9BD-4419-B709-AA176A40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9556D-B647-4C7C-B80B-9FA4C354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EF630-4B13-4989-B60F-A1AFE116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EB738-B38A-42FD-B78F-EB655BE6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674B3-8F46-45FB-B977-4ECD7D83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EC875-C0FA-4F54-B6A1-55062831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565-7FBF-4022-9845-6E680362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3F5C4-9918-4123-A23D-7AF83C68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26AE3-B698-494F-80D4-D61D0D7F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A47E1-D810-49C8-BCC0-CD360477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450E8-9F24-43EF-BCA8-3AF88A16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C9BB3-CDD2-4148-B18F-77058780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0543C-479A-4A64-BFEF-B93BF8B9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F6099-59F2-449E-A1AB-CFFDC743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3A0AC-D1DB-4CB7-92F4-AE02AD19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4F8E6-8A1C-4E30-A8EE-1D222123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E69E5-5871-4413-9A3C-28C5275E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EAD7-843D-444A-952C-BA316149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87142-C350-46A0-BA74-EA052CC6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93082-FD64-4BDA-B009-E80BD055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CF74D-29D1-4E05-B8B0-10B035B2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19577-9270-45D3-A3C0-0DB4AA32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4F396-99A9-485C-978C-EC196DBD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C9C07-6840-49E9-B0D2-A1DF86FA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973E8-51CF-4118-AC47-A643FF5C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9862B-0390-4AE3-B4AB-B2FB0D1E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3EC97-7CFE-4EEE-BDF5-FF868719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4B37D-3D09-44BA-AE3C-E9CE375D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874-9EE8-42DE-8055-D81E3E68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A68961-403D-4650-8A5B-46618DC4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DE971-8307-42CA-9990-CB798A46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C0784-5774-4137-AF75-CE49E86A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C2C3B-932B-46BD-94B7-24AFF32D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3981A-9402-46D1-B76D-689B5490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0398E-F465-4B96-A50A-7D7189B4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3F214E-ED74-4B7B-A078-4D0E1FC5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F8509-0F48-4E04-9FA7-4EE8BF07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8BEFE-0060-4B74-B000-E22500ED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A39BE5-64F3-4A47-BDAD-325521FA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B91-99E0-4176-8370-8DB554E6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C49474-B1E6-48B3-8745-A696112C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9DBB3C-CFB5-417C-B210-3F90D227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FE26D-2164-4628-A32D-8B503595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EE05FC-7728-48B8-B25C-22AFD637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948A0-1B2C-4E3B-9812-0189481C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DB1B6-CE98-4A06-BA6D-22953850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98055-6B8F-47D4-868E-8C0A1C73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30CEC-0C50-4004-A184-92BF56C3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0DA750-6F5B-4E9F-993F-67186A85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F807D-CB6B-41AE-B780-86EA0B4C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373-C042-42D6-8EF8-E01B86E7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F7A3F-1A01-46DC-90A4-944371AA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ACCB9E-C019-4AAF-A69F-EDFDFF05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7236B-1400-4D30-83E4-D3C528EE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CD875-2484-4E0D-918D-F9DBADED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7F945-91EF-4C2B-800C-11DF39FA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E56E7-87E2-41D1-94BF-3E6EE5A2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459B10-C43B-464E-85C8-710EB0DB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B95B42-1511-4A17-A210-8E547781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B7CF0-DC3F-4FD3-8D48-CD842F8E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AE429-04F2-4A36-839C-8C993823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5A14-E3CB-40E5-B15D-30527CE9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75B679-DFBF-49BA-9CF9-EB0E6596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028D40-A6E5-4630-90CC-3B216083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04CC3-0FD4-4B91-B235-5526D197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FB879-36FB-440F-8DED-5C2F7722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FCF875-166F-4A50-8E2B-2CAB0B8F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BF8-0143-4F99-9E0F-9688D586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1C4E-4750-4A1E-A814-11F061E152E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78C4-4C20-4C5C-91D1-E77F835B80C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3AE2-FF57-465B-94A6-A2645DDE02F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0370-15CA-4B88-B3FE-E217063B194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6867-C2A7-4EAF-9CB0-ECAF6D16552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E9C6-B9BF-4ACD-8692-EF612F4CD8C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9881-C5BB-4B6E-84A6-B76A8FFDFE4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3"/>
          <p:cNvSpPr/>
          <p:nvPr/>
        </p:nvSpPr>
        <p:spPr>
          <a:xfrm>
            <a:off x="4214880" y="50004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6 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2000160" y="2286000"/>
            <a:ext cx="64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44583"/>
                </a:solidFill>
                <a:latin typeface="Comic Sans MS"/>
              </a:rPr>
              <a:t>Р У Б К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44583"/>
                </a:solidFill>
                <a:latin typeface="Comic Sans MS"/>
              </a:rPr>
              <a:t>М  Е  Т  А  Л  Л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2340000" y="519120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Составил: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учитель 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МАОУ «СОШ №4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стылев Д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2"/>
          <p:cNvSpPr/>
          <p:nvPr/>
        </p:nvSpPr>
        <p:spPr>
          <a:xfrm>
            <a:off x="1000080" y="35712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entury Schoolbook"/>
              </a:rPr>
              <a:t>Рубка металлов и применяемый рабочий инструм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2000160" y="857160"/>
            <a:ext cx="4786560" cy="1465560"/>
          </a:xfrm>
          <a:prstGeom prst="rect">
            <a:avLst/>
          </a:prstGeom>
          <a:solidFill>
            <a:srgbClr val="fff39d"/>
          </a:solidFill>
          <a:ln w="9360">
            <a:solidFill>
              <a:srgbClr val="feb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d0d"/>
                </a:solidFill>
                <a:latin typeface="Century Schoolbook"/>
              </a:rPr>
              <a:t>Р у б к а   </a:t>
            </a:r>
            <a:r>
              <a:rPr b="0" lang="ru-RU" sz="1800" spc="-1" strike="noStrike">
                <a:solidFill>
                  <a:srgbClr val="0d0d0d"/>
                </a:solidFill>
                <a:latin typeface="Century Schoolbook"/>
              </a:rPr>
              <a:t>металлов – технологическая  операция, в процессе которой с помощью  </a:t>
            </a:r>
            <a:r>
              <a:rPr b="0" i="1" lang="ru-RU" sz="1800" spc="-1" strike="noStrike">
                <a:solidFill>
                  <a:srgbClr val="0d0d0d"/>
                </a:solidFill>
                <a:latin typeface="Century Schoolbook"/>
              </a:rPr>
              <a:t>зубила и молотка </a:t>
            </a:r>
            <a:r>
              <a:rPr b="0" lang="ru-RU" sz="1800" spc="-1" strike="noStrike">
                <a:solidFill>
                  <a:srgbClr val="0d0d0d"/>
                </a:solidFill>
                <a:latin typeface="Century Schoolbook"/>
              </a:rPr>
              <a:t>с заготовки  удаляют  слой  металла  или  разделяют  заготовку  на  ч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1571760" y="2714760"/>
            <a:ext cx="1357200" cy="368280"/>
          </a:xfrm>
          <a:prstGeom prst="rect">
            <a:avLst/>
          </a:prstGeom>
          <a:solidFill>
            <a:srgbClr val="acc1e8"/>
          </a:solidFill>
          <a:ln w="2556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ЗУБИ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85840" y="3286080"/>
            <a:ext cx="4248000" cy="13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8" name=""/>
          <p:cNvGraphicFramePr/>
          <p:nvPr/>
        </p:nvGraphicFramePr>
        <p:xfrm>
          <a:off x="1517760" y="3052800"/>
          <a:ext cx="6108480" cy="752400"/>
        </p:xfrm>
        <a:graphic>
          <a:graphicData uri="http://schemas.openxmlformats.org/drawingml/2006/table">
            <a:tbl>
              <a:tblPr/>
              <a:tblGrid>
                <a:gridCol w="6119280"/>
              </a:tblGrid>
              <a:tr h="752400">
                <a:tc>
                  <a:txBody>
                    <a:bodyPr lIns="3041640" rIns="3041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41640" marR="304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4572000" y="3286080"/>
            <a:ext cx="4000680" cy="13572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4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3"/>
          <a:stretch/>
        </p:blipFill>
        <p:spPr>
          <a:xfrm>
            <a:off x="3500280" y="4929120"/>
            <a:ext cx="4303800" cy="16290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0"/>
          <p:cNvSpPr/>
          <p:nvPr/>
        </p:nvSpPr>
        <p:spPr>
          <a:xfrm>
            <a:off x="1500120" y="5143680"/>
            <a:ext cx="1500120" cy="368280"/>
          </a:xfrm>
          <a:prstGeom prst="rect">
            <a:avLst/>
          </a:prstGeom>
          <a:solidFill>
            <a:srgbClr val="acc1e8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entury Schoolbook"/>
              </a:rPr>
              <a:t>МОЛО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TextBox 1"/>
          <p:cNvGrpSpPr/>
          <p:nvPr/>
        </p:nvGrpSpPr>
        <p:grpSpPr>
          <a:xfrm>
            <a:off x="469800" y="165240"/>
            <a:ext cx="4089600" cy="596880"/>
            <a:chOff x="469800" y="165240"/>
            <a:chExt cx="4089600" cy="596880"/>
          </a:xfrm>
        </p:grpSpPr>
        <p:pic>
          <p:nvPicPr>
            <p:cNvPr id="364" name="TextBox 1" descr=""/>
            <p:cNvPicPr/>
            <p:nvPr/>
          </p:nvPicPr>
          <p:blipFill>
            <a:blip r:embed="rId1"/>
            <a:stretch/>
          </p:blipFill>
          <p:spPr>
            <a:xfrm>
              <a:off x="469800" y="165240"/>
              <a:ext cx="40896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571680" y="214200"/>
              <a:ext cx="39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Century Schoolbook"/>
                </a:rPr>
                <a:t>ПРИЕМЫ  РУБКИ  МЕТАЛЛ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TextBox 2"/>
          <p:cNvSpPr/>
          <p:nvPr/>
        </p:nvSpPr>
        <p:spPr>
          <a:xfrm>
            <a:off x="428760" y="100008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Century Schoolbook"/>
              </a:rPr>
              <a:t>Расположение  работающего  при руб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500040" y="1428840"/>
            <a:ext cx="4021200" cy="278604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5286240" y="1428840"/>
            <a:ext cx="32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160b"/>
                </a:solidFill>
                <a:latin typeface="Century Schoolbook"/>
              </a:rPr>
              <a:t>Молоток  берут  правой  или  левой  рукой  за  рукоятку на  расстоянии  15…20 мм  от  её  кон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160b"/>
                </a:solidFill>
                <a:latin typeface="Century Schoolbook"/>
              </a:rPr>
              <a:t>Крепко  сжимая  рукоятку всеми  пальцами, наносят  достаточно  сильные  удары  молотком  по  центру  бойка  зуб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500040" y="428616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400"/>
                </a:solidFill>
                <a:latin typeface="Century Schoolbook"/>
              </a:rPr>
              <a:t>Виды  удара  молотком  при  руб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3"/>
          <a:stretch/>
        </p:blipFill>
        <p:spPr>
          <a:xfrm>
            <a:off x="1165320" y="4699080"/>
            <a:ext cx="2334960" cy="1944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4"/>
          <a:stretch/>
        </p:blipFill>
        <p:spPr>
          <a:xfrm>
            <a:off x="6286680" y="4143240"/>
            <a:ext cx="1285560" cy="2481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1"/>
          <p:cNvSpPr/>
          <p:nvPr/>
        </p:nvSpPr>
        <p:spPr>
          <a:xfrm>
            <a:off x="714240" y="1785960"/>
            <a:ext cx="928800" cy="1922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entury Schoolbook"/>
              </a:rPr>
              <a:t>П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entury Schoolbook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2"/>
          <p:cNvSpPr/>
          <p:nvPr/>
        </p:nvSpPr>
        <p:spPr>
          <a:xfrm>
            <a:off x="2071800" y="178596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Надежно  закрепляйте  заготовку  в  тис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2071800" y="228600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Работайте  только  исправным  инструмен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2143080" y="292896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При работе используйте защитные  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6"/>
          <p:cNvSpPr/>
          <p:nvPr/>
        </p:nvSpPr>
        <p:spPr>
          <a:xfrm>
            <a:off x="2143080" y="357192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Не проверяйте  качество  рубки  на  ощуп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7"/>
          <p:cNvSpPr/>
          <p:nvPr/>
        </p:nvSpPr>
        <p:spPr>
          <a:xfrm>
            <a:off x="2286000" y="41432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В конце рубки ослабляйте силу  уда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8"/>
          <p:cNvSpPr/>
          <p:nvPr/>
        </p:nvSpPr>
        <p:spPr>
          <a:xfrm>
            <a:off x="2500200" y="485784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Для уборки  обрубленных  частиц  металла  с  рабочего  места  используйте  щёт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9"/>
          <p:cNvSpPr/>
          <p:nvPr/>
        </p:nvSpPr>
        <p:spPr>
          <a:xfrm>
            <a:off x="500040" y="285840"/>
            <a:ext cx="8143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2557f"/>
                </a:solidFill>
                <a:latin typeface="Century Schoolbook"/>
              </a:rPr>
              <a:t>Разрубая заготовку на плите или наковальне, сначала  надрубают.  Надрубленную заготовку закрепляют в тисках и переламываю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1"/>
          <p:cNvSpPr/>
          <p:nvPr/>
        </p:nvSpPr>
        <p:spPr>
          <a:xfrm>
            <a:off x="714240" y="357120"/>
            <a:ext cx="428760" cy="82512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1500120" y="35712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6211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Какой  инструмент  применяют  при  рубке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А.  Молоток, наковальня, тис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Б.  Зубило, молот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В.  Зубило, тиски, молоток, верста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1500120" y="178596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62110"/>
              </a:buClr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Из какого материала изготовляют  зубила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А.  Из чугу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Б.  Из дюралюми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В.  Из углеродистой инструментальной  ста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4"/>
          <p:cNvSpPr/>
          <p:nvPr/>
        </p:nvSpPr>
        <p:spPr>
          <a:xfrm>
            <a:off x="1571760" y="3071880"/>
            <a:ext cx="671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62110"/>
              </a:buClr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Из каких основных частей  состоит  зубило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А.  Лезвие, хвостовик, тело, ударная ча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Б.  Рабочая часть, лезвие, стержень, удар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В.  Лезвие, рабочая часть, средняя часть,                 ударная ча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1571760" y="457200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62110"/>
              </a:buClr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Каково правило захвата  молотка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А. Взять  правой или левой рукой  за руч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Б.  Взять правой или левой рукой на расстоянии  40…50 мм от конца  рукоят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В.  Взять правой или левой рукой  на  расстоянии  15…30 мм от конца  рукоят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1"/>
          <p:cNvSpPr/>
          <p:nvPr/>
        </p:nvSpPr>
        <p:spPr>
          <a:xfrm>
            <a:off x="785880" y="2858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d01"/>
                </a:solidFill>
                <a:latin typeface="Century Schoolbook"/>
              </a:rPr>
              <a:t>П  Р  А  К  Т  И  Ч  Е  С  К  А  Я       Р  А  Б  О  Т 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2"/>
          <p:cNvSpPr/>
          <p:nvPr/>
        </p:nvSpPr>
        <p:spPr>
          <a:xfrm>
            <a:off x="1071720" y="1357200"/>
            <a:ext cx="714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entury Schoolbook"/>
              </a:rPr>
              <a:t>1.  По заданию  учителя  изготовьте  изделие – деталь, содержащие  операции  разметки, сверления,  рубки, опили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2:42:50Z</dcterms:created>
  <dc:creator>Aleksandr</dc:creator>
  <dc:description/>
  <dc:language>en-US</dc:language>
  <cp:lastModifiedBy>HP</cp:lastModifiedBy>
  <dcterms:modified xsi:type="dcterms:W3CDTF">2018-12-15T05:37:38Z</dcterms:modified>
  <cp:revision>37</cp:revision>
  <dc:subject/>
  <dc:title>Слайд 1</dc:title>
</cp:coreProperties>
</file>