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E0FB-05EA-4DEF-92D3-8A439932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3A1-8F02-4DF8-8D24-70302BC1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8E26-04AD-4637-9D1F-1B7BC2A0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ABE-D43F-4771-B7C3-5F65B939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DB78-7370-4785-AAF0-A10A5FCF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093A-CC6D-4AD9-90D6-0D694AFD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9285-9B85-487D-9229-66D292D5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32EA-D54E-48AA-A068-AD6805EC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FD8A-5CA6-4AEC-A979-61C937DC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8447-4F26-403F-8411-584AB45F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BF81-3B38-47A2-AE53-630E5075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ACC-C9B4-4125-89D6-48A8C073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19E0-330D-45E9-96A8-1807CE47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FE1B-D97B-4FF1-A7BC-59B40FAA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0BE8-66BB-41A5-9C4A-AA70635B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E98-DF70-4528-AB84-CBDBDA90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3AB9-D245-4866-8B1C-8F2C754C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30BF7-146F-410C-883C-F32AF740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B9255-E94A-4E11-B0D7-8EA952AA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796D7-37FD-482B-A981-B57A8662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A5FE1-424D-49E0-8080-BF50EFD8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47012-A6B7-4D31-B63B-EECD9815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51C-4DC4-4E70-8DB3-42D0C50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E0237-70D9-4BA6-A88C-78087D5E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EA3EC-1AB0-45C9-9503-A9C35A8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F6AB6-4F5F-4942-A0A7-0493910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08DBD-6C79-4248-A567-09D24547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93356-C101-43B3-8A70-C6BC5A9A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8CFC8-226E-401C-B019-D0263ED3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CA808E-9918-4FC9-9C45-47E074E0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DEA7-F429-48F8-BDDD-83771AA4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0CD2-AAE8-488F-A4E7-C65EE5CB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D920-B31E-42CA-A42A-CB147A59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6A8-201F-4551-9790-7B8CD9D2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DB942-D9B0-4B44-9C68-BA9917CD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DCE2-CDE5-4AE6-8418-14EE840C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6B65-48B4-4D47-979D-C2D8441A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9C5C-9189-4499-9F7A-860E41B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BF08-F0DC-4C05-B07D-919BBEA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9B4F-11F7-4F75-8B9A-9B35BB69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3BCCA-4A47-431D-B521-23E94119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C4BA-534F-4424-A4F8-1F9E8C3E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6419-9F49-4485-9971-83E341EF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E9FEF-FBA8-449D-9174-9C74FB7A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E5DE-E0DE-42D2-9C17-C181D5D6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C2267-0963-4C42-8F6B-2ADD293B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01447-C63B-4432-9C9F-04E48F12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53016-2186-4444-BCCC-B539068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E4A18-733E-4089-8D40-FB2AFD6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18CDF-E8A8-4E93-898A-A685F5E8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060779-91DF-48D3-AA21-B203C544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23723-1554-452F-9E9B-A68D7759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5DD26-EBCB-4B47-9903-6D7FD16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BEE4A-70A4-45B5-B743-E7C46B2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1C86C2-2DAD-47C2-B817-50628F81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9B2-6D82-4678-ACEE-7E2D606F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628B8-FE6D-45AE-ABDE-E9D498F4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8B681-0C78-4394-9B74-EA519E14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0F5E7-FA34-4FF9-AEFA-208E54D7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01D69-3D2D-46ED-93B6-6911D7D4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24F02-D8F9-4FD9-BF61-1C05AFD8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FAD54B-2C0F-4297-A1F8-1C17BCD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A66B4-1825-44DA-85B3-D1A70D1F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B6C7E-E41B-4656-96CC-07E1CCA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360B9-2DBA-4702-A2D1-EACFE5CC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5A46F-B2FD-4277-B1F1-55CDF678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F4E-0C33-4797-ACFA-70DC0B9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821E37-8461-4CB9-8834-809F8678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121F9-8765-4B0B-A2E3-33694CC6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65FE5-51DB-41C9-BD1E-5E69C7DE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8677F-F8D6-4BFD-8E9C-D7C400E6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833D2-3638-4844-BCD5-59748FF7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5AABE-7D5B-4189-8690-A7295242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367DF-C73D-4E25-851F-7AC1801C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C4FF6-F70A-4C8F-9210-CE344FB2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11DE14-2C2F-4F48-9AE8-08DCB554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34006-6106-40CC-8D8F-5FB1D082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DC0-6AF2-4B21-98F0-D9D1B04C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665F4-9BA0-47C1-892D-E7560B41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119FC8-4BA5-42F8-8269-288CF8B8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1C714-9E94-4668-8F54-3C3715B3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0D1B1C-860F-48C5-8331-0CCA0B17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9D4A6-A0E7-4226-96E3-281108EE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6CC-E36E-4829-B85B-F8DD055D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E6EB-9ACD-4864-9176-0C6A2210A5A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BC50-2C37-4F82-AD6E-8788B690F4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C341-FD2C-4312-9CDE-D703699F764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A07B-00EB-47AD-9629-41E7B20E2D0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5D86-42F6-4E17-A288-0E7C53A8B3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943-4185-4285-90BB-BCCA6AA42F8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856"/>
            </a:gs>
            <a:gs pos="100000">
              <a:srgbClr val="c3c5c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CD76-B3B2-4624-AA03-50B90D8BA70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3"/>
          <p:cNvSpPr/>
          <p:nvPr/>
        </p:nvSpPr>
        <p:spPr>
          <a:xfrm>
            <a:off x="4214880" y="50004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6 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2000160" y="2286000"/>
            <a:ext cx="64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44583"/>
                </a:solidFill>
                <a:latin typeface="Comic Sans MS"/>
              </a:rPr>
              <a:t>Р У Б К 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44583"/>
                </a:solidFill>
                <a:latin typeface="Comic Sans MS"/>
              </a:rPr>
              <a:t>М  Е  Т  А  Л  Л  О  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2340000" y="519120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Составил: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учитель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АОУ «СОШ №4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стылев Д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"/>
          <p:cNvSpPr/>
          <p:nvPr/>
        </p:nvSpPr>
        <p:spPr>
          <a:xfrm>
            <a:off x="1000080" y="35712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Century Schoolbook"/>
              </a:rPr>
              <a:t>Рубка металлов и применяемый рабочий инструм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2000160" y="857160"/>
            <a:ext cx="4786560" cy="1465560"/>
          </a:xfrm>
          <a:prstGeom prst="rect">
            <a:avLst/>
          </a:prstGeom>
          <a:solidFill>
            <a:srgbClr val="fff39d"/>
          </a:solidFill>
          <a:ln w="9360">
            <a:solidFill>
              <a:srgbClr val="feb6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Century Schoolbook"/>
              </a:rPr>
              <a:t>Р у б к а   </a:t>
            </a: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металлов – технологическая  операция, в процессе которой с помощью  </a:t>
            </a:r>
            <a:r>
              <a:rPr b="0" i="1" lang="ru-RU" sz="1800" spc="-1" strike="noStrike">
                <a:solidFill>
                  <a:srgbClr val="0d0d0d"/>
                </a:solidFill>
                <a:latin typeface="Century Schoolbook"/>
              </a:rPr>
              <a:t>зубила и молотка </a:t>
            </a: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с заготовки  удаляют  слой  металла  или  разделяют  заготовку  на  ч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1571760" y="2714760"/>
            <a:ext cx="1357200" cy="368280"/>
          </a:xfrm>
          <a:prstGeom prst="rect">
            <a:avLst/>
          </a:prstGeom>
          <a:solidFill>
            <a:srgbClr val="acc1e8"/>
          </a:solidFill>
          <a:ln w="25560">
            <a:solidFill>
              <a:srgbClr val="b32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ЗУБИ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85840" y="3286080"/>
            <a:ext cx="4248000" cy="13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8" name=""/>
          <p:cNvGraphicFramePr/>
          <p:nvPr/>
        </p:nvGraphicFramePr>
        <p:xfrm>
          <a:off x="1517760" y="3052800"/>
          <a:ext cx="6108480" cy="752400"/>
        </p:xfrm>
        <a:graphic>
          <a:graphicData uri="http://schemas.openxmlformats.org/drawingml/2006/table">
            <a:tbl>
              <a:tblPr/>
              <a:tblGrid>
                <a:gridCol w="6119280"/>
              </a:tblGrid>
              <a:tr h="752400">
                <a:tc>
                  <a:txBody>
                    <a:bodyPr lIns="3041640" rIns="3041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41640" marR="304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572000" y="3286080"/>
            <a:ext cx="4000680" cy="13572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4481640" y="-4582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3"/>
          <a:stretch/>
        </p:blipFill>
        <p:spPr>
          <a:xfrm>
            <a:off x="3500280" y="4929120"/>
            <a:ext cx="4303800" cy="16290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0"/>
          <p:cNvSpPr/>
          <p:nvPr/>
        </p:nvSpPr>
        <p:spPr>
          <a:xfrm>
            <a:off x="1500120" y="5143680"/>
            <a:ext cx="1500120" cy="368280"/>
          </a:xfrm>
          <a:prstGeom prst="rect">
            <a:avLst/>
          </a:prstGeom>
          <a:solidFill>
            <a:srgbClr val="acc1e8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МОЛОТ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TextBox 1"/>
          <p:cNvGrpSpPr/>
          <p:nvPr/>
        </p:nvGrpSpPr>
        <p:grpSpPr>
          <a:xfrm>
            <a:off x="469800" y="165240"/>
            <a:ext cx="4089600" cy="596880"/>
            <a:chOff x="469800" y="165240"/>
            <a:chExt cx="4089600" cy="596880"/>
          </a:xfrm>
        </p:grpSpPr>
        <p:pic>
          <p:nvPicPr>
            <p:cNvPr id="364" name="TextBox 1" descr=""/>
            <p:cNvPicPr/>
            <p:nvPr/>
          </p:nvPicPr>
          <p:blipFill>
            <a:blip r:embed="rId1"/>
            <a:stretch/>
          </p:blipFill>
          <p:spPr>
            <a:xfrm>
              <a:off x="469800" y="165240"/>
              <a:ext cx="40896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71680" y="214200"/>
              <a:ext cx="39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d0d0d"/>
                  </a:solidFill>
                  <a:latin typeface="Century Schoolbook"/>
                </a:rPr>
                <a:t>ПРИЕМЫ  РУБКИ  МЕТАЛЛ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TextBox 2"/>
          <p:cNvSpPr/>
          <p:nvPr/>
        </p:nvSpPr>
        <p:spPr>
          <a:xfrm>
            <a:off x="428760" y="100008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Century Schoolbook"/>
              </a:rPr>
              <a:t>Расположение  работающего  при руб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4021200" cy="27860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5286240" y="1428840"/>
            <a:ext cx="32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Century Schoolbook"/>
              </a:rPr>
              <a:t>Молоток  берут  правой  или  левой  рукой  за  рукоятку на  расстоянии  15…20 мм  от  её  ко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a160b"/>
                </a:solidFill>
                <a:latin typeface="Century Schoolbook"/>
              </a:rPr>
              <a:t>Крепко  сжимая  рукоятку всеми  пальцами, наносят  достаточно  сильные  удары  молотком  по  центру  бойка  зуби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500040" y="428616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400"/>
                </a:solidFill>
                <a:latin typeface="Century Schoolbook"/>
              </a:rPr>
              <a:t>Виды  удара  молотком  при  руб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1165320" y="4699080"/>
            <a:ext cx="2334960" cy="1944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4"/>
          <a:stretch/>
        </p:blipFill>
        <p:spPr>
          <a:xfrm>
            <a:off x="6286680" y="4143240"/>
            <a:ext cx="1285560" cy="248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714240" y="1785960"/>
            <a:ext cx="928800" cy="192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Schoolbook"/>
              </a:rPr>
              <a:t>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entury Schoolbook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>
            <a:off x="2071800" y="178596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Надежно  закрепляйте  заготовку  в  тис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2071800" y="2286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Работайте  только  исправным  инструмен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2143080" y="292896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При работе используйте защитные  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6"/>
          <p:cNvSpPr/>
          <p:nvPr/>
        </p:nvSpPr>
        <p:spPr>
          <a:xfrm>
            <a:off x="2143080" y="357192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Не проверяйте  качество  рубки  на  ощуп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7"/>
          <p:cNvSpPr/>
          <p:nvPr/>
        </p:nvSpPr>
        <p:spPr>
          <a:xfrm>
            <a:off x="2286000" y="414324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В конце рубки ослабляйте силу  уда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2500200" y="48578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Century Schoolbook"/>
              </a:rPr>
              <a:t>Для уборки  обрубленных  частиц  металла  с  рабочего  места  используйте  щёт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9"/>
          <p:cNvSpPr/>
          <p:nvPr/>
        </p:nvSpPr>
        <p:spPr>
          <a:xfrm>
            <a:off x="500040" y="285840"/>
            <a:ext cx="8143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557f"/>
                </a:solidFill>
                <a:latin typeface="Century Schoolbook"/>
              </a:rPr>
              <a:t>Разрубая заготовку на плите или наковальне, сначала  надрубают.  Надрубленную заготовку закрепляют в тисках и переламыва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714240" y="357120"/>
            <a:ext cx="428760" cy="82512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500120" y="35712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Какой  инструмент  применяют  при  рубке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А.  Молоток, наковальня, ти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Б.  Зубило, моло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В.  Зубило, тиски, молоток, верста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1500120" y="178596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Из какого материала изготовляют  зубила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А.  Из чугу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Б.  Из дюралюми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В.  Из углеродистой инструментальной  ста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1571760" y="3071880"/>
            <a:ext cx="671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Из каких основных частей  состоит  зубило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А.  Лезвие, хвостовик, тело, ударная ча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Б.  Рабочая часть, лезвие, стержень, удар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В.  Лезвие, рабочая часть, средняя часть,                 ударная ча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1571760" y="45720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62110"/>
              </a:buClr>
              <a:buFont typeface="Century Schoolboo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Каково правило захвата  молотка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А. Взять  правой или левой рукой  за руч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Б.  Взять правой или левой рукой на расстоянии  40…50 мм от конца  рукоя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                  </a:t>
            </a:r>
            <a:r>
              <a:rPr b="0" lang="ru-RU" sz="1800" spc="-1" strike="noStrike">
                <a:solidFill>
                  <a:srgbClr val="862110"/>
                </a:solidFill>
                <a:latin typeface="Century Schoolbook"/>
              </a:rPr>
              <a:t>В.  Взять правой или левой рукой  на  расстоянии  15…30 мм от конца  рукоя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785880" y="2858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a3d01"/>
                </a:solidFill>
                <a:latin typeface="Century Schoolbook"/>
              </a:rPr>
              <a:t>П  Р  А  К  Т  И  Ч  Е  С  К  А  Я       Р  А  Б  О  Т 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2"/>
          <p:cNvSpPr/>
          <p:nvPr/>
        </p:nvSpPr>
        <p:spPr>
          <a:xfrm>
            <a:off x="1071720" y="1357200"/>
            <a:ext cx="71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entury Schoolbook"/>
              </a:rPr>
              <a:t>1.  По заданию  учителя  изготовьте  изделие – деталь, содержащие  операции  разметки, сверления,  рубки, опили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2:42:50Z</dcterms:created>
  <dc:creator>Aleksandr</dc:creator>
  <dc:description/>
  <dc:language>en-US</dc:language>
  <cp:lastModifiedBy>HP</cp:lastModifiedBy>
  <dcterms:modified xsi:type="dcterms:W3CDTF">2018-12-15T05:37:38Z</dcterms:modified>
  <cp:revision>37</cp:revision>
  <dc:subject/>
  <dc:title>Слайд 1</dc:title>
</cp:coreProperties>
</file>