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11.gif" ContentType="image/gif"/>
  <Override PartName="/ppt/media/image9.wmf" ContentType="image/x-wmf"/>
  <Override PartName="/ppt/media/image14.png" ContentType="image/png"/>
  <Override PartName="/ppt/media/image6.gif" ContentType="image/gif"/>
  <Override PartName="/ppt/media/image4.gif" ContentType="image/gif"/>
  <Override PartName="/ppt/media/image10.gif" ContentType="image/gif"/>
  <Override PartName="/ppt/media/image13.png" ContentType="image/png"/>
  <Override PartName="/ppt/media/image21.gif" ContentType="image/gif"/>
  <Override PartName="/ppt/media/image19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7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22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57C-C6E9-46B3-BE1E-46D2BED5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298-4786-486B-BCFB-F6D0E8B4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231-8E87-45CE-BD1B-53241C4C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ECA-6325-40EE-8354-9B5E0C97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D89E-5761-4E1E-B3B1-6EBBFCBC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DD8A-D9F0-4041-A546-E8016B0E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9E64-E7C8-447B-8790-7DC88E49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BFB8-FF2B-42C2-9719-95BF2721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DEDD-AC6A-48DE-9237-32BFD012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D32C-85BE-4524-81F0-A893CFA6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C601-7A7C-431B-8D40-E81AFFEE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16F-D584-41EB-B329-6953AEC2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8430-E91F-4501-A5CF-8E679405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1831-423C-4FC8-942C-A08EE47B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6280-FB5B-4BBA-8C30-85894AF2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7626-E1A0-4A12-B6D5-CB8A3589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5374-5D9F-4D1A-83A0-3DD60C29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BA79-00BB-450F-9B1D-764B4F85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B30D-025A-401D-AF9C-23DCA9EF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E356-019D-4CF9-B4B6-E1EB8843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0C4C9-9A77-4535-968E-A76212A0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23EC-0BFF-4705-B037-61490739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755-72F2-4B44-BA27-15BCD4A0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1683-7A2A-48B8-A764-103F2262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75DF-79A2-4472-8FCC-91B149F6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7B8D-3A04-4ECC-800A-BE7DD97E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58B2-A5F4-4EBD-82E2-90DB9F2A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28FD-0942-44F5-BFF9-C2D6B29B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97D6-73B2-4D66-9AA6-05EEF76A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1434F-9AAC-4EB5-BBBD-6D0AF9C3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F7EA2-E6F0-422A-82A3-9B8A74AB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B5E5-E7E4-4433-8AB6-9CFE729E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F0903-7C1A-4EDC-A771-EA3B84B9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31D-6D50-43D7-9156-FFF3E3AA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02288-ED28-48E3-88D2-CAB1E19E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BC067-28F7-4CED-AACC-1905864A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98E3C-A4AF-413C-AEFE-D89FF8EA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8F6CB-F5C7-4B6D-A43F-AA7F1F67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0BE27-0F92-4B96-AEF7-7B01CDD9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54E48-5BC9-4968-80BA-AF46ABF8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1C2F-A7AA-4E48-9957-4650B25A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4D726-B946-401F-82C3-B4BE0B57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AD65-7A9E-4FEA-B0E9-C7FC31C7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A0F-28A8-4527-983A-0F8BFA5D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281-639D-436B-962E-0B74205B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5FF-E4C2-41BB-8168-3EB88F07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0B4-72D9-4A28-A9A6-94FEED1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8DD-DD69-482F-919A-E3E85228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F9008-6AB2-486C-8310-8EB96556744E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60B1F-DF6A-4C48-A48F-C3A4C73124F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276F2-2158-42A4-972E-44C537294E8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AA850-28BD-49C8-8D5B-D3DEEC705E48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3.xml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5"/>
          <p:cNvSpPr/>
          <p:nvPr/>
        </p:nvSpPr>
        <p:spPr>
          <a:xfrm>
            <a:off x="1676520" y="91440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WordArt 7"/>
          <p:cNvSpPr txBox="1"/>
          <p:nvPr/>
        </p:nvSpPr>
        <p:spPr>
          <a:xfrm>
            <a:off x="2514600" y="68580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игр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4"/>
          <p:cNvSpPr txBox="1"/>
          <p:nvPr/>
        </p:nvSpPr>
        <p:spPr>
          <a:xfrm>
            <a:off x="3505320" y="304920"/>
            <a:ext cx="3429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Привал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9" name="Text Box 14"/>
          <p:cNvSpPr/>
          <p:nvPr/>
        </p:nvSpPr>
        <p:spPr>
          <a:xfrm>
            <a:off x="2438280" y="51814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1752480" y="1219320"/>
            <a:ext cx="739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 решили отдохнуть и нарвать цветов. Но цветы на  ней необыкновенные. Каждый лепесток цветка – это задание на  сложение, вычитание, умножение и деление.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0" y="5334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21" descr="прив"/>
          <p:cNvPicPr/>
          <p:nvPr/>
        </p:nvPicPr>
        <p:blipFill>
          <a:blip r:embed="rId1"/>
          <a:stretch/>
        </p:blipFill>
        <p:spPr>
          <a:xfrm>
            <a:off x="0" y="0"/>
            <a:ext cx="1758960" cy="228600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22"/>
          <p:cNvSpPr/>
          <p:nvPr/>
        </p:nvSpPr>
        <p:spPr>
          <a:xfrm>
            <a:off x="8839080" y="5334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Рисунок 2" descr=""/>
          <p:cNvPicPr/>
          <p:nvPr/>
        </p:nvPicPr>
        <p:blipFill>
          <a:blip r:embed="rId2"/>
          <a:stretch/>
        </p:blipFill>
        <p:spPr>
          <a:xfrm>
            <a:off x="1295280" y="1631880"/>
            <a:ext cx="96868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4"/>
          <p:cNvSpPr txBox="1"/>
          <p:nvPr/>
        </p:nvSpPr>
        <p:spPr>
          <a:xfrm>
            <a:off x="2209680" y="533520"/>
            <a:ext cx="457200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ьные ответ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2209680" y="13716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этапу «Проверить местность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Picture 13" descr="car32"/>
          <p:cNvPicPr/>
          <p:nvPr/>
        </p:nvPicPr>
        <p:blipFill>
          <a:blip r:embed="rId1"/>
          <a:stretch/>
        </p:blipFill>
        <p:spPr>
          <a:xfrm>
            <a:off x="2514600" y="5181480"/>
            <a:ext cx="5543640" cy="997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4"/>
          <p:cNvSpPr/>
          <p:nvPr/>
        </p:nvSpPr>
        <p:spPr>
          <a:xfrm>
            <a:off x="8763120" y="54100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5999"/>
                </a:moveTo>
                <a:lnTo>
                  <a:pt x="13376" y="8610"/>
                </a:ln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lnTo>
                  <a:pt x="17763" y="12962"/>
                </a:lnTo>
                <a:lnTo>
                  <a:pt x="16109" y="12962"/>
                </a:lnTo>
                <a:lnTo>
                  <a:pt x="16109" y="20151"/>
                </a:lnTo>
                <a:lnTo>
                  <a:pt x="5491" y="20151"/>
                </a:lnTo>
                <a:lnTo>
                  <a:pt x="5491" y="12962"/>
                </a:lnTo>
                <a:lnTo>
                  <a:pt x="3837" y="12962"/>
                </a:lnTo>
                <a:close/>
              </a:path>
              <a:path fill="darkenLess" w="21600" h="25924">
                <a:moveTo>
                  <a:pt x="13376" y="8610"/>
                </a:move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close/>
              </a:path>
              <a:path fill="darkenLess" w="21600" h="25924">
                <a:moveTo>
                  <a:pt x="9877" y="16461"/>
                </a:moveTo>
                <a:lnTo>
                  <a:pt x="11723" y="16461"/>
                </a:lnTo>
                <a:lnTo>
                  <a:pt x="11723" y="20151"/>
                </a:lnTo>
                <a:lnTo>
                  <a:pt x="16109" y="20151"/>
                </a:lnTo>
                <a:lnTo>
                  <a:pt x="16109" y="12962"/>
                </a:lnTo>
                <a:lnTo>
                  <a:pt x="5491" y="12962"/>
                </a:lnTo>
                <a:lnTo>
                  <a:pt x="5491" y="20151"/>
                </a:lnTo>
                <a:lnTo>
                  <a:pt x="9877" y="2015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TextBox 1"/>
          <p:cNvSpPr/>
          <p:nvPr/>
        </p:nvSpPr>
        <p:spPr>
          <a:xfrm>
            <a:off x="4360320" y="230364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экипаж: 989; 7100; 6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2984760" y="326376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экипаж: 5700; 14000; 7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1232640" y="418464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экипаж: 4300; 8000; 4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6"/>
          <p:cNvSpPr txBox="1"/>
          <p:nvPr/>
        </p:nvSpPr>
        <p:spPr>
          <a:xfrm>
            <a:off x="1905120" y="60948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Правильные отве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1600200" y="1752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этапу «Гонка по пересеченной местности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4" name="Picture 20" descr="car56"/>
          <p:cNvPicPr/>
          <p:nvPr/>
        </p:nvPicPr>
        <p:blipFill>
          <a:blip r:embed="rId1"/>
          <a:stretch/>
        </p:blipFill>
        <p:spPr>
          <a:xfrm>
            <a:off x="533520" y="51814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1" descr="233e253a3f4244a35093d06590a73dae"/>
          <p:cNvPicPr/>
          <p:nvPr/>
        </p:nvPicPr>
        <p:blipFill>
          <a:blip r:embed="rId2"/>
          <a:stretch/>
        </p:blipFill>
        <p:spPr>
          <a:xfrm>
            <a:off x="5943600" y="31240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22"/>
          <p:cNvSpPr/>
          <p:nvPr/>
        </p:nvSpPr>
        <p:spPr>
          <a:xfrm>
            <a:off x="8686800" y="5105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7" name="Picture 27" descr=""/>
          <p:cNvPicPr/>
          <p:nvPr/>
        </p:nvPicPr>
        <p:blipFill>
          <a:blip r:embed="rId3"/>
          <a:stretch/>
        </p:blipFill>
        <p:spPr>
          <a:xfrm>
            <a:off x="871560" y="2540160"/>
            <a:ext cx="396720" cy="39024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"/>
          <p:cNvSpPr/>
          <p:nvPr/>
        </p:nvSpPr>
        <p:spPr>
          <a:xfrm>
            <a:off x="1445760" y="25210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28" descr=""/>
          <p:cNvPicPr/>
          <p:nvPr/>
        </p:nvPicPr>
        <p:blipFill>
          <a:blip r:embed="rId4"/>
          <a:stretch/>
        </p:blipFill>
        <p:spPr>
          <a:xfrm>
            <a:off x="2319480" y="3303720"/>
            <a:ext cx="390240" cy="39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9" descr=""/>
          <p:cNvPicPr/>
          <p:nvPr/>
        </p:nvPicPr>
        <p:blipFill>
          <a:blip r:embed="rId5"/>
          <a:stretch/>
        </p:blipFill>
        <p:spPr>
          <a:xfrm>
            <a:off x="3332160" y="426240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0" descr=""/>
          <p:cNvPicPr/>
          <p:nvPr/>
        </p:nvPicPr>
        <p:blipFill>
          <a:blip r:embed="rId6"/>
          <a:stretch/>
        </p:blipFill>
        <p:spPr>
          <a:xfrm>
            <a:off x="4468680" y="5205240"/>
            <a:ext cx="397080" cy="3906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1" descr=""/>
          <p:cNvPicPr/>
          <p:nvPr/>
        </p:nvPicPr>
        <p:blipFill>
          <a:blip r:embed="rId7"/>
          <a:stretch/>
        </p:blipFill>
        <p:spPr>
          <a:xfrm>
            <a:off x="5943600" y="6004080"/>
            <a:ext cx="390600" cy="3967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 flipH="1">
            <a:off x="2859120" y="326880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TextBox 6"/>
          <p:cNvSpPr/>
          <p:nvPr/>
        </p:nvSpPr>
        <p:spPr>
          <a:xfrm>
            <a:off x="3812040" y="42116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7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5029200" y="5156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6" name="TextBox 8"/>
          <p:cNvSpPr/>
          <p:nvPr/>
        </p:nvSpPr>
        <p:spPr>
          <a:xfrm>
            <a:off x="6426360" y="601812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4"/>
          <p:cNvSpPr txBox="1"/>
          <p:nvPr/>
        </p:nvSpPr>
        <p:spPr>
          <a:xfrm>
            <a:off x="2971800" y="457200"/>
            <a:ext cx="3200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Финиш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838080" y="175248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успешно пересечь линию финиша, каждому экипажу нужно вычисли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09480" y="2819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1447920" y="3581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3657600" y="411480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2286000" y="4343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AutoShape 17"/>
          <p:cNvSpPr/>
          <p:nvPr/>
        </p:nvSpPr>
        <p:spPr>
          <a:xfrm>
            <a:off x="0" y="5105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1696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24">
                <a:moveTo>
                  <a:pt x="11905" y="16444"/>
                </a:moveTo>
                <a:lnTo>
                  <a:pt x="11905" y="14485"/>
                </a:lnTo>
                <a:cubicBezTo>
                  <a:pt x="11905" y="13658"/>
                  <a:pt x="12236" y="12962"/>
                  <a:pt x="12837" y="12962"/>
                </a:cubicBezTo>
                <a:cubicBezTo>
                  <a:pt x="13968" y="12962"/>
                  <a:pt x="14865" y="11596"/>
                  <a:pt x="14865" y="10011"/>
                </a:cubicBezTo>
                <a:cubicBezTo>
                  <a:pt x="14865" y="7696"/>
                  <a:pt x="13011" y="5956"/>
                  <a:pt x="10800" y="5956"/>
                </a:cubicBezTo>
                <a:cubicBezTo>
                  <a:pt x="8589" y="5956"/>
                  <a:pt x="6918" y="7696"/>
                  <a:pt x="6918" y="10011"/>
                </a:cubicBezTo>
                <a:lnTo>
                  <a:pt x="8772" y="10011"/>
                </a:lnTo>
                <a:cubicBezTo>
                  <a:pt x="8772" y="8871"/>
                  <a:pt x="9695" y="7984"/>
                  <a:pt x="10800" y="7984"/>
                </a:cubicBezTo>
                <a:cubicBezTo>
                  <a:pt x="11905" y="7984"/>
                  <a:pt x="12837" y="8871"/>
                  <a:pt x="12837" y="10011"/>
                </a:cubicBezTo>
                <a:cubicBezTo>
                  <a:pt x="12837" y="10751"/>
                  <a:pt x="12367" y="11482"/>
                  <a:pt x="11905" y="11482"/>
                </a:cubicBezTo>
                <a:cubicBezTo>
                  <a:pt x="10800" y="11482"/>
                  <a:pt x="9695" y="12962"/>
                  <a:pt x="9695" y="14485"/>
                </a:cubicBezTo>
                <a:lnTo>
                  <a:pt x="9695" y="16444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0" descr="c208767a8fe29bd5691ee960da4e9c69"/>
          <p:cNvPicPr/>
          <p:nvPr/>
        </p:nvPicPr>
        <p:blipFill>
          <a:blip r:embed="rId1"/>
          <a:stretch/>
        </p:blipFill>
        <p:spPr>
          <a:xfrm>
            <a:off x="6019920" y="2590920"/>
            <a:ext cx="2543040" cy="1946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1" descr="салют"/>
          <p:cNvPicPr/>
          <p:nvPr/>
        </p:nvPicPr>
        <p:blipFill>
          <a:blip r:embed="rId2"/>
          <a:stretch/>
        </p:blipFill>
        <p:spPr>
          <a:xfrm>
            <a:off x="990720" y="3808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22"/>
          <p:cNvSpPr/>
          <p:nvPr/>
        </p:nvSpPr>
        <p:spPr>
          <a:xfrm>
            <a:off x="8763120" y="5105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5999"/>
                </a:moveTo>
                <a:lnTo>
                  <a:pt x="13376" y="8610"/>
                </a:ln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lnTo>
                  <a:pt x="17763" y="12962"/>
                </a:lnTo>
                <a:lnTo>
                  <a:pt x="16109" y="12962"/>
                </a:lnTo>
                <a:lnTo>
                  <a:pt x="16109" y="20151"/>
                </a:lnTo>
                <a:lnTo>
                  <a:pt x="5491" y="20151"/>
                </a:lnTo>
                <a:lnTo>
                  <a:pt x="5491" y="12962"/>
                </a:lnTo>
                <a:lnTo>
                  <a:pt x="3837" y="12962"/>
                </a:lnTo>
                <a:close/>
              </a:path>
              <a:path fill="darkenLess" w="21600" h="25924">
                <a:moveTo>
                  <a:pt x="13376" y="8610"/>
                </a:move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close/>
              </a:path>
              <a:path fill="darkenLess" w="21600" h="25924">
                <a:moveTo>
                  <a:pt x="9877" y="16461"/>
                </a:moveTo>
                <a:lnTo>
                  <a:pt x="11723" y="16461"/>
                </a:lnTo>
                <a:lnTo>
                  <a:pt x="11723" y="20151"/>
                </a:lnTo>
                <a:lnTo>
                  <a:pt x="16109" y="20151"/>
                </a:lnTo>
                <a:lnTo>
                  <a:pt x="16109" y="12962"/>
                </a:lnTo>
                <a:lnTo>
                  <a:pt x="5491" y="12962"/>
                </a:lnTo>
                <a:lnTo>
                  <a:pt x="5491" y="20151"/>
                </a:lnTo>
                <a:lnTo>
                  <a:pt x="9877" y="2015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1900440" y="27748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2684880" y="357840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3548520" y="436248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1"/>
          <p:cNvSpPr/>
          <p:nvPr/>
        </p:nvSpPr>
        <p:spPr>
          <a:xfrm>
            <a:off x="1688760" y="1219320"/>
            <a:ext cx="576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ведение итогов урока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TextBox 2"/>
          <p:cNvSpPr/>
          <p:nvPr/>
        </p:nvSpPr>
        <p:spPr>
          <a:xfrm>
            <a:off x="1711800" y="290520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шнее задание: №189; №190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4"/>
          <p:cNvSpPr txBox="1"/>
          <p:nvPr/>
        </p:nvSpPr>
        <p:spPr>
          <a:xfrm>
            <a:off x="1828800" y="6094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Правильные ответы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600200" y="16002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этапу  «Финиш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838080" y="2362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476520" y="2362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609588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7" name="Picture 17" descr="40071528e96a7af884ad4c41ed185e73"/>
          <p:cNvPicPr/>
          <p:nvPr/>
        </p:nvPicPr>
        <p:blipFill>
          <a:blip r:embed="rId1"/>
          <a:stretch/>
        </p:blipFill>
        <p:spPr>
          <a:xfrm>
            <a:off x="2971800" y="4267080"/>
            <a:ext cx="2533680" cy="172728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8"/>
          <p:cNvSpPr/>
          <p:nvPr/>
        </p:nvSpPr>
        <p:spPr>
          <a:xfrm>
            <a:off x="8763120" y="5029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5999"/>
                </a:moveTo>
                <a:lnTo>
                  <a:pt x="13376" y="8610"/>
                </a:ln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lnTo>
                  <a:pt x="17763" y="12962"/>
                </a:lnTo>
                <a:lnTo>
                  <a:pt x="16109" y="12962"/>
                </a:lnTo>
                <a:lnTo>
                  <a:pt x="16109" y="20151"/>
                </a:lnTo>
                <a:lnTo>
                  <a:pt x="5491" y="20151"/>
                </a:lnTo>
                <a:lnTo>
                  <a:pt x="5491" y="12962"/>
                </a:lnTo>
                <a:lnTo>
                  <a:pt x="3837" y="12962"/>
                </a:lnTo>
                <a:close/>
              </a:path>
              <a:path fill="darkenLess" w="21600" h="25924">
                <a:moveTo>
                  <a:pt x="13376" y="8610"/>
                </a:move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close/>
              </a:path>
              <a:path fill="darkenLess" w="21600" h="25924">
                <a:moveTo>
                  <a:pt x="9877" y="16461"/>
                </a:moveTo>
                <a:lnTo>
                  <a:pt x="11723" y="16461"/>
                </a:lnTo>
                <a:lnTo>
                  <a:pt x="11723" y="20151"/>
                </a:lnTo>
                <a:lnTo>
                  <a:pt x="16109" y="20151"/>
                </a:lnTo>
                <a:lnTo>
                  <a:pt x="16109" y="12962"/>
                </a:lnTo>
                <a:lnTo>
                  <a:pt x="5491" y="12962"/>
                </a:lnTo>
                <a:lnTo>
                  <a:pt x="5491" y="20151"/>
                </a:lnTo>
                <a:lnTo>
                  <a:pt x="9877" y="2015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1171440" y="3141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331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TextBox 3"/>
          <p:cNvSpPr/>
          <p:nvPr/>
        </p:nvSpPr>
        <p:spPr>
          <a:xfrm>
            <a:off x="3801960" y="3141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28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6203880" y="3141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97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WordArt 4"/>
          <p:cNvSpPr txBox="1"/>
          <p:nvPr/>
        </p:nvSpPr>
        <p:spPr>
          <a:xfrm>
            <a:off x="2743200" y="3808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Правильные ответы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42900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этапу  «Привал»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33" descr="man02"/>
          <p:cNvPicPr/>
          <p:nvPr/>
        </p:nvPicPr>
        <p:blipFill>
          <a:blip r:embed="rId1"/>
          <a:stretch/>
        </p:blipFill>
        <p:spPr>
          <a:xfrm>
            <a:off x="380880" y="304920"/>
            <a:ext cx="1828800" cy="159048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34"/>
          <p:cNvSpPr/>
          <p:nvPr/>
        </p:nvSpPr>
        <p:spPr>
          <a:xfrm>
            <a:off x="8763120" y="52578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1800000" y="3166920"/>
            <a:ext cx="49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555; 1166; 10800; 216; 108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4"/>
          <p:cNvSpPr txBox="1"/>
          <p:nvPr/>
        </p:nvSpPr>
        <p:spPr>
          <a:xfrm>
            <a:off x="1981080" y="609480"/>
            <a:ext cx="53722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Правильные отве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600200" y="1447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этапу «Составить карту гонки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127160" y="2093760"/>
            <a:ext cx="62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0" name="Picture 16" descr="1str1"/>
          <p:cNvPicPr/>
          <p:nvPr/>
        </p:nvPicPr>
        <p:blipFill>
          <a:blip r:embed="rId1"/>
          <a:stretch/>
        </p:blipFill>
        <p:spPr>
          <a:xfrm>
            <a:off x="4038480" y="21337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8"/>
          <p:cNvSpPr/>
          <p:nvPr/>
        </p:nvSpPr>
        <p:spPr>
          <a:xfrm>
            <a:off x="876312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4052880" y="3595680"/>
            <a:ext cx="12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=4032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=4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=1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6"/>
          <p:cNvSpPr txBox="1"/>
          <p:nvPr/>
        </p:nvSpPr>
        <p:spPr>
          <a:xfrm>
            <a:off x="1447920" y="1066680"/>
            <a:ext cx="6324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Picture 9" descr="j0216858"/>
          <p:cNvPicPr/>
          <p:nvPr/>
        </p:nvPicPr>
        <p:blipFill>
          <a:blip r:embed="rId1"/>
          <a:stretch/>
        </p:blipFill>
        <p:spPr>
          <a:xfrm>
            <a:off x="1828800" y="3048120"/>
            <a:ext cx="4419720" cy="201456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" descr=""/>
          <p:cNvPicPr/>
          <p:nvPr/>
        </p:nvPicPr>
        <p:blipFill>
          <a:blip r:embed="rId2"/>
          <a:stretch/>
        </p:blipFill>
        <p:spPr>
          <a:xfrm>
            <a:off x="639720" y="1006560"/>
            <a:ext cx="786456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2209680" y="685800"/>
            <a:ext cx="4953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+mn-lt"/>
              </a:rPr>
              <a:t>Девиз гон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+mn-lt"/>
              <a:ea typeface="+mn-lt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143000" y="2819520"/>
            <a:ext cx="6858000" cy="26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Торопись - медленно!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5"/>
          <p:cNvSpPr txBox="1"/>
          <p:nvPr/>
        </p:nvSpPr>
        <p:spPr>
          <a:xfrm>
            <a:off x="2743200" y="762120"/>
            <a:ext cx="34005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Прави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143000" y="2362320"/>
            <a:ext cx="67816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му экипажу предстоит совершить пробег по местности со множеством препятстви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одолеть эти препятствия сможет тот экипаж, который знает законы сложения, умножения, умеет делить и возводить в степен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едит тот экипаж, который наберет больше очков ,пройдя по всей трассе движ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7" descr="684781dc14b714755844eb6fe2ba7844"/>
          <p:cNvPicPr/>
          <p:nvPr/>
        </p:nvPicPr>
        <p:blipFill>
          <a:blip r:embed="rId1"/>
          <a:stretch/>
        </p:blipFill>
        <p:spPr>
          <a:xfrm>
            <a:off x="7543800" y="380880"/>
            <a:ext cx="838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5"/>
          <p:cNvSpPr txBox="1"/>
          <p:nvPr/>
        </p:nvSpPr>
        <p:spPr>
          <a:xfrm>
            <a:off x="2666880" y="762120"/>
            <a:ext cx="5562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старт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AutoShape 6">
            <a:hlinkClick r:id="rId1" action="ppaction://hlinksldjump"/>
          </p:cNvPr>
          <p:cNvSpPr/>
          <p:nvPr/>
        </p:nvSpPr>
        <p:spPr>
          <a:xfrm>
            <a:off x="1676520" y="2971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ить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ос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AutoShape 8">
            <a:hlinkClick r:id="rId2" action="ppaction://hlinksldjump"/>
          </p:cNvPr>
          <p:cNvSpPr/>
          <p:nvPr/>
        </p:nvSpPr>
        <p:spPr>
          <a:xfrm>
            <a:off x="3733920" y="2971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у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к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AutoShape 9">
            <a:hlinkClick r:id="rId3" action="ppaction://hlinksldjump"/>
          </p:cNvPr>
          <p:cNvSpPr/>
          <p:nvPr/>
        </p:nvSpPr>
        <p:spPr>
          <a:xfrm>
            <a:off x="5943600" y="2971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ка п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еченно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ност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AutoShape 10">
            <a:hlinkClick r:id="rId4" action="ppaction://hlinksldjump"/>
          </p:cNvPr>
          <p:cNvSpPr/>
          <p:nvPr/>
        </p:nvSpPr>
        <p:spPr>
          <a:xfrm>
            <a:off x="16765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ар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AutoShape 11">
            <a:hlinkClick r:id="rId5" action="ppaction://hlinksldjump"/>
          </p:cNvPr>
          <p:cNvSpPr/>
          <p:nvPr/>
        </p:nvSpPr>
        <p:spPr>
          <a:xfrm>
            <a:off x="3733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а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AutoShape 12">
            <a:hlinkClick r:id="rId6" action="ppaction://hlinksldjump"/>
          </p:cNvPr>
          <p:cNvSpPr/>
          <p:nvPr/>
        </p:nvSpPr>
        <p:spPr>
          <a:xfrm>
            <a:off x="6019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иш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13" descr="3351bfa56c1dd7f2eb7e57224737895b"/>
          <p:cNvPicPr/>
          <p:nvPr/>
        </p:nvPicPr>
        <p:blipFill>
          <a:blip r:embed="rId7"/>
          <a:stretch/>
        </p:blipFill>
        <p:spPr>
          <a:xfrm>
            <a:off x="380880" y="380880"/>
            <a:ext cx="1955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1676520" y="457200"/>
            <a:ext cx="6019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верить мест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800280" y="1757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162240" y="1752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5178600" y="1752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AutoShape 24">
            <a:hlinkClick r:id="rId1" action="ppaction://hlinksldjump"/>
          </p:cNvPr>
          <p:cNvSpPr/>
          <p:nvPr/>
        </p:nvSpPr>
        <p:spPr>
          <a:xfrm>
            <a:off x="0" y="54100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175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00">
                <a:moveTo>
                  <a:pt x="11905" y="16981"/>
                </a:moveTo>
                <a:lnTo>
                  <a:pt x="11905" y="15023"/>
                </a:lnTo>
                <a:cubicBezTo>
                  <a:pt x="11905" y="14196"/>
                  <a:pt x="12236" y="13500"/>
                  <a:pt x="12837" y="13500"/>
                </a:cubicBezTo>
                <a:cubicBezTo>
                  <a:pt x="13968" y="13500"/>
                  <a:pt x="14865" y="12134"/>
                  <a:pt x="14865" y="10549"/>
                </a:cubicBezTo>
                <a:cubicBezTo>
                  <a:pt x="14865" y="8234"/>
                  <a:pt x="13011" y="6494"/>
                  <a:pt x="10800" y="6494"/>
                </a:cubicBezTo>
                <a:cubicBezTo>
                  <a:pt x="8589" y="6494"/>
                  <a:pt x="6918" y="8234"/>
                  <a:pt x="6918" y="10549"/>
                </a:cubicBezTo>
                <a:lnTo>
                  <a:pt x="8772" y="10549"/>
                </a:lnTo>
                <a:cubicBezTo>
                  <a:pt x="8772" y="9409"/>
                  <a:pt x="9695" y="8521"/>
                  <a:pt x="10800" y="8521"/>
                </a:cubicBezTo>
                <a:cubicBezTo>
                  <a:pt x="11905" y="8521"/>
                  <a:pt x="12837" y="9409"/>
                  <a:pt x="12837" y="10549"/>
                </a:cubicBezTo>
                <a:cubicBezTo>
                  <a:pt x="12837" y="11289"/>
                  <a:pt x="12367" y="12020"/>
                  <a:pt x="11905" y="12020"/>
                </a:cubicBezTo>
                <a:cubicBezTo>
                  <a:pt x="10800" y="12020"/>
                  <a:pt x="9695" y="13500"/>
                  <a:pt x="9695" y="15023"/>
                </a:cubicBezTo>
                <a:lnTo>
                  <a:pt x="9695" y="1698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AutoShape 28">
            <a:hlinkClick r:id="rId2" action="ppaction://hlinksldjump"/>
          </p:cNvPr>
          <p:cNvSpPr/>
          <p:nvPr/>
        </p:nvSpPr>
        <p:spPr>
          <a:xfrm>
            <a:off x="8839080" y="5410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325080" y="236844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*989-18*989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2779920" y="23684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7*72+57*2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065200" y="23684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3*102-2*4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67860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880:4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303516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20:3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5198400" y="42670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26:5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763920" y="324648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*71*2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959200" y="325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*14*12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5344560" y="32796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*80*2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914400" y="380880"/>
            <a:ext cx="6019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ставить карту гонк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AutoShape 16">
            <a:hlinkClick r:id="rId1" action="ppaction://hlinksldjump"/>
          </p:cNvPr>
          <p:cNvSpPr/>
          <p:nvPr/>
        </p:nvSpPr>
        <p:spPr>
          <a:xfrm>
            <a:off x="0" y="4952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1696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5924">
                <a:moveTo>
                  <a:pt x="11905" y="16444"/>
                </a:moveTo>
                <a:lnTo>
                  <a:pt x="11905" y="14485"/>
                </a:lnTo>
                <a:cubicBezTo>
                  <a:pt x="11905" y="13658"/>
                  <a:pt x="12236" y="12962"/>
                  <a:pt x="12837" y="12962"/>
                </a:cubicBezTo>
                <a:cubicBezTo>
                  <a:pt x="13968" y="12962"/>
                  <a:pt x="14865" y="11596"/>
                  <a:pt x="14865" y="10011"/>
                </a:cubicBezTo>
                <a:cubicBezTo>
                  <a:pt x="14865" y="7696"/>
                  <a:pt x="13011" y="5956"/>
                  <a:pt x="10800" y="5956"/>
                </a:cubicBezTo>
                <a:cubicBezTo>
                  <a:pt x="8589" y="5956"/>
                  <a:pt x="6918" y="7696"/>
                  <a:pt x="6918" y="10011"/>
                </a:cubicBezTo>
                <a:lnTo>
                  <a:pt x="8772" y="10011"/>
                </a:lnTo>
                <a:cubicBezTo>
                  <a:pt x="8772" y="8871"/>
                  <a:pt x="9695" y="7984"/>
                  <a:pt x="10800" y="7984"/>
                </a:cubicBezTo>
                <a:cubicBezTo>
                  <a:pt x="11905" y="7984"/>
                  <a:pt x="12837" y="8871"/>
                  <a:pt x="12837" y="10011"/>
                </a:cubicBezTo>
                <a:cubicBezTo>
                  <a:pt x="12837" y="10751"/>
                  <a:pt x="12367" y="11482"/>
                  <a:pt x="11905" y="11482"/>
                </a:cubicBezTo>
                <a:cubicBezTo>
                  <a:pt x="10800" y="11482"/>
                  <a:pt x="9695" y="12962"/>
                  <a:pt x="9695" y="14485"/>
                </a:cubicBezTo>
                <a:lnTo>
                  <a:pt x="9695" y="16444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18" descr="52"/>
          <p:cNvPicPr/>
          <p:nvPr/>
        </p:nvPicPr>
        <p:blipFill>
          <a:blip r:embed="rId2"/>
          <a:stretch/>
        </p:blipFill>
        <p:spPr>
          <a:xfrm>
            <a:off x="7524720" y="3808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9"/>
          <p:cNvSpPr/>
          <p:nvPr/>
        </p:nvSpPr>
        <p:spPr>
          <a:xfrm>
            <a:off x="8763120" y="48769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0800" y="5999"/>
                </a:moveTo>
                <a:lnTo>
                  <a:pt x="13376" y="8610"/>
                </a:ln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lnTo>
                  <a:pt x="17763" y="12962"/>
                </a:lnTo>
                <a:lnTo>
                  <a:pt x="16109" y="12962"/>
                </a:lnTo>
                <a:lnTo>
                  <a:pt x="16109" y="20151"/>
                </a:lnTo>
                <a:lnTo>
                  <a:pt x="5491" y="20151"/>
                </a:lnTo>
                <a:lnTo>
                  <a:pt x="5491" y="12962"/>
                </a:lnTo>
                <a:lnTo>
                  <a:pt x="3837" y="12962"/>
                </a:lnTo>
                <a:close/>
              </a:path>
              <a:path fill="darkenLess" w="21600" h="25924">
                <a:moveTo>
                  <a:pt x="13376" y="8610"/>
                </a:moveTo>
                <a:lnTo>
                  <a:pt x="13376" y="6869"/>
                </a:lnTo>
                <a:lnTo>
                  <a:pt x="15152" y="6869"/>
                </a:lnTo>
                <a:lnTo>
                  <a:pt x="15152" y="10386"/>
                </a:lnTo>
                <a:close/>
              </a:path>
              <a:path fill="darkenLess" w="21600" h="25924">
                <a:moveTo>
                  <a:pt x="9877" y="16461"/>
                </a:moveTo>
                <a:lnTo>
                  <a:pt x="11723" y="16461"/>
                </a:lnTo>
                <a:lnTo>
                  <a:pt x="11723" y="20151"/>
                </a:lnTo>
                <a:lnTo>
                  <a:pt x="16109" y="20151"/>
                </a:lnTo>
                <a:lnTo>
                  <a:pt x="16109" y="12962"/>
                </a:lnTo>
                <a:lnTo>
                  <a:pt x="5491" y="12962"/>
                </a:lnTo>
                <a:lnTo>
                  <a:pt x="5491" y="20151"/>
                </a:lnTo>
                <a:lnTo>
                  <a:pt x="9877" y="2015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1600200" y="16002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то быстрее выполнит задание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1380600" y="25336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:24=168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3118320" y="34290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56:х=189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463720" y="46306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9:13=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1295280" y="457200"/>
            <a:ext cx="6743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нка по пересеченной  местност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685800" y="1523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команда быстрее выполнит это зада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495360" y="2354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2163600" y="2424240"/>
            <a:ext cx="38124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981080" y="3505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2421000" y="3490920"/>
            <a:ext cx="38088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697200" y="3490920"/>
            <a:ext cx="381240" cy="380880"/>
          </a:xfrm>
          <a:prstGeom prst="rect">
            <a:avLst/>
          </a:prstGeom>
          <a:solidFill>
            <a:srgbClr val="b3a1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381560" y="2646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4800600" y="2666880"/>
            <a:ext cx="380880" cy="381240"/>
          </a:xfrm>
          <a:prstGeom prst="rect">
            <a:avLst/>
          </a:prstGeom>
          <a:solidFill>
            <a:srgbClr val="afa5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6172200" y="26668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6362640" y="3581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6858000" y="3581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8077320" y="35812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4343400" y="4876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Rectangle 25"/>
          <p:cNvSpPr/>
          <p:nvPr/>
        </p:nvSpPr>
        <p:spPr>
          <a:xfrm>
            <a:off x="6172200" y="4835520"/>
            <a:ext cx="380880" cy="3808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29" descr="12527a7ec3cb70d9194f3b87b56479c7"/>
          <p:cNvPicPr/>
          <p:nvPr/>
        </p:nvPicPr>
        <p:blipFill>
          <a:blip r:embed="rId1"/>
          <a:stretch/>
        </p:blipFill>
        <p:spPr>
          <a:xfrm>
            <a:off x="1523880" y="4572000"/>
            <a:ext cx="2257560" cy="17874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30"/>
          <p:cNvSpPr/>
          <p:nvPr/>
        </p:nvSpPr>
        <p:spPr>
          <a:xfrm>
            <a:off x="8763120" y="4952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886320" y="238428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0:5=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2835360" y="343836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9=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5259600" y="263196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28 =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7342920" y="35416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14=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5343840" y="478152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34=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4"/>
          <p:cNvSpPr txBox="1"/>
          <p:nvPr/>
        </p:nvSpPr>
        <p:spPr>
          <a:xfrm>
            <a:off x="3276720" y="38088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+mn-lt"/>
              </a:rPr>
              <a:t>Авар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2057400" y="1143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ошибки и объясни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609480" y="1676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3623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1911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экипаж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2" name="Picture 16" descr="4955e3e3865115ad72034ce8e2cdfe6a"/>
          <p:cNvPicPr/>
          <p:nvPr/>
        </p:nvPicPr>
        <p:blipFill>
          <a:blip r:embed="rId1"/>
          <a:stretch/>
        </p:blipFill>
        <p:spPr>
          <a:xfrm>
            <a:off x="0" y="4114800"/>
            <a:ext cx="3733920" cy="241128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18"/>
          <p:cNvSpPr/>
          <p:nvPr/>
        </p:nvSpPr>
        <p:spPr>
          <a:xfrm>
            <a:off x="8763120" y="5334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97800" y="2144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30:5=19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3"/>
          <p:cNvSpPr/>
          <p:nvPr/>
        </p:nvSpPr>
        <p:spPr>
          <a:xfrm>
            <a:off x="2049120" y="283068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00:50=3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4105800" y="3605040"/>
            <a:ext cx="18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40:5=188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 Воробьев</cp:lastModifiedBy>
  <dcterms:modified xsi:type="dcterms:W3CDTF">2018-12-15T07:20:01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