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4.gif" ContentType="image/gif"/>
  <Override PartName="/ppt/media/image10.gif" ContentType="image/gif"/>
  <Override PartName="/ppt/media/image13.png" ContentType="image/png"/>
  <Override PartName="/ppt/media/image21.gif" ContentType="image/gif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22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17E-3A58-4D2B-9809-B04FC906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72D-AD51-4426-BFB8-4503CF57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1CA-0442-4E5A-B084-44C1C98C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E7D-470C-454F-81B2-69E63F2B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8E1D-85BD-4C78-B253-88CFE5FE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E68-FFEE-45B1-A79B-48FF77A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217F-0F38-41E9-AD2F-3EB74C1B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E0BA-C9F1-45DA-B6A9-BA47756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A15A-7000-4CB8-AC4F-98053A01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20E4-E707-4571-8DFA-B19634F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CBC2-2A61-4051-BAC3-EE74743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0F3-84F6-4E78-9CA6-6F80E0B9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4B90-3933-4A9A-A2D5-BA24C15B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58E-7390-487E-8845-6185C99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E90-7267-4316-B364-94634BA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6557-72A3-4FA0-A9A5-317F9F66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1E81-2F2E-4251-A091-EA219AE2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090B-8598-4FAD-9120-AB30B681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850B-E81B-4C39-BDDC-5ADE2CAD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9088-2D8A-41C5-B633-8B7D878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DFD5-1FA4-48EA-8E1B-1E1CD057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7896-26AD-4C0F-8EDE-1D847BA4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268-64E4-4C10-9525-160775F9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B503-CB95-4DCD-B8C4-3A76D5C9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9C3E-3962-44B4-A5DA-B07D6D8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3457-45BC-4A08-AC11-6C843088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00B7-027A-40CB-B280-9BDDAD20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645A-6796-4AF9-B0A5-D7B1BDF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62B6-62D6-4593-9EF3-E3F9C04C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C712-BDEF-49B7-8879-05D644B4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EB99-EC58-4E92-819F-61A3A678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6AA7-17D0-4917-AA5A-F066C669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EB8D-275B-4B7B-91A4-4300E6A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D04-D714-461E-A690-2EAE68BA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4074-8551-46E6-BAA3-B7039F8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03E7-E82D-4CF0-B653-F6193A3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8AAB-FEEC-43CB-9C42-F3B7C21A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9CC78-2A1F-4026-8F94-F63925BD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DF65-40C6-4A69-843B-8A35ABF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AADF-3D98-4E05-B7D4-CB2A0E9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5986E-EC0B-4F3E-AFD7-73D909D8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8542-54ED-422F-9450-54282FDC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B807-5204-4A3B-99C6-0BAE1BC2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FA1-51B8-4713-B1A8-EC177FA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CCD-1EBC-4056-9250-2C774B7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64E-6D0C-45CA-B69C-9255057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23A-4F06-4123-A466-EC00636C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905-69B0-4CB2-AD25-272979D2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A4DBB-135D-4E03-BACA-995216279D0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C7A26-A16B-4FDA-913A-9EC7F44C8C7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58FFA-75AD-40D2-BD25-6BDD1515EEC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0BCBD-1715-4179-99FB-CF35DA6EC8C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1676520" y="9144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2514600" y="68580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иг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4"/>
          <p:cNvSpPr txBox="1"/>
          <p:nvPr/>
        </p:nvSpPr>
        <p:spPr>
          <a:xfrm>
            <a:off x="3505320" y="30492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ива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9" name="Text Box 14"/>
          <p:cNvSpPr/>
          <p:nvPr/>
        </p:nvSpPr>
        <p:spPr>
          <a:xfrm>
            <a:off x="2438280" y="5181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1752480" y="12193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 решили отдохнуть и нарвать цветов. Но цветы на  ней необыкновенные. Каждый лепесток цветка – это задание на  сложение, вычитание, умножение и деление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0" y="5334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21" descr="прив"/>
          <p:cNvPicPr/>
          <p:nvPr/>
        </p:nvPicPr>
        <p:blipFill>
          <a:blip r:embed="rId1"/>
          <a:stretch/>
        </p:blipFill>
        <p:spPr>
          <a:xfrm>
            <a:off x="0" y="0"/>
            <a:ext cx="175896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22"/>
          <p:cNvSpPr/>
          <p:nvPr/>
        </p:nvSpPr>
        <p:spPr>
          <a:xfrm>
            <a:off x="883908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Рисунок 2" descr=""/>
          <p:cNvPicPr/>
          <p:nvPr/>
        </p:nvPicPr>
        <p:blipFill>
          <a:blip r:embed="rId2"/>
          <a:stretch/>
        </p:blipFill>
        <p:spPr>
          <a:xfrm>
            <a:off x="1295280" y="1631880"/>
            <a:ext cx="96868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4"/>
          <p:cNvSpPr txBox="1"/>
          <p:nvPr/>
        </p:nvSpPr>
        <p:spPr>
          <a:xfrm>
            <a:off x="2209680" y="533520"/>
            <a:ext cx="45720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ьные ответ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209680" y="1371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апу «Проверить местность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Picture 13" descr="car32"/>
          <p:cNvPicPr/>
          <p:nvPr/>
        </p:nvPicPr>
        <p:blipFill>
          <a:blip r:embed="rId1"/>
          <a:stretch/>
        </p:blipFill>
        <p:spPr>
          <a:xfrm>
            <a:off x="2514600" y="5181480"/>
            <a:ext cx="5543640" cy="997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4"/>
          <p:cNvSpPr/>
          <p:nvPr/>
        </p:nvSpPr>
        <p:spPr>
          <a:xfrm>
            <a:off x="8763120" y="54100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4360320" y="23036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экипаж: 989; 7100; 6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2984760" y="326376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экипаж: 5700; 14000; 7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1232640" y="41846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кипаж: 4300; 8000; 4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6"/>
          <p:cNvSpPr txBox="1"/>
          <p:nvPr/>
        </p:nvSpPr>
        <p:spPr>
          <a:xfrm>
            <a:off x="1905120" y="60948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600200" y="1752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апу «Гонка по пересеченной местности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4" name="Picture 20" descr="car56"/>
          <p:cNvPicPr/>
          <p:nvPr/>
        </p:nvPicPr>
        <p:blipFill>
          <a:blip r:embed="rId1"/>
          <a:stretch/>
        </p:blipFill>
        <p:spPr>
          <a:xfrm>
            <a:off x="533520" y="5181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233e253a3f4244a35093d06590a73dae"/>
          <p:cNvPicPr/>
          <p:nvPr/>
        </p:nvPicPr>
        <p:blipFill>
          <a:blip r:embed="rId2"/>
          <a:stretch/>
        </p:blipFill>
        <p:spPr>
          <a:xfrm>
            <a:off x="5943600" y="31240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22"/>
          <p:cNvSpPr/>
          <p:nvPr/>
        </p:nvSpPr>
        <p:spPr>
          <a:xfrm>
            <a:off x="8686800" y="5105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Picture 27" descr=""/>
          <p:cNvPicPr/>
          <p:nvPr/>
        </p:nvPicPr>
        <p:blipFill>
          <a:blip r:embed="rId3"/>
          <a:stretch/>
        </p:blipFill>
        <p:spPr>
          <a:xfrm>
            <a:off x="871560" y="2540160"/>
            <a:ext cx="396720" cy="3902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"/>
          <p:cNvSpPr/>
          <p:nvPr/>
        </p:nvSpPr>
        <p:spPr>
          <a:xfrm>
            <a:off x="1445760" y="25210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28" descr=""/>
          <p:cNvPicPr/>
          <p:nvPr/>
        </p:nvPicPr>
        <p:blipFill>
          <a:blip r:embed="rId4"/>
          <a:stretch/>
        </p:blipFill>
        <p:spPr>
          <a:xfrm>
            <a:off x="2319480" y="3303720"/>
            <a:ext cx="390240" cy="39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9" descr=""/>
          <p:cNvPicPr/>
          <p:nvPr/>
        </p:nvPicPr>
        <p:blipFill>
          <a:blip r:embed="rId5"/>
          <a:stretch/>
        </p:blipFill>
        <p:spPr>
          <a:xfrm>
            <a:off x="3332160" y="426240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"/>
          <p:cNvPicPr/>
          <p:nvPr/>
        </p:nvPicPr>
        <p:blipFill>
          <a:blip r:embed="rId6"/>
          <a:stretch/>
        </p:blipFill>
        <p:spPr>
          <a:xfrm>
            <a:off x="4468680" y="5205240"/>
            <a:ext cx="397080" cy="390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1" descr=""/>
          <p:cNvPicPr/>
          <p:nvPr/>
        </p:nvPicPr>
        <p:blipFill>
          <a:blip r:embed="rId7"/>
          <a:stretch/>
        </p:blipFill>
        <p:spPr>
          <a:xfrm>
            <a:off x="5943600" y="6004080"/>
            <a:ext cx="390600" cy="3967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 flipH="1">
            <a:off x="2859120" y="32688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3812040" y="4211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7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5029200" y="5156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6426360" y="601812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4"/>
          <p:cNvSpPr txBox="1"/>
          <p:nvPr/>
        </p:nvSpPr>
        <p:spPr>
          <a:xfrm>
            <a:off x="2971800" y="457200"/>
            <a:ext cx="3200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Финиш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838080" y="175248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успешно пересечь линию финиша, каждому экипажу нужно вычисли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948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447920" y="3581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3657600" y="41148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2286000" y="4343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AutoShape 17"/>
          <p:cNvSpPr/>
          <p:nvPr/>
        </p:nvSpPr>
        <p:spPr>
          <a:xfrm>
            <a:off x="0" y="5105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1696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24">
                <a:moveTo>
                  <a:pt x="11905" y="16444"/>
                </a:moveTo>
                <a:lnTo>
                  <a:pt x="11905" y="14485"/>
                </a:lnTo>
                <a:cubicBezTo>
                  <a:pt x="11905" y="13658"/>
                  <a:pt x="12236" y="12962"/>
                  <a:pt x="12837" y="12962"/>
                </a:cubicBezTo>
                <a:cubicBezTo>
                  <a:pt x="13968" y="12962"/>
                  <a:pt x="14865" y="11596"/>
                  <a:pt x="14865" y="10011"/>
                </a:cubicBezTo>
                <a:cubicBezTo>
                  <a:pt x="14865" y="7696"/>
                  <a:pt x="13011" y="5956"/>
                  <a:pt x="10800" y="5956"/>
                </a:cubicBezTo>
                <a:cubicBezTo>
                  <a:pt x="8589" y="5956"/>
                  <a:pt x="6918" y="7696"/>
                  <a:pt x="6918" y="10011"/>
                </a:cubicBezTo>
                <a:lnTo>
                  <a:pt x="8772" y="10011"/>
                </a:lnTo>
                <a:cubicBezTo>
                  <a:pt x="8772" y="8871"/>
                  <a:pt x="9695" y="7984"/>
                  <a:pt x="10800" y="7984"/>
                </a:cubicBezTo>
                <a:cubicBezTo>
                  <a:pt x="11905" y="7984"/>
                  <a:pt x="12837" y="8871"/>
                  <a:pt x="12837" y="10011"/>
                </a:cubicBezTo>
                <a:cubicBezTo>
                  <a:pt x="12837" y="10751"/>
                  <a:pt x="12367" y="11482"/>
                  <a:pt x="11905" y="11482"/>
                </a:cubicBezTo>
                <a:cubicBezTo>
                  <a:pt x="10800" y="11482"/>
                  <a:pt x="9695" y="12962"/>
                  <a:pt x="9695" y="14485"/>
                </a:cubicBezTo>
                <a:lnTo>
                  <a:pt x="9695" y="16444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0" descr="c208767a8fe29bd5691ee960da4e9c69"/>
          <p:cNvPicPr/>
          <p:nvPr/>
        </p:nvPicPr>
        <p:blipFill>
          <a:blip r:embed="rId1"/>
          <a:stretch/>
        </p:blipFill>
        <p:spPr>
          <a:xfrm>
            <a:off x="6019920" y="2590920"/>
            <a:ext cx="2543040" cy="1946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салют"/>
          <p:cNvPicPr/>
          <p:nvPr/>
        </p:nvPicPr>
        <p:blipFill>
          <a:blip r:embed="rId2"/>
          <a:stretch/>
        </p:blipFill>
        <p:spPr>
          <a:xfrm>
            <a:off x="990720" y="3808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22"/>
          <p:cNvSpPr/>
          <p:nvPr/>
        </p:nvSpPr>
        <p:spPr>
          <a:xfrm>
            <a:off x="8763120" y="5105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1900440" y="27748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2684880" y="35784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3548520" y="4362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1688760" y="1219320"/>
            <a:ext cx="57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ведение итогов урока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1711800" y="2905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 №189; №190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4"/>
          <p:cNvSpPr txBox="1"/>
          <p:nvPr/>
        </p:nvSpPr>
        <p:spPr>
          <a:xfrm>
            <a:off x="1828800" y="6094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600200" y="16002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апу  «Финиш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838080" y="2362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476520" y="2362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609588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7" name="Picture 17" descr="40071528e96a7af884ad4c41ed185e73"/>
          <p:cNvPicPr/>
          <p:nvPr/>
        </p:nvPicPr>
        <p:blipFill>
          <a:blip r:embed="rId1"/>
          <a:stretch/>
        </p:blipFill>
        <p:spPr>
          <a:xfrm>
            <a:off x="2971800" y="4267080"/>
            <a:ext cx="2533680" cy="172728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8"/>
          <p:cNvSpPr/>
          <p:nvPr/>
        </p:nvSpPr>
        <p:spPr>
          <a:xfrm>
            <a:off x="8763120" y="5029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117144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3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380196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28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620388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97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4"/>
          <p:cNvSpPr txBox="1"/>
          <p:nvPr/>
        </p:nvSpPr>
        <p:spPr>
          <a:xfrm>
            <a:off x="2743200" y="3808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42900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этапу  «Привал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33" descr="man02"/>
          <p:cNvPicPr/>
          <p:nvPr/>
        </p:nvPicPr>
        <p:blipFill>
          <a:blip r:embed="rId1"/>
          <a:stretch/>
        </p:blipFill>
        <p:spPr>
          <a:xfrm>
            <a:off x="380880" y="304920"/>
            <a:ext cx="1828800" cy="159048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34"/>
          <p:cNvSpPr/>
          <p:nvPr/>
        </p:nvSpPr>
        <p:spPr>
          <a:xfrm>
            <a:off x="8763120" y="52578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1800000" y="3166920"/>
            <a:ext cx="49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55; 1166; 10800; 216; 108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1981080" y="609480"/>
            <a:ext cx="53722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600200" y="1447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этапу «Составить карту гонки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127160" y="2093760"/>
            <a:ext cx="62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16" descr="1str1"/>
          <p:cNvPicPr/>
          <p:nvPr/>
        </p:nvPicPr>
        <p:blipFill>
          <a:blip r:embed="rId1"/>
          <a:stretch/>
        </p:blipFill>
        <p:spPr>
          <a:xfrm>
            <a:off x="4038480" y="2133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8"/>
          <p:cNvSpPr/>
          <p:nvPr/>
        </p:nvSpPr>
        <p:spPr>
          <a:xfrm>
            <a:off x="87631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4052880" y="3595680"/>
            <a:ext cx="12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4032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4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1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6"/>
          <p:cNvSpPr txBox="1"/>
          <p:nvPr/>
        </p:nvSpPr>
        <p:spPr>
          <a:xfrm>
            <a:off x="1447920" y="1066680"/>
            <a:ext cx="6324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Picture 9" descr="j0216858"/>
          <p:cNvPicPr/>
          <p:nvPr/>
        </p:nvPicPr>
        <p:blipFill>
          <a:blip r:embed="rId1"/>
          <a:stretch/>
        </p:blipFill>
        <p:spPr>
          <a:xfrm>
            <a:off x="1828800" y="3048120"/>
            <a:ext cx="4419720" cy="20145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" descr=""/>
          <p:cNvPicPr/>
          <p:nvPr/>
        </p:nvPicPr>
        <p:blipFill>
          <a:blip r:embed="rId2"/>
          <a:stretch/>
        </p:blipFill>
        <p:spPr>
          <a:xfrm>
            <a:off x="639720" y="1006560"/>
            <a:ext cx="78645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2209680" y="68580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Девиз гон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143000" y="2819520"/>
            <a:ext cx="6858000" cy="26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Торопись - медленно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5"/>
          <p:cNvSpPr txBox="1"/>
          <p:nvPr/>
        </p:nvSpPr>
        <p:spPr>
          <a:xfrm>
            <a:off x="2743200" y="762120"/>
            <a:ext cx="340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Прави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143000" y="2362320"/>
            <a:ext cx="67816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экипажу предстоит совершить пробег по местности со множеством препятств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долеть эти препятствия сможет тот экипаж, который знает законы сложения, умножения, умеет делить и возводить в степе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едит тот экипаж, который наберет больше очков ,пройдя по всей трассе движ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7" descr="684781dc14b714755844eb6fe2ba7844"/>
          <p:cNvPicPr/>
          <p:nvPr/>
        </p:nvPicPr>
        <p:blipFill>
          <a:blip r:embed="rId1"/>
          <a:stretch/>
        </p:blipFill>
        <p:spPr>
          <a:xfrm>
            <a:off x="7543800" y="380880"/>
            <a:ext cx="838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5"/>
          <p:cNvSpPr txBox="1"/>
          <p:nvPr/>
        </p:nvSpPr>
        <p:spPr>
          <a:xfrm>
            <a:off x="2666880" y="762120"/>
            <a:ext cx="556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старт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1676520" y="2971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ть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AutoShape 8">
            <a:hlinkClick r:id="rId2" action="ppaction://hlinksldjump"/>
          </p:cNvPr>
          <p:cNvSpPr/>
          <p:nvPr/>
        </p:nvSpPr>
        <p:spPr>
          <a:xfrm>
            <a:off x="3733920" y="2971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у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AutoShape 9">
            <a:hlinkClick r:id="rId3" action="ppaction://hlinksldjump"/>
          </p:cNvPr>
          <p:cNvSpPr/>
          <p:nvPr/>
        </p:nvSpPr>
        <p:spPr>
          <a:xfrm>
            <a:off x="5943600" y="2971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ка п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еченно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AutoShape 10">
            <a:hlinkClick r:id="rId4" action="ppaction://hlinksldjump"/>
          </p:cNvPr>
          <p:cNvSpPr/>
          <p:nvPr/>
        </p:nvSpPr>
        <p:spPr>
          <a:xfrm>
            <a:off x="16765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AutoShape 11">
            <a:hlinkClick r:id="rId5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а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AutoShape 12">
            <a:hlinkClick r:id="rId6" action="ppaction://hlinksldjump"/>
          </p:cNvPr>
          <p:cNvSpPr/>
          <p:nvPr/>
        </p:nvSpPr>
        <p:spPr>
          <a:xfrm>
            <a:off x="6019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иш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13" descr="3351bfa56c1dd7f2eb7e57224737895b"/>
          <p:cNvPicPr/>
          <p:nvPr/>
        </p:nvPicPr>
        <p:blipFill>
          <a:blip r:embed="rId7"/>
          <a:stretch/>
        </p:blipFill>
        <p:spPr>
          <a:xfrm>
            <a:off x="380880" y="380880"/>
            <a:ext cx="1955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1676520" y="457200"/>
            <a:ext cx="601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ить мест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00280" y="1757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162240" y="1752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1786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utoShape 24">
            <a:hlinkClick r:id="rId1" action="ppaction://hlinksldjump"/>
          </p:cNvPr>
          <p:cNvSpPr/>
          <p:nvPr/>
        </p:nvSpPr>
        <p:spPr>
          <a:xfrm>
            <a:off x="0" y="5410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28">
            <a:hlinkClick r:id="rId2" action="ppaction://hlinksldjump"/>
          </p:cNvPr>
          <p:cNvSpPr/>
          <p:nvPr/>
        </p:nvSpPr>
        <p:spPr>
          <a:xfrm>
            <a:off x="8839080" y="5410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325080" y="23684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*989-18*989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2779920" y="23684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7*72+57*2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065200" y="23684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3*102-2*4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67860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880:4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303516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20:3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519840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26:5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763920" y="32464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*71*2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959200" y="325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*14*12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5344560" y="3279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*80*2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914400" y="38088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арту гон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AutoShape 16">
            <a:hlinkClick r:id="rId1" action="ppaction://hlinksldjump"/>
          </p:cNvPr>
          <p:cNvSpPr/>
          <p:nvPr/>
        </p:nvSpPr>
        <p:spPr>
          <a:xfrm>
            <a:off x="0" y="4952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1696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24">
                <a:moveTo>
                  <a:pt x="11905" y="16444"/>
                </a:moveTo>
                <a:lnTo>
                  <a:pt x="11905" y="14485"/>
                </a:lnTo>
                <a:cubicBezTo>
                  <a:pt x="11905" y="13658"/>
                  <a:pt x="12236" y="12962"/>
                  <a:pt x="12837" y="12962"/>
                </a:cubicBezTo>
                <a:cubicBezTo>
                  <a:pt x="13968" y="12962"/>
                  <a:pt x="14865" y="11596"/>
                  <a:pt x="14865" y="10011"/>
                </a:cubicBezTo>
                <a:cubicBezTo>
                  <a:pt x="14865" y="7696"/>
                  <a:pt x="13011" y="5956"/>
                  <a:pt x="10800" y="5956"/>
                </a:cubicBezTo>
                <a:cubicBezTo>
                  <a:pt x="8589" y="5956"/>
                  <a:pt x="6918" y="7696"/>
                  <a:pt x="6918" y="10011"/>
                </a:cubicBezTo>
                <a:lnTo>
                  <a:pt x="8772" y="10011"/>
                </a:lnTo>
                <a:cubicBezTo>
                  <a:pt x="8772" y="8871"/>
                  <a:pt x="9695" y="7984"/>
                  <a:pt x="10800" y="7984"/>
                </a:cubicBezTo>
                <a:cubicBezTo>
                  <a:pt x="11905" y="7984"/>
                  <a:pt x="12837" y="8871"/>
                  <a:pt x="12837" y="10011"/>
                </a:cubicBezTo>
                <a:cubicBezTo>
                  <a:pt x="12837" y="10751"/>
                  <a:pt x="12367" y="11482"/>
                  <a:pt x="11905" y="11482"/>
                </a:cubicBezTo>
                <a:cubicBezTo>
                  <a:pt x="10800" y="11482"/>
                  <a:pt x="9695" y="12962"/>
                  <a:pt x="9695" y="14485"/>
                </a:cubicBezTo>
                <a:lnTo>
                  <a:pt x="9695" y="16444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18" descr="52"/>
          <p:cNvPicPr/>
          <p:nvPr/>
        </p:nvPicPr>
        <p:blipFill>
          <a:blip r:embed="rId2"/>
          <a:stretch/>
        </p:blipFill>
        <p:spPr>
          <a:xfrm>
            <a:off x="7524720" y="3808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9"/>
          <p:cNvSpPr/>
          <p:nvPr/>
        </p:nvSpPr>
        <p:spPr>
          <a:xfrm>
            <a:off x="8763120" y="48769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1600200" y="16002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то быстрее выполнит задание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1380600" y="2533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:24=16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118320" y="34290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56:х=189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463720" y="4630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9:13=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1295280" y="457200"/>
            <a:ext cx="6743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нка по пересеченной  мест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8580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команда быстрее выполнит это зада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95360" y="2354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2163600" y="2424240"/>
            <a:ext cx="38124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9810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421000" y="3490920"/>
            <a:ext cx="38088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697200" y="3490920"/>
            <a:ext cx="381240" cy="380880"/>
          </a:xfrm>
          <a:prstGeom prst="rect">
            <a:avLst/>
          </a:prstGeom>
          <a:solidFill>
            <a:srgbClr val="b3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381560" y="2646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800600" y="2666880"/>
            <a:ext cx="380880" cy="381240"/>
          </a:xfrm>
          <a:prstGeom prst="rect">
            <a:avLst/>
          </a:prstGeom>
          <a:solidFill>
            <a:srgbClr val="af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6172200" y="2666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6362640" y="3581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6858000" y="3581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8077320" y="3581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434340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6172200" y="4835520"/>
            <a:ext cx="380880" cy="3808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29" descr="12527a7ec3cb70d9194f3b87b56479c7"/>
          <p:cNvPicPr/>
          <p:nvPr/>
        </p:nvPicPr>
        <p:blipFill>
          <a:blip r:embed="rId1"/>
          <a:stretch/>
        </p:blipFill>
        <p:spPr>
          <a:xfrm>
            <a:off x="1523880" y="4572000"/>
            <a:ext cx="2257560" cy="17874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30"/>
          <p:cNvSpPr/>
          <p:nvPr/>
        </p:nvSpPr>
        <p:spPr>
          <a:xfrm>
            <a:off x="8763120" y="4952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886320" y="2384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:5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835360" y="3438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9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5259600" y="263196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28 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7342920" y="35416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14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5343840" y="478152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34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4"/>
          <p:cNvSpPr txBox="1"/>
          <p:nvPr/>
        </p:nvSpPr>
        <p:spPr>
          <a:xfrm>
            <a:off x="3276720" y="3808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Авар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057400" y="1143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ошибки и объясн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609480" y="1676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3623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1911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16" descr="4955e3e3865115ad72034ce8e2cdfe6a"/>
          <p:cNvPicPr/>
          <p:nvPr/>
        </p:nvPicPr>
        <p:blipFill>
          <a:blip r:embed="rId1"/>
          <a:stretch/>
        </p:blipFill>
        <p:spPr>
          <a:xfrm>
            <a:off x="0" y="4114800"/>
            <a:ext cx="3733920" cy="241128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18"/>
          <p:cNvSpPr/>
          <p:nvPr/>
        </p:nvSpPr>
        <p:spPr>
          <a:xfrm>
            <a:off x="8763120" y="5334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97800" y="2144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30:5=19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049120" y="283068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00:50=3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4105800" y="360504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40:5=18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 Воробьев</cp:lastModifiedBy>
  <dcterms:modified xsi:type="dcterms:W3CDTF">2018-12-15T07:20:01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