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75AD-C420-49F9-B577-8056E26BF0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66BD-FC8A-44CC-8DA8-CE31D1D889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066-84DF-4FFE-BC8D-7E300A25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736-6598-451B-A65A-8896FBEF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A29-A25E-4237-B01F-28E669C7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724-51A6-4FB2-A9E6-214B385C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3649-EF9B-49A4-8C16-8BAA78E0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0D31-6742-402C-869F-4EDA10C7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3C2C-D999-433A-A10D-EF9F8027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FA8F-DDC6-4500-A80A-27472136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C3FB-455A-4701-8B74-91ED1CC3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ED11-19D5-4005-B335-058DC9EF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4C62-2FD9-4986-B9DB-65CDC51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673-71BE-4480-9500-846ED33A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D974-B5E5-4CAA-8F8F-C389B5D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0B9F-6756-409D-AF73-C6FE7FC5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1AFC-EE06-44DC-9F61-98BB3FC2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B02A-2995-49D6-ADF4-C843884D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B717-E2D6-417D-A96A-9D9F0009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3EBE1-A5CF-422F-BCF9-F230570F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A7D0E-F857-4D57-AC2E-29D53C81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421C8-E01B-40ED-A48B-2119DEF8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0E2B8-1034-443F-96C5-5BEC4383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6270D-FCF4-4DB7-9BA8-FDE4383F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63C-7CC1-4280-AF98-0E6ED562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3CF1E-A2EC-4544-A86B-0D248BB4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50B59-613B-459D-9751-338EFA02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F8E37-8620-4989-B876-92631907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CAD44-2AA3-433E-858D-509858CE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EA7E6-7B73-4561-AF94-47351377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6EB82-9EEF-40C2-AF11-07CA9825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A25C3-B3E4-4740-8350-C8FDCF03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DD6FB-95C4-454B-8D77-6B1C359A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7036-8A39-48E4-8D00-AC1A3830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D23B5-C2F1-485F-89BC-519133A1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2D4-F053-4DE4-8D83-5BBA2377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01633-B38A-4A04-AA71-79E20B2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6458-E8D9-4AAE-B52D-D231D869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BB72-B552-4607-8473-8958587C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9218-7817-448B-A6A8-2332334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07B91-C82D-4B77-AA4F-97C87DB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FD41-A91E-48CE-89A7-F1B1246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C091-2B44-4801-B29F-CAA01EEB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EE60A-F0D7-4A4C-9A3B-0B3E46D7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672BF-4EFD-455F-98E7-22DB9637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88FA2-6D93-400B-A4E5-D4EDDFF1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E26-C4B7-434D-9E13-CF7FE725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854E3-A314-4340-81E1-4391E89A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6F7BF-E7B5-4446-8ED8-B1F76490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F492E-A3A3-4037-A04A-1A1387CD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967CA-7320-4950-8FEC-9A87BD47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E3E1B-FE14-43FD-87D7-A9FD5D43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921CC-9569-41B6-A0CB-3E93AD39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44AC9-6794-4585-825E-0A5D11C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D4723-6124-446B-8CB9-9ADD1BB4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F79F1-0416-428F-A72F-CF5079AF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03AF0-B8F2-4078-B1E4-1D44509D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2FC-999F-451C-BEF1-FDB71574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DD4BA-F1B9-49C6-B628-3B8E20AF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1DB7A-6AF9-4E36-90B1-B7DDF213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8BC84-4A9E-438F-9F6B-D970DF4B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30622-A3CB-415B-A831-B5196529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985A5-73B2-415B-82BB-E66712C8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B0F4E-1E72-4ECA-99C3-AF47C149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7C8DB-54D9-466C-9CD0-3B405AB9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F525A-9C55-446D-BEF3-FD1202BD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D89B0-CDB2-4E4C-9D70-3BDCD8D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93457-1651-4953-A6E1-7F226961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04C-999A-4EBA-A3D0-8019F4BE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31FD7-0803-450A-81F8-1F349A18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01A1D-C2A6-4325-930C-0646D8E9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C8707-DC9D-4370-A983-E863A514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E0B15-CF2E-4D8E-B874-3255DFBC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14F97-371E-4293-99F2-B6539001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6CBE3-BC2D-479B-97C1-60E4A759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08E04F-604B-412F-8C1A-89EF0504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DAAC7-C5EC-4FA0-AB59-6E08920A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DFC20-9241-42C6-A5B1-898943ED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074C0-36AB-4206-9F8B-13CF52B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8A6-7ADF-4E89-B8B9-CA188C7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8CF38-D375-421F-914B-66BF6F0C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052A1-4F55-4953-A648-FC9DBD26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21BAA-4E5A-4AF9-B51A-FFB3F129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8F8141-B83B-4F03-AE0D-B513D02D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84D91-8EEC-4784-90BC-7DEC29B2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1AD-F82C-4512-A1EB-3624B38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8E62-EB7D-4D4E-9543-B8DF90EFE6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F1DC-CF7B-4487-9D8B-3162050671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0C13-900B-42A8-BDA6-678D94AAD9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50C8-C823-4A54-B1D6-281EDBE968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3E85-2FFE-4110-9822-14AA9F6360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ADB5-0872-4346-9471-87A991BE73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65CE-D736-49E2-B416-FB0EDDA8B2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435b"/>
                </a:solidFill>
                <a:latin typeface="Century Schoolbook"/>
              </a:rPr>
              <a:t>ОБОБЩЕНИЕ И СИСТЕМАТИЗАЦИЯ ЗНАНИЙ ПО ТЕМЕ «АТОМЫ ХИМИЧЕСКИХ ЭЛЕМЕНТОВ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85840" y="214200"/>
          <a:ext cx="8501040" cy="6215040"/>
        </p:xfrm>
        <a:graphic>
          <a:graphicData uri="http://schemas.openxmlformats.org/drawingml/2006/table">
            <a:tbl>
              <a:tblPr/>
              <a:tblGrid>
                <a:gridCol w="1700280"/>
                <a:gridCol w="1699920"/>
                <a:gridCol w="1700280"/>
                <a:gridCol w="1700280"/>
                <a:gridCol w="170028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ем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ем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ль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ем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ль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ГАДАЙТЕ ХИМИЧЕСКИЙ ЭЛЕМЕН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571680" y="1785960"/>
          <a:ext cx="8001000" cy="392904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3-й период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группа 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20 р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+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20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5,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й период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группа 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р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+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12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ПОДЧЕРКНИ ПРОСТЫЕ ВЕЩЕСТВА ОДНОЙ ЧЕРТОЙ, СЛОЖНЫЕ – ДВУМЯ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Cl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entury Schoolbook"/>
              </a:rPr>
              <a:t>2;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FeO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Fe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Fe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;  S;  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S;  CuO;   Cu;   Cu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;   P;   P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5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30081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 - античному наив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ткровенно простоват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вершенно "неделимым"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зывали греки ат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о теперь твердит наук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том - не простая шту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 устроен он хитр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центре - плотное ядр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яшут электроны крош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электронных облака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к кораблик на волн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ыть стремиться каждый а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 своим координа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http://webelements.narod.ru/elements/Mendeleev/pics/15.jpg"/>
          <p:cNvPicPr/>
          <p:nvPr/>
        </p:nvPicPr>
        <p:blipFill>
          <a:blip r:embed="rId1"/>
          <a:stretch/>
        </p:blipFill>
        <p:spPr>
          <a:xfrm>
            <a:off x="4643280" y="981000"/>
            <a:ext cx="36943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68360" y="1916280"/>
            <a:ext cx="829152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WordArt 5"/>
          <p:cNvSpPr txBox="1"/>
          <p:nvPr/>
        </p:nvSpPr>
        <p:spPr>
          <a:xfrm>
            <a:off x="2484360" y="404640"/>
            <a:ext cx="352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4" name="Организационная диаграмма 3" descr=""/>
          <p:cNvPicPr/>
          <p:nvPr/>
        </p:nvPicPr>
        <p:blipFill>
          <a:blip r:embed="rId1"/>
          <a:stretch/>
        </p:blipFill>
        <p:spPr>
          <a:xfrm>
            <a:off x="353880" y="628560"/>
            <a:ext cx="843624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68360" y="1916280"/>
            <a:ext cx="829152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WordArt 5"/>
          <p:cNvSpPr txBox="1"/>
          <p:nvPr/>
        </p:nvSpPr>
        <p:spPr>
          <a:xfrm>
            <a:off x="2484360" y="404640"/>
            <a:ext cx="352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7" name="Организационная диаграмма 3" descr=""/>
          <p:cNvPicPr/>
          <p:nvPr/>
        </p:nvPicPr>
        <p:blipFill>
          <a:blip r:embed="rId1"/>
          <a:stretch/>
        </p:blipFill>
        <p:spPr>
          <a:xfrm>
            <a:off x="353880" y="628560"/>
            <a:ext cx="843624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ИЗ ФОРМУЛ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l; Al(OH)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AlC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 A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O;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,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  ; S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S;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Cu; CuO; Cu(OH)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О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4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ПИШИ ВЕЩЕСТВА С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278604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ионной связью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 ковалентной неполярной связью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 ковалентной полярной связью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 металлической связью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ЗАПОЛНИТЕ ПРОПУСКИ В ТЕКСТЕ «СТРОЕНИЕ АТОМА»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56760" y="106632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ом состоит из двух основных частей: __________ и ________________________ 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центре атома находится __________ , вокруг которого располагаются ________________ 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дро состоит из _____________ и 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электронных слоях располагаются _______________, их заряд - _________________ , а масса - 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сса атома сосредоточена в ____________ , т.к. массой ____________ можно пренебречь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исло протонов в атоме химического элемента равно ________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Число нейтронов можно вычислить _____________________________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ряд ядра атома химического элемента равен ______________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бщее число электронов в атоме химического элемента равно 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Число заполняемых электронами энергетических уровней в атоме химического элемента равно _______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Число электронов на внешнем энергетическом уровне равно _____________________ 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аксимальное число электронов на внутренних энергетических уровнях  можно рассчитать по формуле _____________________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На внешнем энергетическом уровне у атомов металлов располагается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, ___ или ___ электрон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На внешнем энергетическом уровне у атомов неметаллов располагается  от ___ до ___ электронов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Инертные элементы (элемент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) имеют завершенный внешний энергетический уровень, на котором располагается __ электронов.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85480" y="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ом состоит из двух основных частей: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дра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лектронной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лочки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центре атома находи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дро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круг которого располагаю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ые слои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дро состоит из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тонов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йтронов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электронных слоях располагаю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ы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х заряд -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рицательный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а масса –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чтожно мала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сса атома сосредоточена в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дре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т.к. массой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ов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исло протонов в атоме химического элемента равн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го порядковому номеру в периодической систем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Число нейтронов можно вычислить по формуле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=A- Z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где А – массовое число, а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– порядковый номер элемента(число протонов)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ряд ядра атома химического элемента равен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го порядковому номеру в периодической систем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бщее число электронов в атоме химического элемента равн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го порядковому номеру в периодической систем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Число заполняемых электронами энергетических уровней в атоме химического элемента равн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меру периода в периодической систем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Число электронов на внешнем энергетическом уровне равн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меру группы (для элементов главных подгрупп)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аксимальное число электронов на внутренних энергетических уровнях  можно рассчитать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формуле  2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1" lang="ru-RU" sz="15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, где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– номер уровн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На внешнем энергетическом уровне у атомов металлов располагае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, 2 или 3 электрон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На внешнем энергетическом уровне у атомов неметаллов располагае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 4 до 7 электронов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Инертные элементы (элементы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) имеют завершенный внешний энергетический уровень, на котором располагае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 электронов.   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РЕШИТЕ ЗАДАЧКУ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557000"/>
            <a:ext cx="7467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Вычислите относительную молекулярную массу оксида кремния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и массовые доли элементов в молекуле этого вещества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Содержимое 3" descr="http://festival.1september.ru/articles/507247/img1.gif"/>
          <p:cNvPicPr/>
          <p:nvPr/>
        </p:nvPicPr>
        <p:blipFill>
          <a:blip r:embed="rId1"/>
          <a:stretch/>
        </p:blipFill>
        <p:spPr>
          <a:xfrm>
            <a:off x="785880" y="642960"/>
            <a:ext cx="75009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 - НЕТ»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 образуется в металлах 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спаренных электронов в атоме определяют путём сложения  8 и номера группы 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, образованная общими электронными парами, называется ковалентной 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– самая крупная частица вещества 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ё знаю и напишу контрольную на «5»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"/>
          <p:cNvPicPr/>
          <p:nvPr/>
        </p:nvPicPr>
        <p:blipFill>
          <a:blip r:embed="rId1"/>
          <a:stretch/>
        </p:blipFill>
        <p:spPr>
          <a:xfrm>
            <a:off x="450720" y="853920"/>
            <a:ext cx="748044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42960" y="272520"/>
            <a:ext cx="8043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зовите химический элемент, укажите его порядковый номер , относительную атомную массу, укажите его местоположение в Периодической системе  Д.И.Менделеева 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u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560" y="274320"/>
            <a:ext cx="848196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ом химического элемента заряжен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– положительно;  2. – отрицательно; 3. – заряда не име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дро атома химического элемента заряжен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– положительно; 2. – отрицательно; 3. – заряда не име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ядре атома химического элемента находятся элементарные частиц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– протоны; 2. – электроны; 3. – нейтро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ряженными частицами в атоме явля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– протоны; 2. – электроны; 3. – нейтро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920" y="274320"/>
            <a:ext cx="833904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лектроотрицательность атомов химических элементов в соединениях в пределах одного периода с увеличением порядкового номера элемент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-возрастает; 2-не изменяется; 3-уменьшае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и электронных слоя( энергетических уровня) имеет ато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-Бария; 2-Аргона; 3-Сереб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ра химических элементов,имеющих на внешнем электронном уровне по 5 электрон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-Фосфор и Кремний; 2-Азот и Сера; 3-Азот и Фосфо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3:06:20Z</dcterms:created>
  <dc:creator>User</dc:creator>
  <dc:description/>
  <dc:language>en-US</dc:language>
  <cp:lastModifiedBy>User</cp:lastModifiedBy>
  <dcterms:modified xsi:type="dcterms:W3CDTF">2017-10-24T18:32:19Z</dcterms:modified>
  <cp:revision>76</cp:revision>
  <dc:subject/>
  <dc:title>ОБОБЩЕНИЕ И СИСТЕМАТИЗАЦИЯ ЗНАНИЙ ПО ТЕМЕ «АТОМЫ ХИМИЧЕСКИХ ЭЛЕМЕНТОВ»</dc:title>
</cp:coreProperties>
</file>