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8201-2EEE-4A75-AD14-F9D22866CC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B642-0F62-467C-B1E2-7470811D2E5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4468-4801-45E7-9BAB-C9090968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2B83-DBFC-4D37-B339-EC485BE4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CD94-2D75-43A0-9947-9169DA64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C83-28CC-4EC3-81D6-A745A061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6AA9-8559-4355-8C60-7D51728C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4883-786B-444A-9F0B-7BFD0E27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BE52-4F29-4721-9B2C-9029EC65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2188-3C18-41EE-AF63-3FFDC568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1CF4-17DA-42B6-A48A-10F74DD4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EB37-AE68-4DBB-A246-4640488C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BA93-E603-43DD-9E33-FCB2A65B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2B14-70A0-4DAC-B315-5481CF58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8C74-E3D6-47A8-902C-E338D342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12DC-DEEE-4C35-BDB4-82F835F8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F170-F037-43E4-8B28-6CBE0352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147D-8D15-47E3-B312-C5B17DB9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A2D4-1D30-4728-97AB-EF75DF76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094629-7C5F-4C57-93E9-70D80F1E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29140-73AB-45D2-A8A4-95C30EB5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FFD2B-D652-450C-ABCA-EDC34924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478D98-2BE7-4024-AD3E-65C56FCE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18383-2B32-45C3-9D50-8715E47A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CF9-01E4-4EFD-A26C-432248BD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AED67-01DA-497F-BEB4-5E2519BD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E863A-DF75-401D-A086-E18FB908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547DF-3AA5-4FC9-9741-58A95D76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11E9B-04C7-4527-ADBB-2620558C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9CFD1C-DA21-4B40-8F3D-89AB6B3A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C8049-D7A1-42AD-BF64-B83BFAF4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228CB-9333-4AEE-8F58-8CEDCF4B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57DC8-37E3-402D-9FB1-6181B753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AAD6A-4F5F-49C2-9BBE-D9947E69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C7316-CDD8-4E09-B46F-3E104478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D56E-013C-4EA0-83B3-99464B00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B9578-F29C-497E-ADB9-E4589D34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388C1-F896-48A8-864A-7970BF3B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796B5-7239-4824-A023-DDC069A2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6D297-6F91-4FBC-8EBA-154E9EB0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00F84-9557-44E1-B99A-D940E267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6F18D-04B9-4E49-8187-BC7BEDFC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BAA5C-5104-4247-B5F0-3305CCBA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BC0F4-20EB-4903-9B46-FF0E8481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A515E-379C-48EA-8310-F8220428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4FC3CF-9A88-4034-AEEB-19B7F5AC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EC55-A9AD-4314-9DE2-B7BF76B4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CDAC55-2224-4023-BBD2-6B325AD0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B2B5F7-184A-4536-87E1-E932CF2C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DE94D1-C0BD-4BD8-8EAC-D651B9A6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E83E22-607C-4E55-ABF1-8EA45449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C488B1-CD19-43EE-B5DC-3D448311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841E75-376E-4D46-AD6B-5D1464EF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6767F2-AAAE-404B-AF9B-326D3D9D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6B3591-875E-4826-94E7-81561285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DCFAC8-DA7A-4ADC-BE25-C855DC59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BE4DF-4CB2-4287-9835-D812C114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7FD-AEAA-4989-869D-0C1AEC63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0445C6-1D52-430B-BCA0-423BA02B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D261F-32E8-4229-9672-55D76166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9D8D44-0AB5-4B39-A81B-297BE2F0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778E3E-5AE7-4234-89A3-ABE58C1B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CD4B24-ED06-4ECA-9F6F-354EDCB4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E32789-D24E-44DB-A825-B039FFEA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9091A6-6667-4948-9108-FA3D4D57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273C22-80CF-466D-ACC7-6F2715D3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3A8A19-01EE-4A2F-BD5A-7B19902C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A58C2D-03E0-4CB6-852B-4D550610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1D70-C055-4934-A711-43D3C92E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2DFAFC-F6EE-46E8-AED7-64FA15D9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1E8B98-932F-45DF-A6F6-2ADF8B17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739C59-7D24-494A-8DF2-31FEF15D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AD17D1-0233-4A32-B914-0F8D5C0D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C8E75C-D761-4FF6-ADCE-730CC16F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75FE23-EFCB-4B33-8CEB-4C7D7BEB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A6BFA-19C9-4C49-8FD3-5B8584E4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8CCD41-2435-40B7-97F4-AD68153F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B5D395-E7E6-4C78-A26E-6E83E9BE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1A5BAE-EC08-47A3-B9EE-6EF604A0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F41-CD75-41D0-BE34-6DC2313C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D9F635-EB79-45B4-AFAC-C65C34B7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41B025-E0CE-48F6-8181-94EF5332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21E188-7977-428D-8600-D6716824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536558-3B88-40F0-A4F2-314BE6C1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6ECEE1-4908-4FD0-BA55-B6D8874F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26E2-2767-460A-818F-CDC5BCF8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7924-3510-4EE8-8563-1ED259DC4EC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CAEE-C0A4-4C95-8258-E5032C26220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784F-B911-412E-89B2-C3BF7702B49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D661-6CD9-4C3E-9F1D-CEC80BE568B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C0C4-E924-4255-9547-64F15669887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FA0E-C3FB-4C9F-9833-33DDE683999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AC0E-A44B-4845-A0C4-DE17C44FBBA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435b"/>
                </a:solidFill>
                <a:latin typeface="Century Schoolbook"/>
              </a:rPr>
              <a:t>ОБОБЩЕНИЕ И СИСТЕМАТИЗАЦИЯ ЗНАНИЙ ПО ТЕМЕ «АТОМЫ ХИМИЧЕСКИХ ЭЛЕМЕНТОВ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500040" y="214200"/>
          <a:ext cx="8358120" cy="634068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троение ат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ложение химического элемента в таблице периодической системы Д.И.Менделе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рядковый но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ряд я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ов в ато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протонов в яд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ов в наружном сл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ных сл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500040" y="214200"/>
          <a:ext cx="8358120" cy="634068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троение ат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ложение химического элемента в таблице периодической системы Д.И.Менделе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рядковый но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ряд я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ов в ато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протонов в яд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ов в наружном сл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ных сл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285840" y="214200"/>
          <a:ext cx="8501040" cy="6215040"/>
        </p:xfrm>
        <a:graphic>
          <a:graphicData uri="http://schemas.openxmlformats.org/drawingml/2006/table">
            <a:tbl>
              <a:tblPr/>
              <a:tblGrid>
                <a:gridCol w="1700280"/>
                <a:gridCol w="1699920"/>
                <a:gridCol w="1700280"/>
                <a:gridCol w="1700280"/>
                <a:gridCol w="1700280"/>
              </a:tblGrid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прот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ней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</a:t>
                      </a: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электрон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люм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прот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ней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</a:t>
                      </a: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электрон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люм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прот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ней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</a:t>
                      </a: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электрон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люм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прот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ней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</a:t>
                      </a: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электрон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люм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рем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прот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ней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</a:t>
                      </a: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электрон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люм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рем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ль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прот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ней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Число </a:t>
                      </a:r>
                      <a:r>
                        <a:rPr b="1" lang="ru-RU" sz="17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электрон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люм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рем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ль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л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УГАДАЙТЕ ХИМИЧЕСКИЙ ЭЛЕМЕН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571680" y="1785960"/>
          <a:ext cx="8001000" cy="3929040"/>
        </p:xfrm>
        <a:graphic>
          <a:graphicData uri="http://schemas.openxmlformats.org/drawingml/2006/table">
            <a:tbl>
              <a:tblPr/>
              <a:tblGrid>
                <a:gridCol w="2666880"/>
                <a:gridCol w="2666880"/>
                <a:gridCol w="2667240"/>
              </a:tblGrid>
              <a:tr h="98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 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) 3-й период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группа 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) 20 р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+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, 20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8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)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5,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entury Schoolbook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)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 вари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й период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группа _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Б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 р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+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, 12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8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) 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Schoolbook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)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ПОДЧЕРКНИ ПРОСТЫЕ ВЕЩЕСТВА ОДНОЙ ЧЕРТОЙ, СЛОЖНЫЕ – ДВУМЯ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;  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Cl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Century Schoolbook"/>
              </a:rPr>
              <a:t>2;  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;  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FeO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;  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Fe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;   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Fe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OH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;   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;  S;  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S;  CuO;   Cu;   CuS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;   P;   P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Century Schoolbook"/>
              </a:rPr>
              <a:t>5.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857160"/>
            <a:ext cx="30081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 - античному наивн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ткровенно простоват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овершенно "неделимым"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зывали греки ат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о теперь твердит наук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Атом - не простая штук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 устроен он хитр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центре - плотное ядр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ляшут электроны крош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электронных облаках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ак кораблик на волна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лыть стремиться каждый ат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 своим координата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http://webelements.narod.ru/elements/Mendeleev/pics/15.jpg"/>
          <p:cNvPicPr/>
          <p:nvPr/>
        </p:nvPicPr>
        <p:blipFill>
          <a:blip r:embed="rId1"/>
          <a:stretch/>
        </p:blipFill>
        <p:spPr>
          <a:xfrm>
            <a:off x="4643280" y="981000"/>
            <a:ext cx="36943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68360" y="1916280"/>
            <a:ext cx="8291520" cy="46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WordArt 5"/>
          <p:cNvSpPr txBox="1"/>
          <p:nvPr/>
        </p:nvSpPr>
        <p:spPr>
          <a:xfrm>
            <a:off x="2484360" y="404640"/>
            <a:ext cx="352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94" name="Организационная диаграмма 3" descr=""/>
          <p:cNvPicPr/>
          <p:nvPr/>
        </p:nvPicPr>
        <p:blipFill>
          <a:blip r:embed="rId1"/>
          <a:stretch/>
        </p:blipFill>
        <p:spPr>
          <a:xfrm>
            <a:off x="353880" y="628560"/>
            <a:ext cx="8436240" cy="361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68360" y="1916280"/>
            <a:ext cx="8291520" cy="46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WordArt 5"/>
          <p:cNvSpPr txBox="1"/>
          <p:nvPr/>
        </p:nvSpPr>
        <p:spPr>
          <a:xfrm>
            <a:off x="2484360" y="404640"/>
            <a:ext cx="352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97" name="Организационная диаграмма 3" descr=""/>
          <p:cNvPicPr/>
          <p:nvPr/>
        </p:nvPicPr>
        <p:blipFill>
          <a:blip r:embed="rId1"/>
          <a:stretch/>
        </p:blipFill>
        <p:spPr>
          <a:xfrm>
            <a:off x="353880" y="628560"/>
            <a:ext cx="8436240" cy="361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20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ИЗ ФОРМУЛ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Al; Al(OH)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3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; AlC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;  Al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; 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; 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O; 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S,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Na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S  ; S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; S; 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S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; Cu; CuO; Cu(OH)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СО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СН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Schoolbook"/>
              </a:rPr>
              <a:t>4 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ВЫПИШИ ВЕЩЕСТВА С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2786040"/>
            <a:ext cx="74674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-ионной связью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- ковалентной неполярной связью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- ковалентной полярной связью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- металлической связью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ЗАПОЛНИТЕ ПРОПУСКИ В ТЕКСТЕ «СТРОЕНИЕ АТОМА».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56760" y="1066320"/>
            <a:ext cx="86108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ом состоит из двух основных частей: __________ и ________________________ 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центре атома находится __________ , вокруг которого располагаются ________________ 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Ядро состоит из _____________ и _____________ 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 электронных слоях располагаются _______________, их заряд - _________________ , а масса - _________________________ 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асса атома сосредоточена в ____________ , т.к. массой ____________ можно пренебречь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исло протонов в атоме химического элемента равно ____________________________________ 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Число нейтронов можно вычислить _____________________________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Заряд ядра атома химического элемента равен __________________________________________ 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Общее число электронов в атоме химического элемента равно ____________________________ 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Число заполняемых электронами энергетических уровней в атоме химического элемента равно ___________________________________ 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Число электронов на внешнем энергетическом уровне равно _____________________ 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Максимальное число электронов на внутренних энергетических уровнях  можно рассчитать по формуле _________________________________________________ 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На внешнем энергетическом уровне у атомов металлов располагается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 , ___ или ___ электрон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На внешнем энергетическом уровне у атомов неметаллов располагается  от ___ до ___ электронов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Инертные элементы (элементы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) имеют завершенный внешний энергетический уровень, на котором располагается __ электронов.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285480" y="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том состоит из двух основных частей: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дра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электронной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олочки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центре атома находится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дро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округ которого располагаются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лектроные слои.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Ядро состоит из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тонов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йтронов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 электронных слоях располагаются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лектроны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х заряд -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рицательный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а масса –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ичтожно мала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асса атома сосредоточена в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дре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т.к. массой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лектронов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пренебречь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исло протонов в атоме химического элемента равно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го порядковому номеру в периодической системе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Число нейтронов можно вычислить по формуле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=A- Z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где А – массовое число, а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Z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– порядковый номер элемента(число протонов)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Заряд ядра атома химического элемента равен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го порядковому номеру в периодической системе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Общее число электронов в атоме химического элемента равно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го порядковому номеру в периодической системе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Число заполняемых электронами энергетических уровней в атоме химического элемента равно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меру периода в периодической системе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Число электронов на внешнем энергетическом уровне равно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меру группы (для элементов главных подгрупп)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Максимальное число электронов на внутренних энергетических уровнях  можно рассчитать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формуле  2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1" lang="ru-RU" sz="15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, где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– номер уровня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На внешнем энергетическом уровне у атомов металлов располагается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, 2 или 3 электрона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На внешнем энергетическом уровне у атомов неметаллов располагается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 4 до 7 электронов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Инертные элементы (элементы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) имеют завершенный внешний энергетический уровень, на котором располагается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8 электронов.   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РЕШИТЕ ЗАДАЧКУ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557000"/>
            <a:ext cx="7467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Вычислите относительную молекулярную массу оксида кремния-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и массовые доли элементов в молекуле этого вещества.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Содержимое 3" descr="http://festival.1september.ru/articles/507247/img1.gif"/>
          <p:cNvPicPr/>
          <p:nvPr/>
        </p:nvPicPr>
        <p:blipFill>
          <a:blip r:embed="rId1"/>
          <a:stretch/>
        </p:blipFill>
        <p:spPr>
          <a:xfrm>
            <a:off x="785880" y="642960"/>
            <a:ext cx="75009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 - НЕТ»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 образуется в металлах 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еспаренных электронов в атоме определяют путём сложения  8 и номера группы 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, образованная общими электронными парами, называется ковалентной 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– самая крупная частица вещества 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сё знаю и напишу контрольную на «5»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Содержимое 3" descr=""/>
          <p:cNvPicPr/>
          <p:nvPr/>
        </p:nvPicPr>
        <p:blipFill>
          <a:blip r:embed="rId1"/>
          <a:stretch/>
        </p:blipFill>
        <p:spPr>
          <a:xfrm>
            <a:off x="450720" y="853920"/>
            <a:ext cx="748044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642960" y="272520"/>
            <a:ext cx="80438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зовите химический элемент, укажите его порядковый номер , относительную атомную массу, укажите его местоположение в Периодической системе  Д.И.Менделеева 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A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u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Z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560" y="274320"/>
            <a:ext cx="8481960" cy="63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том химического элемента заряжен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– положительно;  2. – отрицательно; 3. – заряда не имее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дро атома химического элемента заряжено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– положительно; 2. – отрицательно; 3. – заряда не имее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ядре атома химического элемента находятся элементарные частиц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– протоны; 2. – электроны; 3. – нейтро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ряженными частицами в атоме являютс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– протоны; 2. – электроны; 3. – нейтро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04920" y="274320"/>
            <a:ext cx="8339040" cy="63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лектроотрицательность атомов химических элементов в соединениях в пределах одного периода с увеличением порядкового номера элемент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-возрастает; 2-не изменяется; 3-уменьшает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и электронных слоя( энергетических уровня) имеет атом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-Бария; 2-Аргона; 3-Серебр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ара химических элементов,имеющих на внешнем электронном уровне по 5 электроно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-Фосфор и Кремний; 2-Азот и Сера; 3-Азот и Фосфо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500040" y="214200"/>
          <a:ext cx="8358120" cy="634068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троение ат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ложение химического элемента в таблице периодической системы Д.И.Менделе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рядковый но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ряд я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ов в ато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протонов в яд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ов в наружном сл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ных сл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500040" y="214200"/>
          <a:ext cx="8358120" cy="634068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троение ат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ложение химического элемента в таблице периодической системы Д.И.Менделе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рядковый но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ряд я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ов в ато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протонов в яд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ов в наружном сл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ных сл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500040" y="214200"/>
          <a:ext cx="8358120" cy="634068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троение ат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ложение химического элемента в таблице периодической системы Д.И.Менделе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рядковый но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ряд я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ов в ато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протонов в яд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ов в наружном сл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ных сл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500040" y="214200"/>
          <a:ext cx="8358120" cy="6340680"/>
        </p:xfrm>
        <a:graphic>
          <a:graphicData uri="http://schemas.openxmlformats.org/drawingml/2006/table">
            <a:tbl>
              <a:tblPr/>
              <a:tblGrid>
                <a:gridCol w="2089080"/>
                <a:gridCol w="2090880"/>
                <a:gridCol w="2089080"/>
                <a:gridCol w="20890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Строение ат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ложение химического элемента в таблице периодической системы Д.И.Менделе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рядковый но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пери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омер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ряд яд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ов в ато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протонов в яд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ов в наружном сл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Число электронных сл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3:06:20Z</dcterms:created>
  <dc:creator>User</dc:creator>
  <dc:description/>
  <dc:language>en-US</dc:language>
  <cp:lastModifiedBy>User</cp:lastModifiedBy>
  <dcterms:modified xsi:type="dcterms:W3CDTF">2017-10-24T18:32:19Z</dcterms:modified>
  <cp:revision>76</cp:revision>
  <dc:subject/>
  <dc:title>ОБОБЩЕНИЕ И СИСТЕМАТИЗАЦИЯ ЗНАНИЙ ПО ТЕМЕ «АТОМЫ ХИМИЧЕСКИХ ЭЛЕМЕНТОВ»</dc:title>
</cp:coreProperties>
</file>