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4FDC2-EAEB-4E71-82F1-19173D966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F2A4-78A2-47A9-80F9-D7EA4963D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381BD8-D194-45AF-BECF-EDD114B2C16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CA22-145F-475E-9B7D-19D326116A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D5CCA-662C-413E-9142-650200DC0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E65E7-DDC0-4325-A6DF-39B97A320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EB3-A838-4AA1-8372-BC6204AF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A52-CCA6-47F8-934D-2AB7F0FF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BFB-4DF4-4900-8678-33B6E6DC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BCF-0A33-445A-85AD-437F356E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0644-50C8-461E-9AD6-E71A7574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7C6B-D558-4E83-B8CD-A6C808A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3922-4DD7-497F-8B42-E3B2DF52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E88-50A6-43BE-A4D0-884AC7CC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A683-E538-404C-9399-392CC81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3C1-24DD-435E-BE1B-2CD50B9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0538-1D8A-423D-9783-A285427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0A2-8E06-4C93-9532-D6E8949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F4F-B508-45EB-A8BE-7FECD55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2403-369C-46D6-9FC8-5AF6503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B38-60D0-4E39-83A0-4B97BD7C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A371-F683-4167-A454-841096C0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5DA3-A0B4-4F76-B8D0-A0298AB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4A9C8-4E9D-4EB7-B25C-D8D5AB4F4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5C27F-6C77-4DA1-8F7B-7592B66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7E519-E882-4D93-98F7-6B0A9F9B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8CB60-E79B-4D22-B73B-D545D45D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E7A31-50AE-4A97-B1AA-70666B9C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2CB-99D7-4241-9145-5837092F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CAB28-EFC5-43EA-9405-7A4C61CB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1B87D-188F-47AD-87E4-2A2BAAF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EE881-EE8B-4D19-900A-A5D57E2F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761F5-1A25-4D86-A60B-8932ACE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AFB74-2E25-4146-93EB-45B54AB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37E32-3B97-4233-B3CC-6796DB7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20A35-848B-4AAE-8E3D-F0CCEF383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9CA-8C33-407A-897B-A0EFAF0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008-A9E5-4917-A689-3A3A0A9D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A6B-75D7-40CA-A9E4-123FC53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B4D-E1FE-4291-85BB-19541E4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CE5-966D-4EF2-BB6E-6C5797B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988-6122-4F18-AD6B-40FBD3E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1F0EE9-5D35-44FA-98B5-2C566772D8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C88D65-5DF0-49D1-BC15-798FEB97028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5.2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BAE953-A42D-4F04-B088-FF4C8D4446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64000" y="980640"/>
            <a:ext cx="446400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Готовность ребенка к школе – это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355640" y="2565360"/>
            <a:ext cx="4280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D:\Мои документы\Картинки и открытки\В школу3d967bf173bf.jpg"/>
          <p:cNvPicPr/>
          <p:nvPr/>
        </p:nvPicPr>
        <p:blipFill>
          <a:blip r:embed="rId1"/>
          <a:stretch/>
        </p:blipFill>
        <p:spPr>
          <a:xfrm>
            <a:off x="4932360" y="3284640"/>
            <a:ext cx="3313080" cy="2367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s://www.rosphoto.com/images/u/articles/1509/5_10.jpg"/>
          <p:cNvPicPr/>
          <p:nvPr/>
        </p:nvPicPr>
        <p:blipFill>
          <a:blip r:embed="rId2"/>
          <a:stretch/>
        </p:blipFill>
        <p:spPr>
          <a:xfrm>
            <a:off x="324000" y="2924280"/>
            <a:ext cx="367020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http://img-fotki.yandex.ru/get/6509/47407354.6eb/0_e9e5c_a84a1937_orig.png"/>
          <p:cNvPicPr/>
          <p:nvPr/>
        </p:nvPicPr>
        <p:blipFill>
          <a:blip r:embed="rId3"/>
          <a:stretch/>
        </p:blipFill>
        <p:spPr>
          <a:xfrm>
            <a:off x="611280" y="404640"/>
            <a:ext cx="19018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detvorenok.ru/wp-content/uploads/2015/09/toddler_using_scissors.jpg"/>
          <p:cNvPicPr/>
          <p:nvPr/>
        </p:nvPicPr>
        <p:blipFill>
          <a:blip r:embed="rId1"/>
          <a:stretch/>
        </p:blipFill>
        <p:spPr>
          <a:xfrm>
            <a:off x="324000" y="981000"/>
            <a:ext cx="41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zhdumalisha.ru/wp-content/uploads/2017/02/rabota-s-nozhnicami-600x536.jpg"/>
          <p:cNvPicPr/>
          <p:nvPr/>
        </p:nvPicPr>
        <p:blipFill>
          <a:blip r:embed="rId2"/>
          <a:stretch/>
        </p:blipFill>
        <p:spPr>
          <a:xfrm>
            <a:off x="4716360" y="3357720"/>
            <a:ext cx="3627720" cy="3240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902520" y="476280"/>
            <a:ext cx="239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https://static.vecteezy.com/system/resources/previews/000/078/754/original/vector-clouds-graphics-set.jpg"/>
          <p:cNvPicPr/>
          <p:nvPr/>
        </p:nvPicPr>
        <p:blipFill>
          <a:blip r:embed="rId1"/>
          <a:stretch/>
        </p:blipFill>
        <p:spPr>
          <a:xfrm>
            <a:off x="324000" y="765000"/>
            <a:ext cx="3168360" cy="2217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detskie-raskraski.ru/sites/default/files/raskraska_geometricheskie_figuri3.jpg"/>
          <p:cNvPicPr/>
          <p:nvPr/>
        </p:nvPicPr>
        <p:blipFill>
          <a:blip r:embed="rId2"/>
          <a:stretch/>
        </p:blipFill>
        <p:spPr>
          <a:xfrm>
            <a:off x="4211640" y="907920"/>
            <a:ext cx="3384720" cy="2392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https://ds02.infourok.ru/uploads/ex/0023/00011192-1e241187/hello_html_m7cfa28d4.png"/>
          <p:cNvPicPr/>
          <p:nvPr/>
        </p:nvPicPr>
        <p:blipFill>
          <a:blip r:embed="rId3"/>
          <a:stretch/>
        </p:blipFill>
        <p:spPr>
          <a:xfrm>
            <a:off x="1258920" y="3789360"/>
            <a:ext cx="6480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1116000" y="333360"/>
            <a:ext cx="5759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 это интеллектуальны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mypresentation.ru/documents/57c48e13e45ecf11b3bc761a3812b08e/img15.jpg"/>
          <p:cNvPicPr/>
          <p:nvPr/>
        </p:nvPicPr>
        <p:blipFill>
          <a:blip r:embed="rId1"/>
          <a:stretch/>
        </p:blipFill>
        <p:spPr>
          <a:xfrm>
            <a:off x="179280" y="227664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856160" y="6093000"/>
            <a:ext cx="633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готовки к школе, нужно развивать логику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59600" y="1700280"/>
            <a:ext cx="204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йди отлич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377960" y="1125360"/>
            <a:ext cx="3519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м похожи кошка и мышк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s://cdn.fishki.net/upload/post/2017/10/06/2398486/1b1a0db527e0adff519e5120644a4109.jpg"/>
          <p:cNvPicPr/>
          <p:nvPr/>
        </p:nvPicPr>
        <p:blipFill>
          <a:blip r:embed="rId2"/>
          <a:stretch/>
        </p:blipFill>
        <p:spPr>
          <a:xfrm>
            <a:off x="4356000" y="1484280"/>
            <a:ext cx="2952720" cy="1873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apus.ru/im.xp/050050051055057056048053.jpg"/>
          <p:cNvPicPr/>
          <p:nvPr/>
        </p:nvPicPr>
        <p:blipFill>
          <a:blip r:embed="rId3"/>
          <a:stretch/>
        </p:blipFill>
        <p:spPr>
          <a:xfrm>
            <a:off x="6156360" y="3429000"/>
            <a:ext cx="23860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696960" y="260280"/>
            <a:ext cx="7070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бщего и чем отличаются друг от друга пианино и скрип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://muzplanet.com/d/2_118.jpg"/>
          <p:cNvPicPr/>
          <p:nvPr/>
        </p:nvPicPr>
        <p:blipFill>
          <a:blip r:embed="rId1"/>
          <a:stretch/>
        </p:blipFill>
        <p:spPr>
          <a:xfrm>
            <a:off x="250920" y="765000"/>
            <a:ext cx="3724200" cy="324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s://im0-tub-ru.yandex.net/i?id=f158429e56a0a4fd23eed5258952e86b&amp;n=13&amp;exp=1"/>
          <p:cNvPicPr/>
          <p:nvPr/>
        </p:nvPicPr>
        <p:blipFill>
          <a:blip r:embed="rId2"/>
          <a:stretch/>
        </p:blipFill>
        <p:spPr>
          <a:xfrm>
            <a:off x="4500720" y="907920"/>
            <a:ext cx="3058920" cy="18748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906120" y="4437000"/>
            <a:ext cx="2481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твёртый лиш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https://ds04.infourok.ru/uploads/ex/0d3b/0007d56a-cf030e28/img7.jpg"/>
          <p:cNvPicPr/>
          <p:nvPr/>
        </p:nvPicPr>
        <p:blipFill>
          <a:blip r:embed="rId3"/>
          <a:stretch/>
        </p:blipFill>
        <p:spPr>
          <a:xfrm>
            <a:off x="3708360" y="3573360"/>
            <a:ext cx="44640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611280" y="260280"/>
            <a:ext cx="6553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ёрт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 это речев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http://mymarcy.ru/wp-content/uploads/2017/04/FOTO-1-3.jpg"/>
          <p:cNvPicPr/>
          <p:nvPr/>
        </p:nvPicPr>
        <p:blipFill>
          <a:blip r:embed="rId1"/>
          <a:stretch/>
        </p:blipFill>
        <p:spPr>
          <a:xfrm>
            <a:off x="250920" y="836640"/>
            <a:ext cx="3165480" cy="2160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s://www.sogaz-med.ru/images/health/kak-ne-razoritsya-na-malyshe-9-pravil-ekonomii-0.jpg"/>
          <p:cNvPicPr/>
          <p:nvPr/>
        </p:nvPicPr>
        <p:blipFill>
          <a:blip r:embed="rId2"/>
          <a:stretch/>
        </p:blipFill>
        <p:spPr>
          <a:xfrm>
            <a:off x="4140360" y="765000"/>
            <a:ext cx="3671640" cy="2449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fb.ru/media/i/7/1/8/1/5/i/71815_700x451.jpg"/>
          <p:cNvPicPr/>
          <p:nvPr/>
        </p:nvPicPr>
        <p:blipFill>
          <a:blip r:embed="rId3"/>
          <a:stretch/>
        </p:blipFill>
        <p:spPr>
          <a:xfrm>
            <a:off x="4284720" y="342900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http://fb.ru/misc/i/gallery/51087/2307868.jpg"/>
          <p:cNvPicPr/>
          <p:nvPr/>
        </p:nvPicPr>
        <p:blipFill>
          <a:blip r:embed="rId4"/>
          <a:stretch/>
        </p:blipFill>
        <p:spPr>
          <a:xfrm>
            <a:off x="611280" y="3068640"/>
            <a:ext cx="3460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179280" y="260280"/>
            <a:ext cx="8137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аша любовь , терпение  и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нашим будущим первоклассник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будут служить гара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уверенного  про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                                         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 учёб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http://kustovevgen.ru/wp-content/uploads/2018/09/DSCF0962.jpg"/>
          <p:cNvPicPr/>
          <p:nvPr/>
        </p:nvPicPr>
        <p:blipFill>
          <a:blip r:embed="rId1"/>
          <a:stretch/>
        </p:blipFill>
        <p:spPr>
          <a:xfrm>
            <a:off x="2268360" y="2997360"/>
            <a:ext cx="5040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 rot="20888400">
            <a:off x="539280" y="333000"/>
            <a:ext cx="1973520" cy="272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3059280" y="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3"/>
          <a:stretch/>
        </p:blipFill>
        <p:spPr>
          <a:xfrm rot="981000">
            <a:off x="5946480" y="399960"/>
            <a:ext cx="1779480" cy="2305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4"/>
          <a:stretch/>
        </p:blipFill>
        <p:spPr>
          <a:xfrm rot="264600">
            <a:off x="5076720" y="3141360"/>
            <a:ext cx="2330640" cy="3211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5"/>
          <a:stretch/>
        </p:blipFill>
        <p:spPr>
          <a:xfrm rot="21130800">
            <a:off x="2268360" y="3068280"/>
            <a:ext cx="2208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358040" cy="121464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9" descr="http://img-3.photosight.ru/3f2/3748069_large.jpeg"/>
          <p:cNvPicPr/>
          <p:nvPr/>
        </p:nvPicPr>
        <p:blipFill>
          <a:blip r:embed="rId1"/>
          <a:stretch/>
        </p:blipFill>
        <p:spPr>
          <a:xfrm>
            <a:off x="4500720" y="3789360"/>
            <a:ext cx="4127400" cy="287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https://user67902.clients-cdnnow.ru/localStorage/news/ba/a7/83/7e/baa7837e_resizedScaled_1020to573.jpg"/>
          <p:cNvPicPr/>
          <p:nvPr/>
        </p:nvPicPr>
        <p:blipFill>
          <a:blip r:embed="rId2"/>
          <a:stretch/>
        </p:blipFill>
        <p:spPr>
          <a:xfrm>
            <a:off x="179280" y="2133720"/>
            <a:ext cx="4230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48980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og (x-2)=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7" descr="https://tyatya.ru/upfiles/images/16-10/1476641084-1.jpg"/>
          <p:cNvPicPr/>
          <p:nvPr/>
        </p:nvPicPr>
        <p:blipFill>
          <a:blip r:embed="rId1"/>
          <a:stretch/>
        </p:blipFill>
        <p:spPr>
          <a:xfrm>
            <a:off x="2843280" y="3068640"/>
            <a:ext cx="52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836720" cy="3672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ребования к выпускнику ДО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00000" y="1125360"/>
            <a:ext cx="72374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ность в собственных си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зн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волевым усил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отвечать за свои поступ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ожел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ительное отношение к семье и соци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539640" y="260280"/>
            <a:ext cx="8229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"/>
          <p:cNvSpPr/>
          <p:nvPr/>
        </p:nvSpPr>
        <p:spPr>
          <a:xfrm>
            <a:off x="395280" y="2205000"/>
            <a:ext cx="273672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 rot="20580000">
            <a:off x="3284640" y="156996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419640" y="292428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1020000">
            <a:off x="3203640" y="4221000"/>
            <a:ext cx="2500200" cy="357480"/>
          </a:xfrm>
          <a:prstGeom prst="rightArrow">
            <a:avLst>
              <a:gd name="adj1" fmla="val 50000"/>
              <a:gd name="adj2" fmla="val 174849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796000" y="83664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286680" y="27147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286680" y="457200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D:\Мои документы\Картинки и открытки\Готовы ли к школе 7.jpg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http://www.family-abc.ru/images/vospitanie_odarennyh_deyei/smart_child_2.jpg"/>
          <p:cNvPicPr/>
          <p:nvPr/>
        </p:nvPicPr>
        <p:blipFill>
          <a:blip r:embed="rId2"/>
          <a:stretch/>
        </p:blipFill>
        <p:spPr>
          <a:xfrm>
            <a:off x="0" y="4437000"/>
            <a:ext cx="33480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s://st2.depositphotos.com/1281594/7240/v/950/depositphotos_72407859-stock-illustration-frame-with-school-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1403280" y="260280"/>
            <a:ext cx="741204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 знаешь, что такое шко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дание, где учиться надо. Чтобы учиться, чтоб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ным и получать пят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учитель пишет на доске м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учимся всю жиз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большой дом, в нём много этажей. Это где учатся д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ё там вкусно корм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ставят оценки, чтобы мамы хвал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где учат быть умным. Если будешь курить, не будешь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школе есть выходные такие… канику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больше, чем  выходные в сад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школе учатся детки, которые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зросл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st2.depositphotos.com/1281594/7240/v/950/depositphotos_72407859-stock-illustration-frame-with-school-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1479600" y="884160"/>
            <a:ext cx="668340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чешь ли ты пойти в школу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! Потому ,что можно всему научиться, узнать 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чу! В школе весело, там переменки есть… Можно бе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учиться, быть красивой, маму и папу слуш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бы ум был хоро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тобы на работе все 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тобы завести новых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делают дети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ешают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одят на пере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школе учиться долго и тру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школу ходит много детей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ми, чтобы быть умны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img-f.photosight.ru/cf8/4011641_large.jpg"/>
          <p:cNvPicPr/>
          <p:nvPr/>
        </p:nvPicPr>
        <p:blipFill>
          <a:blip r:embed="rId1"/>
          <a:stretch/>
        </p:blipFill>
        <p:spPr>
          <a:xfrm>
            <a:off x="1979640" y="1989000"/>
            <a:ext cx="4824360" cy="34927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3724920" y="5516640"/>
            <a:ext cx="2535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403560" y="189000"/>
            <a:ext cx="70128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формирование социальной позиции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щее – это произвольность. Рассматр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аспект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сть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s://1.bp.blogspot.com/-B51w6pMuuho/WIxTeScGVgI/AAAAAAAAAs0/q-ZojXSYNdoM0-9wEB46fk9lWLXEY11VQCLcB/s1600/kletki_dom_kater_machina.gif"/>
          <p:cNvPicPr/>
          <p:nvPr/>
        </p:nvPicPr>
        <p:blipFill>
          <a:blip r:embed="rId1"/>
          <a:srcRect l="5225" t="3481" r="12890" b="7659"/>
          <a:stretch/>
        </p:blipFill>
        <p:spPr>
          <a:xfrm>
            <a:off x="179280" y="765000"/>
            <a:ext cx="3168720" cy="343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900igr.net/up/datai/260307/0019-010-.jpg"/>
          <p:cNvPicPr/>
          <p:nvPr/>
        </p:nvPicPr>
        <p:blipFill>
          <a:blip r:embed="rId2"/>
          <a:stretch/>
        </p:blipFill>
        <p:spPr>
          <a:xfrm>
            <a:off x="2700360" y="4292640"/>
            <a:ext cx="4143240" cy="235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s://ds04.infourok.ru/uploads/ex/0e02/000eee99-c358e231/hello_html_m13d63019.jpg"/>
          <p:cNvPicPr/>
          <p:nvPr/>
        </p:nvPicPr>
        <p:blipFill>
          <a:blip r:embed="rId3"/>
          <a:stretch/>
        </p:blipFill>
        <p:spPr>
          <a:xfrm>
            <a:off x="3492360" y="1052640"/>
            <a:ext cx="4392720" cy="3206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704520" y="260280"/>
            <a:ext cx="587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сть двигательно- моторной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4465800" cy="53294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336320" y="620640"/>
            <a:ext cx="2478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SPecialiST</cp:lastModifiedBy>
  <dcterms:modified xsi:type="dcterms:W3CDTF">2018-12-16T12:59:29Z</dcterms:modified>
  <cp:revision>54</cp:revision>
  <dc:subject/>
  <dc:title>Готовность к школе – это…</dc:title>
</cp:coreProperties>
</file>