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28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dt" idx="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1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1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BF923-BAE5-4D02-8791-018A0AEBA4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F8C7A-340C-4764-87FB-43D8807CEB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3C8A4A-16C3-41A2-98AD-72281955F888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47E87-6C5F-4DDB-ACAB-3F6C4E35C0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E70F6-FEE0-411D-AB99-8CEA878971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5DE82-57F6-444D-A89D-A3E7651CBE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7D2-B82F-46EE-8229-8E695ABF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B3C-7CC2-400A-A035-DC9B7807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CDD-C015-4618-BB75-67CE168D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117-1D27-496C-9ACB-17692CDD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551B-3639-4DD1-BFE2-45D41EC2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2DBB-D4BE-4A7C-B9B9-9D6AD7D0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9549-D65F-4000-B102-627C474E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0E34-607A-4F1F-85B2-3D0A253C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C137-336C-4D1A-ADFB-B7D4FA04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34FB-3BD0-4935-A76F-7AE942D3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C90D-02CA-43D3-AFFA-0A32F951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548-FE29-43C5-8877-41534070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3200-9ED8-4DED-8FC4-0A51BE12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E7DB-1060-4C84-A4BB-F40195E4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9E2A-AED1-46FF-8667-704A03CC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4AB3-6435-44B8-B22D-C270DE1F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6EF6-BEBA-4E8F-AB66-3DEE4D0C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C2D89-729A-47C3-A6EE-589AC3F4EE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9045D-F4DC-4259-BF97-6BE55B82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86063-1C64-42D6-ADFC-CEE4AEF4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F5EEFE-8702-41BD-BC95-9BAEB33A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D04DD-B22B-4634-B384-D1A21DC8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C4AA-1EB1-4239-97F2-D1D35A18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4C1B0-0D0D-4141-9E95-4279D377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D5206-6CD0-4EBD-8953-C1D07D7B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8B5FF-4A3B-42A5-8CD3-069658A1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E97B5-6E47-4AD9-A8EC-C1A1111D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BB25BC-A8A5-41E7-952C-8B167BE2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2BA4F-9AE0-4C9B-9BE6-F2FD2717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EF328-9E1C-413C-B8C8-EA9A9FDFAD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587D-3729-46A9-A5FE-7EAAAB3F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FF3-60CE-45D3-8439-1A2CAA30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865-A44F-4447-AD13-D73ABEA2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6C9-EEBA-40E9-B94B-0F4BF4D1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162-8C94-4B5F-AE3F-5034D646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11A-470B-4E2C-B13F-4CE40A5B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CF8DA6-69C9-495B-91DE-A4D85EFD675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8D3135-02D8-4015-8240-384184C80AF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5.2.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DA5E5B-902D-4E15-83E7-1833C726AF0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64000" y="980640"/>
            <a:ext cx="4464000" cy="52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Готовность ребенка к школе – это…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355640" y="2565360"/>
            <a:ext cx="42800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Picture 2" descr="D:\Мои документы\Картинки и открытки\В школу3d967bf173bf.jpg"/>
          <p:cNvPicPr/>
          <p:nvPr/>
        </p:nvPicPr>
        <p:blipFill>
          <a:blip r:embed="rId1"/>
          <a:stretch/>
        </p:blipFill>
        <p:spPr>
          <a:xfrm>
            <a:off x="4932360" y="3284640"/>
            <a:ext cx="3313080" cy="2367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https://www.rosphoto.com/images/u/articles/1509/5_10.jpg"/>
          <p:cNvPicPr/>
          <p:nvPr/>
        </p:nvPicPr>
        <p:blipFill>
          <a:blip r:embed="rId2"/>
          <a:stretch/>
        </p:blipFill>
        <p:spPr>
          <a:xfrm>
            <a:off x="324000" y="2924280"/>
            <a:ext cx="3670200" cy="244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http://img-fotki.yandex.ru/get/6509/47407354.6eb/0_e9e5c_a84a1937_orig.png"/>
          <p:cNvPicPr/>
          <p:nvPr/>
        </p:nvPicPr>
        <p:blipFill>
          <a:blip r:embed="rId3"/>
          <a:stretch/>
        </p:blipFill>
        <p:spPr>
          <a:xfrm>
            <a:off x="611280" y="404640"/>
            <a:ext cx="190188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ttp://detvorenok.ru/wp-content/uploads/2015/09/toddler_using_scissors.jpg"/>
          <p:cNvPicPr/>
          <p:nvPr/>
        </p:nvPicPr>
        <p:blipFill>
          <a:blip r:embed="rId1"/>
          <a:stretch/>
        </p:blipFill>
        <p:spPr>
          <a:xfrm>
            <a:off x="324000" y="981000"/>
            <a:ext cx="4125600" cy="2879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zhdumalisha.ru/wp-content/uploads/2017/02/rabota-s-nozhnicami-600x536.jpg"/>
          <p:cNvPicPr/>
          <p:nvPr/>
        </p:nvPicPr>
        <p:blipFill>
          <a:blip r:embed="rId2"/>
          <a:stretch/>
        </p:blipFill>
        <p:spPr>
          <a:xfrm>
            <a:off x="4716360" y="3357720"/>
            <a:ext cx="3627720" cy="32400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3"/>
          <p:cNvSpPr/>
          <p:nvPr/>
        </p:nvSpPr>
        <p:spPr>
          <a:xfrm>
            <a:off x="902520" y="476280"/>
            <a:ext cx="2393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ножни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https://static.vecteezy.com/system/resources/previews/000/078/754/original/vector-clouds-graphics-set.jpg"/>
          <p:cNvPicPr/>
          <p:nvPr/>
        </p:nvPicPr>
        <p:blipFill>
          <a:blip r:embed="rId1"/>
          <a:stretch/>
        </p:blipFill>
        <p:spPr>
          <a:xfrm>
            <a:off x="324000" y="765000"/>
            <a:ext cx="3168360" cy="2217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http://detskie-raskraski.ru/sites/default/files/raskraska_geometricheskie_figuri3.jpg"/>
          <p:cNvPicPr/>
          <p:nvPr/>
        </p:nvPicPr>
        <p:blipFill>
          <a:blip r:embed="rId2"/>
          <a:stretch/>
        </p:blipFill>
        <p:spPr>
          <a:xfrm>
            <a:off x="4211640" y="907920"/>
            <a:ext cx="3384720" cy="2392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https://ds02.infourok.ru/uploads/ex/0023/00011192-1e241187/hello_html_m7cfa28d4.png"/>
          <p:cNvPicPr/>
          <p:nvPr/>
        </p:nvPicPr>
        <p:blipFill>
          <a:blip r:embed="rId3"/>
          <a:stretch/>
        </p:blipFill>
        <p:spPr>
          <a:xfrm>
            <a:off x="1258920" y="3789360"/>
            <a:ext cx="64800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1116000" y="333360"/>
            <a:ext cx="57596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ь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ставляющее психологической готовности к школе- это интеллектуальный компон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http://mypresentation.ru/documents/57c48e13e45ecf11b3bc761a3812b08e/img15.jpg"/>
          <p:cNvPicPr/>
          <p:nvPr/>
        </p:nvPicPr>
        <p:blipFill>
          <a:blip r:embed="rId1"/>
          <a:stretch/>
        </p:blipFill>
        <p:spPr>
          <a:xfrm>
            <a:off x="179280" y="227664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"/>
          <p:cNvSpPr/>
          <p:nvPr/>
        </p:nvSpPr>
        <p:spPr>
          <a:xfrm>
            <a:off x="1856160" y="6093000"/>
            <a:ext cx="6331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дготовки к школе, нужно развивать логику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759600" y="1700280"/>
            <a:ext cx="2043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йди отлич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5"/>
          <p:cNvSpPr/>
          <p:nvPr/>
        </p:nvSpPr>
        <p:spPr>
          <a:xfrm>
            <a:off x="4377960" y="1125360"/>
            <a:ext cx="3519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м похожи кошка и мышка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https://cdn.fishki.net/upload/post/2017/10/06/2398486/1b1a0db527e0adff519e5120644a4109.jpg"/>
          <p:cNvPicPr/>
          <p:nvPr/>
        </p:nvPicPr>
        <p:blipFill>
          <a:blip r:embed="rId2"/>
          <a:stretch/>
        </p:blipFill>
        <p:spPr>
          <a:xfrm>
            <a:off x="4356000" y="1484280"/>
            <a:ext cx="2952720" cy="1873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http://apus.ru/im.xp/050050051055057056048053.jpg"/>
          <p:cNvPicPr/>
          <p:nvPr/>
        </p:nvPicPr>
        <p:blipFill>
          <a:blip r:embed="rId3"/>
          <a:stretch/>
        </p:blipFill>
        <p:spPr>
          <a:xfrm>
            <a:off x="6156360" y="3429000"/>
            <a:ext cx="238608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1"/>
          <p:cNvSpPr/>
          <p:nvPr/>
        </p:nvSpPr>
        <p:spPr>
          <a:xfrm>
            <a:off x="696960" y="260280"/>
            <a:ext cx="7070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бщего и чем отличаются друг от друга пианино и скрип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http://muzplanet.com/d/2_118.jpg"/>
          <p:cNvPicPr/>
          <p:nvPr/>
        </p:nvPicPr>
        <p:blipFill>
          <a:blip r:embed="rId1"/>
          <a:stretch/>
        </p:blipFill>
        <p:spPr>
          <a:xfrm>
            <a:off x="250920" y="765000"/>
            <a:ext cx="3724200" cy="3240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https://im0-tub-ru.yandex.net/i?id=f158429e56a0a4fd23eed5258952e86b&amp;n=13&amp;exp=1"/>
          <p:cNvPicPr/>
          <p:nvPr/>
        </p:nvPicPr>
        <p:blipFill>
          <a:blip r:embed="rId2"/>
          <a:stretch/>
        </p:blipFill>
        <p:spPr>
          <a:xfrm>
            <a:off x="4500720" y="907920"/>
            <a:ext cx="3058920" cy="1874880"/>
          </a:xfrm>
          <a:prstGeom prst="rect">
            <a:avLst/>
          </a:prstGeom>
          <a:ln w="0">
            <a:noFill/>
          </a:ln>
        </p:spPr>
      </p:pic>
      <p:sp>
        <p:nvSpPr>
          <p:cNvPr id="293" name="TextBox 4"/>
          <p:cNvSpPr/>
          <p:nvPr/>
        </p:nvSpPr>
        <p:spPr>
          <a:xfrm>
            <a:off x="906120" y="4437000"/>
            <a:ext cx="2481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твёртый лишн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https://ds04.infourok.ru/uploads/ex/0d3b/0007d56a-cf030e28/img7.jpg"/>
          <p:cNvPicPr/>
          <p:nvPr/>
        </p:nvPicPr>
        <p:blipFill>
          <a:blip r:embed="rId3"/>
          <a:stretch/>
        </p:blipFill>
        <p:spPr>
          <a:xfrm>
            <a:off x="3708360" y="3573360"/>
            <a:ext cx="446400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Прямоугольник 1"/>
          <p:cNvSpPr/>
          <p:nvPr/>
        </p:nvSpPr>
        <p:spPr>
          <a:xfrm>
            <a:off x="611280" y="260280"/>
            <a:ext cx="65530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вёрто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ставляющее психологической готовности к школе- это речев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http://mymarcy.ru/wp-content/uploads/2017/04/FOTO-1-3.jpg"/>
          <p:cNvPicPr/>
          <p:nvPr/>
        </p:nvPicPr>
        <p:blipFill>
          <a:blip r:embed="rId1"/>
          <a:stretch/>
        </p:blipFill>
        <p:spPr>
          <a:xfrm>
            <a:off x="250920" y="836640"/>
            <a:ext cx="3165480" cy="21607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https://www.sogaz-med.ru/images/health/kak-ne-razoritsya-na-malyshe-9-pravil-ekonomii-0.jpg"/>
          <p:cNvPicPr/>
          <p:nvPr/>
        </p:nvPicPr>
        <p:blipFill>
          <a:blip r:embed="rId2"/>
          <a:stretch/>
        </p:blipFill>
        <p:spPr>
          <a:xfrm>
            <a:off x="4140360" y="765000"/>
            <a:ext cx="3671640" cy="2449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http://fb.ru/media/i/7/1/8/1/5/i/71815_700x451.jpg"/>
          <p:cNvPicPr/>
          <p:nvPr/>
        </p:nvPicPr>
        <p:blipFill>
          <a:blip r:embed="rId3"/>
          <a:stretch/>
        </p:blipFill>
        <p:spPr>
          <a:xfrm>
            <a:off x="4284720" y="3429000"/>
            <a:ext cx="4032360" cy="25923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http://fb.ru/misc/i/gallery/51087/2307868.jpg"/>
          <p:cNvPicPr/>
          <p:nvPr/>
        </p:nvPicPr>
        <p:blipFill>
          <a:blip r:embed="rId4"/>
          <a:stretch/>
        </p:blipFill>
        <p:spPr>
          <a:xfrm>
            <a:off x="611280" y="3068640"/>
            <a:ext cx="3460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179280" y="260280"/>
            <a:ext cx="813780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Ваша любовь , терпение  и помощ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нашим будущим первоклассника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будут служить гаран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уверенного  продвиж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                                           </a:t>
            </a:r>
            <a:r>
              <a:rPr b="0" lang="ru-RU" sz="3600" spc="-1" strike="noStrike">
                <a:solidFill>
                  <a:srgbClr val="d60093"/>
                </a:solidFill>
                <a:latin typeface="Arial"/>
              </a:rPr>
              <a:t>в учёбе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http://kustovevgen.ru/wp-content/uploads/2018/09/DSCF0962.jpg"/>
          <p:cNvPicPr/>
          <p:nvPr/>
        </p:nvPicPr>
        <p:blipFill>
          <a:blip r:embed="rId1"/>
          <a:stretch/>
        </p:blipFill>
        <p:spPr>
          <a:xfrm>
            <a:off x="2268360" y="2997360"/>
            <a:ext cx="504036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 rot="20888400">
            <a:off x="539280" y="333000"/>
            <a:ext cx="1973520" cy="2725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2"/>
          <a:stretch/>
        </p:blipFill>
        <p:spPr>
          <a:xfrm>
            <a:off x="3059280" y="0"/>
            <a:ext cx="2232000" cy="2708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3"/>
          <a:stretch/>
        </p:blipFill>
        <p:spPr>
          <a:xfrm rot="981000">
            <a:off x="5946480" y="399960"/>
            <a:ext cx="1779480" cy="2305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4"/>
          <a:stretch/>
        </p:blipFill>
        <p:spPr>
          <a:xfrm rot="264600">
            <a:off x="5076720" y="3141360"/>
            <a:ext cx="2330640" cy="32115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"/>
          <p:cNvPicPr/>
          <p:nvPr/>
        </p:nvPicPr>
        <p:blipFill>
          <a:blip r:embed="rId5"/>
          <a:stretch/>
        </p:blipFill>
        <p:spPr>
          <a:xfrm rot="21130800">
            <a:off x="2268360" y="3068280"/>
            <a:ext cx="22082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7358040" cy="1214640"/>
          </a:xfrm>
          <a:prstGeom prst="rect">
            <a:avLst/>
          </a:prstGeom>
          <a:solidFill>
            <a:srgbClr val="dce6f2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4400" spc="-1" strike="noStrike">
                <a:solidFill>
                  <a:srgbClr val="ff000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" name="Picture 9" descr="http://img-3.photosight.ru/3f2/3748069_large.jpeg"/>
          <p:cNvPicPr/>
          <p:nvPr/>
        </p:nvPicPr>
        <p:blipFill>
          <a:blip r:embed="rId1"/>
          <a:stretch/>
        </p:blipFill>
        <p:spPr>
          <a:xfrm>
            <a:off x="4500720" y="3789360"/>
            <a:ext cx="4127400" cy="2879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1" descr="https://user67902.clients-cdnnow.ru/localStorage/news/ba/a7/83/7e/baa7837e_resizedScaled_1020to573.jpg"/>
          <p:cNvPicPr/>
          <p:nvPr/>
        </p:nvPicPr>
        <p:blipFill>
          <a:blip r:embed="rId2"/>
          <a:stretch/>
        </p:blipFill>
        <p:spPr>
          <a:xfrm>
            <a:off x="179280" y="2133720"/>
            <a:ext cx="423072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48980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Log (x-2)=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7" descr="https://tyatya.ru/upfiles/images/16-10/1476641084-1.jpg"/>
          <p:cNvPicPr/>
          <p:nvPr/>
        </p:nvPicPr>
        <p:blipFill>
          <a:blip r:embed="rId1"/>
          <a:stretch/>
        </p:blipFill>
        <p:spPr>
          <a:xfrm>
            <a:off x="2843280" y="3068640"/>
            <a:ext cx="5292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1836720" cy="3672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Требования к выпускнику ДО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900000" y="1125360"/>
            <a:ext cx="723744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еренность в собственных сил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зна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ь к волевым усил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атив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ность отвечать за свои поступ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рожелатель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ажительное отношение к семье и социу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539640" y="260280"/>
            <a:ext cx="822960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"/>
          <p:cNvSpPr/>
          <p:nvPr/>
        </p:nvSpPr>
        <p:spPr>
          <a:xfrm>
            <a:off x="395280" y="2205000"/>
            <a:ext cx="2736720" cy="180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ТО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"/>
          <p:cNvSpPr/>
          <p:nvPr/>
        </p:nvSpPr>
        <p:spPr>
          <a:xfrm rot="20580000">
            <a:off x="3284640" y="1569960"/>
            <a:ext cx="2500200" cy="357120"/>
          </a:xfrm>
          <a:prstGeom prst="rightArrow">
            <a:avLst>
              <a:gd name="adj1" fmla="val 50000"/>
              <a:gd name="adj2" fmla="val 175025"/>
            </a:avLst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/>
          <p:cNvSpPr/>
          <p:nvPr/>
        </p:nvSpPr>
        <p:spPr>
          <a:xfrm>
            <a:off x="3419640" y="2924280"/>
            <a:ext cx="2500200" cy="357120"/>
          </a:xfrm>
          <a:prstGeom prst="rightArrow">
            <a:avLst>
              <a:gd name="adj1" fmla="val 50000"/>
              <a:gd name="adj2" fmla="val 175025"/>
            </a:avLst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5"/>
          <p:cNvSpPr/>
          <p:nvPr/>
        </p:nvSpPr>
        <p:spPr>
          <a:xfrm rot="1020000">
            <a:off x="3203640" y="4221000"/>
            <a:ext cx="2500200" cy="357480"/>
          </a:xfrm>
          <a:prstGeom prst="rightArrow">
            <a:avLst>
              <a:gd name="adj1" fmla="val 50000"/>
              <a:gd name="adj2" fmla="val 174849"/>
            </a:avLst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5796000" y="836640"/>
            <a:ext cx="221436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О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286680" y="2714760"/>
            <a:ext cx="221436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286680" y="4572000"/>
            <a:ext cx="221436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D:\Мои документы\Картинки и открытки\Готовы ли к школе 7.jpg"/>
          <p:cNvPicPr/>
          <p:nvPr/>
        </p:nvPicPr>
        <p:blipFill>
          <a:blip r:embed="rId1"/>
          <a:stretch/>
        </p:blipFill>
        <p:spPr>
          <a:xfrm>
            <a:off x="0" y="0"/>
            <a:ext cx="3132000" cy="2133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http://www.family-abc.ru/images/vospitanie_odarennyh_deyei/smart_child_2.jpg"/>
          <p:cNvPicPr/>
          <p:nvPr/>
        </p:nvPicPr>
        <p:blipFill>
          <a:blip r:embed="rId2"/>
          <a:stretch/>
        </p:blipFill>
        <p:spPr>
          <a:xfrm>
            <a:off x="0" y="4437000"/>
            <a:ext cx="3348000" cy="24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https://st2.depositphotos.com/1281594/7240/v/950/depositphotos_72407859-stock-illustration-frame-with-school-childr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3"/>
          <p:cNvSpPr/>
          <p:nvPr/>
        </p:nvSpPr>
        <p:spPr>
          <a:xfrm>
            <a:off x="1403280" y="260280"/>
            <a:ext cx="741204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 знаешь, что такое шко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здание, где учиться надо. Чтобы учиться, чтобы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ным и получать пяте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то где учитель пишет на доске м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то где учимся всю жизн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то большой дом, в нём много этажей. Это где учатся де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ё там вкусно корм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то где ставят оценки, чтобы мамы хвал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о где учат быть умным. Если будешь курить, не будешь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школе есть выходные такие… канику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больше, чем  выходные в сад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 школе учатся детки, которые у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зросл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https://st2.depositphotos.com/1281594/7240/v/950/depositphotos_72407859-stock-illustration-frame-with-school-childr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3"/>
          <p:cNvSpPr/>
          <p:nvPr/>
        </p:nvSpPr>
        <p:spPr>
          <a:xfrm>
            <a:off x="1479600" y="884160"/>
            <a:ext cx="6683400" cy="59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очешь ли ты пойти в школу?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а! Потому ,что можно всему научиться, узнать м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чу! В школе весело, там переменки есть… Можно бег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учиться, быть красивой, маму и папу слуш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тобы ум был хорош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тобы на работе все з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тобы завести новых др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делают дети в школ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Решают при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Ходят на перем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школе учиться долго и тру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 школу ходит много детей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ми, чтобы быть умным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ttp://img-f.photosight.ru/cf8/4011641_large.jpg"/>
          <p:cNvPicPr/>
          <p:nvPr/>
        </p:nvPicPr>
        <p:blipFill>
          <a:blip r:embed="rId1"/>
          <a:stretch/>
        </p:blipFill>
        <p:spPr>
          <a:xfrm>
            <a:off x="1979640" y="1989000"/>
            <a:ext cx="4824360" cy="34927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2"/>
          <p:cNvSpPr/>
          <p:nvPr/>
        </p:nvSpPr>
        <p:spPr>
          <a:xfrm>
            <a:off x="3724920" y="5516640"/>
            <a:ext cx="2535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 –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403560" y="189000"/>
            <a:ext cx="701280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ставляющее психологической готовности к школ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формирование социальной позиции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о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ющее – это произвольность. Рассматр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вух аспект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извольность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https://1.bp.blogspot.com/-B51w6pMuuho/WIxTeScGVgI/AAAAAAAAAs0/q-ZojXSYNdoM0-9wEB46fk9lWLXEY11VQCLcB/s1600/kletki_dom_kater_machina.gif"/>
          <p:cNvPicPr/>
          <p:nvPr/>
        </p:nvPicPr>
        <p:blipFill>
          <a:blip r:embed="rId1"/>
          <a:srcRect l="5225" t="3481" r="12890" b="7659"/>
          <a:stretch/>
        </p:blipFill>
        <p:spPr>
          <a:xfrm>
            <a:off x="179280" y="765000"/>
            <a:ext cx="3168720" cy="3437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http://900igr.net/up/datai/260307/0019-010-.jpg"/>
          <p:cNvPicPr/>
          <p:nvPr/>
        </p:nvPicPr>
        <p:blipFill>
          <a:blip r:embed="rId2"/>
          <a:stretch/>
        </p:blipFill>
        <p:spPr>
          <a:xfrm>
            <a:off x="2700360" y="4292640"/>
            <a:ext cx="4143240" cy="2355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https://ds04.infourok.ru/uploads/ex/0e02/000eee99-c358e231/hello_html_m13d63019.jpg"/>
          <p:cNvPicPr/>
          <p:nvPr/>
        </p:nvPicPr>
        <p:blipFill>
          <a:blip r:embed="rId3"/>
          <a:stretch/>
        </p:blipFill>
        <p:spPr>
          <a:xfrm>
            <a:off x="3492360" y="1052640"/>
            <a:ext cx="4392720" cy="32065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704520" y="260280"/>
            <a:ext cx="5878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извольность двигательно- моторной сф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Рисунок 1" descr=""/>
          <p:cNvPicPr/>
          <p:nvPr/>
        </p:nvPicPr>
        <p:blipFill>
          <a:blip r:embed="rId1"/>
          <a:stretch/>
        </p:blipFill>
        <p:spPr>
          <a:xfrm>
            <a:off x="2627280" y="981000"/>
            <a:ext cx="4465800" cy="53294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2"/>
          <p:cNvSpPr/>
          <p:nvPr/>
        </p:nvSpPr>
        <p:spPr>
          <a:xfrm>
            <a:off x="1336320" y="620640"/>
            <a:ext cx="2478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чески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RePack by SPecialiST</cp:lastModifiedBy>
  <dcterms:modified xsi:type="dcterms:W3CDTF">2018-12-16T12:59:29Z</dcterms:modified>
  <cp:revision>54</cp:revision>
  <dc:subject/>
  <dc:title>Готовность к школе – это…</dc:title>
</cp:coreProperties>
</file>