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EB1D-243D-4743-B564-6C8225C0DB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1D41-3B0C-443A-8E69-1AD3067929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6ADE-1D14-4C9C-AB36-19EB222E7A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8B45-DF36-4BDE-875B-EBD2670F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E2B7-DBF3-4EBD-92A4-C22D42F3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D0A-1FDD-46E6-A1B1-0F1B36B1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F0D-ABF3-44E8-8440-A3A3CC89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8203-488F-4D51-8069-F8D7DF76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80E4-9578-4FD7-8F7E-D36490DA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8362-A8E6-4628-BF8F-AEABDDD8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3F3C-36FB-4B57-80FC-D6BE7C3A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71FC-A494-45FE-9513-07E3C34F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DD28-857B-42EC-BD8B-FEB4E33F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96D3-0043-4858-AB82-FCAD5ABC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423-D27D-41E6-B498-D8121D81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3802-88F3-4986-926C-A481E503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46F8-18A2-4B77-B3C9-16203730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CE84-1830-4DCF-8F9C-D2A7EF3E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56F9-388D-4203-9A14-373D97D6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765B-39CA-4F7B-8AE8-143646C5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B5A6-C134-429C-83BD-B8699A9C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31742-5921-43CC-914E-D15049A0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D351-3B48-402D-8471-5A59D366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820A8-4685-4044-8881-B3E74C4E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A4B24-F7F6-4B37-9120-D9AB7173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E9F-CC16-43E3-8B75-BA552C6D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55F09-5635-4664-899B-0450B16B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512F1-F32D-43D4-9F3B-A34FA9E7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06AE-3674-48AE-85CF-5E4DE3E4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75CEB-D2EA-4826-9081-69672759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3AD6-7817-43C0-B34B-1D10ADC4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F233E-BF04-485A-89FF-190820FC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33957-DC3B-4157-A26E-1BFC388D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F9B79-D6EF-4248-BFF8-A566ABB6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4ED5C8-BE50-4B6D-BDEE-7BE79971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CB1B11-9C12-470D-9E17-91F71AFB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3A8-A5EB-4CE0-A7DC-6958E959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EDCCBC-B076-4111-AF5D-58C52618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048106-6B49-4A33-91DF-D1A6DA20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1D1F3-1F4A-4CB8-B532-AC26779E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71630-8A0D-48E3-9564-15BED32D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56F0D-0160-46E0-B271-92682460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EDF709-73BD-4AD2-9755-D97ED5F2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C58595-0DC3-4C72-9E14-305606EF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041AAD-D578-42E8-A62A-2BF4233B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954502-F96C-4B16-8985-01BFABCE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B0E-37ED-4037-81D4-C3FDE0B6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DE9-7886-4CBF-9F1E-596BAF37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D22-B7F0-40A4-BFB4-D771AEE6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F03-2C53-43C6-A6F8-4FF4CE46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F2F-C681-459A-AFFD-574CF07D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2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6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E45B-8A68-4097-AE76-D616AAB531E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7398-EBDA-49F1-B131-2D7AC86CA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7329-BEC7-4689-8DA7-25EA8B77AC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B779-1278-4B82-B2BE-C85543B9BD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7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CRCTR142"/>
          <p:cNvPicPr/>
          <p:nvPr/>
        </p:nvPicPr>
        <p:blipFill>
          <a:blip r:embed="rId1"/>
          <a:stretch/>
        </p:blipFill>
        <p:spPr>
          <a:xfrm>
            <a:off x="5562720" y="1371600"/>
            <a:ext cx="3840120" cy="5283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928800" y="856800"/>
            <a:ext cx="565920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 Black"/>
              </a:rPr>
              <a:t>КВН</a:t>
            </a: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-2469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 Black"/>
              </a:rPr>
              <a:t>по английскому язык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46960" indent="-2469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2286000" y="4786200"/>
            <a:ext cx="392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Times New Roman"/>
              </a:rPr>
              <a:t>Подготовила: Фаттахова А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Times New Roman"/>
              </a:rPr>
              <a:t>учитель английского 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Times New Roman"/>
              </a:rPr>
              <a:t>МБОУ Гимназия с. Большой Сардек имени К.Ф.Шакиро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Match the proverbs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 East or West, home is be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 A friend in need is a friend inde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 It is never too late to lear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4.</a:t>
            </a: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 Time is mone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5.</a:t>
            </a: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 There is no smoke without fir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6.</a:t>
            </a: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 Two heads are better than one.</a:t>
            </a:r>
            <a:r>
              <a:rPr b="1" i="1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omic"/>
              </a:rPr>
              <a:t>Пословиц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В гостях хорошо, а дома лучш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Друг познаётся в бед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Учиться никогда не поздно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4.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Время – деньг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5.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Нет дыма без огн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6.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Ум хорошо, а два лучш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64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Complete the sentenc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4" descr="CRCTR007"/>
          <p:cNvPicPr/>
          <p:nvPr/>
        </p:nvPicPr>
        <p:blipFill>
          <a:blip r:embed="rId1"/>
          <a:stretch/>
        </p:blipFill>
        <p:spPr>
          <a:xfrm>
            <a:off x="1619280" y="2205000"/>
            <a:ext cx="3092400" cy="4038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CRCTR007"/>
          <p:cNvPicPr/>
          <p:nvPr/>
        </p:nvPicPr>
        <p:blipFill>
          <a:blip r:embed="rId2"/>
          <a:stretch/>
        </p:blipFill>
        <p:spPr>
          <a:xfrm>
            <a:off x="4876920" y="1905120"/>
            <a:ext cx="3160440" cy="4127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84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466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000" y="112536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, to, skate, winter, like, i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2) plays, with, He, football, his friends, on Sunday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3)My, watches, every, father, TV, evening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) I, got, have, nice, a, kitten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0d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84360" y="1484280"/>
            <a:ext cx="79912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 like to skate in winte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He plays football with his friends on Sunday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3. My father watches TV every evening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4. I have got a nice kitte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AMERI007"/>
          <p:cNvPicPr/>
          <p:nvPr/>
        </p:nvPicPr>
        <p:blipFill>
          <a:blip r:embed="rId1"/>
          <a:stretch/>
        </p:blipFill>
        <p:spPr>
          <a:xfrm>
            <a:off x="2916360" y="1989000"/>
            <a:ext cx="4779720" cy="4869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Black"/>
              </a:rPr>
              <a:t>Lex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2361960" cy="1523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3886200" y="762120"/>
            <a:ext cx="3476520" cy="2523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457200" y="2362320"/>
            <a:ext cx="2257560" cy="1057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4"/>
          <a:stretch/>
        </p:blipFill>
        <p:spPr>
          <a:xfrm>
            <a:off x="0" y="3429000"/>
            <a:ext cx="5353200" cy="1676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5"/>
          <a:stretch/>
        </p:blipFill>
        <p:spPr>
          <a:xfrm>
            <a:off x="7467480" y="1981080"/>
            <a:ext cx="1314720" cy="1676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6"/>
          <a:stretch/>
        </p:blipFill>
        <p:spPr>
          <a:xfrm>
            <a:off x="5562720" y="33526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485019"/>
          <p:cNvPicPr/>
          <p:nvPr/>
        </p:nvPicPr>
        <p:blipFill>
          <a:blip r:embed="rId7"/>
          <a:stretch/>
        </p:blipFill>
        <p:spPr>
          <a:xfrm>
            <a:off x="5257800" y="5029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471016"/>
          <p:cNvPicPr/>
          <p:nvPr/>
        </p:nvPicPr>
        <p:blipFill>
          <a:blip r:embed="rId8"/>
          <a:stretch/>
        </p:blipFill>
        <p:spPr>
          <a:xfrm>
            <a:off x="2971800" y="45720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9"/>
          <a:stretch/>
        </p:blipFill>
        <p:spPr>
          <a:xfrm>
            <a:off x="3124080" y="2057400"/>
            <a:ext cx="1285920" cy="130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"/>
          <p:cNvPicPr/>
          <p:nvPr/>
        </p:nvPicPr>
        <p:blipFill>
          <a:blip r:embed="rId10"/>
          <a:stretch/>
        </p:blipFill>
        <p:spPr>
          <a:xfrm>
            <a:off x="3200400" y="5181480"/>
            <a:ext cx="152388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4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66"/>
                </a:solidFill>
                <a:uFillTx/>
                <a:latin typeface="comic"/>
              </a:rPr>
              <a:t>Guess these animals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233" name="Picture 5" descr="dog"/>
          <p:cNvPicPr/>
          <p:nvPr/>
        </p:nvPicPr>
        <p:blipFill>
          <a:blip r:embed="rId1"/>
          <a:stretch/>
        </p:blipFill>
        <p:spPr>
          <a:xfrm>
            <a:off x="1622520" y="1676520"/>
            <a:ext cx="5897520" cy="44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5" descr="кошка"/>
          <p:cNvPicPr/>
          <p:nvPr/>
        </p:nvPicPr>
        <p:blipFill>
          <a:blip r:embed="rId1"/>
          <a:stretch/>
        </p:blipFill>
        <p:spPr>
          <a:xfrm>
            <a:off x="611280" y="476280"/>
            <a:ext cx="7920000" cy="5946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мышь"/>
          <p:cNvPicPr/>
          <p:nvPr/>
        </p:nvPicPr>
        <p:blipFill>
          <a:blip r:embed="rId1"/>
          <a:stretch/>
        </p:blipFill>
        <p:spPr>
          <a:xfrm>
            <a:off x="684360" y="54936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CRCTR142"/>
          <p:cNvPicPr/>
          <p:nvPr/>
        </p:nvPicPr>
        <p:blipFill>
          <a:blip r:embed="rId1"/>
          <a:stretch/>
        </p:blipFill>
        <p:spPr>
          <a:xfrm>
            <a:off x="5580000" y="1341360"/>
            <a:ext cx="3840120" cy="5283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395280" y="1844640"/>
            <a:ext cx="6913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 Black"/>
              </a:rPr>
              <a:t>Connoisseurs of Englis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Знатоки английского языка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волк"/>
          <p:cNvPicPr/>
          <p:nvPr/>
        </p:nvPicPr>
        <p:blipFill>
          <a:blip r:embed="rId1"/>
          <a:stretch/>
        </p:blipFill>
        <p:spPr>
          <a:xfrm>
            <a:off x="826920" y="620640"/>
            <a:ext cx="7670880" cy="5753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лев"/>
          <p:cNvPicPr/>
          <p:nvPr/>
        </p:nvPicPr>
        <p:blipFill>
          <a:blip r:embed="rId1"/>
          <a:srcRect l="0" t="0" r="0" b="7047"/>
          <a:stretch/>
        </p:blipFill>
        <p:spPr>
          <a:xfrm>
            <a:off x="900000" y="907920"/>
            <a:ext cx="7344000" cy="5185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лиса"/>
          <p:cNvPicPr/>
          <p:nvPr/>
        </p:nvPicPr>
        <p:blipFill>
          <a:blip r:embed="rId1"/>
          <a:stretch/>
        </p:blipFill>
        <p:spPr>
          <a:xfrm>
            <a:off x="684360" y="476280"/>
            <a:ext cx="7827840" cy="5870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медведь"/>
          <p:cNvPicPr/>
          <p:nvPr/>
        </p:nvPicPr>
        <p:blipFill>
          <a:blip r:embed="rId1"/>
          <a:srcRect l="0" t="0" r="0" b="8539"/>
          <a:stretch/>
        </p:blipFill>
        <p:spPr>
          <a:xfrm>
            <a:off x="971640" y="592200"/>
            <a:ext cx="7632720" cy="5595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слон"/>
          <p:cNvPicPr/>
          <p:nvPr/>
        </p:nvPicPr>
        <p:blipFill>
          <a:blip r:embed="rId1"/>
          <a:srcRect l="0" t="0" r="0" b="7271"/>
          <a:stretch/>
        </p:blipFill>
        <p:spPr>
          <a:xfrm>
            <a:off x="755640" y="692280"/>
            <a:ext cx="799308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aquarium_fish_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540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Собака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 dog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Кошка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 ca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Мышь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 mo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лк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 wol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Лев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 l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Лиса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 a fo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Медведь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 be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Слон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n eleph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Рыба –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 fish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ROUND 8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Конкурс капитан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4" name="Picture 4" descr="BALLETCO23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5143680" y="2071800"/>
            <a:ext cx="2512800" cy="3657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SOCESHLD"/>
          <p:cNvPicPr/>
          <p:nvPr/>
        </p:nvPicPr>
        <p:blipFill>
          <a:blip r:embed="rId2"/>
          <a:stretch/>
        </p:blipFill>
        <p:spPr>
          <a:xfrm>
            <a:off x="1928880" y="2000160"/>
            <a:ext cx="2739960" cy="388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2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301680" y="260280"/>
          <a:ext cx="8540640" cy="6299280"/>
        </p:xfrm>
        <a:graphic>
          <a:graphicData uri="http://schemas.openxmlformats.org/drawingml/2006/table">
            <a:tbl>
              <a:tblPr/>
              <a:tblGrid>
                <a:gridCol w="1220760"/>
                <a:gridCol w="1219320"/>
                <a:gridCol w="1220760"/>
                <a:gridCol w="1218960"/>
                <a:gridCol w="1220760"/>
                <a:gridCol w="1219320"/>
                <a:gridCol w="12207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301680" y="260280"/>
          <a:ext cx="8540640" cy="6400800"/>
        </p:xfrm>
        <a:graphic>
          <a:graphicData uri="http://schemas.openxmlformats.org/drawingml/2006/table">
            <a:tbl>
              <a:tblPr/>
              <a:tblGrid>
                <a:gridCol w="1220760"/>
                <a:gridCol w="1219320"/>
                <a:gridCol w="1220760"/>
                <a:gridCol w="1218960"/>
                <a:gridCol w="1220760"/>
                <a:gridCol w="1219320"/>
                <a:gridCol w="12207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u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1628640"/>
            <a:ext cx="851040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omic"/>
              </a:rPr>
              <a:t>GREETING</a:t>
            </a:r>
            <a:br>
              <a:rPr sz="7200"/>
            </a:br>
            <a:r>
              <a:rPr b="1" i="1" lang="en-US" sz="7200" spc="-1" strike="noStrike">
                <a:solidFill>
                  <a:srgbClr val="ff0000"/>
                </a:solidFill>
                <a:latin typeface="comic"/>
              </a:rPr>
              <a:t>(</a:t>
            </a:r>
            <a:r>
              <a:rPr b="1" i="1" lang="ru-RU" sz="7200" spc="-1" strike="noStrike">
                <a:solidFill>
                  <a:srgbClr val="ff0000"/>
                </a:solidFill>
                <a:latin typeface="comic"/>
              </a:rPr>
              <a:t>приветствие</a:t>
            </a:r>
            <a:r>
              <a:rPr b="1" i="1" lang="en-US" sz="7200" spc="-1" strike="noStrike">
                <a:solidFill>
                  <a:srgbClr val="ff0000"/>
                </a:solidFill>
                <a:latin typeface="comic"/>
              </a:rPr>
              <a:t>)</a:t>
            </a: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104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Guess the riddles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Плачет громко младший бра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уб сломал о крепкий ...  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ut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Запах чудесный, нельзя   ошибиться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Это ж, друзья, итальянская ... 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izza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116000" y="549000"/>
            <a:ext cx="77263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1.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исло-сладкий он на вкус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итаминный пейте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2.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Пять часов уже поч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Ждёт нас всех горячий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3.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Ростом я своим горжусь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 детства пил томатный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Times New Roman"/>
              </a:rPr>
              <a:t>4.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Хлеб им мажут все ребята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Нам даёт корова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99640" y="476280"/>
            <a:ext cx="7559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Вреден курам быстрый бег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Ведь разбиться может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Знают дети: обезья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Любит фрукт, что звать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7.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Пчёлы не спя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целый день на диване 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Цветы опыляют и делают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8.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Нужен всем нам на обе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Пышный, вкусный, свежий ..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9.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От жары сейчас сгорим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х, подайте  ..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10.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Я его хоть банку съем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Из клубники вкусен ..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11.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Всех фотографов каприз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м сказать всем слово 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01680" y="692280"/>
            <a:ext cx="8540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uic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7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n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ea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8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re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uice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9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ce-cr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utter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0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gg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1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hee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ana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9720" y="2356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Arial Black"/>
              </a:rPr>
              <a:t>Good luck to you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466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AMERI007"/>
          <p:cNvPicPr/>
          <p:nvPr/>
        </p:nvPicPr>
        <p:blipFill>
          <a:blip r:embed="rId1"/>
          <a:stretch/>
        </p:blipFill>
        <p:spPr>
          <a:xfrm>
            <a:off x="2916360" y="1989000"/>
            <a:ext cx="4779720" cy="4869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254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Warm-up</a:t>
            </a:r>
            <a:br>
              <a:rPr sz="7200"/>
            </a:br>
            <a:r>
              <a:rPr b="1" lang="ru-RU" sz="7200" spc="-1" strike="noStrike">
                <a:solidFill>
                  <a:srgbClr val="703dff"/>
                </a:solidFill>
                <a:latin typeface="Comic Sans MS"/>
              </a:rPr>
              <a:t>Разминк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99"/>
                </a:solidFill>
                <a:latin typeface="Comic Sans MS"/>
              </a:rPr>
              <a:t>Tongue twister</a:t>
            </a:r>
            <a:r>
              <a:rPr b="1" lang="en-US" sz="5400" spc="-1" strike="noStrike">
                <a:solidFill>
                  <a:srgbClr val="cc0099"/>
                </a:solidFill>
                <a:latin typeface="Comic Sans MS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That’s the man who sat on my hat in the tr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2.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The cook took a good look at the cookery boo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3.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Oh, no, don’t go home alone! Nobody knows how lonely the road i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466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35280" y="907920"/>
            <a:ext cx="612144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What words are hidden?</a:t>
            </a:r>
            <a:br>
              <a:rPr sz="4400"/>
            </a:br>
            <a:r>
              <a:rPr b="0" lang="en-US" sz="3600" spc="-1" strike="noStrike">
                <a:solidFill>
                  <a:srgbClr val="703dff"/>
                </a:solidFill>
                <a:latin typeface="Candara"/>
              </a:rPr>
              <a:t>Find out and translate the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826920" y="278136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1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19. 3. 8. 15. 15. 1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2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20. 5. 1. 3. 8. 5. 1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Unicode MS"/>
              </a:rPr>
              <a:t>3)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3. 8. 9. 12. 4. 18. 5. 1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68360" y="2204640"/>
            <a:ext cx="511200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Algeri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comic"/>
              </a:rPr>
              <a:t> </a:t>
            </a:r>
            <a:r>
              <a:rPr b="1" lang="en-US" sz="4800" spc="-1" strike="noStrike">
                <a:solidFill>
                  <a:srgbClr val="0033cc"/>
                </a:solidFill>
                <a:latin typeface="comic"/>
              </a:rPr>
              <a:t>Schoo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comic"/>
              </a:rPr>
              <a:t>2) Teache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comic"/>
              </a:rPr>
              <a:t>3) childre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fff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86920" y="151920"/>
            <a:ext cx="720108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Times New Roman"/>
                <a:ea typeface="Times New Roman"/>
              </a:rPr>
              <a:t>Find the "wrong" word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280" y="1285560"/>
            <a:ext cx="82803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Coffee, tea, milk, skate, ju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Sport, cake, egg, sandwich, bre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Kitchen, dining room, hall, bathroom, carp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Table, shelf, arm-chair, dress, sof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9280" y="1285560"/>
            <a:ext cx="828036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Coffee, tea, milk,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skate,</a:t>
            </a: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 ju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Sport</a:t>
            </a: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, cake, egg, sandwich, bre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Kitchen, dining room, hall, bathroom,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carpet</a:t>
            </a: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Table, shelf, arm-chair,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dress</a:t>
            </a:r>
            <a:r>
              <a:rPr b="0" lang="en-US" sz="3200" spc="-1" strike="noStrike">
                <a:solidFill>
                  <a:srgbClr val="cc0099"/>
                </a:solidFill>
                <a:latin typeface="Arial Black"/>
              </a:rPr>
              <a:t>, sof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8:41:50Z</dcterms:created>
  <dc:creator>Admin</dc:creator>
  <dc:description/>
  <dc:language>en-US</dc:language>
  <cp:lastModifiedBy>user</cp:lastModifiedBy>
  <dcterms:modified xsi:type="dcterms:W3CDTF">2018-12-15T21:15:10Z</dcterms:modified>
  <cp:revision>60</cp:revision>
  <dc:subject/>
  <dc:title>Слайд 1</dc:title>
</cp:coreProperties>
</file>