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014D-4C12-4ADE-9A2B-0004D7023A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66A3-1798-4936-89F6-537E17D430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79B2-F088-4736-957F-3435D2FE31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0813-21B5-4A3E-B46F-19EEBCF9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0ECE-E3AE-4AF7-A7D9-C678D40F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98CC-5101-48D6-8F0A-A68F2BCE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E91-E366-4BDF-91FA-4303D381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3CC7-DB44-4369-BE81-4BCCAD00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9ACA-7656-4153-BE39-33F772F2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5CB1-486F-4F5D-B8EA-4FB32F16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98AA-3102-4A4F-BCC5-DD92E66B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E2C0-B3CD-40EE-BF70-576516D4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F0F3-135D-40F4-987C-123141A1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44BD-6BFE-4A82-8F0E-8B956610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ADC-5C7C-4E3C-A13C-58055288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04CB-B4A3-494F-A66C-C801AEB6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D824-5856-4C64-9429-1D393693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D655-57FA-4F30-8A0C-1F28FF05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E338-AE90-4222-9441-63B128F0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52DB-132E-43C7-B3A9-B0F9DB53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63E73-344C-4777-A833-F047211B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58D04-1DB9-477A-9004-50E50068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5360C-B3C8-4791-817E-1C96B452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62D39-CC9D-4A74-A189-36382D37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12CAD-6FDA-408D-A7BD-FF52B1D1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480-3FB1-4662-BE8A-EB10A472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8C178-0450-492E-870A-323460CD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8D371-9BE6-43CC-AC21-B5A09469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6EB17-3CC0-46EE-924F-DAC727C1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10DA0-AE60-4F73-B89E-A26AECAD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1F40D-BC20-41C7-9F66-12D7AA16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662E8-1EF1-4033-9950-36E29088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F7B9E-10BD-4E19-B9BD-5804334E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1D01D9-2030-41E4-8464-FEE1ABC4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7421E7-159D-4EC1-AAB2-98331256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BC6A3E-B3CE-4206-B746-FECA139C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B1B-5264-45E9-96BA-41C13077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58BF99-882A-4969-AC35-9021145D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5E568A-F1D2-4274-B394-64C10009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372485-52CE-44CA-A88E-3E21EBD0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5BCC40-78F2-4C82-8EF6-6987096A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19C789-0DF6-4944-9DCD-02689E33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91B643-D6DD-4373-8AF2-F95A8ACD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A2F59B-D716-4228-9C8F-D3039D5A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5D0B06-80E2-4531-9160-F111EF9D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BEC390-819B-439D-A060-C664AC81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1BE9-4F29-4C82-A250-544FE53E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CB2-4A9A-4CEB-B09C-31D4296F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4E2-6D77-45DD-9730-E2EB9754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1FBA-3F43-4D66-8C4B-B1F7A891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78D-EA4A-4095-A810-0184D23D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2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6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EC16-EF8F-4B6F-B07B-CFF95D4D615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1DF3-3F3A-40FB-AD7C-42832B17A9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3B85-7DAB-4638-A63C-0E26C19402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E6FD-DA58-4889-B1F5-FABB1651C5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7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CRCTR142"/>
          <p:cNvPicPr/>
          <p:nvPr/>
        </p:nvPicPr>
        <p:blipFill>
          <a:blip r:embed="rId1"/>
          <a:stretch/>
        </p:blipFill>
        <p:spPr>
          <a:xfrm>
            <a:off x="5562720" y="1371600"/>
            <a:ext cx="3840120" cy="5283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928800" y="856800"/>
            <a:ext cx="565920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Arial Black"/>
              </a:rPr>
              <a:t>КВН</a:t>
            </a: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-24696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Arial Black"/>
              </a:rPr>
              <a:t>по английскому язык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-24696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Arial Blac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2286000" y="4786200"/>
            <a:ext cx="392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dff"/>
                </a:solidFill>
                <a:latin typeface="Times New Roman"/>
              </a:rPr>
              <a:t>Подготовила: Фаттахова А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dff"/>
                </a:solidFill>
                <a:latin typeface="Times New Roman"/>
              </a:rPr>
              <a:t>учитель английского 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dff"/>
                </a:solidFill>
                <a:latin typeface="Times New Roman"/>
              </a:rPr>
              <a:t>МБОУ Гимназия с. Большой Сардек имени К.Ф.Шакиро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Match the proverbs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 East or West, home is be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 A friend in need is a friend inde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 It is never too late to lear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4.</a:t>
            </a: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 Time is mone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5.</a:t>
            </a: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 There is no smoke without fir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6.</a:t>
            </a: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 Two heads are better than one.</a:t>
            </a: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"/>
              </a:rPr>
              <a:t>Пословиц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В гостях хорошо, а дома лучш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Друг познаётся в бед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Учиться никогда не поздно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4.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Время – деньг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5.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Нет дыма без огн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6.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Ум хорошо, а два лучш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52480" y="685440"/>
            <a:ext cx="64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Complete the sentenc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Picture 4" descr="CRCTR007"/>
          <p:cNvPicPr/>
          <p:nvPr/>
        </p:nvPicPr>
        <p:blipFill>
          <a:blip r:embed="rId1"/>
          <a:stretch/>
        </p:blipFill>
        <p:spPr>
          <a:xfrm>
            <a:off x="1619280" y="2205000"/>
            <a:ext cx="3092400" cy="4038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CRCTR007"/>
          <p:cNvPicPr/>
          <p:nvPr/>
        </p:nvPicPr>
        <p:blipFill>
          <a:blip r:embed="rId2"/>
          <a:stretch/>
        </p:blipFill>
        <p:spPr>
          <a:xfrm>
            <a:off x="4876920" y="1905120"/>
            <a:ext cx="3160440" cy="4127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466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68000" y="112536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, to, skate, winter, like, in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2) plays, with, He, football, his friends, on Sunday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)My, watches, every, father, TV, evening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4) I, got, have, nice, a, kitten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0d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84360" y="1484280"/>
            <a:ext cx="799128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 like to skate in winter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He plays football with his friends on Sunday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3. My father watches TV every evening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4. I have got a nice kitte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AMERI007"/>
          <p:cNvPicPr/>
          <p:nvPr/>
        </p:nvPicPr>
        <p:blipFill>
          <a:blip r:embed="rId1"/>
          <a:stretch/>
        </p:blipFill>
        <p:spPr>
          <a:xfrm>
            <a:off x="2916360" y="1989000"/>
            <a:ext cx="4779720" cy="4869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Lexic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2361960" cy="1523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3886200" y="762120"/>
            <a:ext cx="3476520" cy="2523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457200" y="2362320"/>
            <a:ext cx="2257560" cy="1057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4"/>
          <a:stretch/>
        </p:blipFill>
        <p:spPr>
          <a:xfrm>
            <a:off x="0" y="3429000"/>
            <a:ext cx="5353200" cy="1676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5"/>
          <a:stretch/>
        </p:blipFill>
        <p:spPr>
          <a:xfrm>
            <a:off x="7467480" y="1981080"/>
            <a:ext cx="1314720" cy="1676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6"/>
          <a:stretch/>
        </p:blipFill>
        <p:spPr>
          <a:xfrm>
            <a:off x="5562720" y="33526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485019"/>
          <p:cNvPicPr/>
          <p:nvPr/>
        </p:nvPicPr>
        <p:blipFill>
          <a:blip r:embed="rId7"/>
          <a:stretch/>
        </p:blipFill>
        <p:spPr>
          <a:xfrm>
            <a:off x="5257800" y="5029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471016"/>
          <p:cNvPicPr/>
          <p:nvPr/>
        </p:nvPicPr>
        <p:blipFill>
          <a:blip r:embed="rId8"/>
          <a:stretch/>
        </p:blipFill>
        <p:spPr>
          <a:xfrm>
            <a:off x="2971800" y="45720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"/>
          <p:cNvPicPr/>
          <p:nvPr/>
        </p:nvPicPr>
        <p:blipFill>
          <a:blip r:embed="rId9"/>
          <a:stretch/>
        </p:blipFill>
        <p:spPr>
          <a:xfrm>
            <a:off x="3124080" y="2057400"/>
            <a:ext cx="1285920" cy="130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"/>
          <p:cNvPicPr/>
          <p:nvPr/>
        </p:nvPicPr>
        <p:blipFill>
          <a:blip r:embed="rId10"/>
          <a:stretch/>
        </p:blipFill>
        <p:spPr>
          <a:xfrm>
            <a:off x="3200400" y="5181480"/>
            <a:ext cx="152388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4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66"/>
                </a:solidFill>
                <a:uFillTx/>
                <a:latin typeface="comic"/>
              </a:rPr>
              <a:t>Guess these animals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33" name="Picture 5" descr="dog"/>
          <p:cNvPicPr/>
          <p:nvPr/>
        </p:nvPicPr>
        <p:blipFill>
          <a:blip r:embed="rId1"/>
          <a:stretch/>
        </p:blipFill>
        <p:spPr>
          <a:xfrm>
            <a:off x="1622520" y="1676520"/>
            <a:ext cx="5897520" cy="44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кошка"/>
          <p:cNvPicPr/>
          <p:nvPr/>
        </p:nvPicPr>
        <p:blipFill>
          <a:blip r:embed="rId1"/>
          <a:stretch/>
        </p:blipFill>
        <p:spPr>
          <a:xfrm>
            <a:off x="611280" y="476280"/>
            <a:ext cx="7920000" cy="5946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мышь"/>
          <p:cNvPicPr/>
          <p:nvPr/>
        </p:nvPicPr>
        <p:blipFill>
          <a:blip r:embed="rId1"/>
          <a:stretch/>
        </p:blipFill>
        <p:spPr>
          <a:xfrm>
            <a:off x="684360" y="549360"/>
            <a:ext cx="7632720" cy="572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CRCTR142"/>
          <p:cNvPicPr/>
          <p:nvPr/>
        </p:nvPicPr>
        <p:blipFill>
          <a:blip r:embed="rId1"/>
          <a:stretch/>
        </p:blipFill>
        <p:spPr>
          <a:xfrm>
            <a:off x="5580000" y="1341360"/>
            <a:ext cx="3840120" cy="5283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395280" y="1844640"/>
            <a:ext cx="6913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 Black"/>
              </a:rPr>
              <a:t>Connoisseurs of English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Знатоки английского языка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волк"/>
          <p:cNvPicPr/>
          <p:nvPr/>
        </p:nvPicPr>
        <p:blipFill>
          <a:blip r:embed="rId1"/>
          <a:stretch/>
        </p:blipFill>
        <p:spPr>
          <a:xfrm>
            <a:off x="826920" y="620640"/>
            <a:ext cx="7670880" cy="5753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лев"/>
          <p:cNvPicPr/>
          <p:nvPr/>
        </p:nvPicPr>
        <p:blipFill>
          <a:blip r:embed="rId1"/>
          <a:srcRect l="0" t="0" r="0" b="7047"/>
          <a:stretch/>
        </p:blipFill>
        <p:spPr>
          <a:xfrm>
            <a:off x="900000" y="907920"/>
            <a:ext cx="7344000" cy="5185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лиса"/>
          <p:cNvPicPr/>
          <p:nvPr/>
        </p:nvPicPr>
        <p:blipFill>
          <a:blip r:embed="rId1"/>
          <a:stretch/>
        </p:blipFill>
        <p:spPr>
          <a:xfrm>
            <a:off x="684360" y="476280"/>
            <a:ext cx="7827840" cy="5870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медведь"/>
          <p:cNvPicPr/>
          <p:nvPr/>
        </p:nvPicPr>
        <p:blipFill>
          <a:blip r:embed="rId1"/>
          <a:srcRect l="0" t="0" r="0" b="8539"/>
          <a:stretch/>
        </p:blipFill>
        <p:spPr>
          <a:xfrm>
            <a:off x="971640" y="592200"/>
            <a:ext cx="7632720" cy="5595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слон"/>
          <p:cNvPicPr/>
          <p:nvPr/>
        </p:nvPicPr>
        <p:blipFill>
          <a:blip r:embed="rId1"/>
          <a:srcRect l="0" t="0" r="0" b="7271"/>
          <a:stretch/>
        </p:blipFill>
        <p:spPr>
          <a:xfrm>
            <a:off x="755640" y="692280"/>
            <a:ext cx="799308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aquarium_fish_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01680" y="0"/>
            <a:ext cx="8540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Собака –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 dog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Кошка –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 ca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Мышь –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 mo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олк –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 wol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Лев –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 l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Лиса –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a fo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Медведь –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 be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Слон –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n elepha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Рыба –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 fish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ROUND 8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Конкурс капитан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Picture 4" descr="BALLETCO23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5143680" y="2071800"/>
            <a:ext cx="2512800" cy="3657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SOCESHLD"/>
          <p:cNvPicPr/>
          <p:nvPr/>
        </p:nvPicPr>
        <p:blipFill>
          <a:blip r:embed="rId2"/>
          <a:stretch/>
        </p:blipFill>
        <p:spPr>
          <a:xfrm>
            <a:off x="1928880" y="2000160"/>
            <a:ext cx="2739960" cy="3881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2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2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301680" y="260280"/>
          <a:ext cx="8540640" cy="6299280"/>
        </p:xfrm>
        <a:graphic>
          <a:graphicData uri="http://schemas.openxmlformats.org/drawingml/2006/table">
            <a:tbl>
              <a:tblPr/>
              <a:tblGrid>
                <a:gridCol w="1220760"/>
                <a:gridCol w="1219320"/>
                <a:gridCol w="1220760"/>
                <a:gridCol w="1218960"/>
                <a:gridCol w="1220760"/>
                <a:gridCol w="1219320"/>
                <a:gridCol w="12207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301680" y="260280"/>
          <a:ext cx="8540640" cy="6400800"/>
        </p:xfrm>
        <a:graphic>
          <a:graphicData uri="http://schemas.openxmlformats.org/drawingml/2006/table">
            <a:tbl>
              <a:tblPr/>
              <a:tblGrid>
                <a:gridCol w="1220760"/>
                <a:gridCol w="1219320"/>
                <a:gridCol w="1220760"/>
                <a:gridCol w="1218960"/>
                <a:gridCol w="1220760"/>
                <a:gridCol w="1219320"/>
                <a:gridCol w="12207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1628640"/>
            <a:ext cx="851040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"/>
              </a:rPr>
              <a:t>GREETING</a:t>
            </a:r>
            <a:br>
              <a:rPr sz="7200"/>
            </a:br>
            <a:r>
              <a:rPr b="1" i="1" lang="en-US" sz="7200" spc="-1" strike="noStrike">
                <a:solidFill>
                  <a:srgbClr val="ff0000"/>
                </a:solidFill>
                <a:latin typeface="comic"/>
              </a:rPr>
              <a:t>(</a:t>
            </a:r>
            <a:r>
              <a:rPr b="1" i="1" lang="ru-RU" sz="7200" spc="-1" strike="noStrike">
                <a:solidFill>
                  <a:srgbClr val="ff0000"/>
                </a:solidFill>
                <a:latin typeface="comic"/>
              </a:rPr>
              <a:t>приветствие</a:t>
            </a:r>
            <a:r>
              <a:rPr b="1" i="1" lang="en-US" sz="7200" spc="-1" strike="noStrike">
                <a:solidFill>
                  <a:srgbClr val="ff0000"/>
                </a:solidFill>
                <a:latin typeface="comic"/>
              </a:rPr>
              <a:t>)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104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Guess the riddles: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42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Плачет громко младший бра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уб сломал о крепкий ...  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ut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Запах чудесный, нельзя   ошибиться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Это ж, друзья, итальянская ... 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izza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116000" y="549000"/>
            <a:ext cx="77263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1.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исло-сладкий он на вкус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итаминный пейте 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2.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Пять часов уже поч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Ждёт нас всех горячий 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3.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Ростом я своим горжусь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 детства пил томатный 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4.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Хлеб им мажут все ребят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м даёт корова 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99640" y="476280"/>
            <a:ext cx="75596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Вреден курам быстрый бег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Ведь разбиться может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6.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 Знают дети: обезья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Любит фрукт, что звать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7.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 Пчёлы не спя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целый день на диване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Цветы опыляют и делают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8.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 Нужен всем нам на обе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Пышный, вкусный, свежий ..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9.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От жары сейчас сгорим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х, подайте  ..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10.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Я его хоть банку съем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Из клубники вкусен ..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11.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Всех фотографов каприз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м сказать всем слово 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01680" y="692280"/>
            <a:ext cx="85406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uic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7)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ne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ea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8)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re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uice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9)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ce-cr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utter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0)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gg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1)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ee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ana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9720" y="2356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Arial Black"/>
              </a:rPr>
              <a:t>Good luck to you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466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AMERI007"/>
          <p:cNvPicPr/>
          <p:nvPr/>
        </p:nvPicPr>
        <p:blipFill>
          <a:blip r:embed="rId1"/>
          <a:stretch/>
        </p:blipFill>
        <p:spPr>
          <a:xfrm>
            <a:off x="2916360" y="1989000"/>
            <a:ext cx="4779720" cy="4869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254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Warm-up</a:t>
            </a:r>
            <a:br>
              <a:rPr sz="7200"/>
            </a:br>
            <a:r>
              <a:rPr b="1" lang="ru-RU" sz="7200" spc="-1" strike="noStrike">
                <a:solidFill>
                  <a:srgbClr val="703dff"/>
                </a:solidFill>
                <a:latin typeface="Comic Sans MS"/>
              </a:rPr>
              <a:t>Разминк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99"/>
                </a:solidFill>
                <a:latin typeface="Comic Sans MS"/>
              </a:rPr>
              <a:t>Tongue twister</a:t>
            </a:r>
            <a:r>
              <a:rPr b="1" lang="en-US" sz="5400" spc="-1" strike="noStrike">
                <a:solidFill>
                  <a:srgbClr val="cc0099"/>
                </a:solidFill>
                <a:latin typeface="Comic Sans MS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696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That’s the man who sat on my hat in the tr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2.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The cook took a good look at the cookery boo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3.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Oh, no, don’t go home alone! Nobody knows how lonely the road i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466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35280" y="907920"/>
            <a:ext cx="612144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What words are hidden?</a:t>
            </a:r>
            <a:br>
              <a:rPr sz="4400"/>
            </a:br>
            <a:r>
              <a:rPr b="0" lang="en-US" sz="3600" spc="-1" strike="noStrike">
                <a:solidFill>
                  <a:srgbClr val="703dff"/>
                </a:solidFill>
                <a:latin typeface="Candara"/>
              </a:rPr>
              <a:t>Find out and translate the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826920" y="278136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19. 3. 8. 15. 15. 1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20. 5. 1. 3. 8. 5. 1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Unicode MS"/>
              </a:rPr>
              <a:t>3)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3. 8. 9. 12. 4. 18. 5. 1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268360" y="2204640"/>
            <a:ext cx="511200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33cc"/>
              </a:buClr>
              <a:buFont typeface="Algeri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comic"/>
              </a:rPr>
              <a:t> </a:t>
            </a:r>
            <a:r>
              <a:rPr b="1" lang="en-US" sz="4800" spc="-1" strike="noStrike">
                <a:solidFill>
                  <a:srgbClr val="0033cc"/>
                </a:solidFill>
                <a:latin typeface="comic"/>
              </a:rPr>
              <a:t>Schoo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comic"/>
              </a:rPr>
              <a:t>2) Teache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comic"/>
              </a:rPr>
              <a:t>3) childre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86920" y="151920"/>
            <a:ext cx="720108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Find the "wrong" word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280" y="1285560"/>
            <a:ext cx="82803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Coffee, tea, milk, skate, jui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Sport, cake, egg, sandwich, bre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Kitchen, dining room, hall, bathroom, carp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Table, shelf, arm-chair, dress, sof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9280" y="1285560"/>
            <a:ext cx="82803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Coffee, tea, milk,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skate,</a:t>
            </a: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 jui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Sport</a:t>
            </a: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, cake, egg, sandwich, bre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Kitchen, dining room, hall, bathroom,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carpet</a:t>
            </a: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Table, shelf, arm-chair,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dress</a:t>
            </a: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, sof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8:41:50Z</dcterms:created>
  <dc:creator>Admin</dc:creator>
  <dc:description/>
  <dc:language>en-US</dc:language>
  <cp:lastModifiedBy>user</cp:lastModifiedBy>
  <dcterms:modified xsi:type="dcterms:W3CDTF">2018-12-15T21:15:10Z</dcterms:modified>
  <cp:revision>60</cp:revision>
  <dc:subject/>
  <dc:title>Слайд 1</dc:title>
</cp:coreProperties>
</file>