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8DF-496D-4E10-96BE-9BF16D8E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6D6-C5FD-4067-B71B-E9EB1AA0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65C-8CA4-4BEF-B4DA-FC9FFB7B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FAD6-E0BC-4845-ACFA-BEDF1EEC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7710-E2EA-4DA0-B940-EAB9426D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8929-5E42-44EC-8D3D-DC33F34B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5998-D9FD-4ABC-B20D-164CEA9A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8B6F-C47E-4479-9B93-CB6DB577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8FF9-8070-4837-8BC2-E646C5D7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64BC-E154-41D3-B7DC-6A185B81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5196-06E1-4810-8471-B020F738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6FA8-FA20-4F52-88B5-674DF078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741A-4335-410B-965B-46EB6AF8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4DB1-99F3-4835-B799-C5FF0542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4CC9-59B4-4076-8206-F8B6621E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7676-313B-4BA4-802B-41771334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85E5-9809-4754-9701-3B4FE0CE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253F7-570E-4290-9642-3B3F758C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F8E02-9B0E-4FE0-9888-7F773D90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FCC5C-5B3B-4F71-8AF1-62295029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62087-299D-4F32-95E6-F3682029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3D12-CC45-4255-A590-EC5CC8F7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6484-594F-43CC-BD68-6EACD8DB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AF2C-8D87-4650-B531-0CE56B77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3C5C-3E8A-4071-9ECA-EC170E0C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2E6B-2B15-4376-82D2-61AD74DE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39357-7AF7-476C-89D9-A55C972C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F25C3-1C65-4115-877B-0F5711F9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387A7-9F35-46F9-8B40-C60C4367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21D2D-1DB5-4657-A9D9-BC762365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70BBC-2F59-4853-9A5D-B559590B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0FE8C-0385-4190-9F7A-F092E423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2CA61-1613-4FE5-A728-67D439C1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57CD-63B5-47E1-9AA2-86C08AC5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D23B5-1555-44A5-83EE-13A7B3F0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B7CBE-FD04-4B38-B646-CF479FC7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ACBD1-4B1C-4F92-817B-1CD25599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09BFD-0EB6-4534-BD0C-561FD483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86C18-BD72-4351-B75C-23A55BC9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D94EE-5970-4908-AF41-B0295DCB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9FFA8-D426-48C5-AF7E-04F99FBB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63D26-D2C9-4C5C-AB43-23B6604E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1A828-D831-460F-8EF3-6DE7A17A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A50-4888-41D9-8577-169C546D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80D-CC24-44DD-857F-3DE7960B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94C-4A07-4CA8-A4B2-05F4044E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898-0405-44B9-92F0-47CAFE81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EC4-449A-4C70-B1A5-0B821EBA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F7E7-CCC0-46F1-BE15-5E7145E13224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DF37-EEAF-4A9D-8ED8-11D17B7DE8BB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8C72-2635-4B93-A299-196A9C6F78EA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545A-8AD4-42F5-819B-08F82C780882}" type="slidenum">
              <a:rPr b="1" lang="en-US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https://ds02.infourok.ru/uploads/ex/0fc4/0002462b-5783dcfa/hello_html_m182126c4.jpg"/>
          <p:cNvPicPr/>
          <p:nvPr/>
        </p:nvPicPr>
        <p:blipFill>
          <a:blip r:embed="rId1"/>
          <a:stretch/>
        </p:blipFill>
        <p:spPr>
          <a:xfrm>
            <a:off x="1179360" y="581040"/>
            <a:ext cx="6307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vospitatel.com.ua/images/o/odejda-3god2.jpg"/>
          <p:cNvPicPr/>
          <p:nvPr/>
        </p:nvPicPr>
        <p:blipFill>
          <a:blip r:embed="rId1"/>
          <a:stretch/>
        </p:blipFill>
        <p:spPr>
          <a:xfrm>
            <a:off x="1060560" y="1849320"/>
            <a:ext cx="7327800" cy="4538880"/>
          </a:xfrm>
          <a:prstGeom prst="rect">
            <a:avLst/>
          </a:prstGeom>
          <a:ln w="0">
            <a:noFill/>
          </a:ln>
        </p:spPr>
      </p:pic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1200240" y="109440"/>
            <a:ext cx="6529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870200" y="477720"/>
            <a:ext cx="5222880" cy="11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 algn="ctr"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rebuchet MS"/>
              </a:rPr>
              <a:t>Какой шарф короче, а какой длинней?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http://aura-dione.ru/gallery/images/967168_kartinki-dlinnyi-korotkii.jpg"/>
          <p:cNvPicPr/>
          <p:nvPr/>
        </p:nvPicPr>
        <p:blipFill>
          <a:blip r:embed="rId1"/>
          <a:stretch/>
        </p:blipFill>
        <p:spPr>
          <a:xfrm>
            <a:off x="880920" y="2111400"/>
            <a:ext cx="742320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1212840" y="566640"/>
            <a:ext cx="609588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84200" y="2649600"/>
            <a:ext cx="419904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Что нужно надевать сейчас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лушайте и размышляйте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А потом уж отвечайте!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На улице холод, мороз,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Руки стынут, мерзнет нос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Ну а нам гулять пор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Что наденет детвора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(Ответы детей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-6480" y="317520"/>
            <a:ext cx="6523200" cy="152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34880" y="201564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Формировать обобщающее понятие «одежда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Учить различать и называть предметы одежды, находить сходство и различие между ним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Учить выражать словами результаты сравнения: больше – меньше, длинный – короткий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101680" y="5230800"/>
            <a:ext cx="528480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- Какая одежда по цвету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- Какие детали у этой одежды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- Когда ее носят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Picture 2" descr="http://www.hesab.net/albom/images/images/DRESS1.gif"/>
          <p:cNvPicPr/>
          <p:nvPr/>
        </p:nvPicPr>
        <p:blipFill>
          <a:blip r:embed="rId1"/>
          <a:stretch/>
        </p:blipFill>
        <p:spPr>
          <a:xfrm>
            <a:off x="404640" y="730080"/>
            <a:ext cx="3586320" cy="3397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images.easyfreeclipart.com/622/search-here-please-select-album-song-singer-622458.jpg"/>
          <p:cNvPicPr/>
          <p:nvPr/>
        </p:nvPicPr>
        <p:blipFill>
          <a:blip r:embed="rId2"/>
          <a:stretch/>
        </p:blipFill>
        <p:spPr>
          <a:xfrm>
            <a:off x="5016600" y="768240"/>
            <a:ext cx="37591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http://logoped.ru/images/chinsn02a.jpg"/>
          <p:cNvPicPr/>
          <p:nvPr/>
        </p:nvPicPr>
        <p:blipFill>
          <a:blip r:embed="rId1"/>
          <a:stretch/>
        </p:blipFill>
        <p:spPr>
          <a:xfrm>
            <a:off x="4943520" y="662040"/>
            <a:ext cx="3645000" cy="2641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101680" y="5230800"/>
            <a:ext cx="5284800" cy="14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- Какая одежда по цвету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- Какие детали у этой одежды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404040"/>
                </a:solidFill>
                <a:latin typeface="Trebuchet MS"/>
              </a:rPr>
              <a:t>- Когда ее носят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Picture 2" descr="http://printonic.ru/uploads/images/2016/04/15/.tmb/thumb_img_5710abcab84d2_resize_900_5000.jpg"/>
          <p:cNvPicPr/>
          <p:nvPr/>
        </p:nvPicPr>
        <p:blipFill>
          <a:blip r:embed="rId2"/>
          <a:stretch/>
        </p:blipFill>
        <p:spPr>
          <a:xfrm>
            <a:off x="1085760" y="488880"/>
            <a:ext cx="3019680" cy="3019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images.easyfreeclipart.com/320/lenagold-1050108310801087107210881090-10551077108810951072109010821080-1080-10851086108910821080-2-320670.png"/>
          <p:cNvPicPr/>
          <p:nvPr/>
        </p:nvPicPr>
        <p:blipFill>
          <a:blip r:embed="rId3"/>
          <a:stretch/>
        </p:blipFill>
        <p:spPr>
          <a:xfrm>
            <a:off x="7172280" y="3581280"/>
            <a:ext cx="1143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s://ds03.infourok.ru/uploads/ex/0c45/0005d8a4-e725f74f/hello_html_m42e3ed27.jpg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http://hovrashok.com.ua/images/Jan/09/9a42bba3266cffebc075823beb365917/1.jpg"/>
          <p:cNvPicPr/>
          <p:nvPr/>
        </p:nvPicPr>
        <p:blipFill>
          <a:blip r:embed="rId1"/>
          <a:stretch/>
        </p:blipFill>
        <p:spPr>
          <a:xfrm>
            <a:off x="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s://ds04.infourok.ru/uploads/ex/0921/00074898-d1af784a/img8.jpg"/>
          <p:cNvPicPr/>
          <p:nvPr/>
        </p:nvPicPr>
        <p:blipFill>
          <a:blip r:embed="rId1"/>
          <a:stretch/>
        </p:blipFill>
        <p:spPr>
          <a:xfrm>
            <a:off x="-111240" y="620640"/>
            <a:ext cx="9255240" cy="79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6" descr="https://ds03.infourok.ru/uploads/ex/0c45/0005d8a4-e725f74f/hello_html_m6a9183cd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1200240" y="109440"/>
            <a:ext cx="6529320" cy="223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http://itd1.mycdn.me/image?id=853408258647&amp;t=20&amp;plc=WEB&amp;tkn=*3dEmS37ktSi11-21KYR0QnpD4r0"/>
          <p:cNvPicPr/>
          <p:nvPr/>
        </p:nvPicPr>
        <p:blipFill>
          <a:blip r:embed="rId2"/>
          <a:stretch/>
        </p:blipFill>
        <p:spPr>
          <a:xfrm>
            <a:off x="1892160" y="19080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6T21:39:42Z</dcterms:created>
  <dc:creator>Admin</dc:creator>
  <dc:description/>
  <dc:language>en-US</dc:language>
  <cp:lastModifiedBy>1</cp:lastModifiedBy>
  <dcterms:modified xsi:type="dcterms:W3CDTF">2018-12-16T18:27:34Z</dcterms:modified>
  <cp:revision>17</cp:revision>
  <dc:subject/>
  <dc:title>PowerPoint Presentation</dc:title>
</cp:coreProperties>
</file>