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548D-0403-4308-A0E0-84495D9C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E4B-1669-4703-8029-039A8452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7F2-43A6-4672-90E0-45BED45E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BC1-F60F-4FE2-8F27-41EBC36E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8A2A-B162-433C-B785-412CCBBA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FA3B-4765-48A8-9329-254FC481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8ABE-4CC4-4AC6-B34D-8BCC9E42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B1E1-4F4F-4183-9E39-0A84BEBA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AAA7-3FE6-4657-B158-B940D5FF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CC6C-756B-48AA-B893-48BF0361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8A79-F509-4A57-A59F-F6EDDFB5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B3B9-0691-461B-82A1-2F1CC34B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ADB3-2EB9-45AC-9403-53453159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0959-38D4-4DBC-B90F-9AE3D65B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113D-0C96-4085-8FC7-11A6D460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A918-C576-460C-AB13-E3B89103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439B-65CE-4B71-9BB2-2FF875C5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21A24-666D-4B5F-9392-7015B8DF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D88C0-EF0B-476E-B3C0-3D419666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12637-78AB-4766-BEEF-F83406DC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079A-A5AF-4C8E-AEF6-B65A6727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F64C1-B99F-4822-9F73-B641B946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40E1-EC50-4767-81C1-E76AA6EC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B66FC-CAB8-46DB-AB99-A1BE474F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F4DD4-5B1C-40ED-815B-4484BC3A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A0AF3-673C-4EE9-8EA3-829CA82E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D5719-790C-4909-8431-8BC87F0B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BFA72-E4F4-44BE-80AE-337E18B0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B634F-B112-4842-8100-4056EB62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9B38E-3579-404A-87BA-81387FDE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9F307-BDE5-4CA3-9C60-3BF29406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FECF2-49E3-49FD-ACE6-E3D29863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90823-C759-404C-88DE-AF0E1871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E21-4A24-4111-ADDA-95742D18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CFB5F-8ACC-418B-A088-FA17DF71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1AF8E-0D56-4423-B96B-A1321638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3F2E4-3D3C-44DC-B1D2-39226D0C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3D0F0-51A8-45D3-BD5A-4B5329D5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84167-0C43-4DA6-A722-838A9A74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11C28-E328-4373-884C-78556CE1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9F521-82AA-419A-BD72-66D6C535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E5102-98E2-4955-B83C-379258EA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91649-79CE-4E35-B451-C161BED8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7F14-8925-424F-9064-485B8D5A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3788-A3D1-4174-B257-893213EA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9D4-BFA4-4E53-A4F1-0D2C435F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9EA-83FF-428C-AB7E-4CADA347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481-227E-4261-A03A-C04128F1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671D-3212-4B54-BFF9-8C6F0648FFE4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95DB-092D-4D40-93F8-7A2FE0C74CBF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2A7D-4678-46EA-BB31-F131E5D06FCE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14DB-6B2E-466B-BB38-8D693496CE39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s://ds02.infourok.ru/uploads/ex/0fc4/0002462b-5783dcfa/hello_html_m182126c4.jpg"/>
          <p:cNvPicPr/>
          <p:nvPr/>
        </p:nvPicPr>
        <p:blipFill>
          <a:blip r:embed="rId1"/>
          <a:stretch/>
        </p:blipFill>
        <p:spPr>
          <a:xfrm>
            <a:off x="1179360" y="581040"/>
            <a:ext cx="6307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vospitatel.com.ua/images/o/odejda-3god2.jpg"/>
          <p:cNvPicPr/>
          <p:nvPr/>
        </p:nvPicPr>
        <p:blipFill>
          <a:blip r:embed="rId1"/>
          <a:stretch/>
        </p:blipFill>
        <p:spPr>
          <a:xfrm>
            <a:off x="1060560" y="1849320"/>
            <a:ext cx="7327800" cy="4538880"/>
          </a:xfrm>
          <a:prstGeom prst="rect">
            <a:avLst/>
          </a:prstGeom>
          <a:ln w="0">
            <a:noFill/>
          </a:ln>
        </p:spPr>
      </p:pic>
      <p:pic>
        <p:nvPicPr>
          <p:cNvPr id="231" name="Заголовок 1" descr=""/>
          <p:cNvPicPr/>
          <p:nvPr/>
        </p:nvPicPr>
        <p:blipFill>
          <a:blip r:embed="rId2"/>
          <a:stretch/>
        </p:blipFill>
        <p:spPr>
          <a:xfrm>
            <a:off x="1200240" y="109440"/>
            <a:ext cx="6529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870200" y="477720"/>
            <a:ext cx="5222880" cy="11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 algn="ctr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Какой шарф короче, а какой длинней?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http://aura-dione.ru/gallery/images/967168_kartinki-dlinnyi-korotkii.jpg"/>
          <p:cNvPicPr/>
          <p:nvPr/>
        </p:nvPicPr>
        <p:blipFill>
          <a:blip r:embed="rId1"/>
          <a:stretch/>
        </p:blipFill>
        <p:spPr>
          <a:xfrm>
            <a:off x="880920" y="2111400"/>
            <a:ext cx="74232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1212840" y="566640"/>
            <a:ext cx="6095880" cy="219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84200" y="2649600"/>
            <a:ext cx="419904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Что нужно надевать сейчас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лушайте и размышляйте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А потом уж отвечайте!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На улице холод, мороз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Руки стынут, мерзнет нос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Ну а нам гулять пор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Что наденет детвора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(Ответы детей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-6480" y="317520"/>
            <a:ext cx="652320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34880" y="201564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Формировать обобщающее понятие «одежда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Учить различать и называть предметы одежды, находить сходство и различие между ни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Учить выражать словами результаты сравнения: больше – меньше, длинный – короткий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101680" y="5230800"/>
            <a:ext cx="528480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- Какая одежда по цвету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- Какие детали у этой одежды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- Когда ее носят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Picture 2" descr="http://www.hesab.net/albom/images/images/DRESS1.gif"/>
          <p:cNvPicPr/>
          <p:nvPr/>
        </p:nvPicPr>
        <p:blipFill>
          <a:blip r:embed="rId1"/>
          <a:stretch/>
        </p:blipFill>
        <p:spPr>
          <a:xfrm>
            <a:off x="404640" y="730080"/>
            <a:ext cx="3586320" cy="3397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images.easyfreeclipart.com/622/search-here-please-select-album-song-singer-622458.jpg"/>
          <p:cNvPicPr/>
          <p:nvPr/>
        </p:nvPicPr>
        <p:blipFill>
          <a:blip r:embed="rId2"/>
          <a:stretch/>
        </p:blipFill>
        <p:spPr>
          <a:xfrm>
            <a:off x="5016600" y="768240"/>
            <a:ext cx="37591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http://logoped.ru/images/chinsn02a.jpg"/>
          <p:cNvPicPr/>
          <p:nvPr/>
        </p:nvPicPr>
        <p:blipFill>
          <a:blip r:embed="rId1"/>
          <a:stretch/>
        </p:blipFill>
        <p:spPr>
          <a:xfrm>
            <a:off x="4943520" y="662040"/>
            <a:ext cx="3645000" cy="26416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2101680" y="5230800"/>
            <a:ext cx="528480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- Какая одежда по цвету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- Какие детали у этой одежды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- Когда ее носят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Picture 2" descr="http://printonic.ru/uploads/images/2016/04/15/.tmb/thumb_img_5710abcab84d2_resize_900_5000.jpg"/>
          <p:cNvPicPr/>
          <p:nvPr/>
        </p:nvPicPr>
        <p:blipFill>
          <a:blip r:embed="rId2"/>
          <a:stretch/>
        </p:blipFill>
        <p:spPr>
          <a:xfrm>
            <a:off x="1085760" y="488880"/>
            <a:ext cx="3019680" cy="3019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images.easyfreeclipart.com/320/lenagold-1050108310801087107210881090-10551077108810951072109010821080-1080-10851086108910821080-2-320670.png"/>
          <p:cNvPicPr/>
          <p:nvPr/>
        </p:nvPicPr>
        <p:blipFill>
          <a:blip r:embed="rId3"/>
          <a:stretch/>
        </p:blipFill>
        <p:spPr>
          <a:xfrm>
            <a:off x="7172280" y="3581280"/>
            <a:ext cx="1143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s://ds03.infourok.ru/uploads/ex/0c45/0005d8a4-e725f74f/hello_html_m42e3ed27.jpg"/>
          <p:cNvPicPr/>
          <p:nvPr/>
        </p:nvPicPr>
        <p:blipFill>
          <a:blip r:embed="rId1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http://hovrashok.com.ua/images/Jan/09/9a42bba3266cffebc075823beb365917/1.jpg"/>
          <p:cNvPicPr/>
          <p:nvPr/>
        </p:nvPicPr>
        <p:blipFill>
          <a:blip r:embed="rId1"/>
          <a:stretch/>
        </p:blipFill>
        <p:spPr>
          <a:xfrm>
            <a:off x="0" y="0"/>
            <a:ext cx="910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s://ds04.infourok.ru/uploads/ex/0921/00074898-d1af784a/img8.jpg"/>
          <p:cNvPicPr/>
          <p:nvPr/>
        </p:nvPicPr>
        <p:blipFill>
          <a:blip r:embed="rId1"/>
          <a:stretch/>
        </p:blipFill>
        <p:spPr>
          <a:xfrm>
            <a:off x="-111240" y="620640"/>
            <a:ext cx="9255240" cy="79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6" descr="https://ds03.infourok.ru/uploads/ex/0c45/0005d8a4-e725f74f/hello_html_m6a9183cd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1200240" y="109440"/>
            <a:ext cx="6529320" cy="2232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ttp://itd1.mycdn.me/image?id=853408258647&amp;t=20&amp;plc=WEB&amp;tkn=*3dEmS37ktSi11-21KYR0QnpD4r0"/>
          <p:cNvPicPr/>
          <p:nvPr/>
        </p:nvPicPr>
        <p:blipFill>
          <a:blip r:embed="rId2"/>
          <a:stretch/>
        </p:blipFill>
        <p:spPr>
          <a:xfrm>
            <a:off x="1892160" y="19080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6T21:39:42Z</dcterms:created>
  <dc:creator>Admin</dc:creator>
  <dc:description/>
  <dc:language>en-US</dc:language>
  <cp:lastModifiedBy>1</cp:lastModifiedBy>
  <dcterms:modified xsi:type="dcterms:W3CDTF">2018-12-16T18:27:34Z</dcterms:modified>
  <cp:revision>17</cp:revision>
  <dc:subject/>
  <dc:title>PowerPoint Presentation</dc:title>
</cp:coreProperties>
</file>