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14.jpeg" ContentType="image/jpeg"/>
  <Override PartName="/ppt/media/image5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F6E8-F590-425C-B707-8490F3518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40AC-E5A7-4D78-85C3-78DA52E1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F102-7939-4C20-88BD-225498ADE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6A9F-E6C3-4863-BA65-37E181DE5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D091-F8A3-4CA3-854D-8B90DBB7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ECA3-9D2D-45D0-B2A9-6F838F09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6271-0675-423F-AA05-7361E60D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C4AE-C477-4937-90FC-40432216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C683-2084-4726-AC5E-E3DFA6A2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9DAB-C20E-4ACE-BB44-23706C23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B90A-A642-42FA-B718-F5882461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10C1-CA44-4CBE-BE29-F77F06C6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389A-6524-48F3-AF18-B7F92DBA74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spborbita.ru/uploaded/orbita_1.png"/>
          <p:cNvPicPr/>
          <p:nvPr/>
        </p:nvPicPr>
        <p:blipFill>
          <a:blip r:embed="rId1"/>
          <a:stretch/>
        </p:blipFill>
        <p:spPr>
          <a:xfrm>
            <a:off x="0" y="971640"/>
            <a:ext cx="6324480" cy="5886360"/>
          </a:xfrm>
          <a:prstGeom prst="rect">
            <a:avLst/>
          </a:prstGeom>
          <a:ln w="0">
            <a:noFill/>
          </a:ln>
        </p:spPr>
      </p:pic>
      <p:sp>
        <p:nvSpPr>
          <p:cNvPr id="42" name="TextBox 6"/>
          <p:cNvSpPr/>
          <p:nvPr/>
        </p:nvSpPr>
        <p:spPr>
          <a:xfrm>
            <a:off x="6638400" y="4038480"/>
            <a:ext cx="197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 воспита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ская Ксения Вадим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1"/>
          <p:cNvSpPr/>
          <p:nvPr/>
        </p:nvSpPr>
        <p:spPr>
          <a:xfrm>
            <a:off x="1981080" y="213372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куда Новый год пришё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spborbita.ru/uploaded/orbita_1.png"/>
          <p:cNvPicPr/>
          <p:nvPr/>
        </p:nvPicPr>
        <p:blipFill>
          <a:blip r:embed="rId2"/>
          <a:stretch/>
        </p:blipFill>
        <p:spPr>
          <a:xfrm>
            <a:off x="152280" y="485640"/>
            <a:ext cx="632484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spborbita.ru/uploaded/orbita_1.png"/>
          <p:cNvPicPr/>
          <p:nvPr/>
        </p:nvPicPr>
        <p:blipFill>
          <a:blip r:embed="rId1"/>
          <a:stretch/>
        </p:blipFill>
        <p:spPr>
          <a:xfrm>
            <a:off x="0" y="971640"/>
            <a:ext cx="6324480" cy="588636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3046680" y="1828800"/>
            <a:ext cx="501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Новым годом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www.logolife.ru/wp-content/uploads/zanyatie-novyi-god.jpg"/>
          <p:cNvPicPr/>
          <p:nvPr/>
        </p:nvPicPr>
        <p:blipFill>
          <a:blip r:embed="rId1"/>
          <a:stretch/>
        </p:blipFill>
        <p:spPr>
          <a:xfrm>
            <a:off x="4114800" y="2895480"/>
            <a:ext cx="4343400" cy="3429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380880" y="1320840"/>
            <a:ext cx="4648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Если лес укрыт снега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Если пахнет пирога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Если ёлка в дом ид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Что за праздник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http://i072.radikal.ru/0910/fb/fe68c246819f.jpg"/>
          <p:cNvPicPr/>
          <p:nvPr/>
        </p:nvPicPr>
        <p:blipFill>
          <a:blip r:embed="rId1"/>
          <a:stretch/>
        </p:blipFill>
        <p:spPr>
          <a:xfrm>
            <a:off x="228600" y="380880"/>
            <a:ext cx="4495680" cy="61722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" descr="http://img-fotki.yandex.ru/get/4907/pravdolub09.0/0_40ce0_4f184941_L"/>
          <p:cNvPicPr/>
          <p:nvPr/>
        </p:nvPicPr>
        <p:blipFill>
          <a:blip r:embed="rId2"/>
          <a:stretch/>
        </p:blipFill>
        <p:spPr>
          <a:xfrm>
            <a:off x="5105520" y="304920"/>
            <a:ext cx="37526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&amp;Mcy;&amp;acy;&amp;scy;&amp;lcy;&amp;iecy;&amp;ncy;&amp;icy;&amp;chcy;&amp;ncy;&amp;ycy;&amp;iecy; &amp;gcy;&amp;ucy;&amp;lcy;&amp;yacy;&amp;ncy;&amp;icy;&amp;yacy;"/>
          <p:cNvPicPr/>
          <p:nvPr/>
        </p:nvPicPr>
        <p:blipFill>
          <a:blip r:embed="rId1"/>
          <a:stretch/>
        </p:blipFill>
        <p:spPr>
          <a:xfrm>
            <a:off x="4267080" y="1066680"/>
            <a:ext cx="4534200" cy="4419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8"/>
          <p:cNvSpPr/>
          <p:nvPr/>
        </p:nvSpPr>
        <p:spPr>
          <a:xfrm>
            <a:off x="228600" y="1523880"/>
            <a:ext cx="4038480" cy="47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о русский народ привык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Указу царя Петра 1. Особен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жело было привыкание к ёл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как не хотел суеверный на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шать свой дом елью, вед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лось, что это дере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осило несчастье. Но нельз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лушаться царя. Указ над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ять. И стали ёлки став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лице и на крыши дом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http://www.novosel.ru/i/596956.jpg"/>
          <p:cNvPicPr/>
          <p:nvPr/>
        </p:nvPicPr>
        <p:blipFill>
          <a:blip r:embed="rId1"/>
          <a:stretch/>
        </p:blipFill>
        <p:spPr>
          <a:xfrm>
            <a:off x="0" y="533520"/>
            <a:ext cx="5533920" cy="600048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4495680" y="1219320"/>
            <a:ext cx="434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уже более 300 лет наша страна отмечает Новый год 1 январ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амым главным украшением праздника является ёлка украшенная любимыми игрушкам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2286000" y="914400"/>
            <a:ext cx="4572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е елочные украш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и, в основном, съедобными. Елку украшали сладостями, орехами и фруктами. Кроме того, были и необходимые символические украшения: звезда на верхушке как символ Вифлеемской звезды, пряники и хлебцы – как символ причастия, а в XVI ст. елку украшали даже розами, в знак почитания Девы Ма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im8-tub-ru.yandex.net/i?id=249536068-42-72&amp;n=21"/>
          <p:cNvPicPr/>
          <p:nvPr/>
        </p:nvPicPr>
        <p:blipFill>
          <a:blip r:embed="rId1"/>
          <a:stretch/>
        </p:blipFill>
        <p:spPr>
          <a:xfrm>
            <a:off x="304920" y="137160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im2-tub-ru.yandex.net/i?id=340297332-58-72&amp;n=21"/>
          <p:cNvPicPr/>
          <p:nvPr/>
        </p:nvPicPr>
        <p:blipFill>
          <a:blip r:embed="rId2"/>
          <a:stretch/>
        </p:blipFill>
        <p:spPr>
          <a:xfrm>
            <a:off x="380880" y="41911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://im4-tub-ru.yandex.net/i?id=216877940-36-72&amp;n=21"/>
          <p:cNvPicPr/>
          <p:nvPr/>
        </p:nvPicPr>
        <p:blipFill>
          <a:blip r:embed="rId3"/>
          <a:stretch/>
        </p:blipFill>
        <p:spPr>
          <a:xfrm>
            <a:off x="2438280" y="4191120"/>
            <a:ext cx="1819440" cy="1828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http://im0-tub-ru.yandex.net/i?id=283863718-38-72&amp;n=21"/>
          <p:cNvPicPr/>
          <p:nvPr/>
        </p:nvPicPr>
        <p:blipFill>
          <a:blip r:embed="rId4"/>
          <a:stretch/>
        </p:blipFill>
        <p:spPr>
          <a:xfrm>
            <a:off x="4572000" y="4191120"/>
            <a:ext cx="1600200" cy="1752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http://im2-tub-ru.yandex.net/i?id=392754199-18-72&amp;n=21"/>
          <p:cNvPicPr/>
          <p:nvPr/>
        </p:nvPicPr>
        <p:blipFill>
          <a:blip r:embed="rId5"/>
          <a:stretch/>
        </p:blipFill>
        <p:spPr>
          <a:xfrm>
            <a:off x="6858000" y="1371600"/>
            <a:ext cx="2038320" cy="1828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http://im3-tub-ru.yandex.net/i?id=202790550-17-72&amp;n=21"/>
          <p:cNvPicPr/>
          <p:nvPr/>
        </p:nvPicPr>
        <p:blipFill>
          <a:blip r:embed="rId6"/>
          <a:stretch/>
        </p:blipFill>
        <p:spPr>
          <a:xfrm>
            <a:off x="6400800" y="4191120"/>
            <a:ext cx="23050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3"/>
          <p:cNvSpPr/>
          <p:nvPr/>
        </p:nvSpPr>
        <p:spPr>
          <a:xfrm>
            <a:off x="228600" y="4267080"/>
            <a:ext cx="4973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лки ставят везде и на улице, и до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шают множеством разных чудесны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ркающих украшений. Гирлянды, мишур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ушки, бусы  и  мигающие фонар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http://i.i.ua/cards/pic/3/5/138653.jpg"/>
          <p:cNvPicPr/>
          <p:nvPr/>
        </p:nvPicPr>
        <p:blipFill>
          <a:blip r:embed="rId1"/>
          <a:stretch/>
        </p:blipFill>
        <p:spPr>
          <a:xfrm>
            <a:off x="533520" y="228600"/>
            <a:ext cx="3962160" cy="3857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http://i.allday.ru/uploads/posts/2009-10/thumbs/1256832683_new-year_tree-2-11.jpg"/>
          <p:cNvPicPr/>
          <p:nvPr/>
        </p:nvPicPr>
        <p:blipFill>
          <a:blip r:embed="rId2"/>
          <a:stretch/>
        </p:blipFill>
        <p:spPr>
          <a:xfrm>
            <a:off x="4952880" y="838080"/>
            <a:ext cx="4191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http://www.o-prirode.com/_ph/52/2/173676176.gif"/>
          <p:cNvPicPr/>
          <p:nvPr/>
        </p:nvPicPr>
        <p:blipFill>
          <a:blip r:embed="rId1"/>
          <a:stretch/>
        </p:blipFill>
        <p:spPr>
          <a:xfrm>
            <a:off x="1143000" y="152280"/>
            <a:ext cx="6324480" cy="518184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306720" y="54864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0" y="5638680"/>
            <a:ext cx="111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ле ёлки поют, танцуют, водят хороводы, читают стихи,а самое главное подарки, котор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ляются под ёлочкой красавицей. И счастья нет предела!  Вот, что такое  Новый год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obj.altapress.ru/picture/cram_in/540/73574.jpg"/>
          <p:cNvPicPr/>
          <p:nvPr/>
        </p:nvPicPr>
        <p:blipFill>
          <a:blip r:embed="rId1"/>
          <a:stretch/>
        </p:blipFill>
        <p:spPr>
          <a:xfrm>
            <a:off x="457200" y="380880"/>
            <a:ext cx="3990960" cy="600084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4"/>
          <p:cNvSpPr/>
          <p:nvPr/>
        </p:nvSpPr>
        <p:spPr>
          <a:xfrm>
            <a:off x="4876920" y="380880"/>
            <a:ext cx="3733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 Черниц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ка”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 и елка, просто диво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рядна, как красив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ви слабо шелестят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сы яркие блестя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ачаются игрушки -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аги, звездочки, хлопуш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огни зажглись на не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крошечных огней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верхушку украшая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 сияет, как всегд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яркая, большая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икрылая звез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4962600" y="5029200"/>
            <a:ext cx="39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ая ёлка нашей страны сто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расной площади в городе Моск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3T03:01:14Z</dcterms:created>
  <dc:creator>Computer</dc:creator>
  <dc:description/>
  <dc:language>en-US</dc:language>
  <cp:lastModifiedBy>Пользователь Windows</cp:lastModifiedBy>
  <dcterms:modified xsi:type="dcterms:W3CDTF">2018-12-16T09:49:52Z</dcterms:modified>
  <cp:revision>57</cp:revision>
  <dc:subject/>
  <dc:title>Слайд 1</dc:title>
</cp:coreProperties>
</file>