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3E2-C1A5-4231-8278-BEFE51A5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FDD8-234F-4FBC-8B58-D57D1DF6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4B3-545C-41FB-B81C-0CF2EAF9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BE54-71D7-4E36-A7B0-39E99291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A542-35C0-4C13-8FEA-7A20BB52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5C68-7CE9-4297-83C4-4DABB33E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4F8F-2A11-465A-B0AB-8564A85A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E8D-0444-4F1C-9A6B-1648612C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55A-E906-4E31-8C00-FE8E55FD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934C-DCD2-4FB2-8701-B97A05AE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667-ADE9-4811-930F-AB232A74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BF1A-25D1-4FB3-B52A-65D76738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E018-2CD5-424E-A486-7A43FED69D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МАТЕМАТИКА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ГОСУДАРСТВЕННАЯ ИТОГОВАЯ АТТЕСТАЦИЯ(ГИА) по математике – обязательный экзамен в 9-м классе. Математику необходимо сдавать для перевода в 10-й класс и получения аттестата о неполном среднем (основном общем) образовании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783000"/>
            <a:ext cx="9144000" cy="79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77933c"/>
                </a:solidFill>
                <a:uFillTx/>
                <a:latin typeface="Arial Black"/>
              </a:rPr>
              <a:t>ВЫПОЛНЕНИЕ РАБОТЫ ОСУЩЕСТВЛЯЕТСЯ ПО ДВУМ МОДУЛЯМ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Open Sans"/>
              </a:rPr>
              <a:t>     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Open Sans"/>
              </a:rPr>
              <a:t>"Алгебра", 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Open Sans"/>
              </a:rPr>
              <a:t>            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Open Sans"/>
              </a:rPr>
              <a:t>"Геометрия"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Open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Open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Open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Open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 Black"/>
              </a:rPr>
              <a:t>Общее время экзамена 3 часа 55 минут(235 мину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hello_html_m35919a82.jpg"/>
          <p:cNvPicPr/>
          <p:nvPr/>
        </p:nvPicPr>
        <p:blipFill>
          <a:blip r:embed="rId1"/>
          <a:stretch/>
        </p:blipFill>
        <p:spPr>
          <a:xfrm>
            <a:off x="357120" y="2000160"/>
            <a:ext cx="314316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857160" y="2009160"/>
            <a:ext cx="764388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58ed5"/>
                </a:solidFill>
                <a:latin typeface="Arial Black"/>
              </a:rPr>
              <a:t>ОБЩИЕ ЦИФРЫ ГИА ПО МАТЕМАТИКЕ</a:t>
            </a:r>
            <a:r>
              <a:rPr b="0" lang="ru-RU" sz="2400" spc="-1" strike="noStrike">
                <a:solidFill>
                  <a:srgbClr val="558ed5"/>
                </a:solidFill>
                <a:latin typeface="Open San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53735"/>
                </a:solidFill>
                <a:uFillTx/>
                <a:latin typeface="Arial Black"/>
              </a:rPr>
              <a:t>СТРУКТУРА ТЕСТА ГИА ПО МАТЕМА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 Black"/>
              </a:rPr>
              <a:t>МОДУЛЬ </a:t>
            </a:r>
            <a:r>
              <a:rPr b="0" i="1" lang="ru-RU" sz="2400" spc="-1" strike="noStrike" u="sng">
                <a:solidFill>
                  <a:srgbClr val="953735"/>
                </a:solidFill>
                <a:uFillTx/>
                <a:latin typeface="Arial Black"/>
              </a:rPr>
              <a:t>«АЛГЕБРА»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 Black"/>
              </a:rPr>
              <a:t>СОДЕРЖИТ </a:t>
            </a:r>
            <a:r>
              <a:rPr b="0" i="1" lang="ru-RU" sz="2400" spc="-1" strike="noStrike" u="sng">
                <a:solidFill>
                  <a:srgbClr val="953735"/>
                </a:solidFill>
                <a:uFillTx/>
                <a:latin typeface="Arial Black"/>
              </a:rPr>
              <a:t>17 ЗАД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в части 1 – 14 заданий: все задания с кратким отв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В части 2 даны 3 задания с полным реш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 Black"/>
              </a:rPr>
              <a:t>МОДУЛЬ </a:t>
            </a:r>
            <a:r>
              <a:rPr b="0" i="1" lang="ru-RU" sz="2400" spc="-1" strike="noStrike" u="sng">
                <a:solidFill>
                  <a:srgbClr val="953735"/>
                </a:solidFill>
                <a:uFillTx/>
                <a:latin typeface="Arial Black"/>
              </a:rPr>
              <a:t>«ГЕОМЕТРИЯ» 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 Black"/>
              </a:rPr>
              <a:t>СОДЕРЖИТ </a:t>
            </a:r>
            <a:r>
              <a:rPr b="0" i="1" lang="ru-RU" sz="2400" spc="-1" strike="noStrike" u="sng">
                <a:solidFill>
                  <a:srgbClr val="953735"/>
                </a:solidFill>
                <a:uFillTx/>
                <a:latin typeface="Arial Black"/>
              </a:rPr>
              <a:t>9 ЗАД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В части 1 – 6 заданий с кратким ответом. В части 2 даны 3 задания с полным реш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hello_html_386e0316.jpg"/>
          <p:cNvPicPr/>
          <p:nvPr/>
        </p:nvPicPr>
        <p:blipFill>
          <a:blip r:embed="rId1"/>
          <a:stretch/>
        </p:blipFill>
        <p:spPr>
          <a:xfrm>
            <a:off x="7000920" y="-838080"/>
            <a:ext cx="19717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1285920" y="21420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428760" y="571680"/>
            <a:ext cx="8358120" cy="107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7375e"/>
                </a:solidFill>
                <a:latin typeface="Arial Black"/>
              </a:rPr>
              <a:t>Максимальное количество баллов</a:t>
            </a:r>
            <a:r>
              <a:rPr b="0" i="1" lang="ru-RU" sz="2400" spc="-1" strike="noStrike">
                <a:solidFill>
                  <a:srgbClr val="17375e"/>
                </a:solidFill>
                <a:latin typeface="Arial Black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которое может получить экзаменуемый за выполнение всей экзаменационной работы, – </a:t>
            </a:r>
            <a:r>
              <a:rPr b="1" i="1" lang="ru-RU" sz="2400" spc="-1" strike="noStrike">
                <a:solidFill>
                  <a:srgbClr val="17375e"/>
                </a:solidFill>
                <a:latin typeface="Arial Black"/>
              </a:rPr>
              <a:t>32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. Из них – за модуль «Алгебра» – </a:t>
            </a: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20 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баллов, за модуль «Геометрия» – 12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Рекомендуемый </a:t>
            </a:r>
            <a:r>
              <a:rPr b="1" i="1" lang="ru-RU" sz="2400" spc="-1" strike="noStrike">
                <a:solidFill>
                  <a:srgbClr val="17375e"/>
                </a:solidFill>
                <a:latin typeface="Arial Black"/>
              </a:rPr>
              <a:t>минимальный порог 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выполнения экзаменационной работы, свидетельствующий об освоении Федерального компонента государственного образовательного стандарта в предметной области «Математика», – </a:t>
            </a:r>
            <a:r>
              <a:rPr b="1" i="1" lang="ru-RU" sz="2400" spc="-1" strike="noStrike">
                <a:solidFill>
                  <a:srgbClr val="17375e"/>
                </a:solidFill>
                <a:latin typeface="Arial Black"/>
              </a:rPr>
              <a:t>8 баллов</a:t>
            </a: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, набранные в сумме за выполнение заданий всех трёх модулей, при условии, что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не менее 6 баллов по модулю «Алгебра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не менее 2 баллов по модулю«Геометр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28760" y="500040"/>
            <a:ext cx="821520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Шкала пересчёта суммарного балла за выполнение экзаменационной работы в целом в отметку 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ценка по пятибалльной шк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00040" y="3143160"/>
          <a:ext cx="8143920" cy="1785960"/>
        </p:xfrm>
        <a:graphic>
          <a:graphicData uri="http://schemas.openxmlformats.org/drawingml/2006/table">
            <a:tbl>
              <a:tblPr/>
              <a:tblGrid>
                <a:gridCol w="4375080"/>
                <a:gridCol w="990720"/>
                <a:gridCol w="907920"/>
                <a:gridCol w="906480"/>
                <a:gridCol w="963720"/>
              </a:tblGrid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по пятибалльной шка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«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«3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«4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«5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бранный балл на экзаме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-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5-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2-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500040" y="428760"/>
            <a:ext cx="7858080" cy="89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ЕЗНЫЕ САЙ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fipi.ru - Федеральный институт педагогических измер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www.alleng.ru/edu/math.htm- сборники Кимов по  ОГЭ скач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resh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g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ru/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alexlarin.net/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neznaika.pro/og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http://semenova-klass.moy.su/ index/podgotovka_k_ogeh/0-1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1T06:26:21Z</dcterms:created>
  <dc:creator>Пользователь</dc:creator>
  <dc:description/>
  <dc:language>en-US</dc:language>
  <cp:lastModifiedBy>Пользователь</cp:lastModifiedBy>
  <dcterms:modified xsi:type="dcterms:W3CDTF">2018-12-16T14:32:52Z</dcterms:modified>
  <cp:revision>10</cp:revision>
  <dc:subject/>
  <dc:title>МАТЕМАТИКА ГОСУДАРСТВЕННАЯ ИТОГОВАЯ АТТЕСТАЦИЯ(ГИА) по математике – обязательный экзамен в 9-м классе. Математику необходимо сдавать для перевода в 10-й класс и получения аттестата о неполном среднем (основном общем) образовании.</dc:title>
</cp:coreProperties>
</file>