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6D8-A98E-4BFA-AF72-ADB7CB9D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9D4-06F0-49DF-9A06-0C1F1AEA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6DE-A4B8-4A80-8284-C8486E88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D46-5724-46E0-A7C8-2BB31A40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776-7363-4E61-8785-2C23C7BD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794-B91F-4D63-A9F7-3F15F7FA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C06-C496-4CBB-81E9-37BDBBDC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174-0FC0-49EC-8B21-FC211C04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03E-51A3-45B1-B687-4D0F51B5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8AE-5A30-400B-99CB-61F4B9CF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5DC-55CC-413B-A8D6-E67BCCC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D7E-B4F2-43FD-BE96-B714A2F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D952-C80C-4521-B22F-03DDDA301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ГОСУДАРСТВЕННАЯ ИТОГОВАЯ АТТЕСТАЦИЯ(ГИА) по математике – обязательный экзамен в 9-м классе. Математику необходимо сдавать для перевода в 10-й класс и получения аттестата о неполном среднем (основном общем) образовании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783000"/>
            <a:ext cx="9144000" cy="79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77933c"/>
                </a:solidFill>
                <a:uFillTx/>
                <a:latin typeface="Arial Black"/>
              </a:rPr>
              <a:t>ВЫПОЛНЕНИЕ РАБОТЫ ОСУЩЕСТВЛЯЕТСЯ ПО ДВУМ МОДУЛЯМ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     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"Алгебра",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"Геометрия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Общее время экзамена 3 часа 55 минут(235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hello_html_m35919a82.jpg"/>
          <p:cNvPicPr/>
          <p:nvPr/>
        </p:nvPicPr>
        <p:blipFill>
          <a:blip r:embed="rId1"/>
          <a:stretch/>
        </p:blipFill>
        <p:spPr>
          <a:xfrm>
            <a:off x="357120" y="2000160"/>
            <a:ext cx="31431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857160" y="2009160"/>
            <a:ext cx="76438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58ed5"/>
                </a:solidFill>
                <a:latin typeface="Arial Black"/>
              </a:rPr>
              <a:t>ОБЩИЕ ЦИФРЫ ГИА ПО МАТЕМАТИКЕ</a:t>
            </a:r>
            <a:r>
              <a:rPr b="0" lang="ru-RU" sz="2400" spc="-1" strike="noStrike">
                <a:solidFill>
                  <a:srgbClr val="558ed5"/>
                </a:solidFill>
                <a:latin typeface="Open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СТРУКТУРА ТЕСТА ГИА П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МОДУЛЬ </a:t>
            </a: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«АЛГЕБРА»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СОДЕРЖИТ </a:t>
            </a: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17 ЗАД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части 1 – 14 заданий: все задания с кратким от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части 2 даны 3 задания с полным реш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МОДУЛЬ </a:t>
            </a: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«ГЕОМЕТРИЯ»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СОДЕРЖИТ </a:t>
            </a: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9 ЗАД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части 1 – 6 заданий с кратким ответом. В части 2 даны 3 задания с полным реш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hello_html_386e0316.jpg"/>
          <p:cNvPicPr/>
          <p:nvPr/>
        </p:nvPicPr>
        <p:blipFill>
          <a:blip r:embed="rId1"/>
          <a:stretch/>
        </p:blipFill>
        <p:spPr>
          <a:xfrm>
            <a:off x="7000920" y="-838080"/>
            <a:ext cx="19717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285920" y="2142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28760" y="571680"/>
            <a:ext cx="8358120" cy="107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 Black"/>
              </a:rPr>
              <a:t>Максимальное количество баллов</a:t>
            </a:r>
            <a:r>
              <a:rPr b="0" i="1" lang="ru-RU" sz="2400" spc="-1" strike="noStrike">
                <a:solidFill>
                  <a:srgbClr val="17375e"/>
                </a:solidFill>
                <a:latin typeface="Arial Black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которое может получить экзаменуемый за выполнение всей экзаменационной работы, – </a:t>
            </a:r>
            <a:r>
              <a:rPr b="1" i="1" lang="ru-RU" sz="2400" spc="-1" strike="noStrike">
                <a:solidFill>
                  <a:srgbClr val="17375e"/>
                </a:solidFill>
                <a:latin typeface="Arial Black"/>
              </a:rPr>
              <a:t>3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. Из них – за модуль «Алгебра» – 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20 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баллов, за модуль «Геометрия» – 12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Рекомендуемый </a:t>
            </a:r>
            <a:r>
              <a:rPr b="1" i="1" lang="ru-RU" sz="2400" spc="-1" strike="noStrike">
                <a:solidFill>
                  <a:srgbClr val="17375e"/>
                </a:solidFill>
                <a:latin typeface="Arial Black"/>
              </a:rPr>
              <a:t>минимальный порог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ыполнения экзаменационной работы, свидетельствующий об освоении Федерального компонента государственного образовательного стандарта в предметной области «Математика», – </a:t>
            </a:r>
            <a:r>
              <a:rPr b="1" i="1" lang="ru-RU" sz="2400" spc="-1" strike="noStrike">
                <a:solidFill>
                  <a:srgbClr val="17375e"/>
                </a:solidFill>
                <a:latin typeface="Arial Black"/>
              </a:rPr>
              <a:t>8 баллов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, набранные в сумме за выполнение заданий всех трёх модулей, при условии, что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е менее 6 баллов по модулю «Алгебр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е менее 2 баллов по модулю«Геометр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28760" y="500040"/>
            <a:ext cx="82152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Шкала пересчёта суммарного балла за выполнение экзаменационной работы в целом в отметку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по пятибалльной ш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00040" y="3143160"/>
          <a:ext cx="8143920" cy="1785960"/>
        </p:xfrm>
        <a:graphic>
          <a:graphicData uri="http://schemas.openxmlformats.org/drawingml/2006/table">
            <a:tbl>
              <a:tblPr/>
              <a:tblGrid>
                <a:gridCol w="4375080"/>
                <a:gridCol w="990720"/>
                <a:gridCol w="907920"/>
                <a:gridCol w="906480"/>
                <a:gridCol w="963720"/>
              </a:tblGrid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по пятибалльной шка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ранный балл на экзаме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-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2-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00040" y="428760"/>
            <a:ext cx="7858080" cy="89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ЕЗНЫЕ САЙ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fipi.ru - Федеральный институт педагогических измер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www.alleng.ru/edu/math.htm- сборники Кимов по  ОГЭ ска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resh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g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ru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alexlarin.net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neznaika.pro/og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semenova-klass.moy.su/ index/podgotovka_k_ogeh/0-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1T06:26:21Z</dcterms:created>
  <dc:creator>Пользователь</dc:creator>
  <dc:description/>
  <dc:language>en-US</dc:language>
  <cp:lastModifiedBy>Пользователь</cp:lastModifiedBy>
  <dcterms:modified xsi:type="dcterms:W3CDTF">2018-12-16T14:32:52Z</dcterms:modified>
  <cp:revision>10</cp:revision>
  <dc:subject/>
  <dc:title>МАТЕМАТИКА ГОСУДАРСТВЕННАЯ ИТОГОВАЯ АТТЕСТАЦИЯ(ГИА) по математике – обязательный экзамен в 9-м классе. Математику необходимо сдавать для перевода в 10-й класс и получения аттестата о неполном среднем (основном общем) образовании.</dc:title>
</cp:coreProperties>
</file>