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636-19A8-43F7-84B6-817198FEA9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3AA8-77DD-4128-B3D0-0FE5167E7D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DA3-9AC9-417D-A9BC-A0EECEDF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73C-E541-4802-8B41-F4C0B46B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DDE-3895-45E9-A632-AB8F9BC5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675-99F3-43BD-81F9-060E094F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AAB-4B57-43F9-8B71-7F59EF61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833-DB87-4ADE-9B32-D550998E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C6F-CECD-487C-8BE1-B9B8F1F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660-D0D7-4B69-A7DB-59E7233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DC0-6256-417A-87EA-8CE57929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66A-1748-4E66-B10C-68B4853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76C-9914-42D0-8EA8-2252B89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C05-F18A-4594-B515-9C5C377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6B80-B586-493A-AE97-3EBC43E75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Осень.wmv" descr=""/>
          <p:cNvPicPr/>
          <p:nvPr/>
        </p:nvPicPr>
        <p:blipFill>
          <a:blip r:embed="rId2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Родная природа в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ейзажной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рике русских поэтов  19 ве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75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357280" y="571680"/>
            <a:ext cx="78487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уроке я услышал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уроке я увидел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уроке я почувствовал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128" name="Скругленная прямоугольная выноска 3"/>
          <p:cNvSpPr/>
          <p:nvPr/>
        </p:nvSpPr>
        <p:spPr>
          <a:xfrm>
            <a:off x="1785960" y="1214280"/>
            <a:ext cx="5214960" cy="5164200"/>
          </a:xfrm>
          <a:prstGeom prst="wedgeRoundRectCallout">
            <a:avLst>
              <a:gd name="adj1" fmla="val -22314"/>
              <a:gd name="adj2" fmla="val 6158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Одно существительное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Два прилага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Три глаг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Фраза, выражающая воспри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Слово-резюме </a:t>
            </a:r>
            <a:r>
              <a:rPr b="1" lang="ru-RU" sz="3200" spc="-1" strike="noStrike">
                <a:solidFill>
                  <a:srgbClr val="34164a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132" name="Скругленная прямоугольная выноска 3"/>
          <p:cNvSpPr/>
          <p:nvPr/>
        </p:nvSpPr>
        <p:spPr>
          <a:xfrm>
            <a:off x="1785960" y="1214280"/>
            <a:ext cx="5214960" cy="5164200"/>
          </a:xfrm>
          <a:prstGeom prst="wedgeRoundRectCallout">
            <a:avLst>
              <a:gd name="adj1" fmla="val -22314"/>
              <a:gd name="adj2" fmla="val 6158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Ф.И.Тютч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Талантливый,у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Сочиняет, учит, восхищ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Живет стих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Мэтр  поэзии</a:t>
            </a:r>
            <a:r>
              <a:rPr b="1" lang="ru-RU" sz="3200" spc="-1" strike="noStrike">
                <a:solidFill>
                  <a:srgbClr val="34164a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49968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пасибо за ур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Ирина\Pictures\Рисунок4.png"/>
          <p:cNvPicPr/>
          <p:nvPr/>
        </p:nvPicPr>
        <p:blipFill>
          <a:blip r:embed="rId2"/>
          <a:stretch/>
        </p:blipFill>
        <p:spPr>
          <a:xfrm>
            <a:off x="4500720" y="1714680"/>
            <a:ext cx="351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E:\Конкурс\2292702.jpg"/>
          <p:cNvPicPr/>
          <p:nvPr/>
        </p:nvPicPr>
        <p:blipFill>
          <a:blip r:embed="rId1"/>
          <a:stretch/>
        </p:blipFill>
        <p:spPr>
          <a:xfrm>
            <a:off x="-285840" y="0"/>
            <a:ext cx="971568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75247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«Родная природа в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пейзажно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лирике русских поэтов  19 ве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8"/>
          <p:cNvSpPr/>
          <p:nvPr/>
        </p:nvSpPr>
        <p:spPr>
          <a:xfrm>
            <a:off x="7858080" y="15717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и, 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58000" y="2643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над про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  <a:ea typeface="Arial"/>
              </a:rPr>
              <a:t>Структур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i"/>
          <p:cNvPicPr/>
          <p:nvPr/>
        </p:nvPicPr>
        <p:blipFill>
          <a:blip r:embed="rId2"/>
          <a:stretch/>
        </p:blipFill>
        <p:spPr>
          <a:xfrm>
            <a:off x="357120" y="4786200"/>
            <a:ext cx="1909800" cy="173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3"/>
          <p:cNvPicPr/>
          <p:nvPr/>
        </p:nvPicPr>
        <p:blipFill>
          <a:blip r:embed="rId3"/>
          <a:stretch/>
        </p:blipFill>
        <p:spPr>
          <a:xfrm>
            <a:off x="1643040" y="3786120"/>
            <a:ext cx="148608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835280" y="501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 темы (поэ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8608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357800" y="39290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, вид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429160" y="3500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еделение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3"/>
          <p:cNvPicPr/>
          <p:nvPr/>
        </p:nvPicPr>
        <p:blipFill>
          <a:blip r:embed="rId4"/>
          <a:stretch/>
        </p:blipFill>
        <p:spPr>
          <a:xfrm>
            <a:off x="2928960" y="3143160"/>
            <a:ext cx="1481040" cy="150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3"/>
          <p:cNvPicPr/>
          <p:nvPr/>
        </p:nvPicPr>
        <p:blipFill>
          <a:blip r:embed="rId5"/>
          <a:stretch/>
        </p:blipFill>
        <p:spPr>
          <a:xfrm>
            <a:off x="4143240" y="2500200"/>
            <a:ext cx="1479600" cy="150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3"/>
          <p:cNvPicPr/>
          <p:nvPr/>
        </p:nvPicPr>
        <p:blipFill>
          <a:blip r:embed="rId6"/>
          <a:stretch/>
        </p:blipFill>
        <p:spPr>
          <a:xfrm>
            <a:off x="5500800" y="1928880"/>
            <a:ext cx="1482480" cy="15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3"/>
          <p:cNvPicPr/>
          <p:nvPr/>
        </p:nvPicPr>
        <p:blipFill>
          <a:blip r:embed="rId7"/>
          <a:stretch/>
        </p:blipFill>
        <p:spPr>
          <a:xfrm>
            <a:off x="7589880" y="0"/>
            <a:ext cx="1554120" cy="158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3"/>
          <p:cNvPicPr/>
          <p:nvPr/>
        </p:nvPicPr>
        <p:blipFill>
          <a:blip r:embed="rId8"/>
          <a:stretch/>
        </p:blipFill>
        <p:spPr>
          <a:xfrm>
            <a:off x="6643800" y="1000080"/>
            <a:ext cx="15541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57120" y="134928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комиться с творчеством рус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, какой видят природу рус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ы и худож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араться в чтении передать мыс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чувства ав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поставить произведения разны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в искус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ься работать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505960" y="50004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дачи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лево 5"/>
          <p:cNvSpPr/>
          <p:nvPr/>
        </p:nvSpPr>
        <p:spPr>
          <a:xfrm>
            <a:off x="8166240" y="6373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 rot="4720800">
            <a:off x="5598720" y="3510000"/>
            <a:ext cx="2046240" cy="39196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 rot="5935200">
            <a:off x="1082880" y="-273600"/>
            <a:ext cx="2232000" cy="4103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743120" y="3160800"/>
            <a:ext cx="74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 rot="559200">
            <a:off x="914760" y="102240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иск и отбор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 rot="4720800">
            <a:off x="978480" y="1643760"/>
            <a:ext cx="2328840" cy="3905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 rot="20937000">
            <a:off x="5417280" y="4952520"/>
            <a:ext cx="33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хническ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 rot="4908000">
            <a:off x="5515200" y="35640"/>
            <a:ext cx="2286000" cy="3887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 rot="21153600">
            <a:off x="5836680" y="1297080"/>
            <a:ext cx="24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альн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7"/>
          <p:cNvSpPr/>
          <p:nvPr/>
        </p:nvSpPr>
        <p:spPr>
          <a:xfrm rot="6393000">
            <a:off x="5783400" y="1643760"/>
            <a:ext cx="2144520" cy="40705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 rot="1047600">
            <a:off x="4944960" y="3117600"/>
            <a:ext cx="381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тературоведч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 rot="5790000">
            <a:off x="1374840" y="3403800"/>
            <a:ext cx="2409840" cy="40543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 rot="451800">
            <a:off x="827280" y="4741560"/>
            <a:ext cx="484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бор иллюстраций, собственное   иллюстр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 rot="20937000">
            <a:off x="675720" y="3051000"/>
            <a:ext cx="35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зительно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786040" y="357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иды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лево 19"/>
          <p:cNvSpPr/>
          <p:nvPr/>
        </p:nvSpPr>
        <p:spPr>
          <a:xfrm>
            <a:off x="8166240" y="6373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Капля 4"/>
          <p:cNvSpPr/>
          <p:nvPr/>
        </p:nvSpPr>
        <p:spPr>
          <a:xfrm rot="325800">
            <a:off x="1023840" y="4019400"/>
            <a:ext cx="2019240" cy="2092320"/>
          </a:xfrm>
          <a:custGeom>
            <a:avLst/>
            <a:gdLst>
              <a:gd name="textAreaLeft" fmla="*/ 295560 w 2019240"/>
              <a:gd name="textAreaRight" fmla="*/ 1723680 w 2019240"/>
              <a:gd name="textAreaTop" fmla="*/ 306360 h 2092320"/>
              <a:gd name="textAreaBottom" fmla="*/ 1785960 h 2092320"/>
            </a:gdLst>
            <a:ahLst/>
            <a:rect l="textAreaLeft" t="textAreaTop" r="textAreaRight" b="textAreaBottom"/>
            <a:pathLst>
              <a:path w="2019300" h="2092325">
                <a:moveTo>
                  <a:pt x="0" y="1046163"/>
                </a:moveTo>
                <a:lnTo>
                  <a:pt x="0" y="1046163"/>
                </a:lnTo>
                <a:arcTo wR="1009650" hR="1046163" stAng="-10799997" swAng="5400003"/>
                <a:lnTo>
                  <a:pt x="1514474" y="0"/>
                </a:lnTo>
                <a:lnTo>
                  <a:pt x="2019299" y="0"/>
                </a:lnTo>
                <a:lnTo>
                  <a:pt x="2019300" y="784622"/>
                </a:lnTo>
                <a:arcTo wR="0" hR="261541" stAng="0" swAng="0"/>
                <a:lnTo>
                  <a:pt x="1871440" y="1939119"/>
                </a:lnTo>
                <a:arcTo wR="-504826" hR="523082" stAng="2761051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Капля 5"/>
          <p:cNvSpPr/>
          <p:nvPr/>
        </p:nvSpPr>
        <p:spPr>
          <a:xfrm rot="3933600">
            <a:off x="951120" y="1324800"/>
            <a:ext cx="1962360" cy="1941480"/>
          </a:xfrm>
          <a:custGeom>
            <a:avLst/>
            <a:gdLst>
              <a:gd name="textAreaLeft" fmla="*/ 287280 w 1962360"/>
              <a:gd name="textAreaRight" fmla="*/ 1675080 w 1962360"/>
              <a:gd name="textAreaTop" fmla="*/ 284040 h 1941480"/>
              <a:gd name="textAreaBottom" fmla="*/ 1657440 h 1941480"/>
            </a:gdLst>
            <a:ahLst/>
            <a:rect l="textAreaLeft" t="textAreaTop" r="textAreaRight" b="textAreaBottom"/>
            <a:pathLst>
              <a:path w="1962150" h="1941513">
                <a:moveTo>
                  <a:pt x="0" y="970757"/>
                </a:moveTo>
                <a:lnTo>
                  <a:pt x="0" y="970757"/>
                </a:lnTo>
                <a:arcTo wR="981075" hR="970757" stAng="-10799996" swAng="5400004"/>
                <a:lnTo>
                  <a:pt x="1471612" y="0"/>
                </a:lnTo>
                <a:lnTo>
                  <a:pt x="1962149" y="0"/>
                </a:lnTo>
                <a:lnTo>
                  <a:pt x="1962150" y="728068"/>
                </a:lnTo>
                <a:arcTo wR="0" hR="242690" stAng="0" swAng="0"/>
                <a:lnTo>
                  <a:pt x="1818475" y="1799350"/>
                </a:lnTo>
                <a:arcTo wR="-490538" hR="485379" stAng="2681828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Капля 6"/>
          <p:cNvSpPr/>
          <p:nvPr/>
        </p:nvSpPr>
        <p:spPr>
          <a:xfrm rot="8266200">
            <a:off x="3633120" y="4320"/>
            <a:ext cx="1833480" cy="1954440"/>
          </a:xfrm>
          <a:custGeom>
            <a:avLst/>
            <a:gdLst>
              <a:gd name="textAreaLeft" fmla="*/ 268200 w 1833480"/>
              <a:gd name="textAreaRight" fmla="*/ 1565280 w 1833480"/>
              <a:gd name="textAreaTop" fmla="*/ 286200 h 1954440"/>
              <a:gd name="textAreaBottom" fmla="*/ 1668240 h 1954440"/>
            </a:gdLst>
            <a:ahLst/>
            <a:rect l="textAreaLeft" t="textAreaTop" r="textAreaRight" b="textAreaBottom"/>
            <a:pathLst>
              <a:path w="1833562" h="1954212">
                <a:moveTo>
                  <a:pt x="0" y="977106"/>
                </a:moveTo>
                <a:lnTo>
                  <a:pt x="0" y="977106"/>
                </a:lnTo>
                <a:arcTo wR="916781" hR="977106" stAng="-10799996" swAng="5400003"/>
                <a:lnTo>
                  <a:pt x="1375171" y="0"/>
                </a:lnTo>
                <a:lnTo>
                  <a:pt x="1833562" y="0"/>
                </a:lnTo>
                <a:lnTo>
                  <a:pt x="1833562" y="732830"/>
                </a:lnTo>
                <a:arcTo wR="0" hR="244277" stAng="0" swAng="0"/>
                <a:lnTo>
                  <a:pt x="1699302" y="1811118"/>
                </a:lnTo>
                <a:arcTo wR="-458391" hR="488553" stAng="2809464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Капля 7"/>
          <p:cNvSpPr/>
          <p:nvPr/>
        </p:nvSpPr>
        <p:spPr>
          <a:xfrm rot="16012200">
            <a:off x="5924520" y="3963600"/>
            <a:ext cx="2081160" cy="1960560"/>
          </a:xfrm>
          <a:custGeom>
            <a:avLst/>
            <a:gdLst>
              <a:gd name="textAreaLeft" fmla="*/ 304560 w 2081160"/>
              <a:gd name="textAreaRight" fmla="*/ 1776600 w 2081160"/>
              <a:gd name="textAreaTop" fmla="*/ 286920 h 1960560"/>
              <a:gd name="textAreaBottom" fmla="*/ 1673640 h 1960560"/>
            </a:gdLst>
            <a:ahLst/>
            <a:rect l="textAreaLeft" t="textAreaTop" r="textAreaRight" b="textAreaBottom"/>
            <a:pathLst>
              <a:path w="2081212" h="1960563">
                <a:moveTo>
                  <a:pt x="0" y="980282"/>
                </a:moveTo>
                <a:lnTo>
                  <a:pt x="0" y="980282"/>
                </a:lnTo>
                <a:arcTo wR="1040606" hR="980282" stAng="-10799997" swAng="5400004"/>
                <a:lnTo>
                  <a:pt x="1560908" y="0"/>
                </a:lnTo>
                <a:lnTo>
                  <a:pt x="2081211" y="0"/>
                </a:lnTo>
                <a:lnTo>
                  <a:pt x="2081212" y="735211"/>
                </a:lnTo>
                <a:arcTo wR="0" hR="245071" stAng="0" swAng="0"/>
                <a:lnTo>
                  <a:pt x="1928818" y="1817005"/>
                </a:lnTo>
                <a:arcTo wR="-520304" hR="490141" stAng="2597413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Капля 8"/>
          <p:cNvSpPr/>
          <p:nvPr/>
        </p:nvSpPr>
        <p:spPr>
          <a:xfrm rot="18870000">
            <a:off x="3587040" y="4940640"/>
            <a:ext cx="2070000" cy="2030400"/>
          </a:xfrm>
          <a:custGeom>
            <a:avLst/>
            <a:gdLst>
              <a:gd name="textAreaLeft" fmla="*/ 303120 w 2070000"/>
              <a:gd name="textAreaRight" fmla="*/ 1766880 w 2070000"/>
              <a:gd name="textAreaTop" fmla="*/ 297360 h 2030400"/>
              <a:gd name="textAreaBottom" fmla="*/ 1733040 h 2030400"/>
            </a:gdLst>
            <a:ahLst/>
            <a:rect l="textAreaLeft" t="textAreaTop" r="textAreaRight" b="textAreaBottom"/>
            <a:pathLst>
              <a:path w="2070100" h="2030413">
                <a:moveTo>
                  <a:pt x="0" y="1015207"/>
                </a:moveTo>
                <a:lnTo>
                  <a:pt x="0" y="1015207"/>
                </a:lnTo>
                <a:arcTo wR="1035050" hR="1015207" stAng="-10799997" swAng="5400003"/>
                <a:lnTo>
                  <a:pt x="1552574" y="0"/>
                </a:lnTo>
                <a:lnTo>
                  <a:pt x="2070099" y="0"/>
                </a:lnTo>
                <a:lnTo>
                  <a:pt x="2070100" y="761405"/>
                </a:lnTo>
                <a:arcTo wR="0" hR="253802" stAng="0" swAng="0"/>
                <a:lnTo>
                  <a:pt x="1918520" y="1881741"/>
                </a:lnTo>
                <a:arcTo wR="-517526" hR="507604" stAng="2666730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Капля 9"/>
          <p:cNvSpPr/>
          <p:nvPr/>
        </p:nvSpPr>
        <p:spPr>
          <a:xfrm flipV="1" rot="6816600">
            <a:off x="6132960" y="1250640"/>
            <a:ext cx="1874880" cy="1879560"/>
          </a:xfrm>
          <a:custGeom>
            <a:avLst/>
            <a:gdLst>
              <a:gd name="textAreaLeft" fmla="*/ 274320 w 1874880"/>
              <a:gd name="textAreaRight" fmla="*/ 1600560 w 1874880"/>
              <a:gd name="textAreaTop" fmla="*/ 275040 h 1879560"/>
              <a:gd name="textAreaBottom" fmla="*/ 1604520 h 1879560"/>
            </a:gdLst>
            <a:ahLst/>
            <a:rect l="textAreaLeft" t="textAreaTop" r="textAreaRight" b="textAreaBottom"/>
            <a:pathLst>
              <a:path w="1874838" h="1879600">
                <a:moveTo>
                  <a:pt x="0" y="939800"/>
                </a:moveTo>
                <a:lnTo>
                  <a:pt x="0" y="939800"/>
                </a:lnTo>
                <a:arcTo wR="937419" hR="939800" stAng="-10799996" swAng="5400004"/>
                <a:lnTo>
                  <a:pt x="1406128" y="0"/>
                </a:lnTo>
                <a:lnTo>
                  <a:pt x="1874838" y="0"/>
                </a:lnTo>
                <a:lnTo>
                  <a:pt x="1874838" y="704850"/>
                </a:lnTo>
                <a:arcTo wR="0" hR="234950" stAng="0" swAng="0"/>
                <a:lnTo>
                  <a:pt x="1737556" y="1741970"/>
                </a:lnTo>
                <a:arcTo wR="-468710" hR="469900" stAng="2704361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0"/>
          <p:cNvSpPr/>
          <p:nvPr/>
        </p:nvSpPr>
        <p:spPr>
          <a:xfrm>
            <a:off x="3286080" y="2286000"/>
            <a:ext cx="2571840" cy="23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РГАНИЗАЦИЯ РАБОТЫ В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 rot="21388200">
            <a:off x="1368000" y="2099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Е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21388200">
            <a:off x="1233000" y="469224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ЛЛЮСТРА-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 rot="21388200">
            <a:off x="6165720" y="1843200"/>
            <a:ext cx="188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ЗЫК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 rot="21388200">
            <a:off x="3866760" y="6127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ИОГРА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 rot="21388200">
            <a:off x="3947760" y="5538600"/>
            <a:ext cx="169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ТЕРАТУ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rot="21388200">
            <a:off x="6093000" y="4412880"/>
            <a:ext cx="18381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ФОРМ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лево 17"/>
          <p:cNvSpPr/>
          <p:nvPr/>
        </p:nvSpPr>
        <p:spPr>
          <a:xfrm>
            <a:off x="8166240" y="6373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973800" y="63000"/>
            <a:ext cx="42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тоги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Лист оцени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2960" y="1214280"/>
          <a:ext cx="7358040" cy="5180040"/>
        </p:xfrm>
        <a:graphic>
          <a:graphicData uri="http://schemas.openxmlformats.org/drawingml/2006/table">
            <a:tbl>
              <a:tblPr/>
              <a:tblGrid>
                <a:gridCol w="3089160"/>
                <a:gridCol w="1089000"/>
                <a:gridCol w="1060560"/>
                <a:gridCol w="1058760"/>
                <a:gridCol w="106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сть, яркость отбора материала по биографии поэ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творчеству поэта через музыку и иллюстрации в групп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зительность чтения стих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сть литературоведческого ана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женность выступления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IMG_4126"/>
          <p:cNvPicPr/>
          <p:nvPr/>
        </p:nvPicPr>
        <p:blipFill>
          <a:blip r:embed="rId2"/>
          <a:stretch/>
        </p:blipFill>
        <p:spPr>
          <a:xfrm>
            <a:off x="1908000" y="2924280"/>
            <a:ext cx="3152880" cy="2017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:\фото\IMG_4131.JPG"/>
          <p:cNvPicPr/>
          <p:nvPr/>
        </p:nvPicPr>
        <p:blipFill>
          <a:blip r:embed="rId3"/>
          <a:stretch/>
        </p:blipFill>
        <p:spPr>
          <a:xfrm>
            <a:off x="4859280" y="404640"/>
            <a:ext cx="3889440" cy="247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фото(к-с стих,созвездие, армия, танц.шк,65 победе,проект про прир\IMG_4130.JPG"/>
          <p:cNvPicPr/>
          <p:nvPr/>
        </p:nvPicPr>
        <p:blipFill>
          <a:blip r:embed="rId4"/>
          <a:stretch/>
        </p:blipFill>
        <p:spPr>
          <a:xfrm>
            <a:off x="324000" y="836640"/>
            <a:ext cx="3456000" cy="243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:\фото(к-с стих,созвездие, армия, танц.шк,65 победе,проект про прир\IMG_4128.JPG"/>
          <p:cNvPicPr/>
          <p:nvPr/>
        </p:nvPicPr>
        <p:blipFill>
          <a:blip r:embed="rId5"/>
          <a:stretch/>
        </p:blipFill>
        <p:spPr>
          <a:xfrm>
            <a:off x="0" y="4724280"/>
            <a:ext cx="347328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:\фото(к-с стих,созвездие, армия, танц.шк,65 победе,проект про прир\IMG_4119.JPG"/>
          <p:cNvPicPr/>
          <p:nvPr/>
        </p:nvPicPr>
        <p:blipFill>
          <a:blip r:embed="rId6"/>
          <a:stretch/>
        </p:blipFill>
        <p:spPr>
          <a:xfrm>
            <a:off x="5435640" y="4859280"/>
            <a:ext cx="3168720" cy="199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User\Рабочий стол\Конкурс\фото\SANY0297.JPG"/>
          <p:cNvPicPr/>
          <p:nvPr/>
        </p:nvPicPr>
        <p:blipFill>
          <a:blip r:embed="rId7"/>
          <a:stretch/>
        </p:blipFill>
        <p:spPr>
          <a:xfrm>
            <a:off x="5292720" y="3068640"/>
            <a:ext cx="3192480" cy="19558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077920" y="0"/>
            <a:ext cx="539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щита проек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ыберите фразу, соответствующую вашему внутреннему состоя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6" descr=""/>
          <p:cNvPicPr/>
          <p:nvPr/>
        </p:nvPicPr>
        <p:blipFill>
          <a:blip r:embed="rId2"/>
          <a:stretch/>
        </p:blipFill>
        <p:spPr>
          <a:xfrm>
            <a:off x="444600" y="1920960"/>
            <a:ext cx="8181720" cy="47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29:15Z</dcterms:created>
  <dc:creator>Ирина</dc:creator>
  <dc:description/>
  <dc:language>en-US</dc:language>
  <cp:lastModifiedBy>Ирина</cp:lastModifiedBy>
  <dcterms:modified xsi:type="dcterms:W3CDTF">2013-08-15T07:41:07Z</dcterms:modified>
  <cp:revision>52</cp:revision>
  <dc:subject/>
  <dc:title>«Родная природа в  пейзажной лирике русских поэтов  19 века»</dc:title>
</cp:coreProperties>
</file>