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3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74FC-4D3C-4CBA-8A7F-C76EB028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A2D4-8B29-43AF-9B4D-C6CA875E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6C71-D307-488C-89F9-9447672E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0CB1-8C14-4359-A54C-B47BBB38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DA2F-2159-4F14-90E9-850F4295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B47-B594-447A-90FE-6386FED1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47E-D7CB-4AAD-BCC9-5815B20B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A7E9-F7DE-4CC6-B4B5-202CA11C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CA03-3400-446C-9F77-7C545152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4FC-DB32-4AEF-9CE5-1E6D07B2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C21F-1659-4945-869D-392F1AF6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C72B-6339-41FA-A1F3-E838CF17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07D4-1612-4CDC-8E5B-7BC8D5E7AB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732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8470800" y="0"/>
            <a:ext cx="6732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539640" y="0"/>
            <a:ext cx="7993080" cy="673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4"/>
          <a:stretch/>
        </p:blipFill>
        <p:spPr>
          <a:xfrm>
            <a:off x="539640" y="6184800"/>
            <a:ext cx="79930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WordArt 9"/>
          <p:cNvSpPr txBox="1"/>
          <p:nvPr/>
        </p:nvSpPr>
        <p:spPr>
          <a:xfrm>
            <a:off x="1273320" y="1484280"/>
            <a:ext cx="6624360" cy="18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стное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родное  творчество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WordArt 11"/>
          <p:cNvSpPr txBox="1"/>
          <p:nvPr/>
        </p:nvSpPr>
        <p:spPr>
          <a:xfrm>
            <a:off x="3708360" y="5516640"/>
            <a:ext cx="4778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 начальных классов,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туева  Евгения  Александровн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399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99960" cy="6497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"/>
          <p:cNvPicPr/>
          <p:nvPr/>
        </p:nvPicPr>
        <p:blipFill>
          <a:blip r:embed="rId3"/>
          <a:stretch/>
        </p:blipFill>
        <p:spPr>
          <a:xfrm>
            <a:off x="0" y="6458040"/>
            <a:ext cx="8712360" cy="399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4"/>
          <a:stretch/>
        </p:blipFill>
        <p:spPr>
          <a:xfrm>
            <a:off x="8532720" y="0"/>
            <a:ext cx="4003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10"/>
          <p:cNvSpPr txBox="1"/>
          <p:nvPr/>
        </p:nvSpPr>
        <p:spPr>
          <a:xfrm>
            <a:off x="2484360" y="404640"/>
            <a:ext cx="367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аз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539640" y="119700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еко-далеко раскинулось царство необъятное—Страна сказок, чудес и волшебства. Прекрасная страна! И кто хоть раз побывал в ней, останется пленником наве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4140360" y="2349360"/>
            <a:ext cx="43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тому что деревья там самые причудливые, горы– самые высокие, терема– самые расписные, птицы—самые звонкие. А чудища—самые страш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3" descr=""/>
          <p:cNvPicPr/>
          <p:nvPr/>
        </p:nvPicPr>
        <p:blipFill>
          <a:blip r:embed="rId5"/>
          <a:stretch/>
        </p:blipFill>
        <p:spPr>
          <a:xfrm>
            <a:off x="611280" y="2060640"/>
            <a:ext cx="1774800" cy="21715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4"/>
          <p:cNvSpPr/>
          <p:nvPr/>
        </p:nvSpPr>
        <p:spPr>
          <a:xfrm>
            <a:off x="468360" y="4292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люди на свете любят сказки. Любить их начинают ещё в детстве. Сказка учит отличать добро от зла, хорошее от плох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чные сказки- сказки народные, в них спрятана волшебная с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5" descr=""/>
          <p:cNvPicPr/>
          <p:nvPr/>
        </p:nvPicPr>
        <p:blipFill>
          <a:blip r:embed="rId6"/>
          <a:stretch/>
        </p:blipFill>
        <p:spPr>
          <a:xfrm>
            <a:off x="5724360" y="4076640"/>
            <a:ext cx="1943280" cy="221004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16"/>
          <p:cNvSpPr/>
          <p:nvPr/>
        </p:nvSpPr>
        <p:spPr>
          <a:xfrm>
            <a:off x="0" y="6237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10800"/>
                </a:moveTo>
                <a:lnTo>
                  <a:pt x="22386" y="3794"/>
                </a:lnTo>
                <a:lnTo>
                  <a:pt x="223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732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8470800" y="0"/>
            <a:ext cx="6732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539640" y="0"/>
            <a:ext cx="7993080" cy="67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4"/>
          <a:stretch/>
        </p:blipFill>
        <p:spPr>
          <a:xfrm>
            <a:off x="539640" y="6184800"/>
            <a:ext cx="7993080" cy="67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j0123939"/>
          <p:cNvPicPr/>
          <p:nvPr/>
        </p:nvPicPr>
        <p:blipFill>
          <a:blip r:embed="rId5"/>
          <a:srcRect l="0" t="79637" r="0" b="0"/>
          <a:stretch/>
        </p:blipFill>
        <p:spPr>
          <a:xfrm>
            <a:off x="1403280" y="5516640"/>
            <a:ext cx="5975280" cy="912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6"/>
          <a:srcRect l="0" t="0" r="0" b="32561"/>
          <a:stretch/>
        </p:blipFill>
        <p:spPr>
          <a:xfrm>
            <a:off x="2048040" y="495360"/>
            <a:ext cx="5329080" cy="5033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cc0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Устное  народное  творч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>
            <a:hlinkClick r:id="" action="ppaction://hlinkshowjump?jump=nextslide"/>
          </p:cNvPr>
          <p:cNvSpPr/>
          <p:nvPr/>
        </p:nvSpPr>
        <p:spPr>
          <a:xfrm>
            <a:off x="0" y="2133720"/>
            <a:ext cx="2700360" cy="685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Загад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>
            <a:hlinkClick r:id="rId1" action="ppaction://hlinksldjump"/>
          </p:cNvPr>
          <p:cNvSpPr/>
          <p:nvPr/>
        </p:nvSpPr>
        <p:spPr>
          <a:xfrm>
            <a:off x="6012000" y="2133720"/>
            <a:ext cx="2912760" cy="685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Послов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>
            <a:hlinkClick r:id="rId2" action="ppaction://hlinksldjump"/>
          </p:cNvPr>
          <p:cNvSpPr/>
          <p:nvPr/>
        </p:nvSpPr>
        <p:spPr>
          <a:xfrm>
            <a:off x="324000" y="3213000"/>
            <a:ext cx="3200400" cy="901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Arial"/>
              </a:rPr>
              <a:t>Считалки  и  небы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>
            <a:hlinkClick r:id="rId3" action="ppaction://hlinksldjump"/>
          </p:cNvPr>
          <p:cNvSpPr/>
          <p:nvPr/>
        </p:nvSpPr>
        <p:spPr>
          <a:xfrm>
            <a:off x="5435640" y="3213000"/>
            <a:ext cx="3200400" cy="901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Arial"/>
              </a:rPr>
              <a:t>Потешки  и  приба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>
            <a:hlinkClick r:id="rId4" action="ppaction://hlinksldjump"/>
          </p:cNvPr>
          <p:cNvSpPr/>
          <p:nvPr/>
        </p:nvSpPr>
        <p:spPr>
          <a:xfrm>
            <a:off x="4859280" y="4508640"/>
            <a:ext cx="3200400" cy="9745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Arial"/>
              </a:rPr>
              <a:t>Колыбельные  пес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>
            <a:hlinkClick r:id="rId5" action="ppaction://hlinksldjump"/>
          </p:cNvPr>
          <p:cNvSpPr/>
          <p:nvPr/>
        </p:nvSpPr>
        <p:spPr>
          <a:xfrm>
            <a:off x="2843280" y="5850000"/>
            <a:ext cx="3200400" cy="100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Сказ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3059280" y="1484280"/>
            <a:ext cx="360360" cy="1440000"/>
          </a:xfrm>
          <a:prstGeom prst="downArrow">
            <a:avLst>
              <a:gd name="adj1" fmla="val 50000"/>
              <a:gd name="adj2" fmla="val 99900"/>
            </a:avLst>
          </a:prstGeom>
          <a:gradFill rotWithShape="0">
            <a:gsLst>
              <a:gs pos="0">
                <a:srgbClr val="ccff99"/>
              </a:gs>
              <a:gs pos="100000">
                <a:srgbClr val="99cc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/>
          <p:cNvSpPr/>
          <p:nvPr/>
        </p:nvSpPr>
        <p:spPr>
          <a:xfrm>
            <a:off x="5508720" y="1484280"/>
            <a:ext cx="360360" cy="1440000"/>
          </a:xfrm>
          <a:prstGeom prst="downArrow">
            <a:avLst>
              <a:gd name="adj1" fmla="val 50000"/>
              <a:gd name="adj2" fmla="val 99900"/>
            </a:avLst>
          </a:prstGeom>
          <a:gradFill rotWithShape="0">
            <a:gsLst>
              <a:gs pos="0">
                <a:srgbClr val="ccff99"/>
              </a:gs>
              <a:gs pos="100000">
                <a:srgbClr val="99cc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4932360" y="1484280"/>
            <a:ext cx="360360" cy="2808360"/>
          </a:xfrm>
          <a:prstGeom prst="downArrow">
            <a:avLst>
              <a:gd name="adj1" fmla="val 50000"/>
              <a:gd name="adj2" fmla="val 194830"/>
            </a:avLst>
          </a:prstGeom>
          <a:gradFill rotWithShape="0">
            <a:gsLst>
              <a:gs pos="0">
                <a:srgbClr val="ccff99"/>
              </a:gs>
              <a:gs pos="100000">
                <a:srgbClr val="99cc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3708360" y="1484280"/>
            <a:ext cx="360360" cy="2736720"/>
          </a:xfrm>
          <a:prstGeom prst="downArrow">
            <a:avLst>
              <a:gd name="adj1" fmla="val 50000"/>
              <a:gd name="adj2" fmla="val 189860"/>
            </a:avLst>
          </a:prstGeom>
          <a:gradFill rotWithShape="0">
            <a:gsLst>
              <a:gs pos="0">
                <a:srgbClr val="ccff99"/>
              </a:gs>
              <a:gs pos="100000">
                <a:srgbClr val="99cc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6"/>
          <p:cNvSpPr/>
          <p:nvPr/>
        </p:nvSpPr>
        <p:spPr>
          <a:xfrm>
            <a:off x="1332000" y="1484280"/>
            <a:ext cx="288720" cy="432000"/>
          </a:xfrm>
          <a:prstGeom prst="downArrow">
            <a:avLst>
              <a:gd name="adj1" fmla="val 50000"/>
              <a:gd name="adj2" fmla="val 37406"/>
            </a:avLst>
          </a:prstGeom>
          <a:gradFill rotWithShape="0">
            <a:gsLst>
              <a:gs pos="0">
                <a:srgbClr val="ccff99"/>
              </a:gs>
              <a:gs pos="100000">
                <a:srgbClr val="99cc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7"/>
          <p:cNvSpPr/>
          <p:nvPr/>
        </p:nvSpPr>
        <p:spPr>
          <a:xfrm>
            <a:off x="7308720" y="1484280"/>
            <a:ext cx="289080" cy="432000"/>
          </a:xfrm>
          <a:prstGeom prst="downArrow">
            <a:avLst>
              <a:gd name="adj1" fmla="val 50000"/>
              <a:gd name="adj2" fmla="val 37360"/>
            </a:avLst>
          </a:prstGeom>
          <a:gradFill rotWithShape="0">
            <a:gsLst>
              <a:gs pos="0">
                <a:srgbClr val="ccff99"/>
              </a:gs>
              <a:gs pos="100000">
                <a:srgbClr val="99cc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4356000" y="1484280"/>
            <a:ext cx="432000" cy="4032360"/>
          </a:xfrm>
          <a:prstGeom prst="downArrow">
            <a:avLst>
              <a:gd name="adj1" fmla="val 50000"/>
              <a:gd name="adj2" fmla="val 233354"/>
            </a:avLst>
          </a:prstGeom>
          <a:gradFill rotWithShape="0">
            <a:gsLst>
              <a:gs pos="0">
                <a:srgbClr val="ccff99"/>
              </a:gs>
              <a:gs pos="100000">
                <a:srgbClr val="99cc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>
            <a:hlinkClick r:id="rId6" action="ppaction://hlinksldjump"/>
          </p:cNvPr>
          <p:cNvSpPr/>
          <p:nvPr/>
        </p:nvSpPr>
        <p:spPr>
          <a:xfrm>
            <a:off x="755640" y="4508640"/>
            <a:ext cx="3200400" cy="9745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"/>
              </a:rPr>
              <a:t>Скорогово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732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8470800" y="0"/>
            <a:ext cx="6732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539640" y="0"/>
            <a:ext cx="7993080" cy="673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539640" y="6184800"/>
            <a:ext cx="7993080" cy="6732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684360" y="765000"/>
            <a:ext cx="50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Загадка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жанр народного творчества у всех народов мира; Служит для испытания смека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971640" y="220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Не куст, а с листочк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не рубашка, а сш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не человек, а рассказы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"/>
          <p:cNvPicPr/>
          <p:nvPr/>
        </p:nvPicPr>
        <p:blipFill>
          <a:blip r:embed="rId5"/>
          <a:stretch/>
        </p:blipFill>
        <p:spPr>
          <a:xfrm>
            <a:off x="6516720" y="620640"/>
            <a:ext cx="1828800" cy="2349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1"/>
          <p:cNvSpPr/>
          <p:nvPr/>
        </p:nvSpPr>
        <p:spPr>
          <a:xfrm>
            <a:off x="4572000" y="342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Чёрный Ива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деревянная рубаш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где носом ведё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там заметку клад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-468360" y="3500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Далеко мой ст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Слышится вокру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Червякам я вра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А деревьям д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2340000" y="4653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Не высок и корен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Поглядеть решил на н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Приподняв с утра под ёл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Лист с прилипшими игол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5">
            <a:hlinkClick r:id="" action="ppaction://hlinkshowjump?jump=previousslide"/>
          </p:cNvPr>
          <p:cNvSpPr/>
          <p:nvPr/>
        </p:nvSpPr>
        <p:spPr>
          <a:xfrm>
            <a:off x="0" y="6237360"/>
            <a:ext cx="503280" cy="40464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5461" y="1400"/>
                </a:lnTo>
                <a:lnTo>
                  <a:pt x="1400" y="1400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5461" y="20200"/>
                </a:lnTo>
                <a:lnTo>
                  <a:pt x="25461" y="1400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61" y="20200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61" h="21600">
                <a:moveTo>
                  <a:pt x="6424" y="10800"/>
                </a:moveTo>
                <a:lnTo>
                  <a:pt x="20437" y="3794"/>
                </a:lnTo>
                <a:lnTo>
                  <a:pt x="204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732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8470800" y="0"/>
            <a:ext cx="6732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539640" y="0"/>
            <a:ext cx="7993080" cy="673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539640" y="6184800"/>
            <a:ext cx="7993080" cy="673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5"/>
          <a:stretch/>
        </p:blipFill>
        <p:spPr>
          <a:xfrm>
            <a:off x="1258920" y="692280"/>
            <a:ext cx="5832360" cy="252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6"/>
          <a:stretch/>
        </p:blipFill>
        <p:spPr>
          <a:xfrm>
            <a:off x="684360" y="3933720"/>
            <a:ext cx="3311280" cy="1943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7"/>
          <a:stretch/>
        </p:blipFill>
        <p:spPr>
          <a:xfrm>
            <a:off x="4140360" y="3213000"/>
            <a:ext cx="4376520" cy="2880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0"/>
          <p:cNvSpPr/>
          <p:nvPr/>
        </p:nvSpPr>
        <p:spPr>
          <a:xfrm>
            <a:off x="179280" y="5950080"/>
            <a:ext cx="432000" cy="5745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4560"/>
              <a:gd name="textAreaBottom" fmla="*/ 546840 h 574560"/>
            </a:gdLst>
            <a:ahLst/>
            <a:rect l="textAreaLeft" t="textAreaTop" r="textAreaRight" b="textAreaBottom"/>
            <a:pathLst>
              <a:path w="21600" h="28722">
                <a:moveTo>
                  <a:pt x="0" y="0"/>
                </a:moveTo>
                <a:lnTo>
                  <a:pt x="21600" y="0"/>
                </a:lnTo>
                <a:lnTo>
                  <a:pt x="21600" y="28722"/>
                </a:lnTo>
                <a:lnTo>
                  <a:pt x="0" y="28722"/>
                </a:lnTo>
                <a:close/>
              </a:path>
              <a:path fill="lightenLess" w="21600" h="287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22">
                <a:moveTo>
                  <a:pt x="21600" y="0"/>
                </a:moveTo>
                <a:lnTo>
                  <a:pt x="21600" y="28722"/>
                </a:lnTo>
                <a:lnTo>
                  <a:pt x="20200" y="27322"/>
                </a:lnTo>
                <a:lnTo>
                  <a:pt x="20200" y="1400"/>
                </a:lnTo>
                <a:close/>
              </a:path>
              <a:path fill="darkenLess" w="21600" h="28722">
                <a:moveTo>
                  <a:pt x="21600" y="28722"/>
                </a:moveTo>
                <a:lnTo>
                  <a:pt x="0" y="28722"/>
                </a:lnTo>
                <a:lnTo>
                  <a:pt x="1400" y="27322"/>
                </a:lnTo>
                <a:lnTo>
                  <a:pt x="20200" y="27322"/>
                </a:lnTo>
                <a:close/>
              </a:path>
              <a:path fill="lighten" w="21600" h="28722">
                <a:moveTo>
                  <a:pt x="0" y="287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22"/>
                </a:lnTo>
                <a:close/>
              </a:path>
              <a:path fill="darken" w="21600" h="28722">
                <a:moveTo>
                  <a:pt x="10800" y="7398"/>
                </a:moveTo>
                <a:lnTo>
                  <a:pt x="13376" y="10009"/>
                </a:lnTo>
                <a:lnTo>
                  <a:pt x="13376" y="8268"/>
                </a:lnTo>
                <a:lnTo>
                  <a:pt x="15152" y="8268"/>
                </a:lnTo>
                <a:lnTo>
                  <a:pt x="15152" y="11785"/>
                </a:lnTo>
                <a:lnTo>
                  <a:pt x="17763" y="14361"/>
                </a:lnTo>
                <a:lnTo>
                  <a:pt x="16109" y="14361"/>
                </a:lnTo>
                <a:lnTo>
                  <a:pt x="16109" y="21550"/>
                </a:lnTo>
                <a:lnTo>
                  <a:pt x="5491" y="21550"/>
                </a:lnTo>
                <a:lnTo>
                  <a:pt x="5491" y="14361"/>
                </a:lnTo>
                <a:lnTo>
                  <a:pt x="3837" y="14361"/>
                </a:lnTo>
                <a:close/>
              </a:path>
              <a:path fill="darkenLess" w="21600" h="28722">
                <a:moveTo>
                  <a:pt x="13376" y="10009"/>
                </a:moveTo>
                <a:lnTo>
                  <a:pt x="13376" y="8268"/>
                </a:lnTo>
                <a:lnTo>
                  <a:pt x="15152" y="8268"/>
                </a:lnTo>
                <a:lnTo>
                  <a:pt x="15152" y="11785"/>
                </a:lnTo>
                <a:close/>
              </a:path>
              <a:path fill="darkenLess" w="21600" h="28722">
                <a:moveTo>
                  <a:pt x="9877" y="17860"/>
                </a:moveTo>
                <a:lnTo>
                  <a:pt x="11723" y="17860"/>
                </a:lnTo>
                <a:lnTo>
                  <a:pt x="11723" y="21550"/>
                </a:lnTo>
                <a:lnTo>
                  <a:pt x="16109" y="21550"/>
                </a:lnTo>
                <a:lnTo>
                  <a:pt x="16109" y="14361"/>
                </a:lnTo>
                <a:lnTo>
                  <a:pt x="5491" y="14361"/>
                </a:lnTo>
                <a:lnTo>
                  <a:pt x="5491" y="21550"/>
                </a:lnTo>
                <a:lnTo>
                  <a:pt x="9877" y="215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6732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3"/>
          <a:stretch/>
        </p:blipFill>
        <p:spPr>
          <a:xfrm>
            <a:off x="8470800" y="0"/>
            <a:ext cx="6732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539640" y="0"/>
            <a:ext cx="7993080" cy="673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5"/>
          <a:stretch/>
        </p:blipFill>
        <p:spPr>
          <a:xfrm>
            <a:off x="539640" y="6184800"/>
            <a:ext cx="7993080" cy="6732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826920" y="1484280"/>
            <a:ext cx="4572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Мышка, мышка, вылей в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За косую огород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Я те дам пятач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Ты сходи в кабач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Ты сходи в кабач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Купи пряниче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8"/>
          <p:cNvSpPr txBox="1"/>
          <p:nvPr/>
        </p:nvSpPr>
        <p:spPr>
          <a:xfrm>
            <a:off x="1547640" y="836640"/>
            <a:ext cx="640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читалки  и  небылицы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6"/>
          <a:stretch/>
        </p:blipFill>
        <p:spPr>
          <a:xfrm>
            <a:off x="755640" y="3284640"/>
            <a:ext cx="2057400" cy="1600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826920" y="4941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Начинается считал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На берёзу села гал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Две вороны, вороб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Три сороки, солов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"/>
          <p:cNvPicPr/>
          <p:nvPr/>
        </p:nvPicPr>
        <p:blipFill>
          <a:blip r:embed="rId7"/>
          <a:stretch/>
        </p:blipFill>
        <p:spPr>
          <a:xfrm>
            <a:off x="5580000" y="1341360"/>
            <a:ext cx="2160720" cy="244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2"/>
          <p:cNvSpPr/>
          <p:nvPr/>
        </p:nvSpPr>
        <p:spPr>
          <a:xfrm>
            <a:off x="4140360" y="4292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Шла собака через мос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Четыре лапы, пятый хво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Если мост провали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То собака свалит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250920" y="6021360"/>
            <a:ext cx="504720" cy="647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647640"/>
              <a:gd name="textAreaBottom" fmla="*/ 615240 h 647640"/>
            </a:gdLst>
            <a:ahLst/>
            <a:rect l="textAreaLeft" t="textAreaTop" r="textAreaRight" b="textAreaBottom"/>
            <a:pathLst>
              <a:path w="21600" h="27712">
                <a:moveTo>
                  <a:pt x="0" y="0"/>
                </a:moveTo>
                <a:lnTo>
                  <a:pt x="21600" y="0"/>
                </a:lnTo>
                <a:lnTo>
                  <a:pt x="21600" y="27712"/>
                </a:lnTo>
                <a:lnTo>
                  <a:pt x="0" y="27712"/>
                </a:lnTo>
                <a:close/>
              </a:path>
              <a:path fill="lightenLess" w="21600" h="277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12">
                <a:moveTo>
                  <a:pt x="21600" y="0"/>
                </a:moveTo>
                <a:lnTo>
                  <a:pt x="21600" y="27712"/>
                </a:lnTo>
                <a:lnTo>
                  <a:pt x="20200" y="26312"/>
                </a:lnTo>
                <a:lnTo>
                  <a:pt x="20200" y="1400"/>
                </a:lnTo>
                <a:close/>
              </a:path>
              <a:path fill="darkenLess" w="21600" h="27712">
                <a:moveTo>
                  <a:pt x="21600" y="27712"/>
                </a:moveTo>
                <a:lnTo>
                  <a:pt x="0" y="27712"/>
                </a:lnTo>
                <a:lnTo>
                  <a:pt x="1400" y="26312"/>
                </a:lnTo>
                <a:lnTo>
                  <a:pt x="20200" y="26312"/>
                </a:lnTo>
                <a:close/>
              </a:path>
              <a:path fill="lighten" w="21600" h="27712">
                <a:moveTo>
                  <a:pt x="0" y="277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12"/>
                </a:lnTo>
                <a:close/>
              </a:path>
              <a:path fill="darken" w="21600" h="27712">
                <a:moveTo>
                  <a:pt x="3794" y="13856"/>
                </a:moveTo>
                <a:lnTo>
                  <a:pt x="17806" y="6850"/>
                </a:lnTo>
                <a:lnTo>
                  <a:pt x="17806" y="2086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6732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3"/>
          <a:stretch/>
        </p:blipFill>
        <p:spPr>
          <a:xfrm>
            <a:off x="8470800" y="0"/>
            <a:ext cx="6732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4"/>
          <a:stretch/>
        </p:blipFill>
        <p:spPr>
          <a:xfrm>
            <a:off x="539640" y="0"/>
            <a:ext cx="7993080" cy="6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5"/>
          <a:stretch/>
        </p:blipFill>
        <p:spPr>
          <a:xfrm>
            <a:off x="539640" y="6184800"/>
            <a:ext cx="7993080" cy="6732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7"/>
          <p:cNvSpPr txBox="1"/>
          <p:nvPr/>
        </p:nvSpPr>
        <p:spPr>
          <a:xfrm>
            <a:off x="1547640" y="549360"/>
            <a:ext cx="648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тешки  и  прибаутки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684360" y="1484280"/>
            <a:ext cx="45720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етушок, петуш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Золотой гребеш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Маслена головуш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Шелкова бородуш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Что ты рано встаёш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Голосисто поё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ане спать не даё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219640" y="1773360"/>
            <a:ext cx="45720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Куда, заинька, бежи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Куда, серенький, бежи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- К медведю на свадьб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Медведь-то мне дяд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А медведица-то тё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3276720" y="39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Кошка на око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Рубашку шьё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Курочка в сапож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Избёнку  мет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324000" y="609300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  <a:path fill="darken" w="21600" h="28818">
                <a:moveTo>
                  <a:pt x="3794" y="14409"/>
                </a:moveTo>
                <a:lnTo>
                  <a:pt x="17806" y="7403"/>
                </a:lnTo>
                <a:lnTo>
                  <a:pt x="17806" y="2141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0029"/>
          <p:cNvPicPr/>
          <p:nvPr/>
        </p:nvPicPr>
        <p:blipFill>
          <a:blip r:embed="rId6"/>
          <a:stretch/>
        </p:blipFill>
        <p:spPr>
          <a:xfrm>
            <a:off x="971640" y="3933720"/>
            <a:ext cx="1512720" cy="1501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0026"/>
          <p:cNvPicPr/>
          <p:nvPr/>
        </p:nvPicPr>
        <p:blipFill>
          <a:blip r:embed="rId7"/>
          <a:stretch/>
        </p:blipFill>
        <p:spPr>
          <a:xfrm>
            <a:off x="6084720" y="3716280"/>
            <a:ext cx="1768680" cy="144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12"/>
          <p:cNvPicPr/>
          <p:nvPr/>
        </p:nvPicPr>
        <p:blipFill>
          <a:blip r:embed="rId8"/>
          <a:stretch/>
        </p:blipFill>
        <p:spPr>
          <a:xfrm>
            <a:off x="3419640" y="1413000"/>
            <a:ext cx="1512720" cy="223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603440" cy="3573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5254560"/>
            <a:ext cx="3573360" cy="1603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3"/>
          <a:stretch/>
        </p:blipFill>
        <p:spPr>
          <a:xfrm>
            <a:off x="7145280" y="4221000"/>
            <a:ext cx="1998720" cy="2637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4"/>
          <a:stretch/>
        </p:blipFill>
        <p:spPr>
          <a:xfrm>
            <a:off x="5570640" y="0"/>
            <a:ext cx="3573360" cy="1603440"/>
          </a:xfrm>
          <a:prstGeom prst="rect">
            <a:avLst/>
          </a:prstGeom>
          <a:ln w="0">
            <a:noFill/>
          </a:ln>
        </p:spPr>
      </p:pic>
      <p:sp>
        <p:nvSpPr>
          <p:cNvPr id="114" name="WordArt 9"/>
          <p:cNvSpPr txBox="1"/>
          <p:nvPr/>
        </p:nvSpPr>
        <p:spPr>
          <a:xfrm>
            <a:off x="1619280" y="549360"/>
            <a:ext cx="604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ороговор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179280" y="1628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шит колпак не по- колпаковс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е по-колпаковски сшит колпа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до колпак переколпаков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еревыколпак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4356000" y="2492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Кукушка кукушо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Купила капюш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Надел кукушонок капюш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В капюшоне кукушонок смешон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51280" y="335772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Добры бобры идут в бо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1835280" y="407664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Шли сорок мышей, нашли сорок грош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ве мыши поплоше несли по два гро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2633400" y="515772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Веселей, Савелий, сено пошевелив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826920" y="595008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10800"/>
                </a:moveTo>
                <a:lnTo>
                  <a:pt x="19374" y="3794"/>
                </a:lnTo>
                <a:lnTo>
                  <a:pt x="193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7" descr="0033"/>
          <p:cNvPicPr/>
          <p:nvPr/>
        </p:nvPicPr>
        <p:blipFill>
          <a:blip r:embed="rId5"/>
          <a:stretch/>
        </p:blipFill>
        <p:spPr>
          <a:xfrm>
            <a:off x="7380360" y="3933720"/>
            <a:ext cx="1231920" cy="1079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603440" cy="3573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0" y="5254560"/>
            <a:ext cx="3573360" cy="1603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3"/>
          <a:stretch/>
        </p:blipFill>
        <p:spPr>
          <a:xfrm>
            <a:off x="7145280" y="4221000"/>
            <a:ext cx="1998720" cy="2637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4"/>
          <a:stretch/>
        </p:blipFill>
        <p:spPr>
          <a:xfrm>
            <a:off x="5570640" y="0"/>
            <a:ext cx="3573360" cy="1603440"/>
          </a:xfrm>
          <a:prstGeom prst="rect">
            <a:avLst/>
          </a:prstGeom>
          <a:ln w="0">
            <a:noFill/>
          </a:ln>
        </p:spPr>
      </p:pic>
      <p:sp>
        <p:nvSpPr>
          <p:cNvPr id="126" name="WordArt 6"/>
          <p:cNvSpPr txBox="1"/>
          <p:nvPr/>
        </p:nvSpPr>
        <p:spPr>
          <a:xfrm>
            <a:off x="1332000" y="189000"/>
            <a:ext cx="60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лыбельные  песн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Picture 12" descr=""/>
          <p:cNvPicPr/>
          <p:nvPr/>
        </p:nvPicPr>
        <p:blipFill>
          <a:blip r:embed="rId5"/>
          <a:stretch/>
        </p:blipFill>
        <p:spPr>
          <a:xfrm>
            <a:off x="684360" y="981000"/>
            <a:ext cx="2313000" cy="2160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3"/>
          <p:cNvSpPr/>
          <p:nvPr/>
        </p:nvSpPr>
        <p:spPr>
          <a:xfrm>
            <a:off x="-468360" y="220500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олотые р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cc"/>
                </a:solidFill>
                <a:latin typeface="Arial"/>
              </a:rPr>
              <a:t>Волшебный с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cc"/>
                </a:solidFill>
                <a:latin typeface="Arial"/>
              </a:rPr>
              <a:t>Ходит  в небе месяц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cc"/>
                </a:solidFill>
                <a:latin typeface="Arial"/>
              </a:rPr>
              <a:t>Золотые р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cc"/>
                </a:solidFill>
                <a:latin typeface="Arial"/>
              </a:rPr>
              <a:t>Смотрит месяц с не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cc"/>
                </a:solidFill>
                <a:latin typeface="Arial"/>
              </a:rPr>
              <a:t>В тёмные око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cc"/>
                </a:solidFill>
                <a:latin typeface="Arial"/>
              </a:rPr>
              <a:t>Говорит он Пе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cc"/>
                </a:solidFill>
                <a:latin typeface="Arial"/>
              </a:rPr>
              <a:t>Говорит но Све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cc"/>
                </a:solidFill>
                <a:latin typeface="Arial"/>
              </a:rPr>
              <a:t>- Поскорее гл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cc"/>
                </a:solidFill>
                <a:latin typeface="Arial"/>
              </a:rPr>
              <a:t>Закрывайте, д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4" descr=""/>
          <p:cNvPicPr/>
          <p:nvPr/>
        </p:nvPicPr>
        <p:blipFill>
          <a:blip r:embed="rId6"/>
          <a:stretch/>
        </p:blipFill>
        <p:spPr>
          <a:xfrm>
            <a:off x="5364000" y="1052640"/>
            <a:ext cx="2210040" cy="2160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5"/>
          <p:cNvSpPr/>
          <p:nvPr/>
        </p:nvSpPr>
        <p:spPr>
          <a:xfrm>
            <a:off x="4572000" y="3500280"/>
            <a:ext cx="45720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Спит давно усатый котик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Баюшки-б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Закрывает лапкой ротик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Баюшки– б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У него постель пухов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Баюшки– б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Одеялочко шелков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Баюшки– б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Спи и ты, мой голубоче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Баюшки– б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5582520" y="3141720"/>
            <a:ext cx="15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 кот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7"/>
          <p:cNvSpPr/>
          <p:nvPr/>
        </p:nvSpPr>
        <p:spPr>
          <a:xfrm>
            <a:off x="17928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10800"/>
                </a:moveTo>
                <a:lnTo>
                  <a:pt x="18276" y="3794"/>
                </a:lnTo>
                <a:lnTo>
                  <a:pt x="182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8:50:38Z</dcterms:created>
  <dc:creator>Voster</dc:creator>
  <dc:description/>
  <dc:language>en-US</dc:language>
  <cp:lastModifiedBy>Вадим Батуев</cp:lastModifiedBy>
  <dcterms:modified xsi:type="dcterms:W3CDTF">2018-12-16T08:34:22Z</dcterms:modified>
  <cp:revision>5</cp:revision>
  <dc:subject/>
  <dc:title>Слайд 1</dc:title>
</cp:coreProperties>
</file>