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110-8A21-4308-AD2B-FFA749DD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2ED-F22D-46BB-BCD2-DDD0519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D1C-E8B9-4108-A914-10084338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A81-B36C-4093-AC32-8D598F34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7DC-6B58-443C-848F-22E1F1FF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962-4774-4FB5-8612-B523C3F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680-81A5-420C-9403-8417A632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360-5C73-49A9-B072-1D2A101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A15-D48F-4EA9-B38D-EB90B93D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00D-FED1-434A-8E0C-2310FA6E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99C-6296-4BB0-9E38-E5BA336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22D-569B-46AB-9DE4-F7CFD5C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11AD-51EF-4F60-8A13-325539D8D1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WordArt 9"/>
          <p:cNvSpPr txBox="1"/>
          <p:nvPr/>
        </p:nvSpPr>
        <p:spPr>
          <a:xfrm>
            <a:off x="1273320" y="1484280"/>
            <a:ext cx="662436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стное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родное  творчество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3708360" y="5516640"/>
            <a:ext cx="4778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итель начальных классов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туева  Евгения  Александровн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99960" cy="649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3"/>
          <a:stretch/>
        </p:blipFill>
        <p:spPr>
          <a:xfrm>
            <a:off x="0" y="6458040"/>
            <a:ext cx="8712360" cy="399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4"/>
          <a:stretch/>
        </p:blipFill>
        <p:spPr>
          <a:xfrm>
            <a:off x="8532720" y="0"/>
            <a:ext cx="400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0"/>
          <p:cNvSpPr txBox="1"/>
          <p:nvPr/>
        </p:nvSpPr>
        <p:spPr>
          <a:xfrm>
            <a:off x="2484360" y="404640"/>
            <a:ext cx="367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539640" y="1197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еко-далеко раскинулось царство необъятное—Страна сказок, чудес и волшебства. Прекрасная страна! И кто хоть раз побывал в ней, останется пленником наве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140360" y="2349360"/>
            <a:ext cx="43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ому что деревья там самые причудливые, горы– самые высокие, терема– самые расписные, птицы—самые звонкие. А чудища—самые страш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5"/>
          <a:stretch/>
        </p:blipFill>
        <p:spPr>
          <a:xfrm>
            <a:off x="611280" y="2060640"/>
            <a:ext cx="1774800" cy="2171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4"/>
          <p:cNvSpPr/>
          <p:nvPr/>
        </p:nvSpPr>
        <p:spPr>
          <a:xfrm>
            <a:off x="468360" y="429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люди на свете любят сказки. Любить их начинают ещё в детстве. Сказка учит отличать добро от зла, хорошее от плох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чные сказки- сказки народные, в них спрятана волшебная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5" descr=""/>
          <p:cNvPicPr/>
          <p:nvPr/>
        </p:nvPicPr>
        <p:blipFill>
          <a:blip r:embed="rId6"/>
          <a:stretch/>
        </p:blipFill>
        <p:spPr>
          <a:xfrm>
            <a:off x="5724360" y="4076640"/>
            <a:ext cx="1943280" cy="22100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6"/>
          <p:cNvSpPr/>
          <p:nvPr/>
        </p:nvSpPr>
        <p:spPr>
          <a:xfrm>
            <a:off x="0" y="6237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j0123939"/>
          <p:cNvPicPr/>
          <p:nvPr/>
        </p:nvPicPr>
        <p:blipFill>
          <a:blip r:embed="rId5"/>
          <a:srcRect l="0" t="79637" r="0" b="0"/>
          <a:stretch/>
        </p:blipFill>
        <p:spPr>
          <a:xfrm>
            <a:off x="1403280" y="5516640"/>
            <a:ext cx="5975280" cy="91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6"/>
          <a:srcRect l="0" t="0" r="0" b="32561"/>
          <a:stretch/>
        </p:blipFill>
        <p:spPr>
          <a:xfrm>
            <a:off x="2048040" y="495360"/>
            <a:ext cx="5329080" cy="503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Устное  народное  твор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>
            <a:hlinkClick r:id="" action="ppaction://hlinkshowjump?jump=nextslide"/>
          </p:cNvPr>
          <p:cNvSpPr/>
          <p:nvPr/>
        </p:nvSpPr>
        <p:spPr>
          <a:xfrm>
            <a:off x="0" y="2133720"/>
            <a:ext cx="270036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>
            <a:hlinkClick r:id="rId1" action="ppaction://hlinksldjump"/>
          </p:cNvPr>
          <p:cNvSpPr/>
          <p:nvPr/>
        </p:nvSpPr>
        <p:spPr>
          <a:xfrm>
            <a:off x="6012000" y="2133720"/>
            <a:ext cx="2912760" cy="685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Послов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2" action="ppaction://hlinksldjump"/>
          </p:cNvPr>
          <p:cNvSpPr/>
          <p:nvPr/>
        </p:nvSpPr>
        <p:spPr>
          <a:xfrm>
            <a:off x="324000" y="3213000"/>
            <a:ext cx="3200400" cy="901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Считалки  и  небы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>
            <a:hlinkClick r:id="rId3" action="ppaction://hlinksldjump"/>
          </p:cNvPr>
          <p:cNvSpPr/>
          <p:nvPr/>
        </p:nvSpPr>
        <p:spPr>
          <a:xfrm>
            <a:off x="5435640" y="3213000"/>
            <a:ext cx="3200400" cy="9018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Потешки  и  приба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>
            <a:hlinkClick r:id="rId4" action="ppaction://hlinksldjump"/>
          </p:cNvPr>
          <p:cNvSpPr/>
          <p:nvPr/>
        </p:nvSpPr>
        <p:spPr>
          <a:xfrm>
            <a:off x="4859280" y="4508640"/>
            <a:ext cx="3200400" cy="97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Колыбельные 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>
            <a:hlinkClick r:id="rId5" action="ppaction://hlinksldjump"/>
          </p:cNvPr>
          <p:cNvSpPr/>
          <p:nvPr/>
        </p:nvSpPr>
        <p:spPr>
          <a:xfrm>
            <a:off x="2843280" y="5850000"/>
            <a:ext cx="3200400" cy="100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3059280" y="148428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5508720" y="1484280"/>
            <a:ext cx="360360" cy="1440000"/>
          </a:xfrm>
          <a:prstGeom prst="downArrow">
            <a:avLst>
              <a:gd name="adj1" fmla="val 50000"/>
              <a:gd name="adj2" fmla="val 9990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932360" y="1484280"/>
            <a:ext cx="360360" cy="2808360"/>
          </a:xfrm>
          <a:prstGeom prst="downArrow">
            <a:avLst>
              <a:gd name="adj1" fmla="val 50000"/>
              <a:gd name="adj2" fmla="val 19483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3708360" y="1484280"/>
            <a:ext cx="360360" cy="2736720"/>
          </a:xfrm>
          <a:prstGeom prst="downArrow">
            <a:avLst>
              <a:gd name="adj1" fmla="val 50000"/>
              <a:gd name="adj2" fmla="val 18986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1332000" y="148428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7308720" y="1484280"/>
            <a:ext cx="289080" cy="432000"/>
          </a:xfrm>
          <a:prstGeom prst="downArrow">
            <a:avLst>
              <a:gd name="adj1" fmla="val 50000"/>
              <a:gd name="adj2" fmla="val 37360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4356000" y="1484280"/>
            <a:ext cx="432000" cy="4032360"/>
          </a:xfrm>
          <a:prstGeom prst="downArrow">
            <a:avLst>
              <a:gd name="adj1" fmla="val 50000"/>
              <a:gd name="adj2" fmla="val 233354"/>
            </a:avLst>
          </a:prstGeom>
          <a:gradFill rotWithShape="0">
            <a:gsLst>
              <a:gs pos="0">
                <a:srgbClr val="ccff99"/>
              </a:gs>
              <a:gs pos="100000">
                <a:srgbClr val="99cc00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>
            <a:hlinkClick r:id="rId6" action="ppaction://hlinksldjump"/>
          </p:cNvPr>
          <p:cNvSpPr/>
          <p:nvPr/>
        </p:nvSpPr>
        <p:spPr>
          <a:xfrm>
            <a:off x="755640" y="4508640"/>
            <a:ext cx="3200400" cy="974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"/>
              </a:rPr>
              <a:t>Скор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84360" y="765000"/>
            <a:ext cx="50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Загадка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жанр народного творчества у всех народов мира; Служит для испытания смека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97164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куст, а с листочк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рубашка, а сш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человек, а рассказ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5"/>
          <a:stretch/>
        </p:blipFill>
        <p:spPr>
          <a:xfrm>
            <a:off x="6516720" y="620640"/>
            <a:ext cx="1828800" cy="2349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1"/>
          <p:cNvSpPr/>
          <p:nvPr/>
        </p:nvSpPr>
        <p:spPr>
          <a:xfrm>
            <a:off x="4572000" y="342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ёрный Ив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еревянная руба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де носом ве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ам заметку кла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-468360" y="350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алеко мо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Слышится вокру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ервякам я вра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 деревьям др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234000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Не высок и корен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оглядеть решил на н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Приподняв с утра под ё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Лист с прилипшими игол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>
            <a:hlinkClick r:id="" action="ppaction://hlinkshowjump?jump=previousslide"/>
          </p:cNvPr>
          <p:cNvSpPr/>
          <p:nvPr/>
        </p:nvSpPr>
        <p:spPr>
          <a:xfrm>
            <a:off x="0" y="6237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6424" y="10800"/>
                </a:moveTo>
                <a:lnTo>
                  <a:pt x="20437" y="3794"/>
                </a:lnTo>
                <a:lnTo>
                  <a:pt x="204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5"/>
          <a:stretch/>
        </p:blipFill>
        <p:spPr>
          <a:xfrm>
            <a:off x="1258920" y="692280"/>
            <a:ext cx="5832360" cy="25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6"/>
          <a:stretch/>
        </p:blipFill>
        <p:spPr>
          <a:xfrm>
            <a:off x="684360" y="3933720"/>
            <a:ext cx="3311280" cy="19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7"/>
          <a:stretch/>
        </p:blipFill>
        <p:spPr>
          <a:xfrm>
            <a:off x="4140360" y="3213000"/>
            <a:ext cx="4376520" cy="288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0"/>
          <p:cNvSpPr/>
          <p:nvPr/>
        </p:nvSpPr>
        <p:spPr>
          <a:xfrm>
            <a:off x="179280" y="5950080"/>
            <a:ext cx="432000" cy="5745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4560"/>
              <a:gd name="textAreaBottom" fmla="*/ 546840 h 574560"/>
            </a:gdLst>
            <a:ahLst/>
            <a:rect l="textAreaLeft" t="textAreaTop" r="textAreaRight" b="textAreaBottom"/>
            <a:pathLst>
              <a:path w="21600" h="28722">
                <a:moveTo>
                  <a:pt x="0" y="0"/>
                </a:moveTo>
                <a:lnTo>
                  <a:pt x="21600" y="0"/>
                </a:lnTo>
                <a:lnTo>
                  <a:pt x="21600" y="28722"/>
                </a:lnTo>
                <a:lnTo>
                  <a:pt x="0" y="28722"/>
                </a:lnTo>
                <a:close/>
              </a:path>
              <a:path fill="lightenLess" w="21600" h="287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22">
                <a:moveTo>
                  <a:pt x="21600" y="0"/>
                </a:moveTo>
                <a:lnTo>
                  <a:pt x="21600" y="28722"/>
                </a:lnTo>
                <a:lnTo>
                  <a:pt x="20200" y="27322"/>
                </a:lnTo>
                <a:lnTo>
                  <a:pt x="20200" y="1400"/>
                </a:lnTo>
                <a:close/>
              </a:path>
              <a:path fill="darkenLess" w="21600" h="28722">
                <a:moveTo>
                  <a:pt x="21600" y="28722"/>
                </a:moveTo>
                <a:lnTo>
                  <a:pt x="0" y="28722"/>
                </a:lnTo>
                <a:lnTo>
                  <a:pt x="1400" y="27322"/>
                </a:lnTo>
                <a:lnTo>
                  <a:pt x="20200" y="27322"/>
                </a:lnTo>
                <a:close/>
              </a:path>
              <a:path fill="lighten" w="21600" h="28722">
                <a:moveTo>
                  <a:pt x="0" y="287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22"/>
                </a:lnTo>
                <a:close/>
              </a:path>
              <a:path fill="darken" w="21600" h="28722">
                <a:moveTo>
                  <a:pt x="10800" y="7398"/>
                </a:moveTo>
                <a:lnTo>
                  <a:pt x="13376" y="10009"/>
                </a:lnTo>
                <a:lnTo>
                  <a:pt x="13376" y="8268"/>
                </a:lnTo>
                <a:lnTo>
                  <a:pt x="15152" y="8268"/>
                </a:lnTo>
                <a:lnTo>
                  <a:pt x="15152" y="11785"/>
                </a:lnTo>
                <a:lnTo>
                  <a:pt x="17763" y="14361"/>
                </a:lnTo>
                <a:lnTo>
                  <a:pt x="16109" y="14361"/>
                </a:lnTo>
                <a:lnTo>
                  <a:pt x="16109" y="21550"/>
                </a:lnTo>
                <a:lnTo>
                  <a:pt x="5491" y="21550"/>
                </a:lnTo>
                <a:lnTo>
                  <a:pt x="5491" y="14361"/>
                </a:lnTo>
                <a:lnTo>
                  <a:pt x="3837" y="14361"/>
                </a:lnTo>
                <a:close/>
              </a:path>
              <a:path fill="darkenLess" w="21600" h="28722">
                <a:moveTo>
                  <a:pt x="13376" y="10009"/>
                </a:moveTo>
                <a:lnTo>
                  <a:pt x="13376" y="8268"/>
                </a:lnTo>
                <a:lnTo>
                  <a:pt x="15152" y="8268"/>
                </a:lnTo>
                <a:lnTo>
                  <a:pt x="15152" y="11785"/>
                </a:lnTo>
                <a:close/>
              </a:path>
              <a:path fill="darkenLess" w="21600" h="28722">
                <a:moveTo>
                  <a:pt x="9877" y="17860"/>
                </a:moveTo>
                <a:lnTo>
                  <a:pt x="11723" y="17860"/>
                </a:lnTo>
                <a:lnTo>
                  <a:pt x="11723" y="21550"/>
                </a:lnTo>
                <a:lnTo>
                  <a:pt x="16109" y="21550"/>
                </a:lnTo>
                <a:lnTo>
                  <a:pt x="16109" y="14361"/>
                </a:lnTo>
                <a:lnTo>
                  <a:pt x="5491" y="14361"/>
                </a:lnTo>
                <a:lnTo>
                  <a:pt x="5491" y="21550"/>
                </a:lnTo>
                <a:lnTo>
                  <a:pt x="9877" y="215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5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826920" y="1484280"/>
            <a:ext cx="4572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Мышка, мышка, вылей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За косую огоро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Я те дам пят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ы сходи в каб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ы сходи в кабач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пи пряниче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547640" y="836640"/>
            <a:ext cx="640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читалки  и  небылицы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6"/>
          <a:stretch/>
        </p:blipFill>
        <p:spPr>
          <a:xfrm>
            <a:off x="755640" y="328464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26920" y="4941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чинается счита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На берёзу села гал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Две вороны, вороб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Три сороки, солов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7"/>
          <a:stretch/>
        </p:blipFill>
        <p:spPr>
          <a:xfrm>
            <a:off x="5580000" y="134136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4140360" y="4292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Шла собака через мос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Четыре лапы, пятый хв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Если мост провали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То собака свал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250920" y="6021360"/>
            <a:ext cx="504720" cy="64764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712">
                <a:moveTo>
                  <a:pt x="0" y="0"/>
                </a:moveTo>
                <a:lnTo>
                  <a:pt x="21600" y="0"/>
                </a:lnTo>
                <a:lnTo>
                  <a:pt x="21600" y="27712"/>
                </a:lnTo>
                <a:lnTo>
                  <a:pt x="0" y="27712"/>
                </a:lnTo>
                <a:close/>
              </a:path>
              <a:path fill="lightenLess" w="21600" h="277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12">
                <a:moveTo>
                  <a:pt x="21600" y="0"/>
                </a:moveTo>
                <a:lnTo>
                  <a:pt x="21600" y="27712"/>
                </a:lnTo>
                <a:lnTo>
                  <a:pt x="20200" y="26312"/>
                </a:lnTo>
                <a:lnTo>
                  <a:pt x="20200" y="1400"/>
                </a:lnTo>
                <a:close/>
              </a:path>
              <a:path fill="darkenLess" w="21600" h="27712">
                <a:moveTo>
                  <a:pt x="21600" y="27712"/>
                </a:moveTo>
                <a:lnTo>
                  <a:pt x="0" y="27712"/>
                </a:lnTo>
                <a:lnTo>
                  <a:pt x="1400" y="26312"/>
                </a:lnTo>
                <a:lnTo>
                  <a:pt x="20200" y="26312"/>
                </a:lnTo>
                <a:close/>
              </a:path>
              <a:path fill="lighten" w="21600" h="27712">
                <a:moveTo>
                  <a:pt x="0" y="277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12"/>
                </a:lnTo>
                <a:close/>
              </a:path>
              <a:path fill="darken" w="21600" h="27712">
                <a:moveTo>
                  <a:pt x="3794" y="13856"/>
                </a:moveTo>
                <a:lnTo>
                  <a:pt x="17806" y="6850"/>
                </a:lnTo>
                <a:lnTo>
                  <a:pt x="17806" y="208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3"/>
          <a:stretch/>
        </p:blipFill>
        <p:spPr>
          <a:xfrm>
            <a:off x="8470800" y="0"/>
            <a:ext cx="673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tretch/>
        </p:blipFill>
        <p:spPr>
          <a:xfrm>
            <a:off x="539640" y="0"/>
            <a:ext cx="7993080" cy="6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5"/>
          <a:stretch/>
        </p:blipFill>
        <p:spPr>
          <a:xfrm>
            <a:off x="539640" y="6184800"/>
            <a:ext cx="7993080" cy="673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1547640" y="549360"/>
            <a:ext cx="648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тешки  и  прибаутки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684360" y="1484280"/>
            <a:ext cx="4572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етушок, петуш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Золотой гребеш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аслена голову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Шелкова бородуш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Что ты рано встаё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Голосисто поё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Ване спать не даё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219640" y="1773360"/>
            <a:ext cx="45720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да, заинька, беж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Куда, серенький, бежи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- К медведю на свадьб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Медведь-то мне дяд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33"/>
                </a:solidFill>
                <a:latin typeface="Arial"/>
              </a:rPr>
              <a:t>А медведица-то тё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3276720" y="3933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Кошка на око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Рубашку шь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Курочка в сапож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Избёнку  мет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324000" y="6093000"/>
            <a:ext cx="431640" cy="576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000"/>
              <a:gd name="textAreaBottom" fmla="*/ 548280 h 576000"/>
            </a:gdLst>
            <a:ahLst/>
            <a:rect l="textAreaLeft" t="textAreaTop" r="textAreaRight" b="textAreaBottom"/>
            <a:pathLst>
              <a:path w="21600" h="28818">
                <a:moveTo>
                  <a:pt x="0" y="0"/>
                </a:moveTo>
                <a:lnTo>
                  <a:pt x="21600" y="0"/>
                </a:lnTo>
                <a:lnTo>
                  <a:pt x="21600" y="28818"/>
                </a:lnTo>
                <a:lnTo>
                  <a:pt x="0" y="28818"/>
                </a:lnTo>
                <a:close/>
              </a:path>
              <a:path fill="lightenLess" w="21600" h="28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8">
                <a:moveTo>
                  <a:pt x="21600" y="0"/>
                </a:moveTo>
                <a:lnTo>
                  <a:pt x="21600" y="28818"/>
                </a:lnTo>
                <a:lnTo>
                  <a:pt x="20200" y="27418"/>
                </a:lnTo>
                <a:lnTo>
                  <a:pt x="20200" y="1400"/>
                </a:lnTo>
                <a:close/>
              </a:path>
              <a:path fill="darkenLess" w="21600" h="28818">
                <a:moveTo>
                  <a:pt x="21600" y="28818"/>
                </a:moveTo>
                <a:lnTo>
                  <a:pt x="0" y="28818"/>
                </a:lnTo>
                <a:lnTo>
                  <a:pt x="1400" y="27418"/>
                </a:lnTo>
                <a:lnTo>
                  <a:pt x="20200" y="27418"/>
                </a:lnTo>
                <a:close/>
              </a:path>
              <a:path fill="lighten" w="21600" h="28818">
                <a:moveTo>
                  <a:pt x="0" y="28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8"/>
                </a:lnTo>
                <a:close/>
              </a:path>
              <a:path fill="darken" w="21600" h="28818">
                <a:moveTo>
                  <a:pt x="3794" y="14409"/>
                </a:moveTo>
                <a:lnTo>
                  <a:pt x="17806" y="7403"/>
                </a:lnTo>
                <a:lnTo>
                  <a:pt x="17806" y="214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0029"/>
          <p:cNvPicPr/>
          <p:nvPr/>
        </p:nvPicPr>
        <p:blipFill>
          <a:blip r:embed="rId6"/>
          <a:stretch/>
        </p:blipFill>
        <p:spPr>
          <a:xfrm>
            <a:off x="971640" y="3933720"/>
            <a:ext cx="1512720" cy="150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0026"/>
          <p:cNvPicPr/>
          <p:nvPr/>
        </p:nvPicPr>
        <p:blipFill>
          <a:blip r:embed="rId7"/>
          <a:stretch/>
        </p:blipFill>
        <p:spPr>
          <a:xfrm>
            <a:off x="6084720" y="3716280"/>
            <a:ext cx="1768680" cy="144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12"/>
          <p:cNvPicPr/>
          <p:nvPr/>
        </p:nvPicPr>
        <p:blipFill>
          <a:blip r:embed="rId8"/>
          <a:stretch/>
        </p:blipFill>
        <p:spPr>
          <a:xfrm>
            <a:off x="3419640" y="1413000"/>
            <a:ext cx="151272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603440" cy="3573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5254560"/>
            <a:ext cx="3573360" cy="160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3"/>
          <a:stretch/>
        </p:blipFill>
        <p:spPr>
          <a:xfrm>
            <a:off x="714528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4"/>
          <a:stretch/>
        </p:blipFill>
        <p:spPr>
          <a:xfrm>
            <a:off x="5570640" y="0"/>
            <a:ext cx="3573360" cy="1603440"/>
          </a:xfrm>
          <a:prstGeom prst="rect">
            <a:avLst/>
          </a:prstGeom>
          <a:ln w="0">
            <a:noFill/>
          </a:ln>
        </p:spPr>
      </p:pic>
      <p:sp>
        <p:nvSpPr>
          <p:cNvPr id="114" name="WordArt 9"/>
          <p:cNvSpPr txBox="1"/>
          <p:nvPr/>
        </p:nvSpPr>
        <p:spPr>
          <a:xfrm>
            <a:off x="1619280" y="549360"/>
            <a:ext cx="604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оговор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79280" y="1628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шит колпак не по- колпаковс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 по-колпаковски сшит колпа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до колпак переколпаков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еревыколпак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4356000" y="24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укушка кукушо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Купила капюш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Надел кукушонок капюш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 капюшоне кукушонок смешон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51280" y="3357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Добры бобры идут в б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1835280" y="4076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Шли сорок мышей, нашли сорок гро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ве мыши поплоше несли по два гро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633400" y="515772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Веселей, Савелий, сено пошевели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82692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0033"/>
          <p:cNvPicPr/>
          <p:nvPr/>
        </p:nvPicPr>
        <p:blipFill>
          <a:blip r:embed="rId5"/>
          <a:stretch/>
        </p:blipFill>
        <p:spPr>
          <a:xfrm>
            <a:off x="7380360" y="3933720"/>
            <a:ext cx="1231920" cy="107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603440" cy="357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5254560"/>
            <a:ext cx="3573360" cy="160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tretch/>
        </p:blipFill>
        <p:spPr>
          <a:xfrm>
            <a:off x="714528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tretch/>
        </p:blipFill>
        <p:spPr>
          <a:xfrm>
            <a:off x="5570640" y="0"/>
            <a:ext cx="3573360" cy="16034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>
            <a:off x="1332000" y="18900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лыбельные  песн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5"/>
          <a:stretch/>
        </p:blipFill>
        <p:spPr>
          <a:xfrm>
            <a:off x="684360" y="981000"/>
            <a:ext cx="2313000" cy="2160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3"/>
          <p:cNvSpPr/>
          <p:nvPr/>
        </p:nvSpPr>
        <p:spPr>
          <a:xfrm>
            <a:off x="-468360" y="220500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олотые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Волшебный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Ходит  в небе месяц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Золотые ро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Смотрит месяц с н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В тёмные око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Говорит он Пе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Говорит но Све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- Поскорее гл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cc"/>
                </a:solidFill>
                <a:latin typeface="Arial"/>
              </a:rPr>
              <a:t>Закрывайте,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6"/>
          <a:stretch/>
        </p:blipFill>
        <p:spPr>
          <a:xfrm>
            <a:off x="5364000" y="1052640"/>
            <a:ext cx="2210040" cy="2160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4572000" y="3500280"/>
            <a:ext cx="45720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пит давно усатый кот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-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рывает лапкой роти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У него постель пухов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Одеялочко шелков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Спи и ты, мой голубоче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аюшки– б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582520" y="314172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 кот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1792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8:50:38Z</dcterms:created>
  <dc:creator>Voster</dc:creator>
  <dc:description/>
  <dc:language>en-US</dc:language>
  <cp:lastModifiedBy>Вадим Батуев</cp:lastModifiedBy>
  <dcterms:modified xsi:type="dcterms:W3CDTF">2018-12-16T08:34:22Z</dcterms:modified>
  <cp:revision>5</cp:revision>
  <dc:subject/>
  <dc:title>Слайд 1</dc:title>
</cp:coreProperties>
</file>