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4980-7793-4D40-AF67-1EE4B659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B662-DCB1-47B6-81A0-1E828121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D70-7902-4CFF-9FD5-754A1C2B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C50-7A58-4ADE-BE4A-B5C78C1C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3F781-FD3B-4BB3-9ADD-2C588C8F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11578-C7E9-4620-9AD7-ECC89DD6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7C3B9-6C62-406B-9D2E-EFD05AE8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83386-106C-4CBA-9ED3-CCFD292F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E2169-A4C3-445C-AB92-CDBACA3C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F2B92-8E62-4C50-B216-EB0F9ED3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2260D-9F83-480C-91D9-FAC9383F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E3E0-5837-48A2-B77B-DA5CCD65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8098B-2A8F-4ACE-B01F-A0522FCD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D2F98-F5EF-4C60-A777-6415016B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E5905-FD76-44F7-919A-45F1831D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7AFB3-6E5C-4F97-BECE-FB96AF1F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382B2-9711-43DD-B1D8-A12FE063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B9977-667F-4C60-8628-8AB4C294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93EF0-CAD6-42F2-8488-8DD2AA3E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198DF-F779-49E6-9857-5DE8BB15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BBBD4-2584-43B5-9BC5-3D264E54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834C7-1E03-497B-ADFC-2B731264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9E9-01EB-4EBB-B133-0E8ED20E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455F8-B09C-4174-BA0A-C1996AFF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59F6E-887F-4A93-9982-BD783694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AAF8E-8587-403B-8F0F-297626B8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29C69-6E6E-4E01-A201-656AE0D5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55B3D-69C9-47C7-9B51-AF2CA1CB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D9F36-0C71-4B6E-8250-78175E97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73121-2C3A-4A99-B4C9-AC279413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BA90B6-5546-4C83-B7F2-D39F4F55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DE7A13-479B-4FDD-9F75-D9321A68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CB0F33-3D53-4446-9803-3039E29C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176-AA0D-4C8D-9401-EE31F765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D0AE3C-399A-4A8D-BF00-4ED31831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CBE1CB-D935-47F0-A1FF-F4564A9A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D9AD94-9F44-490E-BE87-42F79EF8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CECCCE-6FB8-4515-83D8-8B93E1B7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EB832B-4CEE-4CF7-A310-476B8FA6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158D29-5C7A-4217-9A8A-90E96BBE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2D780C-520F-4DD3-93F3-22AEA9F8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E6C4C0-9119-490B-95B2-24492CFC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52139A-2A28-457C-A3A1-1559D87D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4693-F398-4E68-BC68-2089ABA3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35BD-4D87-484A-A9FB-AC8B4448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C0DB-D928-48D0-A79A-28AB0472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1D3-44AB-4149-A93C-FEE8A020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F0C2-A578-47FE-A940-DE457B8D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6E27-BAAF-47A3-AD47-8CAF6CD2E62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6604-9FE6-4842-9ECD-5CD6A9A2720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E8C1-55A7-4349-9CD5-274687D9CDD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8680-6F0E-4224-993E-E54261AF498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&amp;Scy;&amp;Ucy;&amp;SHCHcy;&amp;Ncy;&amp;Ocy;&amp;Scy;&amp;Tcy;&amp;SOFTcy; &amp;Icy;&amp;Ucy;&amp;Dcy;&amp;Acy;&amp;Icy;&amp;Zcy;&amp;Mcy;&amp;Acy;. &amp;Ocy;&amp;bcy;&amp;scy;&amp;ucy;&amp;zhcy;&amp;dcy;&amp;iecy;&amp;ncy;&amp;icy;&amp;iecy; &amp;ncy;&amp;acy;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1"/>
          <a:stretch/>
        </p:blipFill>
        <p:spPr>
          <a:xfrm>
            <a:off x="1979640" y="620640"/>
            <a:ext cx="532440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395280" y="1773360"/>
            <a:ext cx="84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Бог – Творец и Владыка мира бестелесен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и его нельзя увидеть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431640" y="1736640"/>
            <a:ext cx="842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Изображения Бог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строго запрещены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иудаизм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392040" y="1484280"/>
            <a:ext cx="84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nstantia"/>
              </a:rPr>
              <a:t>ГАЛАХА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свод религиозных заповедей и норм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"/>
          <p:cNvSpPr/>
          <p:nvPr/>
        </p:nvSpPr>
        <p:spPr>
          <a:xfrm>
            <a:off x="324000" y="1557360"/>
            <a:ext cx="84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Евреи верят в приход Мессии, который будет послан Богом,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чтобы спасти еврейский народ и всё человечество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&amp;Fcy;&amp;ocy;&amp;rcy;&amp;ucy;&amp;mcy; &amp;Bcy;&amp;iecy;&amp;lcy;.&amp;Rcy;&amp;ucy; &amp;Rcy;&amp;ocy;&amp;dcy;&amp;ncy;&amp;ocy;&amp;vcy;&amp;iecy;&amp;rcy;&amp;ocy;&amp;vcy;&amp;scy;&amp;kcy;&amp;ocy;&amp;iecy; &amp;Pcy;&amp;ocy;&amp;kcy;&amp;acy;&amp;yacy;&amp;ncy;&amp;icy;&amp;iecy;."/>
          <p:cNvPicPr/>
          <p:nvPr/>
        </p:nvPicPr>
        <p:blipFill>
          <a:blip r:embed="rId1"/>
          <a:srcRect l="17410" t="253" r="1233" b="-221"/>
          <a:stretch/>
        </p:blipFill>
        <p:spPr>
          <a:xfrm>
            <a:off x="1116000" y="189000"/>
            <a:ext cx="743904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&amp;Pcy;&amp;acy;&amp;scy;&amp;khcy;&amp;acy; &amp;vcy; &amp;gcy;&amp;rcy;&amp;iecy;&amp;chcy;&amp;iecy;&amp;scy;&amp;kcy;&amp;ocy;&amp;jcy; &amp;dcy;&amp;iecy;&amp;rcy;&amp;iecy;&amp;vcy;&amp;ucy;&amp;shcy;&amp;kcy;&amp;iecy; &amp;Pcy;&amp;ucy;&amp;tcy;&amp;iecy;&amp;vcy;&amp;ocy;&amp;dcy;&amp;kcy;&amp;acy;"/>
          <p:cNvPicPr/>
          <p:nvPr/>
        </p:nvPicPr>
        <p:blipFill>
          <a:blip r:embed="rId1"/>
          <a:srcRect l="0" t="-7458" r="0" b="13121"/>
          <a:stretch/>
        </p:blipFill>
        <p:spPr>
          <a:xfrm>
            <a:off x="1547640" y="-316080"/>
            <a:ext cx="5502600" cy="674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&amp;Acy;.&amp;SHcy;&amp;tcy;&amp;iecy;&amp;jcy;&amp;ncy;&amp;zcy;&amp;acy;&amp;lcy;&amp;softcy;&amp;tscy;.&amp;Pcy;&amp;ocy;&amp;chcy;&amp;iecy;&amp;mcy;&amp;ucy; &amp;iecy;&amp;vcy;&amp;rcy;&amp;iecy;&amp;jcy;&amp;scy;&amp;kcy;&amp;ocy;&amp;iecy; &amp;vcy;&amp;iecy;&amp;rcy;&amp;ocy;&amp;ucy;&amp;chcy;&amp;iecy;&amp;ncy;&amp;icy;&amp;iecy; &amp;ncy;&amp;acy;&amp;zcy;&amp;ycy;&amp;vcy;&amp;acy;&amp;iecy;&amp;tcy;&amp;scy;&amp;yacy; &amp;icy;&amp;ucy;&amp;dcy;&amp;acy;&amp;icy;&amp;zcy;&amp;mcy;&amp;ocy;&amp;mcy;. &amp;Ocy;&amp;bcy;&amp;scy;&amp;ucy;&amp;zhcy;&amp;dcy;&amp;iecy;&amp;ncy;&amp;icy;&amp;iecy; &amp;ncy;&amp;acy;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1"/>
          <a:stretch/>
        </p:blipFill>
        <p:spPr>
          <a:xfrm>
            <a:off x="-20520" y="0"/>
            <a:ext cx="9144000" cy="6986520"/>
          </a:xfrm>
          <a:prstGeom prst="rect">
            <a:avLst/>
          </a:prstGeom>
          <a:ln w="0">
            <a:noFill/>
          </a:ln>
        </p:spPr>
      </p:pic>
      <p:pic>
        <p:nvPicPr>
          <p:cNvPr id="174" name="TextBox 1" descr=""/>
          <p:cNvPicPr/>
          <p:nvPr/>
        </p:nvPicPr>
        <p:blipFill>
          <a:blip r:embed="rId2"/>
          <a:stretch/>
        </p:blipFill>
        <p:spPr>
          <a:xfrm>
            <a:off x="1395360" y="189000"/>
            <a:ext cx="7212240" cy="5187960"/>
          </a:xfrm>
          <a:prstGeom prst="rect">
            <a:avLst/>
          </a:prstGeom>
          <a:ln w="0">
            <a:noFill/>
          </a:ln>
        </p:spPr>
      </p:pic>
      <p:pic>
        <p:nvPicPr>
          <p:cNvPr id="175" name="evreyskie_narodnye_pesni_-_sem_sorok_(zaycev.net)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&amp;Ucy;&amp;chcy;&amp;iecy;&amp;ncy;&amp;softcy;&amp;iecy; - &amp;scy;&amp;vcy;&amp;iecy;&amp;tcy;."/>
          <p:cNvPicPr/>
          <p:nvPr/>
        </p:nvPicPr>
        <p:blipFill>
          <a:blip r:embed="rId1"/>
          <a:stretch/>
        </p:blipFill>
        <p:spPr>
          <a:xfrm>
            <a:off x="0" y="1566720"/>
            <a:ext cx="9144000" cy="529128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"/>
          <p:cNvSpPr/>
          <p:nvPr/>
        </p:nvSpPr>
        <p:spPr>
          <a:xfrm>
            <a:off x="0" y="1159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Иудаизм – это самая древняя вера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в единого бога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1"/>
          <p:cNvSpPr/>
          <p:nvPr/>
        </p:nvSpPr>
        <p:spPr>
          <a:xfrm>
            <a:off x="15840" y="34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Иудаизм – это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вера одного народа – евреев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Рисунок 2" descr="иудеи.jpg"/>
          <p:cNvPicPr/>
          <p:nvPr/>
        </p:nvPicPr>
        <p:blipFill>
          <a:blip r:embed="rId1"/>
          <a:stretch/>
        </p:blipFill>
        <p:spPr>
          <a:xfrm>
            <a:off x="15840" y="1628640"/>
            <a:ext cx="9144000" cy="307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0" name="Прямоугольник 3"/>
          <p:cNvSpPr/>
          <p:nvPr/>
        </p:nvSpPr>
        <p:spPr>
          <a:xfrm>
            <a:off x="15840" y="4741920"/>
            <a:ext cx="912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иудей= еврей</a:t>
            </a:r>
            <a:endParaRPr b="0" lang="en-US" sz="9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iografie Talmud"/>
          <p:cNvPicPr/>
          <p:nvPr/>
        </p:nvPicPr>
        <p:blipFill>
          <a:blip r:embed="rId1"/>
          <a:stretch/>
        </p:blipFill>
        <p:spPr>
          <a:xfrm>
            <a:off x="41400" y="404640"/>
            <a:ext cx="9047160" cy="6031080"/>
          </a:xfrm>
          <a:prstGeom prst="rect">
            <a:avLst/>
          </a:prstGeom>
          <a:ln w="0">
            <a:noFill/>
          </a:ln>
        </p:spPr>
      </p:pic>
      <p:pic>
        <p:nvPicPr>
          <p:cNvPr id="182" name="TextBox 1" descr=""/>
          <p:cNvPicPr/>
          <p:nvPr/>
        </p:nvPicPr>
        <p:blipFill>
          <a:blip r:embed="rId2"/>
          <a:stretch/>
        </p:blipFill>
        <p:spPr>
          <a:xfrm>
            <a:off x="347760" y="2835360"/>
            <a:ext cx="843588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468360" y="2565360"/>
            <a:ext cx="8207280" cy="1191240"/>
          </a:xfrm>
          <a:prstGeom prst="rect">
            <a:avLst/>
          </a:prstGeom>
          <a:noFill/>
          <a:ln w="57240">
            <a:solidFill>
              <a:srgbClr val="becb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nstantia"/>
              </a:rPr>
              <a:t>Яхве 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или</a:t>
            </a:r>
            <a:r>
              <a:rPr b="0" lang="ru-RU" sz="7200" spc="-1" strike="noStrike">
                <a:solidFill>
                  <a:srgbClr val="ffffff"/>
                </a:solidFill>
                <a:latin typeface="Constantia"/>
              </a:rPr>
              <a:t> Иегова</a:t>
            </a:r>
            <a:endParaRPr b="0" lang="en-US" sz="7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324000" y="98100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Иудеи верят  в единого Бога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Содержимое 3" descr="6586701.jpg"/>
          <p:cNvPicPr/>
          <p:nvPr/>
        </p:nvPicPr>
        <p:blipFill>
          <a:blip r:embed="rId1"/>
          <a:stretch/>
        </p:blipFill>
        <p:spPr>
          <a:xfrm>
            <a:off x="1258920" y="290520"/>
            <a:ext cx="6769080" cy="5075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6" name="TextBox 4"/>
          <p:cNvSpPr/>
          <p:nvPr/>
        </p:nvSpPr>
        <p:spPr>
          <a:xfrm>
            <a:off x="324000" y="5373720"/>
            <a:ext cx="835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i="1" lang="ru-RU" sz="2800" spc="-1" strike="noStrike">
                <a:solidFill>
                  <a:srgbClr val="ffffff"/>
                </a:solidFill>
                <a:latin typeface="Monotype Corsiva"/>
              </a:rPr>
              <a:t>Я Господь, Бог твой, который вывел тебя из земли Египетской, из дома рабства; да не будет у тебя других богов перед лицом Моим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» -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гласит1-ая из 10 заповеде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1T11:51:30Z</dcterms:created>
  <dc:creator>Луиза</dc:creator>
  <dc:description/>
  <dc:language>en-US</dc:language>
  <cp:lastModifiedBy>LENOVO</cp:lastModifiedBy>
  <dcterms:modified xsi:type="dcterms:W3CDTF">2018-12-16T11:52:35Z</dcterms:modified>
  <cp:revision>74</cp:revision>
  <dc:subject/>
  <dc:title>Презентация PowerPoint</dc:title>
</cp:coreProperties>
</file>