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29E-08F8-4544-A303-F690FE24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715-42CC-48C8-8041-AA9C23B9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86B-C964-4FAA-B7E8-1834BBDA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69B-AEF0-472F-972C-EC6CBEA1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7720-C0F9-4071-812A-2651138B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EB5A3-E965-4EC1-88BD-165B859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845E-1030-48D7-AD19-133A37A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F80BC-2C32-4F07-B8F8-2249771E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1EAD3-92A0-4021-8C68-CDD1052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8447-1021-4196-8DD6-32D3338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BF2F-A8B5-4B50-8BB8-A6CA787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522-3830-47AA-AB27-A73EA0E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4046F-DD7F-461E-8E72-CD9C039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474A4-2A70-4716-AB94-248519E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A178-1CA7-4D94-956E-727AA1F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C843-9B42-4BFC-A7DB-522E4FCF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016C7-7D29-4583-A688-5C56FB04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E573-39BB-41E5-B3AB-065926DA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45F8-E1A1-49E3-807E-B61C2A0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E27A-EEDF-4B54-B350-91E995FD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EA68-0612-41A1-82DE-BDB5CBA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4D4C-A976-44AC-8468-FE9535B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9C7-C068-4134-99DB-889A0B6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B110-0007-4ADA-A6A6-B2FC5171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E882-45B4-46C4-8A5F-1029DE2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5C0D-FB08-4AE1-8B02-B545BE1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8ABA-18AA-4F09-8060-A3ABC9E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42C3-9113-4FD9-A9F2-CE7383E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EC3B-FEFE-4DBB-80D7-90B85C4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DC55-E52F-49D5-B800-2EB9EF00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CFEB0-FE9C-4D7F-B9DA-657FEA73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85E5F-7FAA-44C0-9AF6-85C62C8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B1D44-E23F-491E-8B68-86CD33C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CAB-9202-4CFB-8D15-3A063C8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B5566-8CAA-4690-8DAD-06341CE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3BCB4-D6F2-45EC-9047-482FEBA0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28AA8-4612-430D-A12B-A7C421E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4BDF3-58B2-4489-83ED-F4A2012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55F08-AC43-4696-B8F8-CEC6C30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57EB0-29B6-480E-99DE-ECA1C13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C6E22-7167-4E2E-BA25-9548F8A7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1361B-B2B7-41D8-8928-1844F022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0597F-C057-4B86-8332-ED0FFB98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389-3BA6-48B5-8A47-845C36FB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7F5-A719-4550-8C71-43BD2BF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5B5-9148-4182-A425-AA1E0C3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DCB-5903-4F81-ADBE-D9EA18CE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0E3-7F73-470F-9C1D-56BB6A7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236-81B3-4C55-8C3F-39B0229DB81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0AB-67A6-4B79-8878-1E4B239B93B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AAD-D068-47DB-8135-395D2366B3A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1296-E056-4300-A0FE-057FFE192B0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Scy;&amp;Ucy;&amp;SHCHcy;&amp;Ncy;&amp;Ocy;&amp;Scy;&amp;Tcy;&amp;SOFTcy; &amp;Icy;&amp;Ucy;&amp;Dcy;&amp;Acy;&amp;Icy;&amp;Zcy;&amp;Mcy;&amp;A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1"/>
          <a:stretch/>
        </p:blipFill>
        <p:spPr>
          <a:xfrm>
            <a:off x="1979640" y="620640"/>
            <a:ext cx="53244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395280" y="177336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Бог – Творец и Владыка мира бестелесе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и его нельзя увидет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431640" y="1736640"/>
            <a:ext cx="842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зображения Бог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трого запрещены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иудаизм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392040" y="1484280"/>
            <a:ext cx="84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ГАЛАХ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свод религиозных заповедей и норм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24000" y="155736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Евреи верят в приход Мессии, который будет послан Богом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чтобы спасти еврейский народ и всё человече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Fcy;&amp;ocy;&amp;rcy;&amp;ucy;&amp;mcy; &amp;Bcy;&amp;iecy;&amp;lcy;.&amp;Rcy;&amp;ucy; &amp;Rcy;&amp;ocy;&amp;dcy;&amp;ncy;&amp;ocy;&amp;vcy;&amp;iecy;&amp;rcy;&amp;ocy;&amp;vcy;&amp;scy;&amp;kcy;&amp;ocy;&amp;iecy; &amp;Pcy;&amp;ocy;&amp;kcy;&amp;acy;&amp;yacy;&amp;ncy;&amp;icy;&amp;iecy;."/>
          <p:cNvPicPr/>
          <p:nvPr/>
        </p:nvPicPr>
        <p:blipFill>
          <a:blip r:embed="rId1"/>
          <a:srcRect l="17410" t="253" r="1233" b="-221"/>
          <a:stretch/>
        </p:blipFill>
        <p:spPr>
          <a:xfrm>
            <a:off x="1116000" y="189000"/>
            <a:ext cx="74390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Pcy;&amp;acy;&amp;scy;&amp;khcy;&amp;acy; &amp;vcy; &amp;gcy;&amp;rcy;&amp;iecy;&amp;chcy;&amp;iecy;&amp;scy;&amp;kcy;&amp;ocy;&amp;jcy; &amp;dcy;&amp;iecy;&amp;rcy;&amp;iecy;&amp;vcy;&amp;ucy;&amp;shcy;&amp;kcy;&amp;iecy; &amp;Pcy;&amp;ucy;&amp;tcy;&amp;iecy;&amp;vcy;&amp;ocy;&amp;dcy;&amp;kcy;&amp;acy;"/>
          <p:cNvPicPr/>
          <p:nvPr/>
        </p:nvPicPr>
        <p:blipFill>
          <a:blip r:embed="rId1"/>
          <a:srcRect l="0" t="-7458" r="0" b="13121"/>
          <a:stretch/>
        </p:blipFill>
        <p:spPr>
          <a:xfrm>
            <a:off x="1547640" y="-316080"/>
            <a:ext cx="55026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&amp;Acy;.&amp;SHcy;&amp;tcy;&amp;iecy;&amp;jcy;&amp;ncy;&amp;zcy;&amp;acy;&amp;lcy;&amp;softcy;&amp;tscy;.&amp;Pcy;&amp;ocy;&amp;chcy;&amp;iecy;&amp;mcy;&amp;ucy; &amp;iecy;&amp;vcy;&amp;rcy;&amp;iecy;&amp;jcy;&amp;scy;&amp;kcy;&amp;ocy;&amp;iecy; &amp;vcy;&amp;iecy;&amp;rcy;&amp;ocy;&amp;ucy;&amp;chcy;&amp;iecy;&amp;ncy;&amp;icy;&amp;iecy; &amp;ncy;&amp;acy;&amp;zcy;&amp;ycy;&amp;vcy;&amp;acy;&amp;iecy;&amp;tcy;&amp;scy;&amp;yacy; &amp;icy;&amp;ucy;&amp;dcy;&amp;acy;&amp;icy;&amp;zcy;&amp;mcy;&amp;ocy;&amp;m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98652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1" descr=""/>
          <p:cNvPicPr/>
          <p:nvPr/>
        </p:nvPicPr>
        <p:blipFill>
          <a:blip r:embed="rId2"/>
          <a:stretch/>
        </p:blipFill>
        <p:spPr>
          <a:xfrm>
            <a:off x="1395360" y="189000"/>
            <a:ext cx="7212240" cy="5187960"/>
          </a:xfrm>
          <a:prstGeom prst="rect">
            <a:avLst/>
          </a:prstGeom>
          <a:ln w="0">
            <a:noFill/>
          </a:ln>
        </p:spPr>
      </p:pic>
      <p:pic>
        <p:nvPicPr>
          <p:cNvPr id="175" name="evreyskie_narodnye_pesni_-_sem_sorok_(zaycev.net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amp;Ucy;&amp;chcy;&amp;iecy;&amp;ncy;&amp;softcy;&amp;iecy; - &amp;scy;&amp;vcy;&amp;iecy;&amp;tcy;.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0" y="115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удаизм – это самая древняя вера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в единого бог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5840" y="3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удаизм – это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вера одного народа – еврее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Рисунок 2" descr="иудеи.jpg"/>
          <p:cNvPicPr/>
          <p:nvPr/>
        </p:nvPicPr>
        <p:blipFill>
          <a:blip r:embed="rId1"/>
          <a:stretch/>
        </p:blipFill>
        <p:spPr>
          <a:xfrm>
            <a:off x="15840" y="1628640"/>
            <a:ext cx="9144000" cy="30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0" name="Прямоугольник 3"/>
          <p:cNvSpPr/>
          <p:nvPr/>
        </p:nvSpPr>
        <p:spPr>
          <a:xfrm>
            <a:off x="15840" y="4741920"/>
            <a:ext cx="91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иудей= еврей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iografie Talmud"/>
          <p:cNvPicPr/>
          <p:nvPr/>
        </p:nvPicPr>
        <p:blipFill>
          <a:blip r:embed="rId1"/>
          <a:stretch/>
        </p:blipFill>
        <p:spPr>
          <a:xfrm>
            <a:off x="41400" y="404640"/>
            <a:ext cx="9047160" cy="60310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1" descr=""/>
          <p:cNvPicPr/>
          <p:nvPr/>
        </p:nvPicPr>
        <p:blipFill>
          <a:blip r:embed="rId2"/>
          <a:stretch/>
        </p:blipFill>
        <p:spPr>
          <a:xfrm>
            <a:off x="347760" y="2835360"/>
            <a:ext cx="8435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468360" y="2565360"/>
            <a:ext cx="8207280" cy="1191240"/>
          </a:xfrm>
          <a:prstGeom prst="rect">
            <a:avLst/>
          </a:prstGeom>
          <a:noFill/>
          <a:ln w="57240">
            <a:solidFill>
              <a:srgbClr val="bec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nstantia"/>
              </a:rPr>
              <a:t>Яхве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ли</a:t>
            </a:r>
            <a:r>
              <a:rPr b="0" lang="ru-RU" sz="7200" spc="-1" strike="noStrike">
                <a:solidFill>
                  <a:srgbClr val="ffffff"/>
                </a:solidFill>
                <a:latin typeface="Constantia"/>
              </a:rPr>
              <a:t> Иегова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24000" y="981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удеи верят  в единого Бога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6586701.jpg"/>
          <p:cNvPicPr/>
          <p:nvPr/>
        </p:nvPicPr>
        <p:blipFill>
          <a:blip r:embed="rId1"/>
          <a:stretch/>
        </p:blipFill>
        <p:spPr>
          <a:xfrm>
            <a:off x="1258920" y="290520"/>
            <a:ext cx="6769080" cy="507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TextBox 4"/>
          <p:cNvSpPr/>
          <p:nvPr/>
        </p:nvSpPr>
        <p:spPr>
          <a:xfrm>
            <a:off x="324000" y="537372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Я Господь, Бог твой, который вывел тебя из земли Египетской, из дома рабства; да не будет у тебя других богов перед лицом Моим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» -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ласит1-ая из 10 заповед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1:51:30Z</dcterms:created>
  <dc:creator>Луиза</dc:creator>
  <dc:description/>
  <dc:language>en-US</dc:language>
  <cp:lastModifiedBy>LENOVO</cp:lastModifiedBy>
  <dcterms:modified xsi:type="dcterms:W3CDTF">2018-12-16T11:52:35Z</dcterms:modified>
  <cp:revision>74</cp:revision>
  <dc:subject/>
  <dc:title>Презентация PowerPoint</dc:title>
</cp:coreProperties>
</file>