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258-0916-42E6-831F-293B1CA9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B69-BBDA-42EA-A863-8DE9CD1F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8FF86-AF3E-4D1E-8D2A-393424E3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24502-C0F2-48D7-BB63-9F2463BB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1DE04-1028-4E95-8338-B70FE118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8AAC-B064-4089-B6E5-AB3A796E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F0F7B-FF09-477B-98FA-C71DEA2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A706D-1257-4172-BE04-BF53BD7A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99BFB-D9E3-4161-BFED-D98BCBDE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5F069-1C5B-4EBB-935B-3E7F2FD1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73336-7DDE-4FDA-9167-67B990D4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804B4-7DE1-4C20-9494-C7C1F560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07B-5135-4643-97B8-3A5E1B23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6D58B-E517-40F5-A34D-281F0D0C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91D00-5DD6-49DE-88A0-472F8DC4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E0A5F-6EC5-4ABF-8FA1-90D9B981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4C325-E134-49D8-A944-E1650B8A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707F0-7BC9-4EBD-BB78-5AD6CA19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9FA23-90C0-43A3-85A1-7910860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E187F-BAF0-496C-99B2-FBA562B8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FF8F3-A9CA-4233-B4D1-9B5315E6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F7649-90CB-43ED-B9B9-F35B42CF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EFCE9-EBCA-4633-98D6-53AE8138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2DF3-2E5B-49D4-988E-57FC6A89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307F1-EAE0-4276-A842-C89ACF5E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8F66-DED5-4DAE-950A-ABD41D78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0A11-5875-4DC8-9D1C-49C04956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191F-88CF-4394-8E35-EE5A0A4E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9CC-ED53-4140-8A7C-2FBAAF0C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E860-98CD-4878-8D62-EB72EC07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C59B-300D-4BC7-A2D1-AF75B5A6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0724-1664-4F58-B505-BCF9295E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079-51A0-4CC6-B30F-05BA0F1F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026-D1B0-40AF-9162-57E7EFAB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BB77-11EE-48DE-818C-69B4780F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37B4-C44C-4B09-A2B8-E87298D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283C-2394-45A3-B8E1-5B982B9C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678E-5983-4EB2-A257-43C1F077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7C03-21C1-4CD4-B5C3-6ADBC7B7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FDE7-E9A7-47B2-9DDA-479EB25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519C-EEC3-4DC4-83F1-576E09D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25BB-CE24-40DA-8323-4B9150D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120C-2094-4F09-9163-55C8565B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C94-106A-46BC-B0AA-2EBF8B3D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944E-3FBB-478B-B67F-0943713D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951F9-3599-4B91-8763-5B743B9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4481B-05DA-471C-A7F8-22BF78D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FC25E-2CE7-4CF8-B1C3-3D7E1BFC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B680-EBA3-4EFA-A452-74CF69B7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46FA-C2D3-487C-AA7D-625237C0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9FB2-4FDD-4977-9625-4E113C29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83C2-743D-49AE-8CF4-EF50B2A5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64622-23FF-44CD-8340-5240EAB7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3985-028F-4959-B182-EEDD5C3A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CEB-A8C8-4605-861E-AF6B6007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13061-E226-4F8E-A405-AE39D2A3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25881-784C-4767-8B97-B0D4D72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D2D81-C9D5-4E50-85EC-6E7FD5D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97C3-B7AB-4F11-A788-D2D7BF5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2829-71C9-4FAF-B874-F1A7EFB7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1471-B07B-4819-B29D-13E30D4C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9C34-99DE-4873-8BB1-6D85BDB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3CCA-12A6-47D7-BCAB-3FDBD250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76191-D26D-45D6-ACFA-F5D72F31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8D75E-6383-4BCC-8679-CAED6011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8E0-800C-417A-AB3D-3D041E9A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C1AFB-2F6B-495A-84CB-2CD3C8C1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BFC7-332D-4834-B276-47C5CE4D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8AC60-2A66-4570-ACFC-E52FFC87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EF59A-668D-4880-9114-CD2BA25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FEBC-8680-4E65-B8F2-781E0DCC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FA962-E6CF-44AD-BAC0-64314A9E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CBCAB-AF63-4460-BABD-B59F3AAC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DB17-E499-41A9-9C50-BF05DB1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703A-4BF9-4E51-AF1D-2149E3D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CCC2D-7FE4-42B9-A442-E58EB2FC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DD8-8A90-4CC6-A2C6-54DC187C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1F7A-A4D6-4533-B382-9DE24188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778F-7D5F-41BB-8929-7CC7313D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B5CAB-7EBD-4A73-8DF6-ED1082EE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4C2C-A4FC-4AF6-B650-2907479A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DF07C-A062-4790-906F-9AAE8017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A313-C862-40FB-AEC0-257B9FFF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7275-9070-4D9C-B913-2CB9540D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22FE-25F7-48DC-94EC-5DCABB9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BFDC-AD9A-4B39-925F-1CEA04F8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3470-0D02-4A4F-B564-8A0D217A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79F1-FDB8-439F-968C-7E7B947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5CA40-CC36-40FA-BC96-7280786D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4374E-DBF7-4C42-85B3-C802CDA3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04B5-8C3A-4F1C-AC44-6D671A39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1237-CF96-4101-9373-E26BAD51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E6C43-92F5-443B-AFCC-823FE00D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1A392-A4D0-46D8-8D73-801053E0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4503-51C3-47B1-9AD9-FC286A77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5B12E-765D-44FB-B49B-53F5D0CB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3326-A6C3-44A4-90D9-256470D1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E596-998B-485F-9C93-E5BCA236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7B3-0A7A-44CD-9257-F52ADF7D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B8C99-A589-49F7-9220-11216F08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376CD-C9CE-4DAC-B2F6-F0586418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F71FD-EF6B-44A3-A93E-2F17F40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D2A9E-31E4-4694-9676-BF6B9C4F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0C026-3F93-40F1-82E6-A51FB14E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3868C-66F8-4D3D-8BEA-25B15667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EB0D8-CDC7-48EC-92E3-8E2990A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B7990-7148-4F91-9857-BF00ADD1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91AEB-10D8-4F6F-AB4A-51F633BE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72490-5445-41F5-9477-0DB89E8F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6684-BF28-4766-9C94-CDD9FAE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6A883-9477-4608-8965-B73C053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FD95B-2729-4576-8816-A6DE36E1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17D9-17A7-4FF9-B206-30056BB6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BD6A2-A18D-45CC-A355-F44B0AA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31DBE-4ACD-47A8-BDBD-AD82DD5B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6A8A4-CE04-4A29-B583-ABBFB9B1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FBB30-C33C-4BBB-94D8-2C6447AE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9B2C7-1F14-4C42-AFA4-80AB7A48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39201-69D9-43DE-9EF2-19E2F546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A656C-45F7-4832-B60D-F3BD6F7F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D8F9-A383-4B9E-9A86-84ECE9EFFC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43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B886-F2E8-40F2-BDB6-8586B7C65B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A0C-A53E-4987-A710-7CFF7F6900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20A5-A994-4D10-9184-F0F9BD2CC5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67D3-10ED-403F-8DC3-67379D54E3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3B5-10E7-4419-AC83-B95185BAFA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281-08B0-4CC3-BC55-7A36EF1BA3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9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F5DB-6C9F-44E8-9B32-1701F204AE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ED83-D11E-454F-BBCB-DC58922E908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9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30A1-4E04-403D-8571-CBC46205BBE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nstantia"/>
              </a:rPr>
              <a:t>МБДОУ «Детский сад общеразвивающего вида № 187»</a:t>
            </a:r>
            <a:br>
              <a:rPr sz="2200"/>
            </a:br>
            <a:r>
              <a:rPr b="0" lang="ru-RU" sz="3400" spc="-1" strike="noStrike">
                <a:solidFill>
                  <a:srgbClr val="ffff00"/>
                </a:solidFill>
                <a:latin typeface="Constantia"/>
              </a:rPr>
              <a:t>«ШКОЛА МОЛОДОГО ПЕДАГОГА»</a:t>
            </a: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нятие 11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ЛАНИРОВАНИЕ И ОРГАНИЗАЦИЯ ЛЕТНЕ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ЗДОРОВИТЕЛЬНОГО ПЕРИ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2" name="Picture 4" descr="leto"/>
          <p:cNvPicPr/>
          <p:nvPr/>
        </p:nvPicPr>
        <p:blipFill>
          <a:blip r:embed="rId1"/>
          <a:stretch/>
        </p:blipFill>
        <p:spPr>
          <a:xfrm>
            <a:off x="609480" y="3722760"/>
            <a:ext cx="4130640" cy="283032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4"/>
          <p:cNvSpPr/>
          <p:nvPr/>
        </p:nvSpPr>
        <p:spPr>
          <a:xfrm>
            <a:off x="4343400" y="5137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влова Юлия Серге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ий воспита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1640" y="533520"/>
            <a:ext cx="67057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ини-водоём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7" name="Picture 10" descr="SAM_1041"/>
          <p:cNvPicPr/>
          <p:nvPr/>
        </p:nvPicPr>
        <p:blipFill>
          <a:blip r:embed="rId1"/>
          <a:stretch/>
        </p:blipFill>
        <p:spPr>
          <a:xfrm>
            <a:off x="334800" y="152280"/>
            <a:ext cx="2489400" cy="3318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SAM_1055"/>
          <p:cNvPicPr/>
          <p:nvPr/>
        </p:nvPicPr>
        <p:blipFill>
          <a:blip r:embed="rId2"/>
          <a:stretch/>
        </p:blipFill>
        <p:spPr>
          <a:xfrm>
            <a:off x="3657600" y="140796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0" descr="SAM_1006"/>
          <p:cNvPicPr/>
          <p:nvPr/>
        </p:nvPicPr>
        <p:blipFill>
          <a:blip r:embed="rId3"/>
          <a:stretch/>
        </p:blipFill>
        <p:spPr>
          <a:xfrm>
            <a:off x="334800" y="3809880"/>
            <a:ext cx="3708720" cy="27831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SAM_0961"/>
          <p:cNvPicPr/>
          <p:nvPr/>
        </p:nvPicPr>
        <p:blipFill>
          <a:blip r:embed="rId4"/>
          <a:stretch/>
        </p:blipFill>
        <p:spPr>
          <a:xfrm>
            <a:off x="6400800" y="3352680"/>
            <a:ext cx="2506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24080" y="75960"/>
            <a:ext cx="5540400" cy="20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Оборудование для развития движени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22" name="Picture 12" descr="IMG_00091 (334)"/>
          <p:cNvPicPr/>
          <p:nvPr/>
        </p:nvPicPr>
        <p:blipFill>
          <a:blip r:embed="rId1"/>
          <a:stretch/>
        </p:blipFill>
        <p:spPr>
          <a:xfrm>
            <a:off x="2971800" y="24573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SAM_1017"/>
          <p:cNvPicPr/>
          <p:nvPr/>
        </p:nvPicPr>
        <p:blipFill>
          <a:blip r:embed="rId2"/>
          <a:stretch/>
        </p:blipFill>
        <p:spPr>
          <a:xfrm>
            <a:off x="304920" y="114300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SAM_0976"/>
          <p:cNvPicPr/>
          <p:nvPr/>
        </p:nvPicPr>
        <p:blipFill>
          <a:blip r:embed="rId3"/>
          <a:stretch/>
        </p:blipFill>
        <p:spPr>
          <a:xfrm>
            <a:off x="6180120" y="161784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SAM_0963"/>
          <p:cNvPicPr/>
          <p:nvPr/>
        </p:nvPicPr>
        <p:blipFill>
          <a:blip r:embed="rId4"/>
          <a:stretch/>
        </p:blipFill>
        <p:spPr>
          <a:xfrm>
            <a:off x="6858000" y="4064040"/>
            <a:ext cx="1962000" cy="26161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SAM_0977"/>
          <p:cNvPicPr/>
          <p:nvPr/>
        </p:nvPicPr>
        <p:blipFill>
          <a:blip r:embed="rId5"/>
          <a:stretch/>
        </p:blipFill>
        <p:spPr>
          <a:xfrm>
            <a:off x="3352680" y="5029200"/>
            <a:ext cx="3318120" cy="1351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SAM_1092"/>
          <p:cNvPicPr/>
          <p:nvPr/>
        </p:nvPicPr>
        <p:blipFill>
          <a:blip r:embed="rId6"/>
          <a:stretch/>
        </p:blipFill>
        <p:spPr>
          <a:xfrm>
            <a:off x="417600" y="4808520"/>
            <a:ext cx="23889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Дорожки здоровь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6" descr="SAM_0975"/>
          <p:cNvPicPr/>
          <p:nvPr/>
        </p:nvPicPr>
        <p:blipFill>
          <a:blip r:embed="rId1"/>
          <a:stretch/>
        </p:blipFill>
        <p:spPr>
          <a:xfrm>
            <a:off x="5029200" y="3768840"/>
            <a:ext cx="3594240" cy="22460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6" descr="SAM_1031"/>
          <p:cNvPicPr/>
          <p:nvPr/>
        </p:nvPicPr>
        <p:blipFill>
          <a:blip r:embed="rId2"/>
          <a:stretch/>
        </p:blipFill>
        <p:spPr>
          <a:xfrm>
            <a:off x="5334120" y="793800"/>
            <a:ext cx="3173400" cy="23810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SAM_1047"/>
          <p:cNvPicPr/>
          <p:nvPr/>
        </p:nvPicPr>
        <p:blipFill>
          <a:blip r:embed="rId3"/>
          <a:stretch/>
        </p:blipFill>
        <p:spPr>
          <a:xfrm>
            <a:off x="914400" y="28764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ознавательно-исследовательская деятельность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34" name="Picture 7" descr="SAM_1106"/>
          <p:cNvPicPr/>
          <p:nvPr/>
        </p:nvPicPr>
        <p:blipFill>
          <a:blip r:embed="rId1"/>
          <a:stretch/>
        </p:blipFill>
        <p:spPr>
          <a:xfrm>
            <a:off x="304920" y="1600200"/>
            <a:ext cx="2538360" cy="1905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1" descr="SAM_1098"/>
          <p:cNvPicPr/>
          <p:nvPr/>
        </p:nvPicPr>
        <p:blipFill>
          <a:blip r:embed="rId2"/>
          <a:stretch/>
        </p:blipFill>
        <p:spPr>
          <a:xfrm>
            <a:off x="3048120" y="1676520"/>
            <a:ext cx="2538360" cy="19047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2" descr="SAM_1100"/>
          <p:cNvPicPr/>
          <p:nvPr/>
        </p:nvPicPr>
        <p:blipFill>
          <a:blip r:embed="rId3"/>
          <a:stretch/>
        </p:blipFill>
        <p:spPr>
          <a:xfrm>
            <a:off x="6095880" y="15145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SAM_1102"/>
          <p:cNvPicPr/>
          <p:nvPr/>
        </p:nvPicPr>
        <p:blipFill>
          <a:blip r:embed="rId4"/>
          <a:stretch/>
        </p:blipFill>
        <p:spPr>
          <a:xfrm>
            <a:off x="228600" y="4527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1" descr="SAM_1104"/>
          <p:cNvPicPr/>
          <p:nvPr/>
        </p:nvPicPr>
        <p:blipFill>
          <a:blip r:embed="rId5"/>
          <a:stretch/>
        </p:blipFill>
        <p:spPr>
          <a:xfrm>
            <a:off x="5181480" y="4462560"/>
            <a:ext cx="28958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0020-020-Spasibo-za-vnimanie"/>
          <p:cNvPicPr/>
          <p:nvPr/>
        </p:nvPicPr>
        <p:blipFill>
          <a:blip r:embed="rId1"/>
          <a:stretch/>
        </p:blipFill>
        <p:spPr>
          <a:xfrm>
            <a:off x="1371600" y="19810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Цель летней оздоровительной рабо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охраны жизни и здоровья детей через интегрированный подход к использованию благоприятных природных факторов и повышение адаптационных возможностей организ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Формирование познавательной активности дошкольников на основе системно-деятельностного подхода через поддержку детской инициативы  в различных видах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380880" y="434340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нирование ЛОП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етьми: воспитательно-образовательная, оздоровительная, профилакт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педагогами: профилактическая, контроль и руководство, метод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министративно-хозяйственная 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480"/>
            <a:ext cx="83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деть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спитательно-образова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ендарное планирование; музыкальные, физкультурные занятия и развлечения; совместная и самостоятельная  деятельность в условиях естественной экологической среды; работа по безопасности жизнедеятельности; экскурсии и целевые прогул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доровитель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ксимальное пребывание на свежем воздухе; создание условий для двигательной активности; закаливание; питьевой режим и витами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мероприятия по профилактике энтеребиоза и желудочно-кишечных заболе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педагогам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12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структажи по безопасности жизнедеятельности детей, профилакике детского травматизма, ОТ и ТБ; консультации для педагогов по организации и проведению Л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и руководств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смотры-конкурсы; контроль проведения режимных моментов и закаливающих процедур; контроль планирования и организации гибкого режима; контроль организации двигательного реж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иче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онсультации для педагогов ; разработка плана на следующий учебный год; корректировка АООП МБ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бота с родителям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08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формление родительских уголк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жим дня и сетка занятий, рекомендации по воспитанию детей летом; рекомендации по патриотическому и экологическому воспитанию, игре на свежем воздух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сульт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астие родителей в оборудовании участков и групповых помещ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вивающая среда на участках ДОУ - эт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Психологический комфорт и безопасность обстан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Обеспечение возможности укрепления физического и психического здоровья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Реализация права ребенка на свободный выбор вида деятельности (игровой, двигательной, познавательно-исследовательской, коммуникативной, трудовой, самообслуживания, изобразительной, музыкальной, восприятия художественной литератур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Обеспечение самостоятельной индивидуа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Возможность получить максимум знаний, умений, ярких впечатлений, положительных эмо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08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Красочные веранд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08" name="Picture 8" descr="SAM_1074"/>
          <p:cNvPicPr/>
          <p:nvPr/>
        </p:nvPicPr>
        <p:blipFill>
          <a:blip r:embed="rId1"/>
          <a:stretch/>
        </p:blipFill>
        <p:spPr>
          <a:xfrm>
            <a:off x="152280" y="1447920"/>
            <a:ext cx="3403800" cy="4537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2" descr="SAM_0956"/>
          <p:cNvPicPr/>
          <p:nvPr/>
        </p:nvPicPr>
        <p:blipFill>
          <a:blip r:embed="rId2"/>
          <a:stretch/>
        </p:blipFill>
        <p:spPr>
          <a:xfrm>
            <a:off x="4724280" y="696960"/>
            <a:ext cx="4114800" cy="3087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3" descr="SAM_0957"/>
          <p:cNvPicPr/>
          <p:nvPr/>
        </p:nvPicPr>
        <p:blipFill>
          <a:blip r:embed="rId3"/>
          <a:stretch/>
        </p:blipFill>
        <p:spPr>
          <a:xfrm>
            <a:off x="32767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32000" y="1066680"/>
            <a:ext cx="4343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Мини-огоро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512" name="Picture 7" descr="SAM_1038"/>
          <p:cNvPicPr/>
          <p:nvPr/>
        </p:nvPicPr>
        <p:blipFill>
          <a:blip r:embed="rId1"/>
          <a:stretch/>
        </p:blipFill>
        <p:spPr>
          <a:xfrm>
            <a:off x="1752480" y="1522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AM_1040"/>
          <p:cNvPicPr/>
          <p:nvPr/>
        </p:nvPicPr>
        <p:blipFill>
          <a:blip r:embed="rId2"/>
          <a:stretch/>
        </p:blipFill>
        <p:spPr>
          <a:xfrm>
            <a:off x="324000" y="310356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Рисунок 1 031"/>
          <p:cNvPicPr/>
          <p:nvPr/>
        </p:nvPicPr>
        <p:blipFill>
          <a:blip r:embed="rId3"/>
          <a:stretch/>
        </p:blipFill>
        <p:spPr>
          <a:xfrm>
            <a:off x="3056040" y="4160880"/>
            <a:ext cx="2609640" cy="2514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SAM_1019"/>
          <p:cNvPicPr/>
          <p:nvPr/>
        </p:nvPicPr>
        <p:blipFill>
          <a:blip r:embed="rId4"/>
          <a:stretch/>
        </p:blipFill>
        <p:spPr>
          <a:xfrm>
            <a:off x="5257800" y="202248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5:33:13Z</dcterms:created>
  <dc:creator>Юрий</dc:creator>
  <dc:description/>
  <dc:language>en-US</dc:language>
  <cp:lastModifiedBy>PS</cp:lastModifiedBy>
  <dcterms:modified xsi:type="dcterms:W3CDTF">2018-12-15T18:58:0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