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3F7-3859-47ED-B069-4D0A57C2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4B5-C83A-46E3-BAF8-B3D0631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E1D15-814E-446A-B5EA-EB02821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63EC-D539-46E6-9C78-543D2B7F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67026-410B-4EFD-AFBD-B592327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0621F-44CF-4217-B579-7FD78A1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4EA1D-1948-4891-9AC8-EEE7C0B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AE642-B39F-4F00-8C7E-AD3995B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A25BB-D1BC-4C96-95F7-710A89E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64DF2-245D-4306-BD9A-19BFF389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A3F8-4014-478C-8875-4E2486C4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BA69-865C-4607-AF17-928C6089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779-0C08-44C7-ABAF-68C8090F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63222-EB89-4E98-8A7F-2A859A80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A557F-F7E1-414F-B9A5-CAB9D0B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2ECC7-445E-460A-BCE8-66A27F0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65946-063C-4709-B204-B0C6A7A1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1BACC-7939-4E4A-B0EB-D946081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B7DE8-F3CC-4B7D-8948-558D570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8A89E-94AC-45C6-BC78-8960CD09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0E5FF-58AD-4732-92A8-0D002D3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6E11-3306-4003-9776-8042CB04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F5DC-0ADA-41D4-9655-671D68AA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C28-73C2-4AB9-81EB-BDBECA33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FBE0-B65B-4A0C-9D98-0F641E4A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509F-F8D2-44DE-8E34-7E1BFF0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1D59-6218-4FAE-B756-5BE706E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C49-B166-4163-8456-AFA3DF8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C234-6A86-43B7-A90F-83895E2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E8B6-46E6-4356-ACD8-719562B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C7F6-491A-4FA2-9E74-E8018A11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80A-3CB6-4063-8768-6E1336C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D5F-F2F5-4ECD-A873-2AEE78D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048-660D-43DD-8958-A9D059F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B672-9098-4134-862F-D30D1D3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441D-06C3-4BD4-8E38-9AA63D5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765-28FA-417E-9358-6A815E75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F00D-1001-4445-A8C4-A0659AB5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A46E-C2D1-463E-BF50-A5E93B1A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256F-6239-4B2F-8398-FBD7D5F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9B9C-CF14-48F4-AFCF-9206EF8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C636-8319-42FB-935E-5751B0C3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C86A-12AC-41EF-9099-4796F516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93B-5DD7-43CB-9C8F-278BF846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EA79-63F4-4488-BA92-CCDFA79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BA37-3906-419F-9D5A-C9F5132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5ACF-B434-4D94-84F4-A43B16F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85A9-9739-4864-BAA2-B2C2B89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228B-CB70-4544-AB01-908EF32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BD23-3434-4D79-B611-A0AE85FF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2E08-3604-4C23-BCD8-9DDED06B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DBF1-8442-4CBF-94C7-3C441CCF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7877-84D8-47E8-9839-F00B90E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74BC-C0FE-47D1-A112-9575C69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0D9-9C2F-44FC-9441-7178AC0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A44F-A943-40D6-B061-9398A7A1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2BC5-3EB2-426C-A03B-8BD7287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F335-A727-4938-9679-7C2320C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EDDA-C649-415F-BC1F-FACC8F2C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0A20-622E-474F-AFE4-CC1FE86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5B6E-3846-4D5B-ACA9-68BFAC9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B114-F994-4EBB-84D9-0B7F9F0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CDBF-D073-49A3-A326-91E89A19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3659-4129-4092-B81C-10BDC713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31D4-C5AC-4B77-9385-329C7A8C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6C2-AFEB-4747-9719-96059C9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7B62-8F8B-49BF-882D-1463CAC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8F77-F130-4168-B3AF-7F96077B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EF26-DB2F-4889-A55F-55AB7B7C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21CE-645B-4B0B-B3BA-037D0E30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A677-D19A-444F-BA2B-B171349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276D-DD3B-485C-9AD3-6F01F82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59FD0-149E-44C9-ABE2-231FC991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A3A5-17E6-40A7-9FEA-CF91486B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000F-D9A8-4124-8E89-B032F497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60112-E234-4EDD-B9F4-008A0CF1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19D-93EC-480D-BA59-03E8138E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34D31-03A2-4C07-BC17-6F02DC83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F159-C6A7-4B51-8E4F-9E11AF52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734F-9AE4-491C-BFA8-94B2AECC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B8DD-8790-431E-AF64-51C514C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8ECD-65EE-4828-A528-C8151D55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18B55-F235-4DB0-B674-72FB78E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063B-97D0-4BE0-A09A-51DD8AB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33F2A-FC3B-49AF-9BB5-E337F8E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FA050-5CC9-4223-9D78-5568CC62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734A-EC9D-45B8-95CB-CDB19E0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9AC-698D-42AD-B4B7-45773EA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699F-9497-4119-8669-5FBFB6C0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7FBA-BFC8-4510-B230-0188B6B0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5967E-5B4A-4C72-B6F7-F05C6367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A670-3C5C-45E2-8269-2D6A844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6B573-F03A-4BD6-8BF7-F6238B0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B3179-4237-40BF-8856-E9DAE0A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E079-72D5-44E7-919C-548994A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8F93-3361-45AD-95EB-935CD939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B21C-9C17-40ED-8212-C6F9533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6239-304E-472F-B9E3-9E4BDE9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704-4B92-4E87-8091-B65FAAF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0A230-4829-4241-AD16-7ED91DC7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6E4D3-F3F5-40BC-9197-A488100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3EA0-A920-4E73-837C-EA22F3F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EE9A-AE06-419E-97EC-39A7759F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900F-D54A-4E82-848D-67F6B8A1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851F-C868-46B5-8F3E-3E5C18BE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1739-48FC-4B5B-9E63-F431467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F848-7C81-4B1A-9EA2-3D7AF3CD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FC4CD-D8E5-43AF-81CA-2606AEC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0B234-B8EC-4CD1-A33E-4C0D927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454-636D-4710-A615-E03FB7C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CE85-86B6-4F5A-881E-F4ECE263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B8A6C-A62B-41A2-9CBF-CD039AA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896B6-EAA0-48EE-AD00-4CAFD17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3602C-5BC2-4C60-BDD2-23553FC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1AC7-87EF-49DE-9C49-CF4A2067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72F52-2310-4013-A552-4472BF33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4E82-0E41-45D3-A532-4D2F6ED2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CBAE-4FD6-4A42-9787-F4FD2BEA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06A9A-9B80-486C-A8C6-4365475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1EE8E-D3E2-472A-AB1A-221CAF8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701-7360-47D4-ADDE-BAA9A86024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E5E-FC85-4A1C-AF63-AEB80E2E5C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88D-946C-417B-9CC8-8CF7114433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FD1-36EA-41F6-ACE8-B8D9857A38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F51-CCE8-4068-B914-69C8A0A603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60A-6F3B-4FD2-8BB8-6FF1EF5C8A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BAE-35FB-480B-A46A-FF48345B11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9D0-298E-4CBA-8EC2-7333548FA6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6F51-36C2-496C-8523-77DB844623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AAC-7760-4CDF-9284-D87F0B31A8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МБДОУ «Детский сад общеразвивающего вида № 187»</a:t>
            </a:r>
            <a:br>
              <a:rPr sz="2200"/>
            </a:br>
            <a:r>
              <a:rPr b="0" lang="ru-RU" sz="3400" spc="-1" strike="noStrike">
                <a:solidFill>
                  <a:srgbClr val="ffff00"/>
                </a:solidFill>
                <a:latin typeface="Constantia"/>
              </a:rPr>
              <a:t>«ШКОЛА МОЛОДОГО ПЕДАГОГА»</a:t>
            </a: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ие 11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ОВАНИЕ И ОРГАНИЗАЦИЯ ЛЕТН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ЗДОРОВИТЕЛЬНОГО ПЕРИ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leto"/>
          <p:cNvPicPr/>
          <p:nvPr/>
        </p:nvPicPr>
        <p:blipFill>
          <a:blip r:embed="rId1"/>
          <a:stretch/>
        </p:blipFill>
        <p:spPr>
          <a:xfrm>
            <a:off x="609480" y="3722760"/>
            <a:ext cx="4130640" cy="28303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4"/>
          <p:cNvSpPr/>
          <p:nvPr/>
        </p:nvSpPr>
        <p:spPr>
          <a:xfrm>
            <a:off x="4343400" y="5137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лова Юлия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воспит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1640" y="533520"/>
            <a:ext cx="67057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водоём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7" name="Picture 10" descr="SAM_1041"/>
          <p:cNvPicPr/>
          <p:nvPr/>
        </p:nvPicPr>
        <p:blipFill>
          <a:blip r:embed="rId1"/>
          <a:stretch/>
        </p:blipFill>
        <p:spPr>
          <a:xfrm>
            <a:off x="334800" y="152280"/>
            <a:ext cx="2489400" cy="3318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SAM_1055"/>
          <p:cNvPicPr/>
          <p:nvPr/>
        </p:nvPicPr>
        <p:blipFill>
          <a:blip r:embed="rId2"/>
          <a:stretch/>
        </p:blipFill>
        <p:spPr>
          <a:xfrm>
            <a:off x="3657600" y="140796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SAM_1006"/>
          <p:cNvPicPr/>
          <p:nvPr/>
        </p:nvPicPr>
        <p:blipFill>
          <a:blip r:embed="rId3"/>
          <a:stretch/>
        </p:blipFill>
        <p:spPr>
          <a:xfrm>
            <a:off x="334800" y="3809880"/>
            <a:ext cx="3708720" cy="27831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SAM_0961"/>
          <p:cNvPicPr/>
          <p:nvPr/>
        </p:nvPicPr>
        <p:blipFill>
          <a:blip r:embed="rId4"/>
          <a:stretch/>
        </p:blipFill>
        <p:spPr>
          <a:xfrm>
            <a:off x="6400800" y="3352680"/>
            <a:ext cx="2506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55404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борудование для развития движен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22" name="Picture 12" descr="IMG_00091 (334)"/>
          <p:cNvPicPr/>
          <p:nvPr/>
        </p:nvPicPr>
        <p:blipFill>
          <a:blip r:embed="rId1"/>
          <a:stretch/>
        </p:blipFill>
        <p:spPr>
          <a:xfrm>
            <a:off x="2971800" y="24573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SAM_1017"/>
          <p:cNvPicPr/>
          <p:nvPr/>
        </p:nvPicPr>
        <p:blipFill>
          <a:blip r:embed="rId2"/>
          <a:stretch/>
        </p:blipFill>
        <p:spPr>
          <a:xfrm>
            <a:off x="304920" y="11430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SAM_0976"/>
          <p:cNvPicPr/>
          <p:nvPr/>
        </p:nvPicPr>
        <p:blipFill>
          <a:blip r:embed="rId3"/>
          <a:stretch/>
        </p:blipFill>
        <p:spPr>
          <a:xfrm>
            <a:off x="6180120" y="161784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SAM_0963"/>
          <p:cNvPicPr/>
          <p:nvPr/>
        </p:nvPicPr>
        <p:blipFill>
          <a:blip r:embed="rId4"/>
          <a:stretch/>
        </p:blipFill>
        <p:spPr>
          <a:xfrm>
            <a:off x="6858000" y="4064040"/>
            <a:ext cx="1962000" cy="2616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SAM_0977"/>
          <p:cNvPicPr/>
          <p:nvPr/>
        </p:nvPicPr>
        <p:blipFill>
          <a:blip r:embed="rId5"/>
          <a:stretch/>
        </p:blipFill>
        <p:spPr>
          <a:xfrm>
            <a:off x="3352680" y="5029200"/>
            <a:ext cx="3318120" cy="135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SAM_1092"/>
          <p:cNvPicPr/>
          <p:nvPr/>
        </p:nvPicPr>
        <p:blipFill>
          <a:blip r:embed="rId6"/>
          <a:stretch/>
        </p:blipFill>
        <p:spPr>
          <a:xfrm>
            <a:off x="417600" y="4808520"/>
            <a:ext cx="23889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Дорожки здоровь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6" descr="SAM_0975"/>
          <p:cNvPicPr/>
          <p:nvPr/>
        </p:nvPicPr>
        <p:blipFill>
          <a:blip r:embed="rId1"/>
          <a:stretch/>
        </p:blipFill>
        <p:spPr>
          <a:xfrm>
            <a:off x="5029200" y="3768840"/>
            <a:ext cx="3594240" cy="22460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6" descr="SAM_1031"/>
          <p:cNvPicPr/>
          <p:nvPr/>
        </p:nvPicPr>
        <p:blipFill>
          <a:blip r:embed="rId2"/>
          <a:stretch/>
        </p:blipFill>
        <p:spPr>
          <a:xfrm>
            <a:off x="5334120" y="793800"/>
            <a:ext cx="3173400" cy="2381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SAM_1047"/>
          <p:cNvPicPr/>
          <p:nvPr/>
        </p:nvPicPr>
        <p:blipFill>
          <a:blip r:embed="rId3"/>
          <a:stretch/>
        </p:blipFill>
        <p:spPr>
          <a:xfrm>
            <a:off x="914400" y="28764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ознавательно-исследовательская деятельнос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34" name="Picture 7" descr="SAM_1106"/>
          <p:cNvPicPr/>
          <p:nvPr/>
        </p:nvPicPr>
        <p:blipFill>
          <a:blip r:embed="rId1"/>
          <a:stretch/>
        </p:blipFill>
        <p:spPr>
          <a:xfrm>
            <a:off x="304920" y="1600200"/>
            <a:ext cx="25383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SAM_1098"/>
          <p:cNvPicPr/>
          <p:nvPr/>
        </p:nvPicPr>
        <p:blipFill>
          <a:blip r:embed="rId2"/>
          <a:stretch/>
        </p:blipFill>
        <p:spPr>
          <a:xfrm>
            <a:off x="3048120" y="16765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2" descr="SAM_1100"/>
          <p:cNvPicPr/>
          <p:nvPr/>
        </p:nvPicPr>
        <p:blipFill>
          <a:blip r:embed="rId3"/>
          <a:stretch/>
        </p:blipFill>
        <p:spPr>
          <a:xfrm>
            <a:off x="6095880" y="15145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AM_1102"/>
          <p:cNvPicPr/>
          <p:nvPr/>
        </p:nvPicPr>
        <p:blipFill>
          <a:blip r:embed="rId4"/>
          <a:stretch/>
        </p:blipFill>
        <p:spPr>
          <a:xfrm>
            <a:off x="228600" y="4527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SAM_1104"/>
          <p:cNvPicPr/>
          <p:nvPr/>
        </p:nvPicPr>
        <p:blipFill>
          <a:blip r:embed="rId5"/>
          <a:stretch/>
        </p:blipFill>
        <p:spPr>
          <a:xfrm>
            <a:off x="5181480" y="44625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0020-020-Spasibo-za-vnimanie"/>
          <p:cNvPicPr/>
          <p:nvPr/>
        </p:nvPicPr>
        <p:blipFill>
          <a:blip r:embed="rId1"/>
          <a:stretch/>
        </p:blipFill>
        <p:spPr>
          <a:xfrm>
            <a:off x="13716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летней оздоровительной рабо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охраны жизни и здоровья детей через интегрированный подход к использованию благоприятных природных факторов и повышение адаптационных возможностей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Формирование познавательной активности дошкольников на основе системно-деятельностного подхода через поддержку детской инициативы  в различных видах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380880" y="43434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 Л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етьми: воспитательно-образовательная, оздоровительная, профила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педагогами: профилактическая, контроль и руководство, мето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министративно-хозяйствен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48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деть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но-образова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ендарное планирование; музыкальные, физкультурные занятия и развлечения; совместная и самостоятельная  деятельность в условиях естественной экологической среды; работа по безопасности жизнедеятельности; экскурсии и целевые прогу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дорови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симальное пребывание на свежем воздухе; создание условий для двигательной активности; закаливание; питьевой режим и витами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мероприятия по профилактике энтеребиоза и желудочно-кишечных заболе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педагог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12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ктажи по безопасности жизнедеятельности детей, профилакике детского травматизма, ОТ и ТБ; консультации для педагогов по организации и проведению Л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и руковод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мотры-конкурсы; контроль проведения режимных моментов и закаливающих процедур; контроль планирования и организации гибкого режима; контроль организации двигательно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онсультации для педагогов ; разработка плана на следующий учебный год; корректировка АООП МБ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родителям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08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родительских угол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дня и сетка занятий, рекомендации по воспитанию детей летом; рекомендации по патриотическому и экологическому воспитанию, игре на свежем воздух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стие родителей в оборудовании участков и групповых помещ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вающая среда на участках ДОУ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сихологический комфорт и безопасность обстан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Обеспечение возможности укрепления физического и психического здоровь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Реализация права ребенка на свободный выбор вида деятельности (игровой, двигательной, познавательно-исследовательской, коммуникативной, трудовой, самообслуживания, изобразительной, музыкальной, восприятия художественной литератур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Обеспечение самостоятельной индивидуа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зможность получить максимум знаний, умений, ярких впечатлений, положительных эмо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0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расочные ве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08" name="Picture 8" descr="SAM_1074"/>
          <p:cNvPicPr/>
          <p:nvPr/>
        </p:nvPicPr>
        <p:blipFill>
          <a:blip r:embed="rId1"/>
          <a:stretch/>
        </p:blipFill>
        <p:spPr>
          <a:xfrm>
            <a:off x="152280" y="144792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2" descr="SAM_0956"/>
          <p:cNvPicPr/>
          <p:nvPr/>
        </p:nvPicPr>
        <p:blipFill>
          <a:blip r:embed="rId2"/>
          <a:stretch/>
        </p:blipFill>
        <p:spPr>
          <a:xfrm>
            <a:off x="4724280" y="69696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SAM_0957"/>
          <p:cNvPicPr/>
          <p:nvPr/>
        </p:nvPicPr>
        <p:blipFill>
          <a:blip r:embed="rId3"/>
          <a:stretch/>
        </p:blipFill>
        <p:spPr>
          <a:xfrm>
            <a:off x="32767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32000" y="106668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огоро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2" name="Picture 7" descr="SAM_1038"/>
          <p:cNvPicPr/>
          <p:nvPr/>
        </p:nvPicPr>
        <p:blipFill>
          <a:blip r:embed="rId1"/>
          <a:stretch/>
        </p:blipFill>
        <p:spPr>
          <a:xfrm>
            <a:off x="1752480" y="1522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AM_1040"/>
          <p:cNvPicPr/>
          <p:nvPr/>
        </p:nvPicPr>
        <p:blipFill>
          <a:blip r:embed="rId2"/>
          <a:stretch/>
        </p:blipFill>
        <p:spPr>
          <a:xfrm>
            <a:off x="324000" y="310356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Рисунок 1 031"/>
          <p:cNvPicPr/>
          <p:nvPr/>
        </p:nvPicPr>
        <p:blipFill>
          <a:blip r:embed="rId3"/>
          <a:stretch/>
        </p:blipFill>
        <p:spPr>
          <a:xfrm>
            <a:off x="3056040" y="4160880"/>
            <a:ext cx="2609640" cy="2514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SAM_1019"/>
          <p:cNvPicPr/>
          <p:nvPr/>
        </p:nvPicPr>
        <p:blipFill>
          <a:blip r:embed="rId4"/>
          <a:stretch/>
        </p:blipFill>
        <p:spPr>
          <a:xfrm>
            <a:off x="5257800" y="20224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5:33:13Z</dcterms:created>
  <dc:creator>Юрий</dc:creator>
  <dc:description/>
  <dc:language>en-US</dc:language>
  <cp:lastModifiedBy>PS</cp:lastModifiedBy>
  <dcterms:modified xsi:type="dcterms:W3CDTF">2018-12-15T18:58:0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