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A03-2DE9-4730-934A-B4295496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3EB-9DC5-46B4-A466-01CB27D2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531-656D-4492-AE16-65FBD13A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5EF-1A3D-499A-A797-5294FD02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BB3-277A-4A07-A8AA-51E8AB91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227-B14A-4A20-9CE1-E622E0BB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9F0-54D4-4BBF-81A6-A9873B9E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D53-E627-4500-B981-9A31BFD9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C78-3341-4378-BB8B-37AB8972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AA7-6E2E-42B1-B8B5-A0F8E384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1B17-0C22-4689-BEF0-D8A33B7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0CE-07FB-4B18-BC0D-836C6A98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5185-FA85-43ED-8F01-C41BFBA1E3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3499920"/>
            <a:ext cx="6715440" cy="21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«Детский сад общеразвивающего вида № 187»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КОЛА МОЛОДОГО ПЕДАГОГА»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5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ВЕДЕНИЕ ИНДИВИДУАЛЬНОЙ РАБОТЫ С ДЕТЬМИ.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640" y="5661000"/>
            <a:ext cx="36734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лова Юлия Серг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3"/>
          <p:cNvSpPr/>
          <p:nvPr/>
        </p:nvSpPr>
        <p:spPr>
          <a:xfrm>
            <a:off x="1476360" y="476280"/>
            <a:ext cx="719928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 проводи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, не посещающими регулярно детский сад по болезни или другим причинам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етьми «ослабленными», имеющими низкую работоспособность на занятии, застенчивыми, медлительными, заторможенными и педагогически запущенны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 организуется с целью активизации пассивных дет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1908000" y="1136880"/>
            <a:ext cx="6912000" cy="50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тся индивидуальная работа с детьми во время режимных процессов (воспитание культурно-гигиенических навы-ков, самостоятельности, развитие речи, движений и т. д.) и ведётся педагогом на протяжении всего дня, во всех режимных моментах, в любом виде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ий дошкольный возра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684360" y="2012040"/>
            <a:ext cx="7991280" cy="40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оловина дн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ндивидуальные занятия с детьми, имеющие пробелы в знаниях, рекомендуется организовывать преимущественно в форме игры. Организуются специальные игры и упражнения с теми детьми, которые нуждаются в исправлении недостатков речи или с отстающими в каких-либо движениях. Малоактивным и замкнутым детям, дают различные поручения, требующие общения со взрослыми и сверстниками. Недостаточно любознательным детям поручаются интересные наблюдения (например, за синичками, которые прилетели на участок, полюбоваться красотой зимнего утра и т. 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торой половине дн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ся индивидуальная работа с детьми по развитию движений, рисованию, вырезыванию, конструированию, исправлению дефектов 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1979640" y="1229040"/>
            <a:ext cx="6804000" cy="497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гул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спитатель проводит индивидуальную работу с детьми: для одних организует игру с мячом, метание в цель, для других — упражнение в равновесии, для третьих — спрыгивание с пеньков, перешагивание через деревья, сбегание с пригорк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гулках осуществляется работа и по развитию речи ребенка: разучивание потешки или небольшого стихотворения, закрепление трудного для произношения звука и т. п. Воспитатель может вспомнить с детьми слова и мелодию песни, которую разучивали на музыкальном заня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организации работы - индивидуальная, однако, в некоторых случаях можно проводить работу, организуя детей в малые группы. Проводя индивидуальную работу на прогулке необходимо учитывать сезонность и погод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дошкольный возра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468360" y="260280"/>
            <a:ext cx="1349280" cy="1413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1979640" y="2860560"/>
            <a:ext cx="6804000" cy="4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395280" y="22017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работа с детьми по различным образовательным област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му развит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му развит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му развит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му развит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му разви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овании  (в календарных планах) индивидуальной работы с детьми воспитатель указывает конкретно имена тех детей, с кем будет занима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грамма индивидуальной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395280" y="0"/>
            <a:ext cx="1351080" cy="1413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1979640" y="3516480"/>
            <a:ext cx="6804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95280" y="1389240"/>
            <a:ext cx="82677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Короткая беседа с родителями во время утреннего приёма детей о самочувствии их ребёнка, о том, что их беспокоит в его поведен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оздание и поддержание спокойной, радостной обстановки, предоставление каждому ребёнку возможности заняться интересующим его делом (играть, рассматривать книги, рисовать). Уделить особое внимание детям замкнутым, застенчивым, робким. Их непременно надо подбодрить, они в этом очень нуждаются. Излишне возбуждённых детей следует привлечь к таким играм и занятиям, которые содействовали бы их успокоению, снятию возбужд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и подготовке к завтраку воспитывать культурно-гигиенические навыки, оказывая помощь тем детям, которые ещё не владеют необходимыми навык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Во время завтрака обращать внимание на тех детей, у которых плохой аппетит. Следить за позой детей, а также за соблюдением ими правил культурного поведения за стол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роведение индивидуальной работы с детьми, которые пропустили занятия, или что-то не усвоил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324000" y="333360"/>
            <a:ext cx="1350720" cy="1413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1979640" y="3516480"/>
            <a:ext cx="6804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1547640" y="177840"/>
            <a:ext cx="73454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. Проведение работы с робкими, застенчивыми нерешительными детьми по подготовке их к активному участию в общих зан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При проведении занятия нужно, прежде всего, обратить внимание на то, чтобы всем детям было удобно сидеть, чтобы все могли хорошо видеть и слышать воспитателя. Следить, чтобы они не сутулились, не наклонялись низко над сто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. Готовя детей к прогулке, нужно уделять особое внимание болезненным и ослабленным детям, следить, чтобы они были хорошо одеты и не простудились. Воспитывать навык одеваться быстро и правильно, в отделенной последова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9. На прогулке наряду с общей работой осуществляется и индивидуальная работа с различными цел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еодоление застенчив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звитие наблюда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оспитание трудолюбия, трудовых нав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звитие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тработка спортивных эле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елять внимание детям, которые проявляют особый интерес к математике, окружающему. Выслушать придуманные ими задачи, рассказы, зага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395280" y="333360"/>
            <a:ext cx="1351080" cy="1413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1979640" y="3516480"/>
            <a:ext cx="68040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1619280" y="761760"/>
            <a:ext cx="6840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течение дня наблюдать и руководить работой дежурных. Подбирать пары дежурных в соответствии с их индивидуальными особенностями, с учётом взаимного положительного влияния детей друг на дру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1. При подготовке ко сну следить, чтобы никто из детей не был слишком возбуждё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2. Детей, которые не проявляют интереса и любви к животным и растениям, привлекать к наблюдениям и работе в уголке прир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3. Обращать внимание на проявления детей в трудовой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14. Вечером, когда родители приходят за детьми, можно больше времени уделить общению с ними, ответить на их вопросы, порекомендовать соответствующую литературу, рассказывать о самочувствии ребёнка, его поведении, успехах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Admin</cp:lastModifiedBy>
  <dcterms:modified xsi:type="dcterms:W3CDTF">2018-12-12T11:32:33Z</dcterms:modified>
  <cp:revision>42</cp:revision>
  <dc:subject/>
  <dc:title>Слайд 1</dc:title>
</cp:coreProperties>
</file>