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3DE-B493-439E-9AB4-81E2BD46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4D9-F727-4D93-BB95-0B846E03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868-920E-48D4-9465-5D436877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726-4C84-453A-B1DB-E6C536D8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73D-171A-44B2-9C5B-3E351FF2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667-0B14-4745-842E-E788D0AB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729-AFF0-43C6-9FC0-3C0A429F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54A-DD60-4EF8-AC19-3FD4C179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29F-5D4B-4FBD-A0C9-08C90F22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549-CC30-4B7E-AACD-1575DEC9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440-AA6F-4172-ACA9-93ED56DE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F04-D419-4A0E-BE75-E60154AE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503C-AE89-4E93-876E-EB92F227A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3499920"/>
            <a:ext cx="6715440" cy="21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общеразвивающего вида № 187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МОЛОДОГО ПЕДАГОГА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5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ВЕДЕНИЕ ИНДИВИДУАЛЬНОЙ РАБОТЫ С ДЕТЬМИ.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5661000"/>
            <a:ext cx="36734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а Юлия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1476360" y="476280"/>
            <a:ext cx="71992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 проводи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, не посещающими регулярно детский сад по болезни или другим причинам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«ослабленными», имеющими низкую работоспособность на занятии, застенчивыми, медлительными, заторможенными и педагогически запущен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 организуется с целью активизации пассивных де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1908000" y="1136880"/>
            <a:ext cx="691200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тся индивидуальная работа с детьми во время режимных процессов (воспитание культурно-гигиенических навы-ков, самостоятельности, развитие речи, движений и т. д.) и ведётся педагогом на протяжении всего дня, во всех режимных моментах, в любом виде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й дошкольный возра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684360" y="2012040"/>
            <a:ext cx="7991280" cy="40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оловина д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ндивидуальные занятия с детьми, имеющие пробелы в знаниях, рекомендуется организовывать преимущественно в форме игры. Организуются специальные игры и упражнения с теми детьми, которые нуждаются в исправлении недостатков речи или с отстающими в каких-либо движениях. Малоактивным и замкнутым детям, дают различные поручения, требующие общения со взрослыми и сверстниками. Недостаточно любознательным детям поручаются интересные наблюдения (например, за синичками, которые прилетели на участок, полюбоваться красотой зимнего утра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половине д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индивидуальная работа с детьми по развитию движений, рисованию, вырезыванию, конструированию, исправлению дефектов 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979640" y="1229040"/>
            <a:ext cx="680400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гул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тель проводит индивидуальную работу с детьми: для одних организует игру с мячом, метание в цель, для других — упражнение в равновесии, для третьих — спрыгивание с пеньков, перешагивание через деревья, сбегание с пригорк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гулках осуществляется работа и по развитию речи ребенка: разучивание потешки или небольшого стихотворения, закрепление трудного для произношения звука и т. п. Воспитатель может вспомнить с детьми слова и мелодию песни, которую разучивали на музыкальном заня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рганизации работы - индивидуальная, однако, в некоторых случаях можно проводить работу, организуя детей в малые группы. Проводя индивидуальную работу на прогулке необходимо учитывать сезонность и погод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дошкольный возра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468360" y="260280"/>
            <a:ext cx="1349280" cy="1413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979640" y="2860560"/>
            <a:ext cx="680400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395280" y="22017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 с детьми по различным образовательным област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му развит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му развит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му развит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му развит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му разви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овании  (в календарных планах) индивидуальной работы с детьми воспитатель указывает конкретно имена тех детей, с кем будет заним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грамма индивидуаль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95280" y="0"/>
            <a:ext cx="1351080" cy="1413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1979640" y="3516480"/>
            <a:ext cx="680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95280" y="1389240"/>
            <a:ext cx="82677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ороткая беседа с родителями во время утреннего приёма детей о самочувствии их ребёнка, о том, что их беспокоит в его поведен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оздание и поддержание спокойной, радостной обстановки, предоставление каждому ребёнку возможности заняться интересующим его делом (играть, рассматривать книги, рисовать). Уделить особое внимание детям замкнутым, застенчивым, робким. Их непременно надо подбодрить, они в этом очень нуждаются. Излишне возбуждённых детей следует привлечь к таким играм и занятиям, которые содействовали бы их успокоению, снятию возбужд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 подготовке к завтраку воспитывать культурно-гигиенические навыки, оказывая помощь тем детям, которые ещё не владеют необходимыми навык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Во время завтрака обращать внимание на тех детей, у которых плохой аппетит. Следить за позой детей, а также за соблюдением ими правил культурного поведения за стол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роведение индивидуальной работы с детьми, которые пропустили занятия, или что-то не усвоил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24000" y="333360"/>
            <a:ext cx="1350720" cy="1413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979640" y="3516480"/>
            <a:ext cx="680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1547640" y="177840"/>
            <a:ext cx="73454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роведение работы с робкими, застенчивыми нерешительными детьми по подготовке их к активному участию в общих зан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При проведении занятия нужно, прежде всего, обратить внимание на то, чтобы всем детям было удобно сидеть, чтобы все могли хорошо видеть и слышать воспитателя. Следить, чтобы они не сутулились, не наклонялись низко над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Готовя детей к прогулке, нужно уделять особое внимание болезненным и ослабленным детям, следить, чтобы они были хорошо одеты и не простудились. Воспитывать навык одеваться быстро и правильно, в отделенной последова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На прогулке наряду с общей работой осуществляется и индивидуальная работа с различными це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еодоление застенчив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звитие наблюда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оспитание трудолюбия, трудов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звит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работка спортивны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елять внимание детям, которые проявляют особый интерес к математике, окружающему. Выслушать придуманные ими задачи, рассказы, заг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95280" y="333360"/>
            <a:ext cx="1351080" cy="1413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1979640" y="3516480"/>
            <a:ext cx="680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1619280" y="761760"/>
            <a:ext cx="6840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течение дня наблюдать и руководить работой дежурных. Подбирать пары дежурных в соответствии с их индивидуальными особенностями, с учётом взаимного положительного влияния детей друг на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При подготовке ко сну следить, чтобы никто из детей не был слишком возбуждё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Детей, которые не проявляют интереса и любви к животным и растениям, привлекать к наблюдениям и работе в уголке прир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Обращать внимание на проявления детей в трудов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Вечером, когда родители приходят за детьми, можно больше времени уделить общению с ними, ответить на их вопросы, порекомендовать соответствующую литературу, рассказывать о самочувствии ребёнка, его поведении, успехах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Admin</cp:lastModifiedBy>
  <dcterms:modified xsi:type="dcterms:W3CDTF">2018-12-12T11:32:33Z</dcterms:modified>
  <cp:revision>42</cp:revision>
  <dc:subject/>
  <dc:title>Слайд 1</dc:title>
</cp:coreProperties>
</file>