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5A545-61AC-4506-B0E9-6514329D4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087F84-91B5-4455-99DE-BFB8266853F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787B2-8231-4888-BCD6-BD6D08913D9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71F72E-30C5-4780-A8B4-F036DC00D54B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44F182-87F6-4FC3-B0D3-4C3E64B6E13B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CD0598-1CD5-4393-8C48-EECAC01BF3A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6F3D94-FC48-4807-BD47-980F00021F8F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CB58BA-DF31-40B6-B079-1C1F342E9075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D11B6B-4281-43E4-94B0-602585FD9E7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EAC833-25DD-498B-A421-48A7D24A3E1E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8CDF7B-EEF8-406A-8601-3DBED6AE2FBC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05C21D-31E1-44C0-9495-5D7DF3E038C0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8753A-2A21-45AD-B2DC-82652263DCAF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D4817A-F094-48A4-9811-731B8E793B9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B6C4D5-0825-4607-ABE3-C14D863E5FEC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DEC-9234-4246-BF18-804B431F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165-0C08-4F58-91B8-EDADB468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F22-21F5-4DAF-83FA-00FDFFB1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C52-9FF8-4B19-AB95-FF8CCF65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60DF-5E9D-4F0C-8943-B80DDEEA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D0AE6-679A-4A89-B5C8-5DCEC34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49801-AC0F-4EE8-B427-F9227EB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26A2-6040-4D65-816D-FA9A2BB0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C78C0-6EAC-4CC2-861F-0DBAFEF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F1C0F-1C89-43E6-9AA4-CC1CE3C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1C431-DB8B-4BDD-B609-9F0CF73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283-7C46-4310-BD30-6E0F34D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22E8-ECA7-41A3-901F-A895620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3BD72-D27B-4D55-8B9B-5F142B3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40DD-0984-4DBF-B064-1090EB3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2BAD-3989-432E-9EB7-C8898BE3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115E6-88E5-4472-BD8D-E7AB1B24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8512-E999-4A4B-B46D-701CE85F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A73E-D7CE-4B8D-ADFB-42EF498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A53F-8826-45DA-998D-F84EAA4E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726B-DC33-4FF6-8517-D09BE999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1ECF-FC2F-43AB-9D33-C701876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C18-84EC-4465-BCF6-1E29DF7E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5CD1-DC0F-4CFA-8E54-7BEA5C90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D903-586D-4C7B-BA6A-B26D497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90C8-DD98-48AD-9074-6CBFDE8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8389-69C7-4F02-8DDF-5AC174E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D534-10B4-49D7-B6AB-288CDE8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3C3C-4F5F-4A4E-9231-570B811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9806-5D8A-4BDD-8CAC-78EA668D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642-065F-42C5-B499-36764F1C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EAA-4909-4E4D-84AD-F2E5B771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4D8-F966-4A26-A1B1-B158084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58C-B36F-443E-A762-8B495D5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354-50DF-4EDC-9607-B0E0AC6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483-B2EC-4930-9A46-A86C770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BFE6A3-7962-4424-9FCA-EFE1CF55F2C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0E652C-7C49-45D9-877F-1F74C1546CA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8F6642-C454-4A22-9E64-D5E9D176978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едагогический проект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500200"/>
            <a:ext cx="8206920" cy="38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300" spc="-1" strike="noStrike">
                <a:solidFill>
                  <a:srgbClr val="404040"/>
                </a:solidFill>
                <a:latin typeface="Century Schoolbook"/>
              </a:rPr>
              <a:t>«Модель работы с одарёнными детьми в начальной школе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39639d"/>
                </a:solidFill>
                <a:latin typeface="Century Schoolbook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Способы выявлени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блюдение  за развитием ребён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леживание его интересов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пешное выполнение заданий повышенной сложн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психологических особенностей, памяти, речи, мышления, воображе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ие диагностических рабо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работы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 </a:t>
            </a: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урочной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деятельност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а в парах, в малых группах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ноуровневые задания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задания повышенной сложн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ие зада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кусс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имательные  опыт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ресные  нестандартные  задач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работы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о </a:t>
            </a: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неурочной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деятельност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жк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ельская  рабо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метные олимпиад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личные конкурсы и викторин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есные игры и забав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ы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творческие зада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мотиваци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ральная поддержка (удивление, восхищение, похвала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 детской любознательности, интереса к новым знаниям, факта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к участию в различных проектах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ние проблемной ситуации и нахождение выхода из неё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Карта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индивидуального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сопровождения ребенка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ортрет» ребён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ёт личных достижений (участие в олимпиадах, конкурсах, исследовательская работа, проекты и т.п.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оведённой работы и постановка новой цел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148000" y="3703320"/>
            <a:ext cx="35715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даренный ребенок – это ученик, который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являет любопытство ко многим вещам, постоянно задаёт вопрос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лагает много идей, решений задач, ответов на вопрос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бодно высказывает своё мнени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ладает богатой фантазией, воображение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ладает хорошо развитым чувством юмор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увствителен к красот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емится к самовыражению, творческому отношению к жизн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ими  знаниями  охотно  делится  с  другими  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гда  находит  выход  из  любой  сложившейся  ситуаци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1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 cap="small">
                <a:solidFill>
                  <a:srgbClr val="000000"/>
                </a:solidFill>
                <a:latin typeface="Century Schoolbook"/>
              </a:rPr>
              <a:t>« Если школьник с первого класса подготовлен к тому, что он должен учиться создавать, придумывать, находить оригинальные решения, то формирование личности будет проходить на основе обогащения её интеллектуального профиля…Обучая детей творческому мышлению, мы обогащаем их не только интеллектуально, но и личностно.»  </a:t>
            </a:r>
            <a:br>
              <a:rPr sz="1800"/>
            </a:br>
            <a:r>
              <a:rPr b="0" lang="ru-RU" sz="1800" spc="-1" strike="noStrike" cap="small">
                <a:solidFill>
                  <a:srgbClr val="000000"/>
                </a:solidFill>
                <a:latin typeface="Century Schoolbook"/>
              </a:rPr>
              <a:t>                                                             Р.Дж. Стернберг, Е. Григоренко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00_0235+"/>
          <p:cNvPicPr/>
          <p:nvPr/>
        </p:nvPicPr>
        <p:blipFill>
          <a:blip r:embed="rId1"/>
          <a:stretch/>
        </p:blipFill>
        <p:spPr>
          <a:xfrm>
            <a:off x="2000160" y="2786040"/>
            <a:ext cx="4579560" cy="34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Способности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Талант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Гениальность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роблемы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диагностики выявления одаре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системы поддержки и сопровождения одаре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программы работы с одаренными детьм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методического сопровожде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ротиворечи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растущими потребностями в талантливых детях и отсутствием системы поиска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специфичностью развития одаренных детей и недостатком психолого-педагогических знани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Цель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14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здать модель работы с одарёнными детьми в начальной школ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12409"/>
          <a:stretch/>
        </p:blipFill>
        <p:spPr>
          <a:xfrm>
            <a:off x="1285920" y="3000240"/>
            <a:ext cx="5714640" cy="33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Задачи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психолого-педагогическую литературу и выбрать методику выявления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программу развития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методическое сопровождение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ышать компетентность педагогов в вопросах работы с одарёнными детьм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новить нормативно-правовую базу по работе с одарёнными детьми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: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еоретически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кспериментальны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татистически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жидаемые результаты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ализация творческого потенциала детей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здание банка данных, включающих сведения о детях с различными типами одарённости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и реализация программ поддержки и развития одарённых детей, создание системы взаимодействия с основной школой, родителями учащихся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спользование системы диагностик для выявления и отслеживания различных типов одарённости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системы подготовки педагогов для целенаправленной работы с детьми; обобщение и систематизация материалов педагогической практики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ценка результативности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Group 42"/>
          <p:cNvGraphicFramePr/>
          <p:nvPr/>
        </p:nvGraphicFramePr>
        <p:xfrm>
          <a:off x="457200" y="1481040"/>
          <a:ext cx="8229240" cy="4755240"/>
        </p:xfrm>
        <a:graphic>
          <a:graphicData uri="http://schemas.openxmlformats.org/drawingml/2006/table">
            <a:tbl>
              <a:tblPr/>
              <a:tblGrid>
                <a:gridCol w="874440"/>
                <a:gridCol w="3311280"/>
                <a:gridCol w="404316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адекватной положительной самооценки, способность к рефлексии, стремление к познанию и проявлению своих возможностей, мотивационная сф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влетворённость учащихся, родителей , учителей  жизнедеятельностью  одарённых детей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фортность, защищённость личности одарённого школьника, его отношение к основным сторонам жизнедеятельности в школе, удовлетворённость родителей и учи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ентоспособность одарённых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подготовки детей, участие в олимпиадах, конкурсах, социальный опы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819</TotalTime>
  <Application>LibreOffice/7.4.7.2$Linux_X86_64 LibreOffice_project/40$Build-2</Application>
  <AppVersion>15.0000</AppVersion>
  <Words>520</Words>
  <Paragraphs>1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5:49:38Z</dcterms:created>
  <dc:creator>р</dc:creator>
  <dc:description/>
  <dc:language>en-US</dc:language>
  <cp:lastModifiedBy>Хрусталёва</cp:lastModifiedBy>
  <dcterms:modified xsi:type="dcterms:W3CDTF">2015-10-23T10:32:41Z</dcterms:modified>
  <cp:revision>63</cp:revision>
  <dc:subject/>
  <dc:title>Педагогический 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