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CFCFA3-1A93-4D86-A97E-2757F600C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2831D1-CF2D-4AB8-A297-3FAD34D65B49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1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6E2426-9E27-4905-983C-757DCE24CF7A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A5E2E4-1DB4-4E8E-81E8-56BC30A80541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7E05E1-918D-4152-9DBF-27299809C00D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723D3D-5727-486E-A652-6348853B0604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D422C6-C1FF-4BE9-AB50-45960A99A123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613A34-D4BB-4C6F-B922-73CAA8E60285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D9926C-6145-4E50-8B6E-3FBA71A2F381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BAE4DC-217F-4E10-89BB-87B3A1948479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CB9AF5-81AA-4869-9F1A-A69FA1C6B614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AE4DDC-242A-4F6D-93AC-D059933CF5A6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C2E529-497B-434B-B0CB-C175A741C2F9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B65416-10B0-4B49-8535-057796656661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0FCBBB-036A-47F3-9C74-9FDB50512BEF}" type="slidenum">
              <a:rPr b="0" lang="ru-RU" sz="1200" spc="-1" strike="noStrike">
                <a:solidFill>
                  <a:srgbClr val="000000"/>
                </a:solidFill>
                <a:latin typeface="+mn-l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207-2741-4E82-B90B-BE587F1E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8FB-CF92-450E-8ED4-4B3C934B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846-7280-4A70-88EC-B525F6A2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06B-F2A6-4CF2-9FE3-5D60188A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A49BA-E463-4E02-8C4C-06EF95EB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057D7-42FE-4217-BDCD-0761DDE3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F5A4E-96F1-4825-A147-A607D3C0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311FE-0A5C-4159-B87C-E095D35E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D107B-8E45-46CD-98D9-3AFBA8B9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0200F-CFBC-4E25-BA1B-11A6E49E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CB274-367C-4991-96DD-E4297992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BE1-AA7D-4F92-9B06-B08B7B05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6231A-2FE3-4D2A-B074-A489E74C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5CCA7-DC96-499B-8A60-AB42F006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9A2E1-FEC6-46F8-9896-9073A1E5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9B27F-D50A-48F4-863F-55F2D62D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8FA4B-CE20-40FB-AB78-77D982DA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ED93-E2F7-496B-80A7-0DDE78A5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B9052-8552-4B36-9B20-6878E5AF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D460B-7A4E-4177-A42F-ECAFBBDA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B3D3-B6DB-4180-9419-518D7812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7B36-488D-428C-A8AD-17E5D649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B93E-1D2E-4230-8A74-D396D55A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2ACC-CE6A-4B8F-B10E-699B9429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F4466-412D-4821-BC4B-74922242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2A9A-B819-45F0-8CF6-E32D555D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2D015-D352-4961-AD5B-E5358264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2DBD-7B12-4C1C-85C4-68373447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B638E-8BA1-447D-8D4D-A9FA86FB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03E4-9985-4A93-AF15-FCEB0295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36B-09C9-44BD-B3F8-93086C03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CDD-7B61-46C2-ACC4-CF83F2B1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693-F9F8-4D96-B403-BB8BB41D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45A-F565-4DA9-997A-B7175CD0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6D5-FB2E-4FA4-976C-B8AD4339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F97-510F-417E-8475-CF421DCD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Овал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Прямоугольник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Прямоугольник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Прямоугольник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Прямая соединительная линия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Прямая соединительная линия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Прямая соединительная линия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Прямая соединительная линия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Прямая соединительная линия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Прямая соединительная линия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Прямоугольник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Овал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Овал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Овал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Овал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Овал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BB1FAE6-CF57-4DDC-A64A-5E2BB6A9AEE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AE88F6-1E95-40F8-B9DF-1788AB1ED66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entury Schoolbook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E6568FB-DAD4-4C22-9A5C-FC699379767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8800"/>
            <a:ext cx="777204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Педагогический проект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2500200"/>
            <a:ext cx="8206920" cy="38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300" spc="-1" strike="noStrike">
                <a:solidFill>
                  <a:srgbClr val="404040"/>
                </a:solidFill>
                <a:latin typeface="Century Schoolbook"/>
              </a:rPr>
              <a:t>«Модель работы с одарёнными детьми в начальной школе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39639d"/>
                </a:solidFill>
                <a:latin typeface="Century Schoolbook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Способы выявления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блюдение  за развитием ребёнк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леживание его интересов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пешное выполнение заданий повышенной сложност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психологических особенностей, памяти, речи, мышления, воображения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едение диагностических работ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Методы работы </a:t>
            </a:r>
            <a:br>
              <a:rPr sz="3000"/>
            </a:b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в </a:t>
            </a: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урочной</a:t>
            </a: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 деятельности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бота в парах, в малых группах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ноуровневые задания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задания повышенной сложност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ворческие задания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искуссия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нимательные  опыт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тересные  нестандартные  задач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Методы работы </a:t>
            </a:r>
            <a:br>
              <a:rPr sz="3000"/>
            </a:b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во </a:t>
            </a: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внеурочной</a:t>
            </a: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 деятельности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ужк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следовательская  работ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метные олимпиад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личные конкурсы и викторин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овесные игры и забав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екты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творческие задания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Методы мотивации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оральная поддержка (удивление, восхищение, похвала)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держка детской любознательности, интереса к новым знаниям, фактам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влечение к участию в различных проектах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здание проблемной ситуации и нахождение выхода из неё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Карта</a:t>
            </a: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 индивидуального </a:t>
            </a:r>
            <a:br>
              <a:rPr sz="3000"/>
            </a:b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сопровождения ребенка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ортрет» ребёнк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ёт личных достижений (участие в олимпиадах, конкурсах, исследовательская работа, проекты и т.п.)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 проведённой работы и постановка новой цел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5148000" y="3703320"/>
            <a:ext cx="35715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Одаренный ребенок – это ученик, который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являет любопытство ко многим вещам, постоянно задаёт вопрос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лагает много идей, решений задач, ответов на вопросы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вободно высказывает своё мнение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ладает богатой фантазией, воображением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ладает хорошо развитым чувством юмора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увствителен к красоте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ремится к самовыражению, творческому отношению к жизн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воими  знаниями  охотно  делится  с  другими  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7760" indent="-257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сегда  находит  выход  из  любой  сложившейся  ситуаци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217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 cap="small">
                <a:solidFill>
                  <a:srgbClr val="000000"/>
                </a:solidFill>
                <a:latin typeface="Century Schoolbook"/>
              </a:rPr>
              <a:t>« Если школьник с первого класса подготовлен к тому, что он должен учиться создавать, придумывать, находить оригинальные решения, то формирование личности будет проходить на основе обогащения её интеллектуального профиля…Обучая детей творческому мышлению, мы обогащаем их не только интеллектуально, но и личностно.»  </a:t>
            </a:r>
            <a:br>
              <a:rPr sz="1800"/>
            </a:br>
            <a:r>
              <a:rPr b="0" lang="ru-RU" sz="1800" spc="-1" strike="noStrike" cap="small">
                <a:solidFill>
                  <a:srgbClr val="000000"/>
                </a:solidFill>
                <a:latin typeface="Century Schoolbook"/>
              </a:rPr>
              <a:t>                                                             Р.Дж. Стернберг, Е. Григоренко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100_0235+"/>
          <p:cNvPicPr/>
          <p:nvPr/>
        </p:nvPicPr>
        <p:blipFill>
          <a:blip r:embed="rId1"/>
          <a:stretch/>
        </p:blipFill>
        <p:spPr>
          <a:xfrm>
            <a:off x="2000160" y="2786040"/>
            <a:ext cx="4579560" cy="34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000" spc="-1" strike="noStrike" cap="small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Способности</a:t>
            </a:r>
            <a:endParaRPr b="0" lang="ru-RU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Талант</a:t>
            </a:r>
            <a:endParaRPr b="0" lang="ru-RU" sz="4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Гениальность</a:t>
            </a:r>
            <a:endParaRPr b="0" lang="ru-RU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Проблемы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утствие диагностики выявления одаренных детей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утствие системы поддержки и сопровождения одаренных детей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утствие программы работы с одаренными детьм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утствие методического сопровождения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Противоречия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жду растущими потребностями в талантливых детях и отсутствием системы поиска;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жду специфичностью развития одаренных детей и недостатком психолого-педагогических знаний.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Цель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600200"/>
            <a:ext cx="814356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создать модель работы с одарёнными детьми в начальной школе.</a:t>
            </a:r>
            <a:endParaRPr b="0" lang="ru-RU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12409"/>
          <a:stretch/>
        </p:blipFill>
        <p:spPr>
          <a:xfrm>
            <a:off x="1285920" y="3000240"/>
            <a:ext cx="5714640" cy="33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Задачи</a:t>
            </a: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психолого-педагогическую литературу и выбрать методику выявления одарённых детей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ать программу развития одарённых детей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работать методическое сопровождение одарённых детей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вышать компетентность педагогов в вопросах работы с одарёнными детьми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новить нормативно-правовую базу по работе с одарёнными детьми </a:t>
            </a: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Методы:</a:t>
            </a:r>
            <a:br>
              <a:rPr sz="3000"/>
            </a:b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Теоретический</a:t>
            </a: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Экспериментальный</a:t>
            </a: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Статистический</a:t>
            </a:r>
            <a:endParaRPr b="0" lang="ru-RU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4840" y="2667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Ожидаемые результаты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240" cy="51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еализация творческого потенциала детей 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здание банка данных, включающих сведения о детях с различными типами одарённости; 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азработка и реализация программ поддержки и развития одарённых детей, создание системы взаимодействия с основной школой, родителями учащихся; 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спользование системы диагностик для выявления и отслеживания различных типов одарённости; 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45880" indent="-245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азработка системы подготовки педагогов для целенаправленной работы с детьми; обобщение и систематизация материалов педагогической практики.</a:t>
            </a:r>
            <a:endParaRPr b="0" lang="ru-RU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4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 u="sng" cap="small">
                <a:solidFill>
                  <a:srgbClr val="ff0000"/>
                </a:solidFill>
                <a:uFillTx/>
                <a:latin typeface="Century Schoolbook"/>
              </a:rPr>
              <a:t>Оценка результативности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Group 42"/>
          <p:cNvGraphicFramePr/>
          <p:nvPr/>
        </p:nvGraphicFramePr>
        <p:xfrm>
          <a:off x="457200" y="1481040"/>
          <a:ext cx="8229240" cy="4755240"/>
        </p:xfrm>
        <a:graphic>
          <a:graphicData uri="http://schemas.openxmlformats.org/drawingml/2006/table">
            <a:tbl>
              <a:tblPr/>
              <a:tblGrid>
                <a:gridCol w="874440"/>
                <a:gridCol w="3311280"/>
                <a:gridCol w="4043160"/>
              </a:tblGrid>
              <a:tr h="1131840">
                <a:tc>
                  <a:txBody>
                    <a:bodyPr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 лич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ичие адекватной положительной самооценки, способность к рефлексии, стремление к познанию и проявлению своих возможностей, мотивационная сф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овлетворённость учащихся, родителей , учителей  жизнедеятельностью  одарённых детей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фортность, защищённость личности одарённого школьника, его отношение к основным сторонам жизнедеятельности в школе, удовлетворённость родителей и учител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курентоспособность одарённых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подготовки детей, участие в олимпиадах, конкурсах, социальный опы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944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819</TotalTime>
  <Application>LibreOffice/7.4.7.2$Linux_X86_64 LibreOffice_project/40$Build-2</Application>
  <AppVersion>15.0000</AppVersion>
  <Words>520</Words>
  <Paragraphs>1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15:49:38Z</dcterms:created>
  <dc:creator>р</dc:creator>
  <dc:description/>
  <dc:language>en-US</dc:language>
  <cp:lastModifiedBy>Хрусталёва</cp:lastModifiedBy>
  <dcterms:modified xsi:type="dcterms:W3CDTF">2015-10-23T10:32:41Z</dcterms:modified>
  <cp:revision>63</cp:revision>
  <dc:subject/>
  <dc:title>Педагогический проек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Экран (4:3)</vt:lpwstr>
  </property>
  <property fmtid="{D5CDD505-2E9C-101B-9397-08002B2CF9AE}" pid="4" name="Slides">
    <vt:r8>16</vt:r8>
  </property>
</Properties>
</file>