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5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BD6-BE5A-476C-B264-58018A2F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E76-4CDD-4642-AC6C-3FFE216E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9D94-ACCA-4961-86F9-AFACD8F9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644-A437-44DC-B267-E8506530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F9A4-0C3A-4059-B417-FF7647D2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33DB-59D9-411A-ACAC-E54604DC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876E-54D9-4B09-BEE2-32845248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3820-1A40-4B5A-AFD7-29F4FA25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AE7A-5628-4408-83DA-DAC701E4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977C-2C35-4202-86EF-6570A1A9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917A-3A4C-4082-8400-38ED23DE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5BA-AB93-4C54-9F9E-5F8FB311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380B-243B-4F41-ACD3-F30A8CAD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AAB3-A520-4016-97FB-B21855C5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0234-BA61-4E52-B1B2-24D2643D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B2A8-4FDF-4969-A550-836F765F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0F53-A166-4443-AC28-1E84275D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554-33C2-4F48-8007-70EFA68A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C6F-C997-4407-B6A3-6A751F0A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48A-403B-441B-B2D0-452767EF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CF5-524D-448A-9B69-158DAD9B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49B-54F5-457F-B052-5DE41987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F25-C35E-4DFA-99A1-0B0301A8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8AA-D9C8-4CF2-AB15-85E4F2CC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84E3-2DAC-4D31-92A6-8AC147BD2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9FA4-3612-4802-AB32-3172C33A04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Закрепление девять правил орфографии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Урок-игра в 3 класс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Учитель начальной шко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Павлова Марина Михайл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99cc00"/>
                </a:solidFill>
                <a:latin typeface="Arial"/>
              </a:rPr>
              <a:t>6 испытани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cc00"/>
                </a:solidFill>
                <a:latin typeface="Arial"/>
              </a:rPr>
              <a:t>Ата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букв в алфави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гласных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буквы обозначают два звука, если стоят в начале слова или после гласны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ая часть растения бывает и частью сло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868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cc00"/>
                </a:solidFill>
                <a:latin typeface="Arial"/>
              </a:rPr>
              <a:t>Резерв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писная буква в именах собствен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ряемые безударные гласные в корне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ряемые парные согласные по глухости-звонкости в корне сло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оверяемые гласные и согласные в корне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писание буквосочетаний жи-ши, ча-ща, чу-щу, чк, чн, щ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оизносимые соглас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военные соглас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ительный твердый и мягкий зна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о переноса с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cc"/>
                </a:solidFill>
                <a:latin typeface="Comic Sans MS"/>
              </a:rPr>
              <a:t>Определи падеж выделенного имени существительного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91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ыба - шар обитает в водах Индийского </a:t>
            </a: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океана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берегов морей </a:t>
            </a: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в зарослях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одорослей обитают морские конь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28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Итак, друзья, пришла пора,</a:t>
            </a:r>
            <a:br>
              <a:rPr sz="2800"/>
            </a:b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И я хочу вам пожелать:</a:t>
            </a:r>
            <a:br>
              <a:rPr sz="2800"/>
            </a:b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Всегда с охотою учиться,</a:t>
            </a:r>
            <a:br>
              <a:rPr sz="2800"/>
            </a:b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Всегда с  желанием трудиться,.</a:t>
            </a:r>
            <a:br>
              <a:rPr sz="2800"/>
            </a:b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Никогда не унывать,</a:t>
            </a:r>
            <a:br>
              <a:rPr sz="2800"/>
            </a:b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А  русский  на  «отлично»  знать!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Рисунок 5" descr="290c7de85eafef207e33c3e7613ffd07.gif"/>
          <p:cNvPicPr/>
          <p:nvPr/>
        </p:nvPicPr>
        <p:blipFill>
          <a:blip r:embed="rId1"/>
          <a:stretch/>
        </p:blipFill>
        <p:spPr>
          <a:xfrm>
            <a:off x="1187280" y="3357720"/>
            <a:ext cx="684072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дведение итогов.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cccc"/>
                </a:solidFill>
                <a:latin typeface="Arial"/>
              </a:rPr>
              <a:t>Язык – инструмент,</a:t>
            </a:r>
            <a:br>
              <a:rPr sz="2800"/>
            </a:br>
            <a:r>
              <a:rPr b="1" i="1" lang="ru-RU" sz="2800" spc="-1" strike="noStrike">
                <a:solidFill>
                  <a:srgbClr val="ffcccc"/>
                </a:solidFill>
                <a:latin typeface="Arial"/>
              </a:rPr>
              <a:t>           необходимо хорошо знать его, </a:t>
            </a:r>
            <a:br>
              <a:rPr sz="2800"/>
            </a:br>
            <a:r>
              <a:rPr b="1" i="1" lang="ru-RU" sz="2800" spc="-1" strike="noStrike">
                <a:solidFill>
                  <a:srgbClr val="ffcccc"/>
                </a:solidFill>
                <a:latin typeface="Arial"/>
              </a:rPr>
              <a:t>хорошо им владеть</a:t>
            </a:r>
            <a:r>
              <a:rPr b="1" i="1" lang="ru-RU" sz="2000" spc="-1" strike="noStrike">
                <a:solidFill>
                  <a:srgbClr val="ffcccc"/>
                </a:solidFill>
                <a:latin typeface="Arial"/>
              </a:rPr>
              <a:t>.</a:t>
            </a:r>
            <a:br>
              <a:rPr sz="2000"/>
            </a:br>
            <a:r>
              <a:rPr b="1" i="1" lang="ru-RU" sz="2000" spc="-1" strike="noStrike">
                <a:solidFill>
                  <a:srgbClr val="ffcccc"/>
                </a:solidFill>
                <a:latin typeface="Arial"/>
              </a:rPr>
              <a:t>                                                                         </a:t>
            </a:r>
            <a:r>
              <a:rPr b="1" i="1" lang="ru-RU" sz="2000" spc="-1" strike="noStrike">
                <a:solidFill>
                  <a:srgbClr val="ff99ff"/>
                </a:solidFill>
                <a:latin typeface="Arial"/>
              </a:rPr>
              <a:t>А. М. Горьк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4" descr="MCj04244660000[1]"/>
          <p:cNvPicPr/>
          <p:nvPr/>
        </p:nvPicPr>
        <p:blipFill>
          <a:blip r:embed="rId1"/>
          <a:stretch/>
        </p:blipFill>
        <p:spPr>
          <a:xfrm flipH="1">
            <a:off x="324000" y="4581360"/>
            <a:ext cx="2232000" cy="1872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20[3]"/>
          <p:cNvPicPr/>
          <p:nvPr/>
        </p:nvPicPr>
        <p:blipFill>
          <a:blip r:embed="rId2"/>
          <a:stretch/>
        </p:blipFill>
        <p:spPr>
          <a:xfrm>
            <a:off x="324000" y="1557360"/>
            <a:ext cx="1820880" cy="1862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4244680000[1]"/>
          <p:cNvPicPr/>
          <p:nvPr/>
        </p:nvPicPr>
        <p:blipFill>
          <a:blip r:embed="rId3"/>
          <a:stretch/>
        </p:blipFill>
        <p:spPr>
          <a:xfrm>
            <a:off x="6516720" y="4653000"/>
            <a:ext cx="19810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Девиз уро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пусть острей кипит борьб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льней соревнов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пех решает не судьб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только наши з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cc00"/>
                </a:solidFill>
                <a:latin typeface="Arial"/>
              </a:rPr>
              <a:t>Испытания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миночный «Оборон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ед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тобстр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нес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нное по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5384880" y="1600200"/>
            <a:ext cx="33019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327880" cy="439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ru-RU" sz="9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99cc00"/>
                </a:solidFill>
                <a:latin typeface="Arial"/>
              </a:rPr>
              <a:t>испытание </a:t>
            </a:r>
            <a:br>
              <a:rPr sz="9600"/>
            </a:br>
            <a:r>
              <a:rPr b="0" i="1" lang="ru-RU" sz="5400" spc="-1" strike="noStrike">
                <a:solidFill>
                  <a:srgbClr val="99cc00"/>
                </a:solidFill>
                <a:latin typeface="Arial"/>
              </a:rPr>
              <a:t>Разминочный.</a:t>
            </a:r>
            <a:br>
              <a:rPr sz="8000"/>
            </a:br>
            <a:br>
              <a:rPr sz="80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писать разные слоги.</a:t>
            </a:r>
            <a:br>
              <a:rPr sz="8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7003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ются звуки, состоящие только из голос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ли буква “фэ” в русском алфави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ставится перед союзом 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плю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вратить в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апл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ется часть слова между корнем и окончанием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главные члены предло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проверить безударную гласную в корне сло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гласных звуков в русском язык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cc00"/>
                </a:solidFill>
                <a:latin typeface="Arial"/>
              </a:rPr>
              <a:t>2 испытание</a:t>
            </a:r>
            <a:r>
              <a:rPr b="0" lang="ru-RU" sz="96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cc00"/>
                </a:solidFill>
                <a:latin typeface="Arial"/>
              </a:rPr>
              <a:t>Развед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берите слова из слогов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о   ран   лей   пор   жир   конь   ч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аль    са     ле     си    то    фон   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рол  пор   пас  ки  тер    спа  бо    даш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ус    маль   кол  ап  те  тит   тив    лек   пе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ru-RU" sz="6000" spc="-1" strike="noStrike">
                <a:solidFill>
                  <a:srgbClr val="99cc00"/>
                </a:solidFill>
                <a:latin typeface="Arial"/>
              </a:rPr>
              <a:t>3 испытание</a:t>
            </a:r>
            <a:br>
              <a:rPr sz="6000"/>
            </a:br>
            <a:br>
              <a:rPr sz="6000"/>
            </a:br>
            <a:r>
              <a:rPr b="0" i="1" lang="ru-RU" sz="4800" spc="-1" strike="noStrike">
                <a:solidFill>
                  <a:srgbClr val="99cc00"/>
                </a:solidFill>
                <a:latin typeface="Arial"/>
              </a:rPr>
              <a:t>Донесе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3789000"/>
            <a:ext cx="7786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авить гласные бук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cc00"/>
                </a:solidFill>
                <a:latin typeface="Arial"/>
              </a:rPr>
              <a:t>4 испытание</a:t>
            </a:r>
            <a:r>
              <a:rPr b="0" lang="ru-RU" sz="66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cc00"/>
                </a:solidFill>
                <a:latin typeface="Arial"/>
              </a:rPr>
              <a:t>Артобстре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исать все слова с парными по звонкости-глухости согласными в корне сл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cc00"/>
                </a:solidFill>
                <a:latin typeface="Arial"/>
              </a:rPr>
              <a:t>5 испытание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cc00"/>
                </a:solidFill>
                <a:latin typeface="Arial"/>
              </a:rPr>
              <a:t>Минное пол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исать слова, вставляя пропущенные разделительные Ъ и Ь зна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01:44Z</dcterms:created>
  <dc:creator>Admin</dc:creator>
  <dc:description/>
  <dc:language>en-US</dc:language>
  <cp:lastModifiedBy>Марина Михайловна</cp:lastModifiedBy>
  <dcterms:modified xsi:type="dcterms:W3CDTF">2018-12-17T10:19:31Z</dcterms:modified>
  <cp:revision>17</cp:revision>
  <dc:subject/>
  <dc:title>Турнир  знатоков  русского  языка</dc:title>
</cp:coreProperties>
</file>