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7.wmf" ContentType="image/x-wmf"/>
  <Override PartName="/ppt/media/image5.wmf" ContentType="image/x-wm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4CDE-45EF-461A-8FC7-31EE29F1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9A9-03C3-4DE6-BA7A-0927834E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359-1B47-4CE6-8169-1D5542FE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C6B-03E8-408B-AB0D-B1C653D6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5B55-0483-4C80-9BBF-CF7A9E7B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2CAC-9FD5-4BFC-986D-92556AF9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EBD1-5F8C-4FD3-B845-DEF464E6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D46E-9E16-4EDA-B85E-41355A9A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8183-8FCB-4ED0-807E-01F23C33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49D3-9C87-4467-8C71-4F9043E0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B3FC-01CC-425A-9207-BF05D55A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A5AA-B220-432F-9EEB-3D4B963F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F332-D2DA-4ECD-B267-6A7C0FA0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0441-9FC0-4549-B17F-A2CC2DEC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905C-3BD8-432C-B3A3-D15C9842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82E0-4C31-495A-9BB7-AB8DF4B5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45FD-EFE9-4CF7-B662-9B0C6F4B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FE5-A0EE-469B-8988-44832C13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D1F2-77AC-4A0B-AD6C-014F6408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B915-A62B-4970-BF85-6D34EF24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4AE1-F17D-4A50-AA1A-4C09E97D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83D-20ED-4904-A2CE-3BA9A668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F5D3-7622-4AAA-B62A-5B03C249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526C-F8F1-4C46-BCF0-359852B3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E570-47ED-460D-BFE9-6EDD26FF4A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F447-7DE5-4E8D-8BE0-FB4EFE0F596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192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Закрепление девять правил орфографии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Урок-игра в 3 класс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Учитель начальной шко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Павлова Марина Михайл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99cc00"/>
                </a:solidFill>
                <a:latin typeface="Arial"/>
              </a:rPr>
              <a:t>6 испытание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99cc00"/>
                </a:solidFill>
                <a:latin typeface="Arial"/>
              </a:rPr>
              <a:t>Ата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 букв в алфави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 гласных звуков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буквы обозначают два звука, если стоят в начале слова или после гласны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ая часть растения бывает и частью сло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868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99cc00"/>
                </a:solidFill>
                <a:latin typeface="Arial"/>
              </a:rPr>
              <a:t>Резерв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писная буква в именах собствен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ряемые безударные гласные в корне сл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ряемые парные согласные по глухости-звонкости в корне сло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проверяемые гласные и согласные в корне сл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писание буквосочетаний жи-ши, ча-ща, чу-щу, чк, чн, щ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произносимые соглас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военные соглас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делительный твердый и мягкий зна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ило переноса с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cc"/>
                </a:solidFill>
                <a:latin typeface="Comic Sans MS"/>
              </a:rPr>
              <a:t>Определи падеж выделенного имени существительного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391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ыба - шар обитает в водах Индийского </a:t>
            </a: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океана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 берегов морей </a:t>
            </a:r>
            <a:r>
              <a:rPr b="0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в зарослях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одорослей обитают морские конь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286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Итак, друзья, пришла пора,</a:t>
            </a:r>
            <a:br>
              <a:rPr sz="2800"/>
            </a:b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И я хочу вам пожелать:</a:t>
            </a:r>
            <a:br>
              <a:rPr sz="2800"/>
            </a:b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Всегда с охотою учиться,</a:t>
            </a:r>
            <a:br>
              <a:rPr sz="2800"/>
            </a:b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Всегда с  желанием трудиться,.</a:t>
            </a:r>
            <a:br>
              <a:rPr sz="2800"/>
            </a:b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Никогда не унывать,</a:t>
            </a:r>
            <a:br>
              <a:rPr sz="2800"/>
            </a:b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А  русский  на  «отлично»  знать!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Рисунок 5" descr="290c7de85eafef207e33c3e7613ffd07.gif"/>
          <p:cNvPicPr/>
          <p:nvPr/>
        </p:nvPicPr>
        <p:blipFill>
          <a:blip r:embed="rId1"/>
          <a:stretch/>
        </p:blipFill>
        <p:spPr>
          <a:xfrm>
            <a:off x="1187280" y="3357720"/>
            <a:ext cx="684072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дведение итогов.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cccc"/>
                </a:solidFill>
                <a:latin typeface="Arial"/>
              </a:rPr>
              <a:t>Язык – инструмент,</a:t>
            </a:r>
            <a:br>
              <a:rPr sz="2800"/>
            </a:br>
            <a:r>
              <a:rPr b="1" i="1" lang="ru-RU" sz="2800" spc="-1" strike="noStrike">
                <a:solidFill>
                  <a:srgbClr val="ffcccc"/>
                </a:solidFill>
                <a:latin typeface="Arial"/>
              </a:rPr>
              <a:t>           необходимо хорошо знать его, </a:t>
            </a:r>
            <a:br>
              <a:rPr sz="2800"/>
            </a:br>
            <a:r>
              <a:rPr b="1" i="1" lang="ru-RU" sz="2800" spc="-1" strike="noStrike">
                <a:solidFill>
                  <a:srgbClr val="ffcccc"/>
                </a:solidFill>
                <a:latin typeface="Arial"/>
              </a:rPr>
              <a:t>хорошо им владеть</a:t>
            </a:r>
            <a:r>
              <a:rPr b="1" i="1" lang="ru-RU" sz="2000" spc="-1" strike="noStrike">
                <a:solidFill>
                  <a:srgbClr val="ffcccc"/>
                </a:solidFill>
                <a:latin typeface="Arial"/>
              </a:rPr>
              <a:t>.</a:t>
            </a:r>
            <a:br>
              <a:rPr sz="2000"/>
            </a:br>
            <a:r>
              <a:rPr b="1" i="1" lang="ru-RU" sz="2000" spc="-1" strike="noStrike">
                <a:solidFill>
                  <a:srgbClr val="ffcccc"/>
                </a:solidFill>
                <a:latin typeface="Arial"/>
              </a:rPr>
              <a:t>                                                                         </a:t>
            </a:r>
            <a:r>
              <a:rPr b="1" i="1" lang="ru-RU" sz="2000" spc="-1" strike="noStrike">
                <a:solidFill>
                  <a:srgbClr val="ff99ff"/>
                </a:solidFill>
                <a:latin typeface="Arial"/>
              </a:rPr>
              <a:t>А. М. Горьки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Picture 4" descr="MCj04244660000[1]"/>
          <p:cNvPicPr/>
          <p:nvPr/>
        </p:nvPicPr>
        <p:blipFill>
          <a:blip r:embed="rId1"/>
          <a:stretch/>
        </p:blipFill>
        <p:spPr>
          <a:xfrm flipH="1">
            <a:off x="324000" y="4581360"/>
            <a:ext cx="2232000" cy="1872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20[3]"/>
          <p:cNvPicPr/>
          <p:nvPr/>
        </p:nvPicPr>
        <p:blipFill>
          <a:blip r:embed="rId2"/>
          <a:stretch/>
        </p:blipFill>
        <p:spPr>
          <a:xfrm>
            <a:off x="324000" y="1557360"/>
            <a:ext cx="1820880" cy="1862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4244680000[1]"/>
          <p:cNvPicPr/>
          <p:nvPr/>
        </p:nvPicPr>
        <p:blipFill>
          <a:blip r:embed="rId3"/>
          <a:stretch/>
        </p:blipFill>
        <p:spPr>
          <a:xfrm>
            <a:off x="6516720" y="4653000"/>
            <a:ext cx="19810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Девиз урок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пусть острей кипит борьб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льней соревнова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пех решает не судьб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только наши зн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cc00"/>
                </a:solidFill>
                <a:latin typeface="Arial"/>
              </a:rPr>
              <a:t>Испытания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миночный «Оборон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ед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тобстр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нес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нное по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5384880" y="1600200"/>
            <a:ext cx="33019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327880" cy="439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0" lang="ru-RU" sz="9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99cc00"/>
                </a:solidFill>
                <a:latin typeface="Arial"/>
              </a:rPr>
              <a:t>испытание </a:t>
            </a:r>
            <a:br>
              <a:rPr sz="9600"/>
            </a:br>
            <a:r>
              <a:rPr b="0" i="1" lang="ru-RU" sz="5400" spc="-1" strike="noStrike">
                <a:solidFill>
                  <a:srgbClr val="99cc00"/>
                </a:solidFill>
                <a:latin typeface="Arial"/>
              </a:rPr>
              <a:t>Разминочный.</a:t>
            </a:r>
            <a:br>
              <a:rPr sz="8000"/>
            </a:br>
            <a:br>
              <a:rPr sz="80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иписать разные слоги.</a:t>
            </a:r>
            <a:br>
              <a:rPr sz="8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270036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называются звуки, состоящие только из голос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ь ли буква “фэ” в русском алфавит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ставится перед союзом 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плю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вратить в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цапл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называется часть слова между корнем и окончанием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главные члены предло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проверить безударную гласную в корне сло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 гласных звуков в русском языке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cc00"/>
                </a:solidFill>
                <a:latin typeface="Arial"/>
              </a:rPr>
              <a:t>2 испытание</a:t>
            </a:r>
            <a:r>
              <a:rPr b="0" lang="ru-RU" sz="96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99cc00"/>
                </a:solidFill>
                <a:latin typeface="Arial"/>
              </a:rPr>
              <a:t>Развед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берите слова из слогов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о   ран   лей   пор   жир   конь   ч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аль    са     ле     си    то    фон   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рол  пор   пас  ки  тер    спа  бо    даш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ус    маль   кол  ап  те  тит   тив    лек   пе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ru-RU" sz="6000" spc="-1" strike="noStrike">
                <a:solidFill>
                  <a:srgbClr val="99cc00"/>
                </a:solidFill>
                <a:latin typeface="Arial"/>
              </a:rPr>
              <a:t>3 испытание</a:t>
            </a:r>
            <a:br>
              <a:rPr sz="6000"/>
            </a:br>
            <a:br>
              <a:rPr sz="6000"/>
            </a:br>
            <a:r>
              <a:rPr b="0" i="1" lang="ru-RU" sz="4800" spc="-1" strike="noStrike">
                <a:solidFill>
                  <a:srgbClr val="99cc00"/>
                </a:solidFill>
                <a:latin typeface="Arial"/>
              </a:rPr>
              <a:t>Донесе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3789000"/>
            <a:ext cx="77868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тавить гласные бук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cc00"/>
                </a:solidFill>
                <a:latin typeface="Arial"/>
              </a:rPr>
              <a:t>4 испытание</a:t>
            </a:r>
            <a:r>
              <a:rPr b="0" lang="ru-RU" sz="66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99cc00"/>
                </a:solidFill>
                <a:latin typeface="Arial"/>
              </a:rPr>
              <a:t>Артобстре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исать все слова с парными по звонкости-глухости согласными в корне сл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99cc00"/>
                </a:solidFill>
                <a:latin typeface="Arial"/>
              </a:rPr>
              <a:t>5 испытание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99cc00"/>
                </a:solidFill>
                <a:latin typeface="Arial"/>
              </a:rPr>
              <a:t>Минное пол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исать слова, вставляя пропущенные разделительные Ъ и Ь зна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01:44Z</dcterms:created>
  <dc:creator>Admin</dc:creator>
  <dc:description/>
  <dc:language>en-US</dc:language>
  <cp:lastModifiedBy>Марина Михайловна</cp:lastModifiedBy>
  <dcterms:modified xsi:type="dcterms:W3CDTF">2018-12-17T10:19:31Z</dcterms:modified>
  <cp:revision>17</cp:revision>
  <dc:subject/>
  <dc:title>Турнир  знатоков  русского  языка</dc:title>
</cp:coreProperties>
</file>