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1F15-A051-4811-A277-951587FCF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570F-1174-4A23-82BE-1574467F5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5565-D25E-4919-BF90-F0D51715A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0287-104F-4B9C-895B-927B7B780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2997-7F1C-4BE7-8630-6E3A3FB26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0822-90E3-4356-BC7A-B719D1D53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3160-4179-4215-975E-36240C2C3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09BF-BE97-4A1B-BF96-96863A120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9589-D6DC-4E9B-BD47-511DB1F74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D163-81D4-4A3E-A95A-58333272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6A68-ACBA-43C5-84DC-E6A1E811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FF25-1696-448A-AD97-897BB988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5FE64-7FF3-4234-9DA6-D355D81092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4225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иды изображений поверхности Зем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ороны горизонта: С- север, Ю- ю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- восток, З – запа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4225b"/>
          <p:cNvPicPr/>
          <p:nvPr/>
        </p:nvPicPr>
        <p:blipFill>
          <a:blip r:embed="rId1"/>
          <a:stretch/>
        </p:blipFill>
        <p:spPr>
          <a:xfrm>
            <a:off x="3995640" y="2637000"/>
            <a:ext cx="47815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6560" y="45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риентир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ение определять свое местоположение относительно сторон горизонта и отдельных объек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особы ориентирования: с помощью приборов ( компаса), по звездам, местным признак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стные призна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4225_c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4225_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4225_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4225_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4225_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09T13:38:22Z</dcterms:created>
  <dc:creator>User</dc:creator>
  <dc:description/>
  <dc:language>en-US</dc:language>
  <cp:lastModifiedBy>ADMIN</cp:lastModifiedBy>
  <dcterms:modified xsi:type="dcterms:W3CDTF">2018-12-17T09:41:45Z</dcterms:modified>
  <cp:revision>3</cp:revision>
  <dc:subject/>
  <dc:title>Слайд 1</dc:title>
</cp:coreProperties>
</file>