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A24-5D7F-4E73-9A2A-37EF08CE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9DD-7680-4E7F-8490-9813CABD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936-21CD-478E-B9F5-69B35530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D48-567B-4B37-8161-8A7A1D6A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74E-2257-4891-B3AC-E4E3FCC7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A54-672C-45FC-ABF1-1E6140D1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38FD-393A-40D7-A6D5-1FB03B20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AF7-B173-474B-BA15-7F0EB329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A60-13EC-4AF6-9613-C31E5F2C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F2B-4F64-4EC7-832E-476A55E4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9F5-6B2E-422B-BAFB-407CEE72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327-1828-469C-84A6-BFD40E2B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81D9-67C9-4CAC-9674-36CEA7C0F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422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изображений поверхности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роны горизонта: С- север, Ю- ю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- восток, З – за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4225b"/>
          <p:cNvPicPr/>
          <p:nvPr/>
        </p:nvPicPr>
        <p:blipFill>
          <a:blip r:embed="rId1"/>
          <a:stretch/>
        </p:blipFill>
        <p:spPr>
          <a:xfrm>
            <a:off x="3995640" y="2637000"/>
            <a:ext cx="4781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560" y="45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иент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определять свое местоположение относительно сторон горизонта и отдельн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ы ориентирования: с помощью приборов ( компаса), по звездам, местным призна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ные призна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4225_c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4225_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4225_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4225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4225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9T13:38:22Z</dcterms:created>
  <dc:creator>User</dc:creator>
  <dc:description/>
  <dc:language>en-US</dc:language>
  <cp:lastModifiedBy>ADMIN</cp:lastModifiedBy>
  <dcterms:modified xsi:type="dcterms:W3CDTF">2018-12-17T09:41:45Z</dcterms:modified>
  <cp:revision>3</cp:revision>
  <dc:subject/>
  <dc:title>Слайд 1</dc:title>
</cp:coreProperties>
</file>