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455E-50A7-4A51-B70B-20D62415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11A6-C770-4599-8FE9-ADA5ECB4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E22-CF32-4B64-8560-12FEA878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EF19-B707-47CA-984C-959044CB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A5AE-EEB7-42FC-96DE-8AD382B7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C019-814B-4996-89CE-41809993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FEFE-9695-4B87-9EA5-24AA9B8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6A2E-D2AA-4BB6-881D-12700C3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9149-BA7E-4BEB-B722-E63759B9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76FD-5720-4A78-86F2-D6CBB19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DDC-22AD-424F-834D-1D86DEC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D52-8825-42AA-9463-380B7B74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0D05-ADFA-45CE-94E8-A92CD83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297B-D665-4D1F-8A5D-DA065050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BC8A-AA36-4962-9AA5-F6118736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446C-30A0-4EB9-9598-E17CE253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EB08-54B7-458D-BA3A-D7462E10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5CA-B42E-4AC6-9A3D-77D611EA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5D6-333A-41BF-8A5E-E40554EB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0AC9-27E6-4CBA-B3A2-FA47F29C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CDA-4EBB-4253-A379-3504EB3E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0E4E-47CA-4296-95CA-46E1BA14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7A3-685E-44CC-B334-B5C81CDA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56C-22E0-40BE-B633-A01AD2BB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F265-B0CF-48C5-A84E-FA32F0D07E0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6" name="Object 15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4BA6-ECAE-4E57-A4A1-B945B3D0E357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226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920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66ccff"/>
                </a:solidFill>
                <a:latin typeface="Verdana"/>
              </a:rPr>
              <a:t>ГБДОУ детский сад № 121 комбинированного вида Выборгского района С-Петербурга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3600"/>
            </a:b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Особенности коррекционной работы воспитателей в группе  </a:t>
            </a:r>
            <a:br>
              <a:rPr sz="2400"/>
            </a:br>
            <a:r>
              <a:rPr b="1" lang="ru-RU" sz="2400" spc="-1" strike="noStrike">
                <a:solidFill>
                  <a:srgbClr val="66ccff"/>
                </a:solidFill>
                <a:latin typeface="Verdana"/>
              </a:rPr>
              <a:t>для  детей  с задержкой психического развития. Взаимосвязь со специалистами.</a:t>
            </a:r>
            <a:br>
              <a:rPr sz="2400"/>
            </a:br>
            <a:br>
              <a:rPr sz="2400"/>
            </a:br>
            <a:br>
              <a:rPr sz="3600"/>
            </a:br>
            <a:br>
              <a:rPr sz="3600"/>
            </a:b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Подготовила:</a:t>
            </a:r>
            <a:br>
              <a:rPr sz="1800"/>
            </a:b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учитель-дефектолог</a:t>
            </a:r>
            <a:br>
              <a:rPr sz="1800"/>
            </a:br>
            <a:r>
              <a:rPr b="1" lang="ru-RU" sz="1800" spc="-1" strike="noStrike">
                <a:solidFill>
                  <a:srgbClr val="66ccff"/>
                </a:solidFill>
                <a:latin typeface="Verdana"/>
              </a:rPr>
              <a:t>Богданова Л.И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ccff"/>
                </a:solidFill>
                <a:latin typeface="Verdana"/>
              </a:rPr>
              <a:t>.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43280" y="980640"/>
            <a:ext cx="5976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78920" y="981000"/>
            <a:ext cx="2592360" cy="100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Утренний отрезок времени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роведение режимных моментов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66cc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ведение индивидуальной работы с детьми по рекомендациям специалистов и по плану работы воспитателей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Непосредственная организованная деятельность: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Наиболее эффективна подгрупповая форма работы.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итель-дефектолог и воспитатель работают с подгруппами параллельно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Задачи коррекционного дошкольного обучения в основном совпадают с задачами дошкольного воспитания и обучения детей в норме, но содержание каждого раздела программы является специфическим. Поэтому не следует автоматически переносить в занятия с детьми с ЗПР содержание программы общеобразовательной группы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1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3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84000" y="980640"/>
            <a:ext cx="6551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79280" y="980640"/>
            <a:ext cx="2160720" cy="8636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85672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Время перед прогулкой: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Организованная воспитателем сюжетно-ролевая игра, в которой воспитатель активный участник, а не наблюдатель! Воспитатель должен руководить игрой постоянно!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Занятия детей по интересам (чтобы ребенок мог воспользоваться предоставленными ему играми и игрушками, он должен быть обучен играть с ними, уметь взаимодействовать с товарищами, руководствоваться правилами и подчиняться им)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Процесс одевания на прогулку и раздевания после прогулки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сопровождается заданным алгоритмом. Сначала детей учат по инструкции воспитателя синхронно одеваться (раздеваться), проговаривая последовательность действий, затем действовать самостоятельно, сохраняя алгоритм. Необходимо применять зрительные опоры (картинки, условные картинки, расположенные последовательно в ряд)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6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2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25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25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25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40000" y="980640"/>
            <a:ext cx="66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78920" y="980640"/>
            <a:ext cx="2089080" cy="1079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7138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Прогулка: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Решение оздоровительных задач (за счет специально продуманных упражнений и игр, двигательной активности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Решение коррекционных задач (за счет целенаправленного организованного наблюдения за явлениями природы, животными, птицами, растениями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роведение игр с правилами, дидактических игр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Время после прогулки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Дети готовятся к обед, обедают, а затем организуется дневной сон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Решение задач социально-нравственного развития и выработка правильных гигиенических навыков и навыков самообслуживания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Желательно, чтобы в обучении детей принимали участие все взрослые,  работающие в группе, это дает возможность индивидуально подходить к каждому ребенку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1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Нижний колонтитул 5"/>
          <p:cNvSpPr/>
          <p:nvPr/>
        </p:nvSpPr>
        <p:spPr>
          <a:xfrm>
            <a:off x="6875640" y="686916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916000" y="980640"/>
            <a:ext cx="611964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рганизация жизни и деятельности  воспитателя с  детьми с ЗПР в групп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78920" y="907560"/>
            <a:ext cx="2521080" cy="10810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640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Дненой сон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чень важен для детей с ЗПР. После занятий и прогулки некоторые дети (особенно дети церебрально-органического генеза) истощаются, другие перевозбуждаются, они долго не могут уснуть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роцедура укладывания должна быть хорошо продумана: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 можно предложить детям послушать записи звуков леса 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или небольшие фрагменты специально подобранных художественных произведений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Verdana"/>
              </a:rPr>
              <a:t>Подъем детей также имеет специфические особенности.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(особенно в период адаптации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едагогам следует обеспечить плавный выход детей из сна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целесообразно включить негромко спокойную музыку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обеседовать с детьми об их снах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- провести «гимнастику пробуждения»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Далее распорядок дня строится следующим образом: игры, полдник, занятие (если оно предусмотрено сеткой занятий), «коррекционный час», вечерняя прогулка.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6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cc"/>
                  </a:solidFill>
                  <a:miter/>
                </a:ln>
                <a:solidFill>
                  <a:srgbClr val="fdfd87"/>
                </a:soli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1800" spc="1" strike="noStrike">
              <a:ln w="19080">
                <a:solidFill>
                  <a:srgbClr val="ffcccc"/>
                </a:solidFill>
                <a:miter/>
              </a:ln>
              <a:solidFill>
                <a:srgbClr val="fdfd87"/>
              </a:soli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in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fd87"/>
                </a:solidFill>
                <a:latin typeface="Arial"/>
              </a:rPr>
              <a:t>Классификация детей с задержкой психического развития по К.С.Лебединс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0880" y="1052640"/>
            <a:ext cx="6062760" cy="5805360"/>
          </a:xfrm>
          <a:prstGeom prst="rightArrow">
            <a:avLst>
              <a:gd name="adj1" fmla="val 79306"/>
              <a:gd name="adj2" fmla="val 25867"/>
            </a:avLst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55640" y="1773360"/>
            <a:ext cx="4025880" cy="115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755640" y="3068640"/>
            <a:ext cx="4032360" cy="86508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684360" y="4076640"/>
            <a:ext cx="4032000" cy="792360"/>
          </a:xfrm>
          <a:prstGeom prst="roundRect">
            <a:avLst>
              <a:gd name="adj" fmla="val 9106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генного происхождения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6443640" y="3284640"/>
            <a:ext cx="2514600" cy="1295280"/>
          </a:xfrm>
          <a:prstGeom prst="roundRect">
            <a:avLst>
              <a:gd name="adj" fmla="val 9106"/>
            </a:avLst>
          </a:prstGeom>
          <a:noFill/>
          <a:ln w="255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dfd87"/>
                </a:solidFill>
                <a:latin typeface="Arial"/>
              </a:rPr>
              <a:t>Группы детей с ЗП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684360" y="5013360"/>
            <a:ext cx="4103640" cy="1008000"/>
          </a:xfrm>
          <a:prstGeom prst="roundRect">
            <a:avLst>
              <a:gd name="adj" fmla="val 9106"/>
            </a:avLst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ПР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ребрально-органического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2268360" y="0"/>
            <a:ext cx="6695280" cy="6668640"/>
            <a:chOff x="2268360" y="0"/>
            <a:chExt cx="6695280" cy="6668640"/>
          </a:xfrm>
        </p:grpSpPr>
        <p:sp>
          <p:nvSpPr>
            <p:cNvPr id="177" name="AutoShape 5"/>
            <p:cNvSpPr/>
            <p:nvPr/>
          </p:nvSpPr>
          <p:spPr>
            <a:xfrm>
              <a:off x="2268360" y="508320"/>
              <a:ext cx="6675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2371320" y="522000"/>
              <a:ext cx="647424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AutoShape 7"/>
            <p:cNvSpPr/>
            <p:nvPr/>
          </p:nvSpPr>
          <p:spPr>
            <a:xfrm>
              <a:off x="2424960" y="3931920"/>
              <a:ext cx="638676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AutoShape 8"/>
            <p:cNvSpPr/>
            <p:nvPr/>
          </p:nvSpPr>
          <p:spPr>
            <a:xfrm>
              <a:off x="2424960" y="558360"/>
              <a:ext cx="638676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AutoShape 9"/>
            <p:cNvSpPr/>
            <p:nvPr/>
          </p:nvSpPr>
          <p:spPr>
            <a:xfrm>
              <a:off x="2288160" y="5230800"/>
              <a:ext cx="6675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2" name="AutoShape 10"/>
            <p:cNvSpPr/>
            <p:nvPr/>
          </p:nvSpPr>
          <p:spPr>
            <a:xfrm>
              <a:off x="2424960" y="5270040"/>
              <a:ext cx="638676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ичины: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следственность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гноз: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воевременного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регулярного педагогического воздействия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83" name="Group 11"/>
            <p:cNvGrpSpPr/>
            <p:nvPr/>
          </p:nvGrpSpPr>
          <p:grpSpPr>
            <a:xfrm>
              <a:off x="4565160" y="0"/>
              <a:ext cx="1983240" cy="1062000"/>
              <a:chOff x="4565160" y="0"/>
              <a:chExt cx="1983240" cy="1062000"/>
            </a:xfrm>
          </p:grpSpPr>
          <p:sp>
            <p:nvSpPr>
              <p:cNvPr id="184" name="Oval 12"/>
              <p:cNvSpPr/>
              <p:nvPr/>
            </p:nvSpPr>
            <p:spPr>
              <a:xfrm>
                <a:off x="4565160" y="0"/>
                <a:ext cx="198324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5" name="Oval 13"/>
              <p:cNvSpPr/>
              <p:nvPr/>
            </p:nvSpPr>
            <p:spPr>
              <a:xfrm>
                <a:off x="4585680" y="8280"/>
                <a:ext cx="191772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6" name="Oval 14"/>
              <p:cNvSpPr/>
              <p:nvPr/>
            </p:nvSpPr>
            <p:spPr>
              <a:xfrm>
                <a:off x="4609440" y="14400"/>
                <a:ext cx="187344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Oval 15"/>
              <p:cNvSpPr/>
              <p:nvPr/>
            </p:nvSpPr>
            <p:spPr>
              <a:xfrm>
                <a:off x="4630320" y="24120"/>
                <a:ext cx="17812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8" name="Oval 16"/>
              <p:cNvSpPr/>
              <p:nvPr/>
            </p:nvSpPr>
            <p:spPr>
              <a:xfrm>
                <a:off x="4734000" y="49320"/>
                <a:ext cx="1582560" cy="7614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9" name="Text Box 17"/>
            <p:cNvSpPr/>
            <p:nvPr/>
          </p:nvSpPr>
          <p:spPr>
            <a:xfrm>
              <a:off x="536256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2503800" y="1259280"/>
              <a:ext cx="6347880" cy="4235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 конституциональ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психический и психофизический инфантилизм по классификации М.С.Певзнер и Т.А.Власовой)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Выделяется два варианта: гармонический и дисгармонический.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Дисгармонический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относят к патологическим вариантам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с </a:t>
              </a: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гармоническим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фантилизмом по психическим и физическим особенностям отстают от своих сверстников на полтора-два года.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Для них характерны: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епосредственность, повышенная жизнерадостность, «сенсорная жадность», неутомимость в игр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 выполнении учебных заданий, умственном напряжении, у ребенка быстро наступает утомление;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усваивают учебный материал поверхностно, навыки носят неустойчивый характер. У детей преобладают игровые интересы, быстрая пресыщаемость и стремление делать только то, что нравится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тсутствие чувства ответственности и стойких привязанностей, снижение  критичности к себе негативно сказывается на взаимоотношениях ребенка со сверстниками, родными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4"/>
          <p:cNvGrpSpPr/>
          <p:nvPr/>
        </p:nvGrpSpPr>
        <p:grpSpPr>
          <a:xfrm>
            <a:off x="250920" y="0"/>
            <a:ext cx="6696360" cy="6857640"/>
            <a:chOff x="250920" y="0"/>
            <a:chExt cx="6696360" cy="6857640"/>
          </a:xfrm>
        </p:grpSpPr>
        <p:sp>
          <p:nvSpPr>
            <p:cNvPr id="192" name="AutoShape 5"/>
            <p:cNvSpPr/>
            <p:nvPr/>
          </p:nvSpPr>
          <p:spPr>
            <a:xfrm>
              <a:off x="250920" y="522720"/>
              <a:ext cx="6676560" cy="485604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53880" y="536760"/>
              <a:ext cx="6475320" cy="4763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4" name="AutoShape 7"/>
            <p:cNvSpPr/>
            <p:nvPr/>
          </p:nvSpPr>
          <p:spPr>
            <a:xfrm>
              <a:off x="407520" y="4043520"/>
              <a:ext cx="6387840" cy="12056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AutoShape 8"/>
            <p:cNvSpPr/>
            <p:nvPr/>
          </p:nvSpPr>
          <p:spPr>
            <a:xfrm>
              <a:off x="407520" y="574200"/>
              <a:ext cx="6387840" cy="1203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AutoShape 9"/>
            <p:cNvSpPr/>
            <p:nvPr/>
          </p:nvSpPr>
          <p:spPr>
            <a:xfrm>
              <a:off x="270720" y="5379120"/>
              <a:ext cx="6676560" cy="14785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407520" y="5419440"/>
              <a:ext cx="6387840" cy="131400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ительная соматическая недостаточность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зличного происхождения: хронические инфекции, аллергические состояния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рожденные и приобретенные пороки развития внутренних органов (сердце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чки, легкие и др.)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строгого соблюдения режима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лечения, охраны и укреплении здоровья ребенка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2548080" y="0"/>
              <a:ext cx="1983600" cy="1091880"/>
              <a:chOff x="2548080" y="0"/>
              <a:chExt cx="1983600" cy="1091880"/>
            </a:xfrm>
          </p:grpSpPr>
          <p:sp>
            <p:nvSpPr>
              <p:cNvPr id="199" name="Oval 12"/>
              <p:cNvSpPr/>
              <p:nvPr/>
            </p:nvSpPr>
            <p:spPr>
              <a:xfrm>
                <a:off x="2548080" y="0"/>
                <a:ext cx="1983600" cy="109188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0" name="Oval 13"/>
              <p:cNvSpPr/>
              <p:nvPr/>
            </p:nvSpPr>
            <p:spPr>
              <a:xfrm>
                <a:off x="2568600" y="8280"/>
                <a:ext cx="1918080" cy="1057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1" name="Oval 14"/>
              <p:cNvSpPr/>
              <p:nvPr/>
            </p:nvSpPr>
            <p:spPr>
              <a:xfrm>
                <a:off x="2592360" y="14760"/>
                <a:ext cx="1873800" cy="103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2" name="Oval 15"/>
              <p:cNvSpPr/>
              <p:nvPr/>
            </p:nvSpPr>
            <p:spPr>
              <a:xfrm>
                <a:off x="2613240" y="24840"/>
                <a:ext cx="1781640" cy="9626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03" name="Oval 16"/>
              <p:cNvSpPr/>
              <p:nvPr/>
            </p:nvSpPr>
            <p:spPr>
              <a:xfrm>
                <a:off x="2716920" y="50760"/>
                <a:ext cx="1582920" cy="78300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04" name="Text Box 17"/>
            <p:cNvSpPr/>
            <p:nvPr/>
          </p:nvSpPr>
          <p:spPr>
            <a:xfrm>
              <a:off x="3342960" y="15660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486360" y="1294920"/>
              <a:ext cx="6348960" cy="3839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матогенного происхожден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сомато» – тело.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 замедлению темпа психического развития приводит стойкая </a:t>
              </a: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астения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, болезненное состояние, которое характеризуется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овышенной утомляемостью, истощаемостью, неспособностью к длительному умственному и физическому напряжению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ллектуальная недостаточность проявляется в снижении памяти, концентрации внимания,  в замедлении темпа мыслительной деятельн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моциональные нарушения выражаются в повышенной раздражительности, обидчивости, плаксивости;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 плохо переносят жару, шум, яркий свет; жалуются на головные боли и усталость; у них нарушается сон и аппетит, к концу учебных занятий резко падает работоспособность.  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2627280" y="0"/>
            <a:ext cx="6191640" cy="6741360"/>
            <a:chOff x="2627280" y="0"/>
            <a:chExt cx="6191640" cy="6741360"/>
          </a:xfrm>
        </p:grpSpPr>
        <p:sp>
          <p:nvSpPr>
            <p:cNvPr id="207" name="AutoShape 5"/>
            <p:cNvSpPr/>
            <p:nvPr/>
          </p:nvSpPr>
          <p:spPr>
            <a:xfrm>
              <a:off x="2627280" y="514080"/>
              <a:ext cx="6173280" cy="477396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2722680" y="527760"/>
              <a:ext cx="5987520" cy="468288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7"/>
            <p:cNvSpPr/>
            <p:nvPr/>
          </p:nvSpPr>
          <p:spPr>
            <a:xfrm>
              <a:off x="2772000" y="3975120"/>
              <a:ext cx="5906160" cy="11851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>
              <a:off x="2772000" y="564480"/>
              <a:ext cx="5906160" cy="11829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2645640" y="5288040"/>
              <a:ext cx="6173280" cy="145332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2772000" y="5327640"/>
              <a:ext cx="5906160" cy="129168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ичины: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еблагоприятные условия воспитания: несогласованность и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тиворечивое влияние семьи и образовательных учреждений,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фликтная обстановка в семье, безнадзорность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рогноз: успешный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и условии коррекционно-воспитательной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ы с ребенком и с семьей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13" name="Group 11"/>
            <p:cNvGrpSpPr/>
            <p:nvPr/>
          </p:nvGrpSpPr>
          <p:grpSpPr>
            <a:xfrm>
              <a:off x="4751280" y="0"/>
              <a:ext cx="1834200" cy="1073520"/>
              <a:chOff x="4751280" y="0"/>
              <a:chExt cx="1834200" cy="1073520"/>
            </a:xfrm>
          </p:grpSpPr>
          <p:sp>
            <p:nvSpPr>
              <p:cNvPr id="214" name="Oval 12"/>
              <p:cNvSpPr/>
              <p:nvPr/>
            </p:nvSpPr>
            <p:spPr>
              <a:xfrm>
                <a:off x="4751280" y="0"/>
                <a:ext cx="1834200" cy="107352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5" name="Oval 13"/>
              <p:cNvSpPr/>
              <p:nvPr/>
            </p:nvSpPr>
            <p:spPr>
              <a:xfrm>
                <a:off x="4770360" y="8280"/>
                <a:ext cx="1773720" cy="103968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6" name="Oval 14"/>
              <p:cNvSpPr/>
              <p:nvPr/>
            </p:nvSpPr>
            <p:spPr>
              <a:xfrm>
                <a:off x="4792320" y="14400"/>
                <a:ext cx="1732680" cy="1014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7" name="Oval 15"/>
              <p:cNvSpPr/>
              <p:nvPr/>
            </p:nvSpPr>
            <p:spPr>
              <a:xfrm>
                <a:off x="4811400" y="24120"/>
                <a:ext cx="1647360" cy="94644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18" name="Oval 16"/>
              <p:cNvSpPr/>
              <p:nvPr/>
            </p:nvSpPr>
            <p:spPr>
              <a:xfrm>
                <a:off x="4907520" y="49680"/>
                <a:ext cx="1463760" cy="769680"/>
              </a:xfrm>
              <a:prstGeom prst="ellipse">
                <a:avLst/>
              </a:prstGeom>
              <a:solidFill>
                <a:srgbClr val="c4791e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19" name="Text Box 17"/>
            <p:cNvSpPr/>
            <p:nvPr/>
          </p:nvSpPr>
          <p:spPr>
            <a:xfrm>
              <a:off x="5475600" y="15372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Text Box 18"/>
            <p:cNvSpPr/>
            <p:nvPr/>
          </p:nvSpPr>
          <p:spPr>
            <a:xfrm>
              <a:off x="2844720" y="1272960"/>
              <a:ext cx="5870520" cy="3380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сихогенн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Трудности в формировании учебно-познавательной деятельности и нарушения  поведении проявляется в отсутствии любознательности, усидчивости, трудолюбии, заинтересованности в успешном выполнении заданий, чувства долга и ответственности.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цесс формирования психики определяется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социальной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ситуацией развития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условиях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гиперопеки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и при </a:t>
              </a: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психотравмирующих условиях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воспитания проявления личностной незрелости сочетаются с агрессивно-защитными или пассивно-защитными реакциями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 детей отмечаются: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) черты патологической незрелости эмоционально-волевой сферы: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аффективная лабильность, импульсивность, повышенная внушаемость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) недостаточный уровень знаний, умений и</a:t>
              </a:r>
              <a:r>
                <a:rPr b="0" lang="ru-RU" sz="12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выков, необходимых для успешного усвоения школьной программы;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) неспособность к систематическому труду, раздражительность.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21" name="Picture 18" descr="C:\Users\Ljuba\Desktop\фото\DSC_0043.JPG"/>
          <p:cNvPicPr/>
          <p:nvPr/>
        </p:nvPicPr>
        <p:blipFill>
          <a:blip r:embed="rId1"/>
          <a:stretch/>
        </p:blipFill>
        <p:spPr>
          <a:xfrm>
            <a:off x="111240" y="1087560"/>
            <a:ext cx="2427120" cy="3349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2556000" y="0"/>
            <a:ext cx="6586920" cy="6668640"/>
            <a:chOff x="2556000" y="0"/>
            <a:chExt cx="6586920" cy="6668640"/>
          </a:xfrm>
        </p:grpSpPr>
        <p:sp>
          <p:nvSpPr>
            <p:cNvPr id="223" name="AutoShape 3"/>
            <p:cNvSpPr/>
            <p:nvPr/>
          </p:nvSpPr>
          <p:spPr>
            <a:xfrm>
              <a:off x="2556000" y="508320"/>
              <a:ext cx="6567480" cy="4722120"/>
            </a:xfrm>
            <a:prstGeom prst="roundRect">
              <a:avLst>
                <a:gd name="adj" fmla="val 175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4"/>
            <p:cNvSpPr/>
            <p:nvPr/>
          </p:nvSpPr>
          <p:spPr>
            <a:xfrm>
              <a:off x="2657520" y="522000"/>
              <a:ext cx="6369480" cy="46321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5"/>
            <p:cNvSpPr/>
            <p:nvPr/>
          </p:nvSpPr>
          <p:spPr>
            <a:xfrm>
              <a:off x="2710080" y="3931920"/>
              <a:ext cx="6283440" cy="117252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2710080" y="558360"/>
              <a:ext cx="6283440" cy="11700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2575440" y="5230800"/>
              <a:ext cx="6567480" cy="1437840"/>
            </a:xfrm>
            <a:prstGeom prst="roundRect">
              <a:avLst>
                <a:gd name="adj" fmla="val 40389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AutoShape 8"/>
            <p:cNvSpPr/>
            <p:nvPr/>
          </p:nvSpPr>
          <p:spPr>
            <a:xfrm>
              <a:off x="2710080" y="5270040"/>
              <a:ext cx="6283440" cy="127764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ичины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негрубая органическая недостаточность нервной системы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резидуального (остаточного) характера вследствие патологии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беременности, родов, постнатальных инфекций и др.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"/>
                </a:rPr>
                <a:t>Прогноз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: зависит от организации специального обучения в школах 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для детей с ЗПР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29" name="Group 9"/>
            <p:cNvGrpSpPr/>
            <p:nvPr/>
          </p:nvGrpSpPr>
          <p:grpSpPr>
            <a:xfrm>
              <a:off x="4815720" y="0"/>
              <a:ext cx="1951200" cy="1062000"/>
              <a:chOff x="4815720" y="0"/>
              <a:chExt cx="1951200" cy="1062000"/>
            </a:xfrm>
          </p:grpSpPr>
          <p:sp>
            <p:nvSpPr>
              <p:cNvPr id="230" name="Oval 10"/>
              <p:cNvSpPr/>
              <p:nvPr/>
            </p:nvSpPr>
            <p:spPr>
              <a:xfrm>
                <a:off x="4815720" y="0"/>
                <a:ext cx="1951200" cy="1062000"/>
              </a:xfrm>
              <a:prstGeom prst="ellipse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1" name="Oval 11"/>
              <p:cNvSpPr/>
              <p:nvPr/>
            </p:nvSpPr>
            <p:spPr>
              <a:xfrm>
                <a:off x="4836240" y="8280"/>
                <a:ext cx="1886760" cy="102852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2" name="Oval 12"/>
              <p:cNvSpPr/>
              <p:nvPr/>
            </p:nvSpPr>
            <p:spPr>
              <a:xfrm>
                <a:off x="4859280" y="14400"/>
                <a:ext cx="1843200" cy="1003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3" name="Oval 13"/>
              <p:cNvSpPr/>
              <p:nvPr/>
            </p:nvSpPr>
            <p:spPr>
              <a:xfrm>
                <a:off x="4879800" y="24120"/>
                <a:ext cx="1752480" cy="936360"/>
              </a:xfrm>
              <a:prstGeom prst="ellipse">
                <a:avLst/>
              </a:prstGeom>
              <a:solidFill>
                <a:srgbClr val="ffffcc">
                  <a:alpha val="4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34" name="Oval 14"/>
              <p:cNvSpPr/>
              <p:nvPr/>
            </p:nvSpPr>
            <p:spPr>
              <a:xfrm>
                <a:off x="4981680" y="49320"/>
                <a:ext cx="1557000" cy="761400"/>
              </a:xfrm>
              <a:prstGeom prst="ellipse">
                <a:avLst/>
              </a:prstGeom>
              <a:solidFill>
                <a:srgbClr val="660066">
                  <a:alpha val="3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35" name="Text Box 15"/>
            <p:cNvSpPr/>
            <p:nvPr/>
          </p:nvSpPr>
          <p:spPr>
            <a:xfrm>
              <a:off x="5597280" y="152280"/>
              <a:ext cx="34992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Text Box 16"/>
            <p:cNvSpPr/>
            <p:nvPr/>
          </p:nvSpPr>
          <p:spPr>
            <a:xfrm>
              <a:off x="2787480" y="1259280"/>
              <a:ext cx="6244920" cy="35971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2f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П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церебрально-органического происхождени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 детей отмечается замедленное формирование двигательных функций, речи, этапов игровой деятельности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Эмоционально-волевая незрелость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едстает в форме органического инфантилизма, который проявляется в двух вариантах: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неустойчивом – с психомоторной расторможенностью и импульсивностью;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тормозимом – с преобладанием пониженного фона настроения, нерешительностью и боязливостью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Нарушения познавательной деятельности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проявляются в недостаточной сформированности восприятия, внимания, памяти, мыслительных процессов и речи, в замедленности и пониженной переключаемости психических процессов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Эта группа детей требует отграничения от умственно отсталых  детей.</a:t>
              </a:r>
              <a:endParaRPr b="0" lang="en-US" sz="1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237" name="Picture 18" descr="C:\Users\Ljuba\Desktop\фото\2015-12-02 12.10.52.jpg"/>
          <p:cNvPicPr/>
          <p:nvPr/>
        </p:nvPicPr>
        <p:blipFill>
          <a:blip r:embed="rId1"/>
          <a:stretch/>
        </p:blipFill>
        <p:spPr>
          <a:xfrm>
            <a:off x="324000" y="960480"/>
            <a:ext cx="1995480" cy="2684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87"/>
                </a:solidFill>
                <a:latin typeface="Verdana"/>
              </a:rPr>
              <a:t>Психолого-педагогическая характеристика детей с ЗПР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0" y="1197000"/>
            <a:ext cx="608472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Эмоционально-волевая незрелость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ая характеризуется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отсутствием воли у ребенка.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Ему трудно заставить себя что-либо сделать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или принять волевое решение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6129360" y="1006560"/>
            <a:ext cx="1098000" cy="1001160"/>
            <a:chOff x="6129360" y="1006560"/>
            <a:chExt cx="1098000" cy="1001160"/>
          </a:xfrm>
        </p:grpSpPr>
        <p:grpSp>
          <p:nvGrpSpPr>
            <p:cNvPr id="241" name="Group 5"/>
            <p:cNvGrpSpPr/>
            <p:nvPr/>
          </p:nvGrpSpPr>
          <p:grpSpPr>
            <a:xfrm>
              <a:off x="6129360" y="1006560"/>
              <a:ext cx="1098000" cy="1001160"/>
              <a:chOff x="6129360" y="1006560"/>
              <a:chExt cx="1098000" cy="1001160"/>
            </a:xfrm>
          </p:grpSpPr>
          <p:sp>
            <p:nvSpPr>
              <p:cNvPr id="242" name="Oval 6"/>
              <p:cNvSpPr/>
              <p:nvPr/>
            </p:nvSpPr>
            <p:spPr>
              <a:xfrm>
                <a:off x="6129360" y="1006560"/>
                <a:ext cx="109800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3" name="Freeform 7"/>
              <p:cNvSpPr/>
              <p:nvPr/>
            </p:nvSpPr>
            <p:spPr>
              <a:xfrm>
                <a:off x="6254640" y="1023120"/>
                <a:ext cx="847080" cy="377640"/>
              </a:xfrm>
              <a:custGeom>
                <a:avLst/>
                <a:gdLst>
                  <a:gd name="textAreaLeft" fmla="*/ 0 w 847080"/>
                  <a:gd name="textAreaRight" fmla="*/ 847440 w 8470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44" name="Text Box 8"/>
            <p:cNvSpPr/>
            <p:nvPr/>
          </p:nvSpPr>
          <p:spPr>
            <a:xfrm>
              <a:off x="6609240" y="1117800"/>
              <a:ext cx="1854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5" name="Rectangle 10"/>
          <p:cNvSpPr/>
          <p:nvPr/>
        </p:nvSpPr>
        <p:spPr>
          <a:xfrm>
            <a:off x="0" y="2054160"/>
            <a:ext cx="6213600" cy="95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Нарушение внимания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гда ребенку тяжело концентрироваться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на одном предмете, он быстро переключается и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отвлекается. При этом может наблюдаться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чрезмерная двигательная и речевая активность</a:t>
            </a:r>
            <a:r>
              <a:rPr b="1" lang="ru-RU" sz="1800" spc="-1" strike="noStrike">
                <a:solidFill>
                  <a:srgbClr val="4e4e4e"/>
                </a:solidFill>
                <a:latin typeface="Century Gothic"/>
                <a:ea typeface="Arial"/>
              </a:rPr>
              <a:t>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6332400" y="1940040"/>
            <a:ext cx="1087200" cy="1005840"/>
            <a:chOff x="6332400" y="1940040"/>
            <a:chExt cx="1087200" cy="1005840"/>
          </a:xfrm>
        </p:grpSpPr>
        <p:grpSp>
          <p:nvGrpSpPr>
            <p:cNvPr id="247" name="Group 12"/>
            <p:cNvGrpSpPr/>
            <p:nvPr/>
          </p:nvGrpSpPr>
          <p:grpSpPr>
            <a:xfrm>
              <a:off x="6332400" y="1940040"/>
              <a:ext cx="1087200" cy="1005840"/>
              <a:chOff x="6332400" y="1940040"/>
              <a:chExt cx="1087200" cy="1005840"/>
            </a:xfrm>
          </p:grpSpPr>
          <p:sp>
            <p:nvSpPr>
              <p:cNvPr id="248" name="Oval 13"/>
              <p:cNvSpPr/>
              <p:nvPr/>
            </p:nvSpPr>
            <p:spPr>
              <a:xfrm>
                <a:off x="6332400" y="1940040"/>
                <a:ext cx="1087200" cy="100584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6456600" y="1956600"/>
                <a:ext cx="838800" cy="379440"/>
              </a:xfrm>
              <a:custGeom>
                <a:avLst/>
                <a:gdLst>
                  <a:gd name="textAreaLeft" fmla="*/ 0 w 838800"/>
                  <a:gd name="textAreaRight" fmla="*/ 839160 w 83880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0" name="Text Box 15"/>
            <p:cNvSpPr/>
            <p:nvPr/>
          </p:nvSpPr>
          <p:spPr>
            <a:xfrm>
              <a:off x="6774840" y="207828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1" name="Rectangle 17"/>
          <p:cNvSpPr/>
          <p:nvPr/>
        </p:nvSpPr>
        <p:spPr>
          <a:xfrm>
            <a:off x="0" y="3141720"/>
            <a:ext cx="7089840" cy="12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Сложность восприятия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ая проявляется в неспособност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ребенка строить целостные образы. Ребенок слабо узнает предметы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под разными ракурсами и в незнакомых условиях,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ему сложно ориентироваться в пространстве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строить логически-смысловые цепочки, анализировать,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сравнивать, обобщать информацию, а также делать выводы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2" name="Group 18"/>
          <p:cNvGrpSpPr/>
          <p:nvPr/>
        </p:nvGrpSpPr>
        <p:grpSpPr>
          <a:xfrm>
            <a:off x="7183440" y="3282840"/>
            <a:ext cx="1098360" cy="1012680"/>
            <a:chOff x="7183440" y="3282840"/>
            <a:chExt cx="1098360" cy="1012680"/>
          </a:xfrm>
        </p:grpSpPr>
        <p:grpSp>
          <p:nvGrpSpPr>
            <p:cNvPr id="253" name="Group 19"/>
            <p:cNvGrpSpPr/>
            <p:nvPr/>
          </p:nvGrpSpPr>
          <p:grpSpPr>
            <a:xfrm>
              <a:off x="7183440" y="3282840"/>
              <a:ext cx="1098360" cy="1012680"/>
              <a:chOff x="7183440" y="3282840"/>
              <a:chExt cx="1098360" cy="1012680"/>
            </a:xfrm>
          </p:grpSpPr>
          <p:sp>
            <p:nvSpPr>
              <p:cNvPr id="254" name="Oval 20"/>
              <p:cNvSpPr/>
              <p:nvPr/>
            </p:nvSpPr>
            <p:spPr>
              <a:xfrm>
                <a:off x="7183440" y="3282840"/>
                <a:ext cx="10983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5" name="Freeform 21"/>
              <p:cNvSpPr/>
              <p:nvPr/>
            </p:nvSpPr>
            <p:spPr>
              <a:xfrm>
                <a:off x="7308720" y="3299400"/>
                <a:ext cx="847440" cy="38196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56" name="Text Box 22"/>
            <p:cNvSpPr/>
            <p:nvPr/>
          </p:nvSpPr>
          <p:spPr>
            <a:xfrm>
              <a:off x="7697880" y="33372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7" name="Rectangle 24"/>
          <p:cNvSpPr/>
          <p:nvPr/>
        </p:nvSpPr>
        <p:spPr>
          <a:xfrm>
            <a:off x="17640" y="4489560"/>
            <a:ext cx="7632360" cy="102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Особенности памяти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ые характеризуются преобладанием зрительной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памяти над вербальной, мозаичностью запоминания информации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 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и пониженной мыслительной активностью при ее воспроизведении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58" name="Group 25"/>
          <p:cNvGrpSpPr/>
          <p:nvPr/>
        </p:nvGrpSpPr>
        <p:grpSpPr>
          <a:xfrm>
            <a:off x="7697880" y="4338720"/>
            <a:ext cx="1116000" cy="1019160"/>
            <a:chOff x="7697880" y="4338720"/>
            <a:chExt cx="1116000" cy="1019160"/>
          </a:xfrm>
        </p:grpSpPr>
        <p:sp>
          <p:nvSpPr>
            <p:cNvPr id="259" name="Oval 26"/>
            <p:cNvSpPr/>
            <p:nvPr/>
          </p:nvSpPr>
          <p:spPr>
            <a:xfrm>
              <a:off x="7710120" y="4338720"/>
              <a:ext cx="110376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7697880" y="4685760"/>
              <a:ext cx="851400" cy="38448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1" name="AutoShape 30"/>
          <p:cNvSpPr/>
          <p:nvPr/>
        </p:nvSpPr>
        <p:spPr>
          <a:xfrm>
            <a:off x="7165800" y="728640"/>
            <a:ext cx="1738440" cy="936720"/>
          </a:xfrm>
          <a:prstGeom prst="wedgeRoundRectCallout">
            <a:avLst>
              <a:gd name="adj1" fmla="val -59407"/>
              <a:gd name="adj2" fmla="val 127518"/>
              <a:gd name="adj3" fmla="val 16667"/>
            </a:avLst>
          </a:prstGeom>
          <a:solidFill>
            <a:srgbClr val="fdfd8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призна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Rectangle 37"/>
          <p:cNvSpPr/>
          <p:nvPr/>
        </p:nvSpPr>
        <p:spPr>
          <a:xfrm>
            <a:off x="0" y="5661000"/>
            <a:ext cx="864072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Проблемы с речью</a:t>
            </a: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, которые выражаются в ограниченности словарного запаса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искажением воспроизведения звуков, трудностями в построении высказываний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общей речевой заторможенностью, а также наличием таких заболеваний,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4e4e"/>
                </a:solidFill>
                <a:latin typeface="Century Gothic"/>
                <a:ea typeface="Arial"/>
              </a:rPr>
              <a:t>как дислексия, дисграфия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3" name="Group 38"/>
          <p:cNvGrpSpPr/>
          <p:nvPr/>
        </p:nvGrpSpPr>
        <p:grpSpPr>
          <a:xfrm>
            <a:off x="7790040" y="5672160"/>
            <a:ext cx="1086840" cy="1006200"/>
            <a:chOff x="7790040" y="5672160"/>
            <a:chExt cx="1086840" cy="1006200"/>
          </a:xfrm>
        </p:grpSpPr>
        <p:grpSp>
          <p:nvGrpSpPr>
            <p:cNvPr id="264" name="Group 39"/>
            <p:cNvGrpSpPr/>
            <p:nvPr/>
          </p:nvGrpSpPr>
          <p:grpSpPr>
            <a:xfrm>
              <a:off x="7790040" y="5672160"/>
              <a:ext cx="1086840" cy="1006200"/>
              <a:chOff x="7790040" y="5672160"/>
              <a:chExt cx="1086840" cy="1006200"/>
            </a:xfrm>
          </p:grpSpPr>
          <p:sp>
            <p:nvSpPr>
              <p:cNvPr id="265" name="Oval 40"/>
              <p:cNvSpPr/>
              <p:nvPr/>
            </p:nvSpPr>
            <p:spPr>
              <a:xfrm>
                <a:off x="7790040" y="5672160"/>
                <a:ext cx="108684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6" name="Freeform 41"/>
              <p:cNvSpPr/>
              <p:nvPr/>
            </p:nvSpPr>
            <p:spPr>
              <a:xfrm>
                <a:off x="7914240" y="5688720"/>
                <a:ext cx="838440" cy="379800"/>
              </a:xfrm>
              <a:custGeom>
                <a:avLst/>
                <a:gdLst>
                  <a:gd name="textAreaLeft" fmla="*/ 0 w 838440"/>
                  <a:gd name="textAreaRight" fmla="*/ 838800 w 83844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67" name="Text Box 42"/>
            <p:cNvSpPr/>
            <p:nvPr/>
          </p:nvSpPr>
          <p:spPr>
            <a:xfrm>
              <a:off x="8232120" y="5810400"/>
              <a:ext cx="1843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95640" y="1197000"/>
            <a:ext cx="669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Verdana"/>
              </a:rPr>
              <a:t>Основные требования к коррекционной работе с детьми с ЗП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Рисунок 6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3678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1. Подбор заданий, максимально возбуждающих активность ребенка, пробуждающие у него потребность в познавательной деятельности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. Приспособления темпа изучения учебного материала и методов обучения к уровню развития детей с ЗПР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. Индивидуальный подход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4. Постоянное использование наглядности, наводящих вопросов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5. Четкие инструкции. Следует избегать сложных грамматических конструкций, вводных слов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6. Использование многократных повторений заданий, указаний, упражнений;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7. При обследовании предметов, объектов, знакомстве с окружающим миром, задействовать все ведущие анализаторы (зрительные, слуховые, осязательные, обонятельные)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1" name="Дата 4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Нижний колонтитул 5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 repeatCount="100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 repeatCount="100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75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75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75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 repeatCount="100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87"/>
                </a:solidFill>
                <a:latin typeface="Verdana"/>
              </a:rPr>
              <a:t>Обучение детей педагог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620440" y="1146240"/>
            <a:ext cx="44265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пределение занят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552960" y="1989000"/>
            <a:ext cx="3792600" cy="34772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леп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аппликаци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ис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учной труд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физическое воспит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859280" y="1989000"/>
            <a:ext cx="3745080" cy="4391640"/>
          </a:xfrm>
          <a:prstGeom prst="rec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фектолог проводит: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социа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знавательное развит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знакомление с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ающим миром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обучение игр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математика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реч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конструирование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развитие тонкой ручно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торик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подготовка к обучению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моте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356000" y="1989000"/>
            <a:ext cx="503280" cy="503280"/>
          </a:xfrm>
          <a:custGeom>
            <a:avLst/>
            <a:gdLst>
              <a:gd name="textAreaLeft" fmla="*/ 207360 w 503280"/>
              <a:gd name="textAreaRight" fmla="*/ 295920 w 503280"/>
              <a:gd name="textAreaTop" fmla="*/ 207360 h 503280"/>
              <a:gd name="textAreaBottom" fmla="*/ 29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42262"/>
          </a:solidFill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8:15:18Z</dcterms:created>
  <dc:creator>Александр</dc:creator>
  <dc:description/>
  <dc:language>en-US</dc:language>
  <cp:lastModifiedBy>Ljuba</cp:lastModifiedBy>
  <dcterms:modified xsi:type="dcterms:W3CDTF">2018-10-14T18:31:08Z</dcterms:modified>
  <cp:revision>54</cp:revision>
  <dc:subject/>
  <dc:title>ОБРАЗОВАНИЕ  ДЕТЕЙ  С  ЗАДЕРЖКОЙ ПСИХИЧЕСКОГО РАЗВИТИЯ</dc:title>
</cp:coreProperties>
</file>