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276-547D-4D8F-87AE-9C55E2309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10E1-0955-47BA-8A06-F26A5114D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6D8-FA3B-41CF-AA74-5D3D374931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898-8927-4704-818D-9A87B81223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371A-A8D1-4F4A-B7D1-72AB1AA49F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B44A-43CC-4531-BECC-AB669DE7DE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3983-98B1-4445-B90D-4E994C5796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14AD-C4BD-43C7-8367-642CA5A060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3844-7F2C-4030-9C70-AD6210452D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452D-E4BD-442E-B3A8-21F9FCC8999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2D8-7FCD-46F9-83C5-17AB9B3C1F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DA74-BB95-4AC7-BA11-4B377B0E86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0BA4-3774-4F0A-9497-AC4C8DA1D4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81E-6F66-44B8-B926-3122AD79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4BB-C250-42E9-8CD5-5FFD47D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D48-043D-483E-9D1A-3DBF56AE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4326-9EB3-43AF-83DE-8C1122A0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27DF-60FC-4A33-A82F-064F764F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670F-366F-41B8-9AAA-A611ABE4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5BDD-2893-43A4-B9AB-61CEE9F0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AF6F-DCA9-43B0-8193-675F6C5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41BC-FDB2-484C-AFA9-7718C8B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745B-7863-4EBF-A837-1EACEB89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8A32-5868-4D59-B272-22F9299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8D7-90E4-4ED3-8AF0-4C82D427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FD5-4D86-4C30-8D3C-167178C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90E4-B874-4713-84A5-35F9D68D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2D0-460D-4782-A790-F46212F9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A20C-E080-4894-BFF4-04607355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DEAD-5243-4066-AFEB-58832CA9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E61-B6E0-4DB3-AD04-750D1284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2AB-3211-470D-86D8-1CB773D8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17A-4F06-43D2-AEB3-1C78BC6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8919-8A03-4197-B2EC-D021116E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D64-819F-4A0F-8912-F3A1C685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9C4-44E7-4D76-B789-E0CDB05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87B-31E2-4AB1-90F5-0658A75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63F4-0F07-48B0-A836-E642A5FB74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29D-B358-4F49-9B2E-4F94336495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ccff"/>
                </a:solidFill>
                <a:latin typeface="Arial Unicode MS"/>
              </a:rPr>
              <a:t>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47592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лиал МБОУ «Новоромановская СОШ » в п.Алта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55640" y="1413000"/>
            <a:ext cx="90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ff99"/>
                </a:solidFill>
                <a:latin typeface="Times New Roman"/>
              </a:rPr>
              <a:t>    </a:t>
            </a:r>
            <a:r>
              <a:rPr b="1" i="1" lang="ru-RU" sz="5400" spc="-1" strike="noStrike">
                <a:solidFill>
                  <a:srgbClr val="ffcc66"/>
                </a:solidFill>
                <a:latin typeface="Times New Roman"/>
              </a:rPr>
              <a:t>Вода – наша жизнь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798480" y="225900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чебный проект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ченика 3  класса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ишневецкого Алексе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93720" y="5559480"/>
            <a:ext cx="49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01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9560" y="4669920"/>
            <a:ext cx="6202440" cy="107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да в Алтайском кра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http://water-rf.ru/res_ru/redactorfiles/article/0_article_img_1509949903899.jpg"/>
          <p:cNvPicPr/>
          <p:nvPr/>
        </p:nvPicPr>
        <p:blipFill>
          <a:blip r:embed="rId1"/>
          <a:stretch/>
        </p:blipFill>
        <p:spPr>
          <a:xfrm>
            <a:off x="826920" y="1052640"/>
            <a:ext cx="75996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ater-rf.ru/res_ru/redactorfiles/article/0_article_img_1509949926090.jpg"/>
          <p:cNvPicPr/>
          <p:nvPr/>
        </p:nvPicPr>
        <p:blipFill>
          <a:blip r:embed="rId1"/>
          <a:stretch/>
        </p:blipFill>
        <p:spPr>
          <a:xfrm>
            <a:off x="539640" y="260280"/>
            <a:ext cx="82616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Что такое питьевая вод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итьевой считается вода, пригодная к употреблению внутрь, доставляемая для нужд населения и отвечающая регламентированным критериям качеств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Что такое загрязнение вод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435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грязнение воды – э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падание в нее элементов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елающих ее непригодн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употребления человек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Это мож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изойти на всех этапах круговорота воды (даже в атмосфере, где вода содержится в виде облаков). Происхождение загрязнения может быть коммунальное (канализация), промышленное, сельскохозяйственное и, даже, природно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987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От чего зависит вкус воды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424720" cy="817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Повышенное содержание сульфатов придает воде горьковатый привкус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хлоридов - соленый вкус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лей железа и марганца - чернильный, железистый привкус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Наибольший освежающий эффект вода имеет при температуре 7-11 o C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67564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тощение водных зап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громное количество факторов влияет на истощение водных запасов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Парниковый эффек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Огромный расход во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Рост насе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-Загрязнение пресных водоем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.т.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равила экономии 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01120" y="260280"/>
            <a:ext cx="86425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этой проблемы есть пути решения. Первый и самый простой – экономия ресурса каждым жителем Земли. Это даст гораздо более весомые результаты, чем кажется на первый взгляд, позволив не разрабатывать новые водные месторожд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ым способом экономии является развитие технологий очистки, что позволит неоднократно использовать этот важный ресур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ретий – это охрана воды от загрязнения вследствие урбанизации, которая наносит большой вред всей экосистеме. Для этого правительства разрабатывают совместные программы, предотвращающие сброс отходов в водоемы и предполагающие установку очистных сооружений на всех промышленных предприятиях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нимательные факт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замерзании вода в среднем расширяется на 9%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производства одной тонны стали требуется 300 тонн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овина населения мира в 2025 году будет ощущать существенную нехватку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щивание кур и коз наименее водозатратные виды животноводств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атмосфере пресной воды значительно больше чем во всех реках Земли вместе взятых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5-ти минутный душ затрачивается 200 литров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производства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кг говядины требуется приблизительно от 15 000 до 18 000 литров вод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амбургера весом 150 грамм требуется приблизительно 3 литра воды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 кг шоколада требуется приблизительно 28 литров воды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ccecff"/>
                </a:solidFill>
                <a:latin typeface="Arial"/>
              </a:rPr>
              <a:t> за внимание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Цель проекта: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заинтересовать проблемой сохранения воды учащихся начальных класс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ecff"/>
                </a:solidFill>
                <a:latin typeface="Verdana"/>
              </a:rPr>
              <a:t>     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Verdana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1.Собрать информацию о воде как источнике жизн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2. Выяснить, о крупнейших скважинах в Алтайском кра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3.Составить правила экономии вод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Актуальность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Человек влияет на окружающую среду очень негативно. Несмотря на то, что пресной воды остается на Земле все меньше и меньше, люди неразумно используют ее, нарушая экологический баланс , не думая о будущих последствия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Вывод: Проблема сохранения пресной воды актуальн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Пробл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Если мы не будем разумно использовать пресную воду, со временем она исчезнет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Как я готовился к проект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38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"/>
          <p:cNvPicPr/>
          <p:nvPr/>
        </p:nvPicPr>
        <p:blipFill>
          <a:blip r:embed="rId1"/>
          <a:stretch/>
        </p:blipFill>
        <p:spPr>
          <a:xfrm>
            <a:off x="1403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Самое загадочное вещество на нашей планете – это вода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Именно она является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основой всей наш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жизни,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сего живого на Земле.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5" descr="ad5e1eac45d5"/>
          <p:cNvPicPr/>
          <p:nvPr/>
        </p:nvPicPr>
        <p:blipFill>
          <a:blip r:embed="rId1"/>
          <a:stretch/>
        </p:blipFill>
        <p:spPr>
          <a:xfrm>
            <a:off x="5651640" y="1773360"/>
            <a:ext cx="29588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Вода для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49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Роль воды в жизни человека неоспоримо высока. Она служит основой для хорошего функционирования всего организма. В воде находятся различные вещества, характер происхождения которых разнообразен, как органический, так и неорганически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72474306"/>
          <p:cNvPicPr/>
          <p:nvPr/>
        </p:nvPicPr>
        <p:blipFill>
          <a:blip r:embed="rId1"/>
          <a:stretch/>
        </p:blipFill>
        <p:spPr>
          <a:xfrm>
            <a:off x="2124000" y="549360"/>
            <a:ext cx="464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37:32Z</dcterms:created>
  <dc:creator>Мастер</dc:creator>
  <dc:description/>
  <dc:language>en-US</dc:language>
  <cp:lastModifiedBy>Admin</cp:lastModifiedBy>
  <dcterms:modified xsi:type="dcterms:W3CDTF">2018-12-18T14:06:16Z</dcterms:modified>
  <cp:revision>25</cp:revision>
  <dc:subject/>
  <dc:title>Слайд 1</dc:title>
</cp:coreProperties>
</file>