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59A-1DB2-4447-8845-2F11394EE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C38-DB72-496F-BB6F-8715FE4C47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FD3-4DB3-4DF3-9C9A-1BFB18D890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3713-A137-4291-8DC9-C7ABBBDC03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36D2-3F34-4C3D-926B-B8B80BF95C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8DF-4C7F-46A3-A783-32C8CA80A5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981-B713-4769-8369-3B9280C41F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62A3-866E-4D68-95BB-CF5F720950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233-C5CD-4F04-87FD-661B4307BC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3C51-2367-4FE6-90D0-955F6B58C0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1262-674B-4FA7-8250-C519CC8F33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10E-5D46-4F20-8E91-32A7C90C4B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4F0-73C0-4E44-8228-6A0C303368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A65-D3FD-422F-A3CE-315AEA1E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567-C6E3-49BD-BA4A-24E67FA9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CD9-3358-4EC6-AE8E-BDA2EB2F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4F9-2309-4AD3-9705-D6288C3F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B02-C08A-476B-B614-09C2D6E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4BB-A05A-4D67-8065-F1EADD9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FDB-C78A-4146-B42F-B2D71CA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92B-3418-4BDE-BB11-319B997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0BD7-F6DB-4511-B5DE-AF01BD3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92BA-A3EA-4F57-99C8-02F2308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200-B407-4E8F-AB74-EB7843D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88F-3606-43CB-88EE-B9D1EAD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38A-6F14-4A95-825B-86E402B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D609-470A-4763-A1BE-12782266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12E7-E8B1-4A69-B926-081F566C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D4D-C3BC-4826-B9BD-1B0F151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13D9-352B-49B5-B8E7-1B18CDCA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D53-217A-4895-90B6-B11223F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466-8008-4D46-BE9C-E0A71CDF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B4F-DB61-4198-AD60-62933651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A22-D862-4527-A4BB-CD5B017F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532-C222-4BE4-8C3F-1A637A1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57D-264B-46B6-A445-F974A9B4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3F0-66E5-4655-9172-BD9F1A0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BFC-3529-4DE0-89E6-A30FD8CB61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299-4F3C-409E-940A-51C93B1A36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ccff"/>
                </a:solidFill>
                <a:latin typeface="Arial Unicode MS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лиал МБОУ «Новоромановская СОШ » в п.Алта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55640" y="1413000"/>
            <a:ext cx="90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99"/>
                </a:solidFill>
                <a:latin typeface="Times New Roman"/>
              </a:rPr>
              <a:t>    </a:t>
            </a:r>
            <a:r>
              <a:rPr b="1" i="1" lang="ru-RU" sz="5400" spc="-1" strike="noStrike">
                <a:solidFill>
                  <a:srgbClr val="ffcc66"/>
                </a:solidFill>
                <a:latin typeface="Times New Roman"/>
              </a:rPr>
              <a:t>Вода – наша жизнь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98480" y="225900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чебный проект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ченика 3  класса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ишневецкого Алексе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93720" y="5559480"/>
            <a:ext cx="49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9560" y="4669920"/>
            <a:ext cx="6202440" cy="107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 в Алтайском кра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http://water-rf.ru/res_ru/redactorfiles/article/0_article_img_1509949903899.jpg"/>
          <p:cNvPicPr/>
          <p:nvPr/>
        </p:nvPicPr>
        <p:blipFill>
          <a:blip r:embed="rId1"/>
          <a:stretch/>
        </p:blipFill>
        <p:spPr>
          <a:xfrm>
            <a:off x="826920" y="1052640"/>
            <a:ext cx="7599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ater-rf.ru/res_ru/redactorfiles/article/0_article_img_1509949926090.jpg"/>
          <p:cNvPicPr/>
          <p:nvPr/>
        </p:nvPicPr>
        <p:blipFill>
          <a:blip r:embed="rId1"/>
          <a:stretch/>
        </p:blipFill>
        <p:spPr>
          <a:xfrm>
            <a:off x="539640" y="260280"/>
            <a:ext cx="82616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Что такое питьевая вод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итьевой считается вода, пригодная к употреблению внутрь, доставляемая для нужд населения и отвечающая регламентированным критериям качеств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Что такое загрязнение вод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грязнение воды – э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падание в нее элемент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елающих ее непригодн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употребления человек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то мож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изойти на всех этапах круговорота воды (даже в атмосфере, где вода содержится в виде облаков). Происхождение загрязнения может быть коммунальное (канализация), промышленное, сельскохозяйственное и, даже, природн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9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От чего зависит вкус вод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817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овышенное содержание сульфатов придает воде горьковатый привкус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хлоридов - соленый вкус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лей железа и марганца - чернильный, железистый привкус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аибольший освежающий эффект вода имеет при температуре 7-11 o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67564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щение водных зап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громное количество факторов влияет на истощение водных запасов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Парниковый эффек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Огромный расход в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Рост насе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Загрязнение пресных водоем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.т.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равила экономии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01120" y="260280"/>
            <a:ext cx="8642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этой проблемы есть пути решения. Первый и самый простой – экономия ресурса каждым жителем Земли. Это даст гораздо более весомые результаты, чем кажется на первый взгляд, позволив не разрабатывать новые водные месторож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ым способом экономии является развитие технологий очистки, что позволит неоднократно использовать этот важный ресур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етий – это охрана воды от загрязнения вследствие урбанизации, которая наносит большой вред всей экосистеме. Для этого правительства разрабатывают совместные программы, предотвращающие сброс отходов в водоемы и предполагающие установку очистных сооружений на всех промышленных предприятия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нимательные факт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замерзании вода в среднем расширяется на 9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производства одной тонны стали требуется 300 тонн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овина населения мира в 2025 году будет ощущать существенную нехватку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щивание кур и коз наименее водозатратные виды животноводст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атмосфере пресной воды значительно больше чем во всех реках Земли вместе взяты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5-ти минутный душ затрачивается 200 литров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производств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кг говядины требуется приблизительно от 15 000 до 18 000 литров вод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мбургера весом 150 грамм требуется приблизительно 3 литра вод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кг шоколада требуется приблизительно 28 литров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Цель проекта: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аинтересовать проблемой сохранения воды учащихся начальных клас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ecff"/>
                </a:solidFill>
                <a:latin typeface="Verdan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1.Собрать информацию о воде как источнике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2. Выяснить, о крупнейших скважинах в Алтайском кра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3.Составить правила экономии в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Актуальность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Человек влияет на окружающую среду очень негативно. Несмотря на то, что пресной воды остается на Земле все меньше и меньше, люди неразумно используют ее, нарушая экологический баланс , не думая о будущих последстви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Вывод: Проблема сохранения пресной воды актуальн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робл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Если мы не будем разумно использовать пресную воду, со временем она исчезне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Как я готовился к проект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38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1403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амое загадочное вещество на нашей планете – это вода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менно она является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основой всей на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жизни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сего живого на Земле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ad5e1eac45d5"/>
          <p:cNvPicPr/>
          <p:nvPr/>
        </p:nvPicPr>
        <p:blipFill>
          <a:blip r:embed="rId1"/>
          <a:stretch/>
        </p:blipFill>
        <p:spPr>
          <a:xfrm>
            <a:off x="5651640" y="1773360"/>
            <a:ext cx="29588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Вода для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9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оль воды в жизни человека неоспоримо высока. Она служит основой для хорошего функционирования всего организма. В воде находятся различные вещества, характер происхождения которых разнообразен, как органический, так и неорганически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72474306"/>
          <p:cNvPicPr/>
          <p:nvPr/>
        </p:nvPicPr>
        <p:blipFill>
          <a:blip r:embed="rId1"/>
          <a:stretch/>
        </p:blipFill>
        <p:spPr>
          <a:xfrm>
            <a:off x="2124000" y="549360"/>
            <a:ext cx="464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37:32Z</dcterms:created>
  <dc:creator>Мастер</dc:creator>
  <dc:description/>
  <dc:language>en-US</dc:language>
  <cp:lastModifiedBy>Admin</cp:lastModifiedBy>
  <dcterms:modified xsi:type="dcterms:W3CDTF">2018-12-18T14:06:16Z</dcterms:modified>
  <cp:revision>25</cp:revision>
  <dc:subject/>
  <dc:title>Слайд 1</dc:title>
</cp:coreProperties>
</file>