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media/image11.gif" ContentType="image/gif"/>
  <Override PartName="/ppt/media/image12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437A-66DB-4652-8302-CB0171618D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A517-F214-48FB-A71C-1DB3A30D955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F914-D29C-4C7C-BDEE-C08B6317AE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E9E1-B2C7-4371-B9B6-6FEF962E34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048D-30E2-44DE-8B99-17C3CD5258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0921-ABF3-44B7-9E86-FAF2DF28B9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53C3-3EB7-4D9D-AE53-C21F0D9661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828-2FD6-45CB-A22A-C8627C76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88E-8E2D-433A-9190-44A263BD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758-B45A-4090-A1E3-17936F4C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23E-D743-43DB-A490-CF1C47D5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ED9-1CBD-4C4C-A0F2-272A885D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DF0-C3E9-4FF7-9AE4-4B348F06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6A5-0812-4F22-A0A4-78AA1C6D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82C-8E15-4C8C-ADAD-67941B2D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E6F-6CC1-4B18-8149-A61D5CB8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783-F3D1-402B-A3D8-539346C8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B17-1B43-4592-AF11-C4AD8591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C9E-AC5F-4614-947D-FAAE698E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F1DE-05E7-49A4-B4AF-D8E7681B7F2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рок 1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ема: «Смеси и проценты»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МК «Математика» 6класс, под редакцией В.В. Козлова, А.А. Никитина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ип урока: изучение и первичное закрепление новых знаний и способов действи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2714760"/>
            <a:ext cx="6400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группа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итвиненко Светлана Павловна МБОУ СОШ № 83 г. Красно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йцева Лариса Евгеньевна МБОУ СОШ № 83 г. Красно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лодёнкова Галина Станиславовна МБОУ СОШ № 83 г. Красно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ондаренко Галина Александровна МБОУ СОШ №83 г. Красно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рдеросян Аведис Граирович МБОУ гимназия "Эврика" г.Анап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3516480" y="607248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раснодар -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alibri"/>
              </a:rPr>
              <a:t>Задача 4*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714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казание к решени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начала нужно найти массу соли в заданном растворе, а затем полученное число разделить на (200+40) и умножить на 100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смешная анимация, эротическая анимация "/>
          <p:cNvPicPr/>
          <p:nvPr/>
        </p:nvPicPr>
        <p:blipFill>
          <a:blip r:embed="rId1"/>
          <a:stretch/>
        </p:blipFill>
        <p:spPr>
          <a:xfrm>
            <a:off x="7572240" y="53578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Реш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85680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ть Х гр. масса соли в 30% растворе, тог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:200=30: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свойству пропор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*100=200*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=(200*30):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=60 (г) – соли в 30% раств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ть Х гр. масса соли в 35% растворе, т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:40=35: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огич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=14 (г) – соли в 35% раств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смешивании растворов получаем массу нового раствора 240 гр., а масса соли в новом растворе 74 г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4:240*100%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1"/>
          <a:srcRect l="25818" t="30910" r="67663" b="63356"/>
          <a:stretch/>
        </p:blipFill>
        <p:spPr>
          <a:xfrm>
            <a:off x="2214720" y="535788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"/>
          <p:cNvPicPr/>
          <p:nvPr/>
        </p:nvPicPr>
        <p:blipFill>
          <a:blip r:embed="rId2"/>
          <a:srcRect l="25818" t="30910" r="67663" b="63356"/>
          <a:stretch/>
        </p:blipFill>
        <p:spPr>
          <a:xfrm>
            <a:off x="1357200" y="6000840"/>
            <a:ext cx="714600" cy="642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твечаем на вопрос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согласии – движение головой вверх – вниз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несогласии – повороты головы влево – впра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ай – это раство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есто –это смес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/2=50%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здух – это раство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олотые украшения – это спла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ензин  это спла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0,3= 30%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5/7=10/12 верная пропорц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а все вопросы мы ответили правиль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амооценка (аплодисмент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Анимация"/>
          <p:cNvPicPr/>
          <p:nvPr/>
        </p:nvPicPr>
        <p:blipFill>
          <a:blip r:embed="rId1"/>
          <a:stretch/>
        </p:blipFill>
        <p:spPr>
          <a:xfrm>
            <a:off x="7715160" y="21420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чи для самостоятельного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1 Вари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лав для изготовления ювелирных украшений содержит 29/50 всей массы сплава золото, 7/20 всей массы сплава медь и другие приме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Какую часть всей массы сплава составляют другие примес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 Каково процентное содержание всех компонентов сплав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твет: а)0,07; б)58%, 35%, 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 Вари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Какую часть всего напитка составляет вода, 1/4   всего напитка фрукты, 1/8  всего напитка саха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 Каково процентное содержание всех компонентов напит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твет:  а)0,625; б)25%, 12,5%, 62,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999800"/>
            <a:ext cx="81867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стр. 259-260 оформить задачу (пример 2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стр.262  №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alibri"/>
              </a:rPr>
              <a:t>доп. задание стр. 262 №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714240" y="1439640"/>
            <a:ext cx="8072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дактическая це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оздать условия для формирования новой учебной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 по содержани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демонстрировать одно из важных применений теории пропорций к расчету состава смес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вать умения анализировать, сравнивать, обобщать, 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, развивать внима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тель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вать познавательный интерес ,воспитание ответственности через  совместную работу способствовать пониманию необходимости интеллектуальных усилий для успешного обучения, настойчивости для достижения цели; развивать самостоятельность, добросовестность и аккурат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71680" y="15922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ные ум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формировать у учащихся понятия: «часть, составляющая содержание компоненты в смеси вещест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чностные УУ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амоопределение, смысло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предметные УУ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навательные У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целеполагание, анализ, синтез, обобщение, аналогия, самостоятельное выделение и формулирование познавательной цели, поиск и выделение необходимой информации, выдвижение гипотез и их обоснование, создание способа решения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ятивные УУ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полнение пробного учебного действия, фиксация индивиду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руднения, волевая саморегуляция в ситуации затруд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муникативные УУ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ланирование учебного сотрудничества, выражение своих мыслей, использование речевых средств для решения коммуникационных задач, достижение договорённости и согласование общего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ормируемые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00240" y="356760"/>
            <a:ext cx="292896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f81bd"/>
                </a:solidFill>
                <a:latin typeface="Monotype Corsiva"/>
              </a:rPr>
              <a:t>Ус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714840" y="3143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1"/>
          <a:srcRect l="25634" t="31250" r="23829" b="52151"/>
          <a:stretch/>
        </p:blipFill>
        <p:spPr>
          <a:xfrm>
            <a:off x="1143000" y="1214280"/>
            <a:ext cx="7072200" cy="174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2"/>
          <a:srcRect l="25830" t="30472" r="23633" b="51954"/>
          <a:stretch/>
        </p:blipFill>
        <p:spPr>
          <a:xfrm>
            <a:off x="1095480" y="4071960"/>
            <a:ext cx="7191360" cy="1857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Какую часть составляют 15%; 7%; 0,3%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 какой зависимости находятся пройденный путь и время в пути, при постоянной скорости автомобиля? (прямо пропорциональная зависим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ак называется наша планета? (Земл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очему нет жизни на Марсе? (В воздухе  малое содержание кислоро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колько % кислорода в воздухе необходимо для нормального дыхания человеку? (пробле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animated_question_mark"/>
          <p:cNvPicPr/>
          <p:nvPr/>
        </p:nvPicPr>
        <p:blipFill>
          <a:blip r:embed="rId1"/>
          <a:stretch/>
        </p:blipFill>
        <p:spPr>
          <a:xfrm>
            <a:off x="7429680" y="14292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WordArt 4" descr=""/>
          <p:cNvPicPr/>
          <p:nvPr/>
        </p:nvPicPr>
        <p:blipFill>
          <a:blip r:embed="rId1"/>
          <a:stretch/>
        </p:blipFill>
        <p:spPr>
          <a:xfrm>
            <a:off x="-1152360" y="262080"/>
            <a:ext cx="10173960" cy="2298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ингри-иенты-я-сухих-специй-33819163"/>
          <p:cNvPicPr/>
          <p:nvPr/>
        </p:nvPicPr>
        <p:blipFill>
          <a:blip r:embed="rId2"/>
          <a:srcRect l="0" t="0" r="0" b="15072"/>
          <a:stretch/>
        </p:blipFill>
        <p:spPr>
          <a:xfrm>
            <a:off x="214200" y="3000240"/>
            <a:ext cx="2643480" cy="1955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tovar-557512"/>
          <p:cNvPicPr/>
          <p:nvPr/>
        </p:nvPicPr>
        <p:blipFill>
          <a:blip r:embed="rId3"/>
          <a:stretch/>
        </p:blipFill>
        <p:spPr>
          <a:xfrm>
            <a:off x="3214800" y="3929040"/>
            <a:ext cx="3282840" cy="25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image002"/>
          <p:cNvPicPr/>
          <p:nvPr/>
        </p:nvPicPr>
        <p:blipFill>
          <a:blip r:embed="rId4"/>
          <a:stretch/>
        </p:blipFill>
        <p:spPr>
          <a:xfrm>
            <a:off x="6711840" y="2919240"/>
            <a:ext cx="2194200" cy="2586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785880" y="5500800"/>
            <a:ext cx="10810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м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000680" y="30002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пл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7143840" y="60008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500120" y="147960"/>
            <a:ext cx="5686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Основные по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щество, смеси, компоненты. Пропорциональная завис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мпонентов в смеси веществ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41d34d64cd6bd786701165b7f22a3b47_i-5556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443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i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чебник стр. 260. Воп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ую часть занимают примеси в воздухе, если 0,78 всей массы воздуха составляет азот, а 0,21 всей массы воздуха – это кислоро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о процентное содержание азота, кислорода и примесей, если 0,78 всей массы воздуха составляет, а 0,21 –кислород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тр.20. Пример 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одной тоны молока можно изготовить 33 кг масла. Сколько масла получится из 40 кг моло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прос. Сколько потребуется молока, чтобы при тех же условиях приготовить 16,5 кг масл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4:12:22Z</dcterms:created>
  <dc:creator>User</dc:creator>
  <dc:description/>
  <dc:language>en-US</dc:language>
  <cp:lastModifiedBy>Admin</cp:lastModifiedBy>
  <dcterms:modified xsi:type="dcterms:W3CDTF">2018-11-22T05:19:44Z</dcterms:modified>
  <cp:revision>121</cp:revision>
  <dc:subject/>
  <dc:title>Слайд 1</dc:title>
</cp:coreProperties>
</file>