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gif" ContentType="image/gif"/>
  <Override PartName="/ppt/media/image6.jpeg" ContentType="image/jpeg"/>
  <Override PartName="/ppt/media/image8.png" ContentType="image/png"/>
  <Override PartName="/ppt/media/image7.jpeg" ContentType="image/jpeg"/>
  <Override PartName="/ppt/media/image10.jpeg" ContentType="image/jpeg"/>
  <Override PartName="/ppt/media/image11.gif" ContentType="image/gif"/>
  <Override PartName="/ppt/media/image12.png" ContentType="image/png"/>
  <Override PartName="/ppt/media/image13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A6A7D-FC14-47A1-B4FB-DDC9C4ADE31A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C2357-8C49-44F1-8F26-85D9632FFAA0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EE0C0-55E3-4C9A-9FBE-0A25B45E5CBB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68319-E489-4778-B1E1-9926D93D8E9C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4BFBB-CA2D-40EF-872D-AA5AAA6261D6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08DCE-AF54-4B79-B101-2527826E0514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2D14B-A533-43F7-9822-405377830DBA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69A25-B0B5-4C76-9491-62C77D23B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B13B8-D8B3-45FD-93CD-6983A2ACB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2C5C1-5D08-48EA-B331-0F0C7EB83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D245B-C316-47FA-BBCD-F94836233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7F8F2-A2E8-4783-8AB6-F04D116CF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B37F3-828C-4604-9167-12D0C49EB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A3EDB-7127-4AAF-9196-50A8465AE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C2AE8-7B05-4566-BC0B-C318195B4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04C46-E805-4F23-B767-F381B0945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F4E56-4ADC-494E-B859-62C4CF67B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8C0AF-2F13-4FFA-845B-DC0E4832C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B71C4-C4A9-4ECE-9607-EEE93F427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007E6-C74A-4223-9056-324C86F003FB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14240" y="7855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Урок 1.</a:t>
            </a:r>
            <a:br>
              <a:rPr sz="2400"/>
            </a:b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Тема: «Смеси и проценты» </a:t>
            </a:r>
            <a:br>
              <a:rPr sz="2400"/>
            </a:b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УМК «Математика» 6класс, под редакцией В.В. Козлова, А.А. Никитина</a:t>
            </a:r>
            <a:br>
              <a:rPr sz="2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c00000"/>
                </a:solidFill>
                <a:latin typeface="Calibri"/>
              </a:rPr>
              <a:t>Тип урока: изучение и первичное закрепление новых знаний и способов действий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57200" y="2714760"/>
            <a:ext cx="6400800" cy="235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Calibri"/>
              </a:rPr>
              <a:t>группа 3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Литвиненко Светлана Павловна МБОУ СОШ № 83 г. Краснодар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Зайцева Лариса Евгеньевна МБОУ СОШ № 83 г. Краснодар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Солодёнкова Галина Станиславовна МБОУ СОШ № 83 г. Краснодар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Бондаренко Галина Александровна МБОУ СОШ №83 г. Краснодар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Мардеросян Аведис Граирович МБОУ гимназия "Эврика" г.Анап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Rectangle 1"/>
          <p:cNvSpPr/>
          <p:nvPr/>
        </p:nvSpPr>
        <p:spPr>
          <a:xfrm>
            <a:off x="3516480" y="6072480"/>
            <a:ext cx="224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Arial"/>
                <a:ea typeface="Times New Roman"/>
              </a:rPr>
              <a:t>Краснодар - 20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Calibri"/>
              </a:rPr>
              <a:t>Задача 4*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714680"/>
            <a:ext cx="8229600" cy="36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0000"/>
                </a:solidFill>
                <a:uFillTx/>
                <a:latin typeface="Calibri"/>
              </a:rPr>
              <a:t>Указание к решению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Сначала нужно найти массу соли в заданном растворе, а затем полученное число разделить на (200+40) и умножить на 100%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4" descr="смешная анимация, эротическая анимация "/>
          <p:cNvPicPr/>
          <p:nvPr/>
        </p:nvPicPr>
        <p:blipFill>
          <a:blip r:embed="rId1"/>
          <a:stretch/>
        </p:blipFill>
        <p:spPr>
          <a:xfrm>
            <a:off x="7572240" y="5357880"/>
            <a:ext cx="1219320" cy="121896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Решени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28760" y="856800"/>
            <a:ext cx="822960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усть Х гр. масса соли в 30% растворе, тогда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Х:200=30:1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 свойству пропорци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Х*100=200*3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Х=(200*30):1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Х=60 (г) – соли в 30% раствор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усть Х гр. масса соли в 35% растворе, тогд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Х:40=35:1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аналогично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Х=14 (г) – соли в 35% раствор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и смешивании растворов получаем массу нового раствора 240 гр., а масса соли в новом растворе 74 гр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74:240*100% =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твет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Рисунок 3" descr=""/>
          <p:cNvPicPr/>
          <p:nvPr/>
        </p:nvPicPr>
        <p:blipFill>
          <a:blip r:embed="rId1"/>
          <a:srcRect l="25818" t="30910" r="67663" b="63356"/>
          <a:stretch/>
        </p:blipFill>
        <p:spPr>
          <a:xfrm>
            <a:off x="2214720" y="5357880"/>
            <a:ext cx="714240" cy="642960"/>
          </a:xfrm>
          <a:prstGeom prst="rect">
            <a:avLst/>
          </a:prstGeom>
          <a:ln w="0">
            <a:noFill/>
          </a:ln>
        </p:spPr>
      </p:pic>
      <p:pic>
        <p:nvPicPr>
          <p:cNvPr id="80" name="Рисунок 4" descr=""/>
          <p:cNvPicPr/>
          <p:nvPr/>
        </p:nvPicPr>
        <p:blipFill>
          <a:blip r:embed="rId2"/>
          <a:srcRect l="25818" t="30910" r="67663" b="63356"/>
          <a:stretch/>
        </p:blipFill>
        <p:spPr>
          <a:xfrm>
            <a:off x="1357200" y="6000840"/>
            <a:ext cx="714600" cy="64296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Calibri"/>
              </a:rPr>
              <a:t>Физминутк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Отвечаем на вопросы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и согласии – движение головой вверх – вниз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и несогласии – повороты головы влево – вправо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Чай – это раствор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Тесто –это смесь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1/2=50% 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Воздух – это раствор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Золотые украшения – это сплав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Бензин  это сплав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0,3= 30% 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5/7=10/12 верная пропорция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На все вопросы мы ответили правильно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Самооценка (аплодисменты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5" descr="Анимация"/>
          <p:cNvPicPr/>
          <p:nvPr/>
        </p:nvPicPr>
        <p:blipFill>
          <a:blip r:embed="rId1"/>
          <a:stretch/>
        </p:blipFill>
        <p:spPr>
          <a:xfrm>
            <a:off x="7715160" y="214200"/>
            <a:ext cx="1214640" cy="121464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Calibri"/>
              </a:rPr>
              <a:t>Задачи для самостоятельного решен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999720"/>
            <a:ext cx="822960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1 Вариант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плав для изготовления ювелирных украшений содержит 29/50 всей массы сплава золото, 7/20 всей массы сплава медь и другие примес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а) Какую часть всей массы сплава составляют другие примеси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б) Каково процентное содержание всех компонентов сплава?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Calibri"/>
              </a:rPr>
              <a:t>Ответ: а)0,07; б)58%, 35%, 7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2 Вариант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а) Какую часть всего напитка составляет вода, 1/4   всего напитка фрукты, 1/8  всего напитка сахар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б) Каково процентное содержание всех компонентов напитка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Calibri"/>
              </a:rPr>
              <a:t>Ответ:  а)0,625; б)25%, 12,5%, 62,5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ll dir="l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" dur="500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9" dur="500"/>
                                        <p:tgtEl>
                                          <p:spTgt spid="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6840" y="1999800"/>
            <a:ext cx="8186760" cy="41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050"/>
                </a:solidFill>
                <a:latin typeface="Calibri"/>
              </a:rPr>
              <a:t>стр. 259-260 оформить задачу (пример 2)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050"/>
                </a:solidFill>
                <a:latin typeface="Calibri"/>
              </a:rPr>
              <a:t>стр.262  №3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9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cc"/>
                </a:solidFill>
                <a:latin typeface="Calibri"/>
              </a:rPr>
              <a:t>доп. задание стр. 262 №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9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ll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5"/>
          <p:cNvSpPr/>
          <p:nvPr/>
        </p:nvSpPr>
        <p:spPr>
          <a:xfrm>
            <a:off x="714240" y="1439640"/>
            <a:ext cx="807264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Дидактическая цель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создать условия для формирования новой учебной информац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Цели по содержанию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чающие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продемонстрировать одно из важных применений теории пропорций к расчету состава смеси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вающие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развивать умения анализировать, сравнивать, обобщать, дела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воды, развивать внимание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оспитательные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развивать познавательный интерес ,воспитание ответственности через  совместную работу способствовать пониманию необходимости интеллектуальных усилий для успешного обучения, настойчивости для достижения цели; развивать самостоятельность, добросовестность и аккуратность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504d"/>
                </a:solidFill>
                <a:latin typeface="Calibri"/>
              </a:rPr>
              <a:t>Цель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8"/>
          <p:cNvSpPr/>
          <p:nvPr/>
        </p:nvSpPr>
        <p:spPr>
          <a:xfrm>
            <a:off x="571680" y="1592280"/>
            <a:ext cx="82152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Предметные умения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сформировать у учащихся понятия: «часть, составляющая содержание компоненты в смеси веществ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Личностные УУД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самоопределение, смыслообразова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Метапредметные УУД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Познавательные УУД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: целеполагание, анализ, синтез, обобщение, аналогия, самостоятельное выделение и формулирование познавательной цели, поиск и выделение необходимой информации, выдвижение гипотез и их обоснование, создание способа решения проблем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Регулятивные УУД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выполнение пробного учебного действия, фиксация индивидуальног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затруднения, волевая саморегуляция в ситуации затруднен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Коммуникативные УУД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планирование учебного сотрудничества, выражение своих мыслей, использование речевых средств для решения коммуникационных задач, достижение договорённости и согласование общего решен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Формируемые УУД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ll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00240" y="356760"/>
            <a:ext cx="2928960" cy="58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4f81bd"/>
                </a:solidFill>
                <a:latin typeface="Monotype Corsiva"/>
              </a:rPr>
              <a:t>Устно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Box 5"/>
          <p:cNvSpPr/>
          <p:nvPr/>
        </p:nvSpPr>
        <p:spPr>
          <a:xfrm>
            <a:off x="3714840" y="3143160"/>
            <a:ext cx="164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b050"/>
                </a:solidFill>
                <a:latin typeface="Monotype Corsiva"/>
              </a:rPr>
              <a:t>Ответ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0" descr=""/>
          <p:cNvPicPr/>
          <p:nvPr/>
        </p:nvPicPr>
        <p:blipFill>
          <a:blip r:embed="rId1"/>
          <a:srcRect l="25634" t="31250" r="23829" b="52151"/>
          <a:stretch/>
        </p:blipFill>
        <p:spPr>
          <a:xfrm>
            <a:off x="1143000" y="1214280"/>
            <a:ext cx="7072200" cy="1743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1" descr=""/>
          <p:cNvPicPr/>
          <p:nvPr/>
        </p:nvPicPr>
        <p:blipFill>
          <a:blip r:embed="rId2"/>
          <a:srcRect l="25830" t="30472" r="23633" b="51954"/>
          <a:stretch/>
        </p:blipFill>
        <p:spPr>
          <a:xfrm>
            <a:off x="1095480" y="4071960"/>
            <a:ext cx="7191360" cy="185724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Вопрос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28760" y="1428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Какую часть составляют 15%; 7%; 0,3%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В какой зависимости находятся пройденный путь и время в пути, при постоянной скорости автомобиля? (прямо пропорциональная зависимость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Как называется наша планета? (Земля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Почему нет жизни на Марсе? (В воздухе  малое содержание кислорода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Сколько % кислорода в воздухе необходимо для нормального дыхания человеку? (проблема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8" descr="animated_question_mark"/>
          <p:cNvPicPr/>
          <p:nvPr/>
        </p:nvPicPr>
        <p:blipFill>
          <a:blip r:embed="rId1"/>
          <a:stretch/>
        </p:blipFill>
        <p:spPr>
          <a:xfrm>
            <a:off x="7429680" y="142920"/>
            <a:ext cx="1512720" cy="151272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WordArt 4" descr=""/>
          <p:cNvPicPr/>
          <p:nvPr/>
        </p:nvPicPr>
        <p:blipFill>
          <a:blip r:embed="rId1"/>
          <a:stretch/>
        </p:blipFill>
        <p:spPr>
          <a:xfrm>
            <a:off x="-1152360" y="262080"/>
            <a:ext cx="10173960" cy="22986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9" descr="ингри-иенты-я-сухих-специй-33819163"/>
          <p:cNvPicPr/>
          <p:nvPr/>
        </p:nvPicPr>
        <p:blipFill>
          <a:blip r:embed="rId2"/>
          <a:srcRect l="0" t="0" r="0" b="15072"/>
          <a:stretch/>
        </p:blipFill>
        <p:spPr>
          <a:xfrm>
            <a:off x="214200" y="3000240"/>
            <a:ext cx="2643480" cy="19558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0" descr="tovar-557512"/>
          <p:cNvPicPr/>
          <p:nvPr/>
        </p:nvPicPr>
        <p:blipFill>
          <a:blip r:embed="rId3"/>
          <a:stretch/>
        </p:blipFill>
        <p:spPr>
          <a:xfrm>
            <a:off x="3214800" y="3929040"/>
            <a:ext cx="3282840" cy="25002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" descr="image002"/>
          <p:cNvPicPr/>
          <p:nvPr/>
        </p:nvPicPr>
        <p:blipFill>
          <a:blip r:embed="rId4"/>
          <a:stretch/>
        </p:blipFill>
        <p:spPr>
          <a:xfrm>
            <a:off x="6711840" y="2919240"/>
            <a:ext cx="2194200" cy="258624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12"/>
          <p:cNvSpPr/>
          <p:nvPr/>
        </p:nvSpPr>
        <p:spPr>
          <a:xfrm>
            <a:off x="785880" y="5500800"/>
            <a:ext cx="1081080" cy="6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Смес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4"/>
          <p:cNvSpPr/>
          <p:nvPr/>
        </p:nvSpPr>
        <p:spPr>
          <a:xfrm>
            <a:off x="4000680" y="300024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Сплав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5"/>
          <p:cNvSpPr/>
          <p:nvPr/>
        </p:nvSpPr>
        <p:spPr>
          <a:xfrm>
            <a:off x="7143840" y="6000840"/>
            <a:ext cx="17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Раство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4"/>
          <p:cNvSpPr/>
          <p:nvPr/>
        </p:nvSpPr>
        <p:spPr>
          <a:xfrm>
            <a:off x="1500120" y="147960"/>
            <a:ext cx="568656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504d"/>
                </a:solidFill>
                <a:latin typeface="Calibri"/>
              </a:rPr>
              <a:t>Основные понят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Вещество, смеси, компоненты. Пропорциональная зависим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компонентов в смеси веществ.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41d34d64cd6bd786701165b7f22a3b47_i-5556"/>
          <p:cNvPicPr/>
          <p:nvPr/>
        </p:nvPicPr>
        <p:blipFill>
          <a:blip r:embed="rId1"/>
          <a:stretch/>
        </p:blipFill>
        <p:spPr>
          <a:xfrm>
            <a:off x="0" y="1643040"/>
            <a:ext cx="9144000" cy="544356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6" descr="i"/>
          <p:cNvPicPr/>
          <p:nvPr/>
        </p:nvPicPr>
        <p:blipFill>
          <a:blip r:embed="rId1"/>
          <a:stretch/>
        </p:blipFill>
        <p:spPr>
          <a:xfrm>
            <a:off x="0" y="20520"/>
            <a:ext cx="9144000" cy="684864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Учебник стр. 260. Вопрос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928800"/>
            <a:ext cx="8229600" cy="564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акую часть занимают примеси в воздухе, если 0,78 всей массы воздуха составляет азот, а 0,21 всей массы воздуха – это кислород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аково процентное содержание азота, кислорода и примесей, если 0,78 всей массы воздуха составляет, а 0,21 –кислорода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Стр.20. Пример 3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з одной тоны молока можно изготовить 33 кг масла. Сколько масла получится из 40 кг молока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Вопрос. Сколько потребуется молока, чтобы при тех же условиях приготовить 16,5 кг масла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ll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3T14:12:22Z</dcterms:created>
  <dc:creator>User</dc:creator>
  <dc:description/>
  <dc:language>en-US</dc:language>
  <cp:lastModifiedBy>Admin</cp:lastModifiedBy>
  <dcterms:modified xsi:type="dcterms:W3CDTF">2018-11-22T05:19:44Z</dcterms:modified>
  <cp:revision>121</cp:revision>
  <dc:subject/>
  <dc:title>Слайд 1</dc:title>
</cp:coreProperties>
</file>