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16.png" ContentType="image/png"/>
  <Override PartName="/ppt/media/image13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4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C032-FFA2-4155-A4CE-09A37E95E5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2A60-D340-49E5-BC61-F280F1F524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C75-6A2A-47D4-ABFB-4A0BB3B6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1593-94A1-4F53-8839-15AFBB30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5F7-F985-4645-9838-EC0372E1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6A77-C8BE-442B-9B44-FE9A0675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A0A0-43CC-4BD0-AAA3-D60DF6F9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EFB5-4461-43C8-A30D-285DFE2C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791F-E648-4887-B442-46AE96A5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3125-C579-4E8C-A745-9A8E5764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56A-436B-42E0-A5D5-878BC9AF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AD9-6FD7-40F5-AB4A-81CD7CCA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36FF-6F61-4615-BCB9-FA6A194C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16A-5496-4501-8B05-E9329520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2352-3E60-412C-9FC1-A26876B4BD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6.xml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" Target="slide16.xml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8800" spc="-1" strike="noStrike">
                <a:solidFill>
                  <a:srgbClr val="ff0000"/>
                </a:solidFill>
                <a:latin typeface="Calibri"/>
              </a:rPr>
              <a:t>Семейный праздник «Лад»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280" y="450864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4581000"/>
            <a:ext cx="4038480" cy="1544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Алина\Desktop\творчество.jpg"/>
          <p:cNvPicPr/>
          <p:nvPr/>
        </p:nvPicPr>
        <p:blipFill>
          <a:blip r:embed="rId3"/>
          <a:stretch/>
        </p:blipFill>
        <p:spPr>
          <a:xfrm>
            <a:off x="2278080" y="3789360"/>
            <a:ext cx="5041800" cy="2630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Алина\Desktop\мы.png"/>
          <p:cNvPicPr/>
          <p:nvPr/>
        </p:nvPicPr>
        <p:blipFill>
          <a:blip r:embed="rId4"/>
          <a:stretch/>
        </p:blipFill>
        <p:spPr>
          <a:xfrm>
            <a:off x="6300720" y="404640"/>
            <a:ext cx="20383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Вертикальный свиток 1"/>
          <p:cNvSpPr/>
          <p:nvPr/>
        </p:nvSpPr>
        <p:spPr>
          <a:xfrm>
            <a:off x="119160" y="1628640"/>
            <a:ext cx="5389560" cy="36007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48800" y="2035080"/>
            <a:ext cx="46198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л он утром на кро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л рубашку надева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укава просунул руки 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азалось, это брюки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место шляпы на х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надел сковор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859E-D191-4B7F-A1A2-C91C8408A27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729B-B8BF-4E6E-BB8F-B0DF85D1BB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324240" cy="428652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5"/>
          <p:cNvSpPr/>
          <p:nvPr/>
        </p:nvSpPr>
        <p:spPr>
          <a:xfrm>
            <a:off x="1981800" y="633240"/>
            <a:ext cx="50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5" descr=""/>
          <p:cNvPicPr/>
          <p:nvPr/>
        </p:nvPicPr>
        <p:blipFill>
          <a:blip r:embed="rId2"/>
          <a:stretch/>
        </p:blipFill>
        <p:spPr>
          <a:xfrm>
            <a:off x="8101080" y="37296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Вертикальный свиток 1"/>
          <p:cNvSpPr/>
          <p:nvPr/>
        </p:nvSpPr>
        <p:spPr>
          <a:xfrm>
            <a:off x="28440" y="1174680"/>
            <a:ext cx="5459400" cy="511344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174960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ди спрашиваю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Кто это у вас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девочка говори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то моя доч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ди спрашиваю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чему у вашей д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рые щёч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девочка говорит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на давно не мыла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11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BD5F-2053-4A99-97A1-77F36AA8357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B137-CEA0-4616-8A4B-05192C44F7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5" descr=""/>
          <p:cNvPicPr/>
          <p:nvPr/>
        </p:nvPicPr>
        <p:blipFill>
          <a:blip r:embed="rId1"/>
          <a:stretch/>
        </p:blipFill>
        <p:spPr>
          <a:xfrm>
            <a:off x="5648400" y="1587600"/>
            <a:ext cx="3247920" cy="42861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6"/>
          <p:cNvSpPr/>
          <p:nvPr/>
        </p:nvSpPr>
        <p:spPr>
          <a:xfrm>
            <a:off x="1692360" y="488880"/>
            <a:ext cx="55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6" descr=""/>
          <p:cNvPicPr/>
          <p:nvPr/>
        </p:nvPicPr>
        <p:blipFill>
          <a:blip r:embed="rId2"/>
          <a:stretch/>
        </p:blipFill>
        <p:spPr>
          <a:xfrm>
            <a:off x="8191440" y="36684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Вертикальный свиток 5"/>
          <p:cNvSpPr/>
          <p:nvPr/>
        </p:nvSpPr>
        <p:spPr>
          <a:xfrm>
            <a:off x="179280" y="1557360"/>
            <a:ext cx="5400720" cy="428616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169720"/>
            <a:ext cx="4680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ма сдавала в багаж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ван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квояж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модан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тину, корзину, картон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маленькую собачон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7AE1-D358-4A6F-8C52-58FDE007764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7D72-06C5-4EB1-A10A-71D182DB9C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724360" y="1646280"/>
            <a:ext cx="3168720" cy="410832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1"/>
          <p:cNvSpPr/>
          <p:nvPr/>
        </p:nvSpPr>
        <p:spPr>
          <a:xfrm>
            <a:off x="1908000" y="620640"/>
            <a:ext cx="545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1" descr=""/>
          <p:cNvPicPr/>
          <p:nvPr/>
        </p:nvPicPr>
        <p:blipFill>
          <a:blip r:embed="rId2"/>
          <a:stretch/>
        </p:blipFill>
        <p:spPr>
          <a:xfrm>
            <a:off x="8124840" y="3222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Вертикальный свиток 2"/>
          <p:cNvSpPr/>
          <p:nvPr/>
        </p:nvSpPr>
        <p:spPr>
          <a:xfrm>
            <a:off x="108000" y="1539720"/>
            <a:ext cx="5688000" cy="43927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5280" y="206064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 праздник новогод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дали мы приказ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скай цветут сегод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снежники у нас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лесу цветёт подснежни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не метель метё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тот из вас мятежни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то скажет: не метёт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D4DB-15E5-49CB-9CFD-9F19DEB6044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F995-7C17-43BF-9C7E-CD008441C8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5867280" y="1677960"/>
            <a:ext cx="3152880" cy="42861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1"/>
          <p:cNvSpPr/>
          <p:nvPr/>
        </p:nvSpPr>
        <p:spPr>
          <a:xfrm>
            <a:off x="1719360" y="549360"/>
            <a:ext cx="552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1" descr=""/>
          <p:cNvPicPr/>
          <p:nvPr/>
        </p:nvPicPr>
        <p:blipFill>
          <a:blip r:embed="rId2"/>
          <a:stretch/>
        </p:blipFill>
        <p:spPr>
          <a:xfrm>
            <a:off x="8078760" y="325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Вертикальный свиток 2"/>
          <p:cNvSpPr/>
          <p:nvPr/>
        </p:nvSpPr>
        <p:spPr>
          <a:xfrm>
            <a:off x="108000" y="1484280"/>
            <a:ext cx="5256000" cy="41767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4000" y="1988640"/>
            <a:ext cx="4330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им – бом! Тили – бом!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дворе - высокий дом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венки резные,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на расписные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на лестнице ковер –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итый золотом узор.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узорному ковру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ходит кошка по утру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E575-C191-4B12-BF21-96499568E98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4D0C-4005-42C5-B504-69B1796E5A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5562720" y="1370160"/>
            <a:ext cx="3371760" cy="4506840"/>
          </a:xfrm>
          <a:prstGeom prst="rect">
            <a:avLst/>
          </a:prstGeom>
          <a:ln w="0">
            <a:noFill/>
          </a:ln>
        </p:spPr>
      </p:pic>
      <p:sp>
        <p:nvSpPr>
          <p:cNvPr id="157" name="Стрелка вправо 5">
            <a:hlinkClick r:id="rId2" action="ppaction://hlinksldjump"/>
          </p:cNvPr>
          <p:cNvSpPr/>
          <p:nvPr/>
        </p:nvSpPr>
        <p:spPr>
          <a:xfrm>
            <a:off x="7932600" y="59500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"/>
          <p:cNvSpPr/>
          <p:nvPr/>
        </p:nvSpPr>
        <p:spPr>
          <a:xfrm>
            <a:off x="1835280" y="60480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адай произве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1" descr=""/>
          <p:cNvPicPr/>
          <p:nvPr/>
        </p:nvPicPr>
        <p:blipFill>
          <a:blip r:embed="rId3"/>
          <a:stretch/>
        </p:blipFill>
        <p:spPr>
          <a:xfrm>
            <a:off x="8024760" y="3268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Что за сказ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2124000" y="595008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  <a:ea typeface="Arial"/>
              </a:rPr>
              <a:t>МУХА-ЦОКОТ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Содержимое 6" descr="4af45fb9594a.gif"/>
          <p:cNvPicPr/>
          <p:nvPr/>
        </p:nvPicPr>
        <p:blipFill>
          <a:blip r:embed="rId1"/>
          <a:stretch/>
        </p:blipFill>
        <p:spPr>
          <a:xfrm>
            <a:off x="1763640" y="1268280"/>
            <a:ext cx="5519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Что за сказ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Рисунок 14" descr="eba7e2d928.jpg"/>
          <p:cNvPicPr/>
          <p:nvPr/>
        </p:nvPicPr>
        <p:blipFill>
          <a:blip r:embed="rId1"/>
          <a:stretch/>
        </p:blipFill>
        <p:spPr>
          <a:xfrm>
            <a:off x="2771640" y="981000"/>
            <a:ext cx="3672000" cy="48690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2195640" y="59500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  <a:ea typeface="Arial"/>
              </a:rPr>
              <a:t>КРАДЕНОЕ 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Что за сказ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Рисунок 4" descr="i (3).jpg"/>
          <p:cNvPicPr/>
          <p:nvPr/>
        </p:nvPicPr>
        <p:blipFill>
          <a:blip r:embed="rId1"/>
          <a:stretch/>
        </p:blipFill>
        <p:spPr>
          <a:xfrm>
            <a:off x="1979640" y="1197000"/>
            <a:ext cx="5472000" cy="42973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2124000" y="5805360"/>
            <a:ext cx="56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  <a:ea typeface="Arial"/>
              </a:rPr>
              <a:t>МОЙДОДЫ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6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Что за сказ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Содержимое 5" descr="mouse-suteev-04.jpg"/>
          <p:cNvPicPr/>
          <p:nvPr/>
        </p:nvPicPr>
        <p:blipFill>
          <a:blip r:embed="rId1"/>
          <a:stretch/>
        </p:blipFill>
        <p:spPr>
          <a:xfrm>
            <a:off x="1547640" y="981000"/>
            <a:ext cx="6096240" cy="52167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2411280" y="6237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  <a:ea typeface="Arial"/>
              </a:rPr>
              <a:t>ФЕДОРИНО Г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1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5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Что за сказ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Рисунок 18" descr="i.jpg"/>
          <p:cNvPicPr/>
          <p:nvPr/>
        </p:nvPicPr>
        <p:blipFill>
          <a:blip r:embed="rId1"/>
          <a:stretch/>
        </p:blipFill>
        <p:spPr>
          <a:xfrm>
            <a:off x="900000" y="981000"/>
            <a:ext cx="7344000" cy="47894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2987640" y="5877000"/>
            <a:ext cx="42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  <a:ea typeface="Arial"/>
              </a:rPr>
              <a:t>    </a:t>
            </a:r>
            <a:r>
              <a:rPr b="0" lang="ru-RU" sz="3200" spc="-1" strike="noStrike">
                <a:solidFill>
                  <a:srgbClr val="c00000"/>
                </a:solidFill>
                <a:latin typeface="Arial Black"/>
                <a:ea typeface="Arial"/>
              </a:rPr>
              <a:t>АЙБОЛ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«</a:t>
            </a: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По страницам</a:t>
            </a:r>
            <a:br>
              <a:rPr sz="7200"/>
            </a:b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          книг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4038480" cy="370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8320" y="2349000"/>
            <a:ext cx="4038480" cy="3776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Алина\Desktop\кн.jpg"/>
          <p:cNvPicPr/>
          <p:nvPr/>
        </p:nvPicPr>
        <p:blipFill>
          <a:blip r:embed="rId3"/>
          <a:stretch/>
        </p:blipFill>
        <p:spPr>
          <a:xfrm>
            <a:off x="2124000" y="2708280"/>
            <a:ext cx="5112000" cy="331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Алина\Desktop\book.jpg"/>
          <p:cNvPicPr/>
          <p:nvPr/>
        </p:nvPicPr>
        <p:blipFill>
          <a:blip r:embed="rId4"/>
          <a:stretch/>
        </p:blipFill>
        <p:spPr>
          <a:xfrm>
            <a:off x="7093080" y="404640"/>
            <a:ext cx="1744560" cy="13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 Black"/>
              </a:rPr>
              <a:t>Что за сказ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Рисунок 19" descr="3865_Бармалей 5 разворот копия.jpg"/>
          <p:cNvPicPr/>
          <p:nvPr/>
        </p:nvPicPr>
        <p:blipFill>
          <a:blip r:embed="rId1"/>
          <a:stretch/>
        </p:blipFill>
        <p:spPr>
          <a:xfrm>
            <a:off x="1403280" y="1125360"/>
            <a:ext cx="6624720" cy="46198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4"/>
          <p:cNvSpPr/>
          <p:nvPr/>
        </p:nvSpPr>
        <p:spPr>
          <a:xfrm>
            <a:off x="3419640" y="5950080"/>
            <a:ext cx="41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  <a:ea typeface="Arial"/>
              </a:rPr>
              <a:t>БАРМА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5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74800" y="981000"/>
            <a:ext cx="5111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Родил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31 марта 1882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етербур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Прожил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87 л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Настоящее им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Николай Васильевич Корнейчу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Рисунок 7" descr="16677407_0.jpg"/>
          <p:cNvPicPr/>
          <p:nvPr/>
        </p:nvPicPr>
        <p:blipFill>
          <a:blip r:embed="rId1"/>
          <a:stretch/>
        </p:blipFill>
        <p:spPr>
          <a:xfrm>
            <a:off x="179280" y="765000"/>
            <a:ext cx="3421080" cy="5016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От двух  до пя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Содержимое 3" descr="2VjMi00Zm.jpg"/>
          <p:cNvPicPr/>
          <p:nvPr/>
        </p:nvPicPr>
        <p:blipFill>
          <a:blip r:embed="rId1"/>
          <a:stretch/>
        </p:blipFill>
        <p:spPr>
          <a:xfrm>
            <a:off x="1258920" y="1413000"/>
            <a:ext cx="6553080" cy="425448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4"/>
          <p:cNvSpPr/>
          <p:nvPr/>
        </p:nvSpPr>
        <p:spPr>
          <a:xfrm>
            <a:off x="9144000" y="1125360"/>
            <a:ext cx="85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- Красная Шапочка вышла из пасти волка   жёваная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6"/>
          <p:cNvSpPr/>
          <p:nvPr/>
        </p:nvSpPr>
        <p:spPr>
          <a:xfrm>
            <a:off x="9325080" y="2708280"/>
            <a:ext cx="68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6a23a"/>
                </a:solidFill>
                <a:latin typeface="Arial Black"/>
                <a:ea typeface="Arial"/>
              </a:rPr>
              <a:t>Глядя на лысого:</a:t>
            </a:r>
            <a:br>
              <a:rPr sz="2800"/>
            </a:br>
            <a:r>
              <a:rPr b="1" lang="ru-RU" sz="2800" spc="-1" strike="noStrike">
                <a:solidFill>
                  <a:srgbClr val="06a23a"/>
                </a:solidFill>
                <a:latin typeface="Arial Black"/>
                <a:ea typeface="Arial"/>
              </a:rPr>
              <a:t>- Почему у тебя так много лица?</a:t>
            </a:r>
            <a:r>
              <a:rPr b="0" lang="ru-RU" sz="1800" spc="-1" strike="noStrike">
                <a:solidFill>
                  <a:srgbClr val="06a23a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7"/>
          <p:cNvSpPr/>
          <p:nvPr/>
        </p:nvSpPr>
        <p:spPr>
          <a:xfrm>
            <a:off x="9144000" y="4292640"/>
            <a:ext cx="87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Девочка ехала в поезде с разговорчивой матерью, которую долго ревновала к её собеседникам; наконец зажала ей рот: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- Мама, закрой своё радио!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81481E-006 L -0.90347 0.00394 E">
                                      <p:cBhvr>
                                        <p:cTn id="548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92517 -0.02222 E">
                                      <p:cBhvr>
                                        <p:cTn id="552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-0.91962 -0.03634 E">
                                      <p:cBhvr>
                                        <p:cTn id="556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От двух  до пя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0560" y="907920"/>
            <a:ext cx="8713800" cy="561672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3"/>
          <p:cNvSpPr/>
          <p:nvPr/>
        </p:nvSpPr>
        <p:spPr>
          <a:xfrm>
            <a:off x="9325080" y="836640"/>
            <a:ext cx="871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- Я выйду замуж за Вову, - говорит четырёхлетняя Таня, - у него красивый костюмчик, и за Петю тоже, он подарил мне копеечку.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- А как же Лёша? Ведь у него столько игрушек! 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- Что ж! Придётся мне и за него выход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9396360" y="4581360"/>
            <a:ext cx="69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a23a"/>
                </a:solidFill>
                <a:latin typeface="Arial"/>
                <a:ea typeface="Arial"/>
              </a:rPr>
              <a:t>- </a:t>
            </a:r>
            <a:r>
              <a:rPr b="0" lang="ru-RU" sz="2800" spc="-1" strike="noStrike">
                <a:solidFill>
                  <a:srgbClr val="06a23a"/>
                </a:solidFill>
                <a:latin typeface="Arial Black"/>
                <a:ea typeface="Arial"/>
              </a:rPr>
              <a:t>Глаза, чтобы смотреть... Уши, чтобы слышать... Рот, чтобы говорить... А пуп зачем? Должно быть, для красоты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8148E-006 L -0.9507 -0.01134 E">
                                      <p:cBhvr>
                                        <p:cTn id="562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-0.95677 -0.00648 E">
                                      <p:cBhvr>
                                        <p:cTn id="56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От двух  до пя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964720" cy="561672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3"/>
          <p:cNvSpPr/>
          <p:nvPr/>
        </p:nvSpPr>
        <p:spPr>
          <a:xfrm>
            <a:off x="9325080" y="105264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6a23a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a23a"/>
                </a:solidFill>
                <a:latin typeface="Arial Black"/>
                <a:ea typeface="Arial"/>
              </a:rPr>
              <a:t>Зачем снег на крыш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a23a"/>
                </a:solidFill>
                <a:latin typeface="Arial Black"/>
                <a:ea typeface="Arial"/>
              </a:rPr>
              <a:t>Ведь по крыше не катаются ни на лыжах, ни на санках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4"/>
          <p:cNvSpPr/>
          <p:nvPr/>
        </p:nvSpPr>
        <p:spPr>
          <a:xfrm>
            <a:off x="9325080" y="296712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Black"/>
                <a:ea typeface="Arial"/>
              </a:rPr>
              <a:t>- У меня эти глаза навсегда или они, как зубы, выпадут?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5"/>
          <p:cNvSpPr/>
          <p:nvPr/>
        </p:nvSpPr>
        <p:spPr>
          <a:xfrm>
            <a:off x="9325080" y="4653000"/>
            <a:ext cx="72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a23a"/>
                </a:solidFill>
                <a:latin typeface="Arial Black"/>
                <a:ea typeface="Arial"/>
              </a:rPr>
              <a:t>- Как ты смеешь драться?</a:t>
            </a:r>
            <a:br>
              <a:rPr sz="2800"/>
            </a:br>
            <a:r>
              <a:rPr b="0" lang="ru-RU" sz="2800" spc="-1" strike="noStrike">
                <a:solidFill>
                  <a:srgbClr val="06a23a"/>
                </a:solidFill>
                <a:latin typeface="Arial Black"/>
                <a:ea typeface="Arial"/>
              </a:rPr>
              <a:t>- Ах, мамочка, что же мне делать, если драка так и лезет из мен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85185E-006 L -0.97257 -0.00648 E">
                                      <p:cBhvr>
                                        <p:cTn id="572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81481E-006 L -0.96476 -0.0125 E">
                                      <p:cBhvr>
                                        <p:cTn id="57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22222E-006 L -0.96632 -0.00555 E">
                                      <p:cBhvr>
                                        <p:cTn id="580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65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Содержимое 5" descr="ea99e96453.jpg"/>
          <p:cNvPicPr/>
          <p:nvPr/>
        </p:nvPicPr>
        <p:blipFill>
          <a:blip r:embed="rId1"/>
          <a:stretch/>
        </p:blipFill>
        <p:spPr>
          <a:xfrm>
            <a:off x="2195640" y="836640"/>
            <a:ext cx="4879800" cy="52052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6"/>
          <p:cNvSpPr/>
          <p:nvPr/>
        </p:nvSpPr>
        <p:spPr>
          <a:xfrm>
            <a:off x="3059280" y="6021360"/>
            <a:ext cx="41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  <a:ea typeface="Arial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1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ергей Владимирович Михал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ргей Владимирович Михалков родился 13 марта 1913 года в Москв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ился в Литературном институте имени Горького.  Издал свою первую книгу будучи студент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6" descr="i_mikhalkov3_2.jpg"/>
          <p:cNvPicPr/>
          <p:nvPr/>
        </p:nvPicPr>
        <p:blipFill>
          <a:blip r:embed="rId1"/>
          <a:stretch/>
        </p:blipFill>
        <p:spPr>
          <a:xfrm>
            <a:off x="642960" y="1643040"/>
            <a:ext cx="34542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ергей Владимирович Михал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В годы Великой Отечественной войны Михалков находился в рядах Красной армии, работал в армейской печа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Знаменитые строки на гранитной плите Вечного огня у Кремлевской стены: </a:t>
            </a:r>
            <a:r>
              <a:rPr b="1" i="1" lang="ru-RU" sz="2200" spc="-1" strike="noStrike">
                <a:solidFill>
                  <a:srgbClr val="c00000"/>
                </a:solidFill>
                <a:latin typeface="Calibri"/>
                <a:ea typeface="Arial"/>
              </a:rPr>
              <a:t>"Имя твое неизвестно, подвиг твой бессмертен"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, - также принадлежит Михалков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осле Великой Отечественной войны Михалков продолжил свою литературную деятельнос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5" descr="mihal3.jpg"/>
          <p:cNvPicPr/>
          <p:nvPr/>
        </p:nvPicPr>
        <p:blipFill>
          <a:blip r:embed="rId1"/>
          <a:stretch/>
        </p:blipFill>
        <p:spPr>
          <a:xfrm>
            <a:off x="285840" y="2071800"/>
            <a:ext cx="4165560" cy="2913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mihal2.jpg"/>
          <p:cNvPicPr/>
          <p:nvPr/>
        </p:nvPicPr>
        <p:blipFill>
          <a:blip r:embed="rId2"/>
          <a:stretch/>
        </p:blipFill>
        <p:spPr>
          <a:xfrm>
            <a:off x="928800" y="1571760"/>
            <a:ext cx="2666880" cy="4429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monument200.jpg"/>
          <p:cNvPicPr/>
          <p:nvPr/>
        </p:nvPicPr>
        <p:blipFill>
          <a:blip r:embed="rId3"/>
          <a:stretch/>
        </p:blipFill>
        <p:spPr>
          <a:xfrm>
            <a:off x="214200" y="1857240"/>
            <a:ext cx="45259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Литературная деятельность                     С. В. Михалк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untitled.bmp"/>
          <p:cNvPicPr/>
          <p:nvPr/>
        </p:nvPicPr>
        <p:blipFill>
          <a:blip r:embed="rId1"/>
          <a:stretch/>
        </p:blipFill>
        <p:spPr>
          <a:xfrm>
            <a:off x="285840" y="1571760"/>
            <a:ext cx="3881520" cy="3357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648320" y="1142640"/>
            <a:ext cx="40384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э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ис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аснописе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раматур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водч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ценари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урнали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втор гимна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214200" y="5500800"/>
            <a:ext cx="8786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5" descr="058128.jpg"/>
          <p:cNvPicPr/>
          <p:nvPr/>
        </p:nvPicPr>
        <p:blipFill>
          <a:blip r:embed="rId2"/>
          <a:stretch/>
        </p:blipFill>
        <p:spPr>
          <a:xfrm>
            <a:off x="285840" y="2071800"/>
            <a:ext cx="4168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оскажи словечк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85480" y="1428480"/>
            <a:ext cx="40719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доме восемь дробь один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заставы Ильич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Жил высокий гражданин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прозванью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одном переулке стояли дом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одном из домов жил Упрямый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прививку! Первый класс!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 слыхали? Это нас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чему я встал у стенки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меня дрожат.............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ы едем, едем, еде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далекие края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Хорошие соседи, счастливые ………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722840" y="134460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то, набив пирожным рот, 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оворит: А гд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ть сказа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- Дверь закрой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 нам летит пчелиный…….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то на лавочке сид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то на улицу гляд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ля пел, Борис молчал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иколай ногой ……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2500200" y="207180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лан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2000160" y="3071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Ф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714760" y="435780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л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2286000" y="54291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руз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7072200" y="1531800"/>
            <a:ext cx="131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мпо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7996320" y="247644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7108920" y="3716280"/>
            <a:ext cx="9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ч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 кроссвор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DCCA-DE9A-4EEA-B40E-8192374D3C3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7A26-ED3D-4C82-99D8-2EE0D2C5F0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771640" y="1557360"/>
          <a:ext cx="3095640" cy="731880"/>
        </p:xfrm>
        <a:graphic>
          <a:graphicData uri="http://schemas.openxmlformats.org/drawingml/2006/table">
            <a:tbl>
              <a:tblPr/>
              <a:tblGrid>
                <a:gridCol w="773280"/>
                <a:gridCol w="774720"/>
                <a:gridCol w="772920"/>
                <a:gridCol w="77472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1258920" y="3789360"/>
          <a:ext cx="4608360" cy="739800"/>
        </p:xfrm>
        <a:graphic>
          <a:graphicData uri="http://schemas.openxmlformats.org/drawingml/2006/table">
            <a:tbl>
              <a:tblPr/>
              <a:tblGrid>
                <a:gridCol w="780840"/>
                <a:gridCol w="779760"/>
                <a:gridCol w="780840"/>
                <a:gridCol w="754200"/>
                <a:gridCol w="720720"/>
                <a:gridCol w="792000"/>
              </a:tblGrid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539640" y="4508640"/>
          <a:ext cx="6840720" cy="792000"/>
        </p:xfrm>
        <a:graphic>
          <a:graphicData uri="http://schemas.openxmlformats.org/drawingml/2006/table">
            <a:tbl>
              <a:tblPr/>
              <a:tblGrid>
                <a:gridCol w="760680"/>
                <a:gridCol w="760320"/>
                <a:gridCol w="758880"/>
                <a:gridCol w="760320"/>
                <a:gridCol w="760320"/>
                <a:gridCol w="760320"/>
                <a:gridCol w="758880"/>
                <a:gridCol w="736560"/>
                <a:gridCol w="78444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843280" y="5300640"/>
          <a:ext cx="4537080" cy="738360"/>
        </p:xfrm>
        <a:graphic>
          <a:graphicData uri="http://schemas.openxmlformats.org/drawingml/2006/table">
            <a:tbl>
              <a:tblPr/>
              <a:tblGrid>
                <a:gridCol w="760320"/>
                <a:gridCol w="760320"/>
                <a:gridCol w="760680"/>
                <a:gridCol w="736560"/>
                <a:gridCol w="739800"/>
                <a:gridCol w="779400"/>
              </a:tblGrid>
              <a:tr h="73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771640" y="1557360"/>
          <a:ext cx="3095640" cy="731880"/>
        </p:xfrm>
        <a:graphic>
          <a:graphicData uri="http://schemas.openxmlformats.org/drawingml/2006/table">
            <a:tbl>
              <a:tblPr/>
              <a:tblGrid>
                <a:gridCol w="773280"/>
                <a:gridCol w="774720"/>
                <a:gridCol w="772920"/>
                <a:gridCol w="77472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2050920" y="2276640"/>
          <a:ext cx="6840720" cy="792000"/>
        </p:xfrm>
        <a:graphic>
          <a:graphicData uri="http://schemas.openxmlformats.org/drawingml/2006/table">
            <a:tbl>
              <a:tblPr/>
              <a:tblGrid>
                <a:gridCol w="760680"/>
                <a:gridCol w="760320"/>
                <a:gridCol w="758880"/>
                <a:gridCol w="760320"/>
                <a:gridCol w="760320"/>
                <a:gridCol w="760320"/>
                <a:gridCol w="758880"/>
                <a:gridCol w="760680"/>
                <a:gridCol w="7603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050920" y="2276640"/>
          <a:ext cx="6840720" cy="792000"/>
        </p:xfrm>
        <a:graphic>
          <a:graphicData uri="http://schemas.openxmlformats.org/drawingml/2006/table">
            <a:tbl>
              <a:tblPr/>
              <a:tblGrid>
                <a:gridCol w="760680"/>
                <a:gridCol w="760320"/>
                <a:gridCol w="758880"/>
                <a:gridCol w="760320"/>
                <a:gridCol w="760320"/>
                <a:gridCol w="760320"/>
                <a:gridCol w="758880"/>
                <a:gridCol w="760680"/>
                <a:gridCol w="7603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258920" y="3789360"/>
          <a:ext cx="4608360" cy="739800"/>
        </p:xfrm>
        <a:graphic>
          <a:graphicData uri="http://schemas.openxmlformats.org/drawingml/2006/table">
            <a:tbl>
              <a:tblPr/>
              <a:tblGrid>
                <a:gridCol w="780840"/>
                <a:gridCol w="779760"/>
                <a:gridCol w="780840"/>
                <a:gridCol w="754200"/>
                <a:gridCol w="720720"/>
                <a:gridCol w="792000"/>
              </a:tblGrid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258920" y="3068640"/>
          <a:ext cx="4608360" cy="739800"/>
        </p:xfrm>
        <a:graphic>
          <a:graphicData uri="http://schemas.openxmlformats.org/drawingml/2006/table">
            <a:tbl>
              <a:tblPr/>
              <a:tblGrid>
                <a:gridCol w="780840"/>
                <a:gridCol w="779760"/>
                <a:gridCol w="780840"/>
                <a:gridCol w="754200"/>
                <a:gridCol w="720720"/>
                <a:gridCol w="792000"/>
              </a:tblGrid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258920" y="3068640"/>
          <a:ext cx="4608360" cy="739800"/>
        </p:xfrm>
        <a:graphic>
          <a:graphicData uri="http://schemas.openxmlformats.org/drawingml/2006/table">
            <a:tbl>
              <a:tblPr/>
              <a:tblGrid>
                <a:gridCol w="780840"/>
                <a:gridCol w="779760"/>
                <a:gridCol w="780840"/>
                <a:gridCol w="754200"/>
                <a:gridCol w="720720"/>
                <a:gridCol w="792000"/>
              </a:tblGrid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843280" y="5300640"/>
          <a:ext cx="4537080" cy="739800"/>
        </p:xfrm>
        <a:graphic>
          <a:graphicData uri="http://schemas.openxmlformats.org/drawingml/2006/table">
            <a:tbl>
              <a:tblPr/>
              <a:tblGrid>
                <a:gridCol w="768240"/>
                <a:gridCol w="768240"/>
                <a:gridCol w="768600"/>
                <a:gridCol w="742680"/>
                <a:gridCol w="709920"/>
                <a:gridCol w="77940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39640" y="4508640"/>
          <a:ext cx="6840720" cy="792000"/>
        </p:xfrm>
        <a:graphic>
          <a:graphicData uri="http://schemas.openxmlformats.org/drawingml/2006/table">
            <a:tbl>
              <a:tblPr/>
              <a:tblGrid>
                <a:gridCol w="760680"/>
                <a:gridCol w="760320"/>
                <a:gridCol w="758880"/>
                <a:gridCol w="760320"/>
                <a:gridCol w="760320"/>
                <a:gridCol w="760320"/>
                <a:gridCol w="758880"/>
                <a:gridCol w="736560"/>
                <a:gridCol w="78444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96" name="TextBox 6"/>
          <p:cNvSpPr/>
          <p:nvPr/>
        </p:nvSpPr>
        <p:spPr>
          <a:xfrm>
            <a:off x="2293920" y="158256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1631880" y="240336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770040" y="30686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770040" y="38149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6"/>
          <p:cNvSpPr/>
          <p:nvPr/>
        </p:nvSpPr>
        <p:spPr>
          <a:xfrm>
            <a:off x="93600" y="45086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7"/>
          <p:cNvSpPr/>
          <p:nvPr/>
        </p:nvSpPr>
        <p:spPr>
          <a:xfrm>
            <a:off x="2403720" y="53006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трелка вправо 29">
            <a:hlinkClick r:id="rId1" action="ppaction://hlinksldjump"/>
          </p:cNvPr>
          <p:cNvSpPr/>
          <p:nvPr/>
        </p:nvSpPr>
        <p:spPr>
          <a:xfrm>
            <a:off x="7956720" y="58244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771640" y="1569960"/>
          <a:ext cx="863640" cy="4451400"/>
        </p:xfrm>
        <a:graphic>
          <a:graphicData uri="http://schemas.openxmlformats.org/drawingml/2006/table">
            <a:tbl>
              <a:tblPr/>
              <a:tblGrid>
                <a:gridCol w="863640"/>
              </a:tblGrid>
              <a:tr h="70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pic>
        <p:nvPicPr>
          <p:cNvPr id="104" name="Рисунок 4" descr=""/>
          <p:cNvPicPr/>
          <p:nvPr/>
        </p:nvPicPr>
        <p:blipFill>
          <a:blip r:embed="rId2"/>
          <a:stretch/>
        </p:blipFill>
        <p:spPr>
          <a:xfrm>
            <a:off x="8101080" y="4046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Горизонтальный свиток 1"/>
          <p:cNvSpPr/>
          <p:nvPr/>
        </p:nvSpPr>
        <p:spPr>
          <a:xfrm>
            <a:off x="3348000" y="1413000"/>
            <a:ext cx="5183280" cy="324000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03320" y="1844640"/>
            <a:ext cx="4895640" cy="16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уил Яковлевич Маршак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1887-196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9C83-9C12-45E6-AA1F-72F0E589677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84C8-D82E-4EDB-AE9A-A75421DA5F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8" descr=""/>
          <p:cNvPicPr/>
          <p:nvPr/>
        </p:nvPicPr>
        <p:blipFill>
          <a:blip r:embed="rId1"/>
          <a:stretch/>
        </p:blipFill>
        <p:spPr>
          <a:xfrm>
            <a:off x="250920" y="1681200"/>
            <a:ext cx="276372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429D-8DE5-4D8E-BBD7-AF300A56A2D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078A-C335-422E-AE09-1FE6C9EF16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"/>
          <p:cNvSpPr/>
          <p:nvPr/>
        </p:nvSpPr>
        <p:spPr>
          <a:xfrm>
            <a:off x="4428720" y="1773360"/>
            <a:ext cx="10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257880" y="1397160"/>
            <a:ext cx="1273320" cy="1272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8"/>
          <p:cNvSpPr/>
          <p:nvPr/>
        </p:nvSpPr>
        <p:spPr>
          <a:xfrm>
            <a:off x="3937680" y="337032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5403960" y="3011400"/>
            <a:ext cx="3259080" cy="1241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5857920" y="4438800"/>
            <a:ext cx="1673280" cy="176508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10"/>
          <p:cNvSpPr/>
          <p:nvPr/>
        </p:nvSpPr>
        <p:spPr>
          <a:xfrm>
            <a:off x="4380120" y="5059440"/>
            <a:ext cx="9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я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3359520" y="488880"/>
            <a:ext cx="20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право 13">
            <a:hlinkClick r:id="rId4" action="ppaction://hlinksldjump"/>
          </p:cNvPr>
          <p:cNvSpPr/>
          <p:nvPr/>
        </p:nvSpPr>
        <p:spPr>
          <a:xfrm>
            <a:off x="7885080" y="56800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Горизонтальный свиток 17"/>
          <p:cNvSpPr/>
          <p:nvPr/>
        </p:nvSpPr>
        <p:spPr>
          <a:xfrm>
            <a:off x="127080" y="1058760"/>
            <a:ext cx="3612960" cy="182556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Что такое перед н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ве оглобли за  уш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глазах по коле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седёлка на нос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Горизонтальный свиток 19"/>
          <p:cNvSpPr/>
          <p:nvPr/>
        </p:nvSpPr>
        <p:spPr>
          <a:xfrm>
            <a:off x="127080" y="2878200"/>
            <a:ext cx="3612960" cy="18082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 Принялась она за де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визжада и зап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а, ела дуб, дуб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омала зуб, з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Горизонтальный свиток 20"/>
          <p:cNvSpPr/>
          <p:nvPr/>
        </p:nvSpPr>
        <p:spPr>
          <a:xfrm>
            <a:off x="127080" y="4691160"/>
            <a:ext cx="3803400" cy="18334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 Бьют его рукой и пал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ому его не жал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за что беднягу бь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за то, что он наду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1" descr=""/>
          <p:cNvPicPr/>
          <p:nvPr/>
        </p:nvPicPr>
        <p:blipFill>
          <a:blip r:embed="rId5"/>
          <a:stretch/>
        </p:blipFill>
        <p:spPr>
          <a:xfrm>
            <a:off x="8101080" y="36684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10:27Z</dcterms:created>
  <dc:creator>1</dc:creator>
  <dc:description/>
  <dc:language>en-US</dc:language>
  <cp:lastModifiedBy>User</cp:lastModifiedBy>
  <dcterms:modified xsi:type="dcterms:W3CDTF">2018-12-17T13:41:52Z</dcterms:modified>
  <cp:revision>48</cp:revision>
  <dc:subject/>
  <dc:title>Сергей Владимирович Михалков</dc:title>
</cp:coreProperties>
</file>