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16.png" ContentType="image/png"/>
  <Override PartName="/ppt/media/image13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91F-D396-4DA9-AB2A-BC8404E1C0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6052-8A70-4E20-9F2A-7EEF4BEAF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8A9-F7FF-4E65-890B-E48C2493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9DA-87D1-4003-9FA0-8B20F790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9E6-CC99-48DB-AA23-3BB57233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1CA-6671-4EB2-AAE0-39B234CB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23C-0F6D-4CB0-AC52-1B7AD078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E3C-857E-4C48-A162-92847101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F89-63C9-4687-B351-A303515B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653-3BE2-4D6C-BFAF-42053066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6EF-6DDD-4E80-8B62-BDFE0714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227-84D1-4771-A959-4C0157FA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946-D351-42F0-8B51-9127266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AA6-547E-4598-8B28-F024CDF3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CA29-1DCF-4DC0-90D7-17CB77BD8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6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" Target="slide16.xml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Семейный праздник «Лад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280" y="4508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4581000"/>
            <a:ext cx="4038480" cy="154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Алина\Desktop\творчество.jpg"/>
          <p:cNvPicPr/>
          <p:nvPr/>
        </p:nvPicPr>
        <p:blipFill>
          <a:blip r:embed="rId3"/>
          <a:stretch/>
        </p:blipFill>
        <p:spPr>
          <a:xfrm>
            <a:off x="2278080" y="3789360"/>
            <a:ext cx="5041800" cy="263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Алина\Desktop\мы.png"/>
          <p:cNvPicPr/>
          <p:nvPr/>
        </p:nvPicPr>
        <p:blipFill>
          <a:blip r:embed="rId4"/>
          <a:stretch/>
        </p:blipFill>
        <p:spPr>
          <a:xfrm>
            <a:off x="6300720" y="404640"/>
            <a:ext cx="20383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Вертикальный свиток 1"/>
          <p:cNvSpPr/>
          <p:nvPr/>
        </p:nvSpPr>
        <p:spPr>
          <a:xfrm>
            <a:off x="119160" y="1628640"/>
            <a:ext cx="5389560" cy="3600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48800" y="2035080"/>
            <a:ext cx="4619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л он утром на кр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 рубашку надев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кава просунул руки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лось, это брюки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о шляпы на х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адел сковор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450C-6716-48C4-B124-AE671E6999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FDD8-5908-4FF4-BE13-15F89F225A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324240" cy="42865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1981800" y="63324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5" descr=""/>
          <p:cNvPicPr/>
          <p:nvPr/>
        </p:nvPicPr>
        <p:blipFill>
          <a:blip r:embed="rId2"/>
          <a:stretch/>
        </p:blipFill>
        <p:spPr>
          <a:xfrm>
            <a:off x="8101080" y="3729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Вертикальный свиток 1"/>
          <p:cNvSpPr/>
          <p:nvPr/>
        </p:nvSpPr>
        <p:spPr>
          <a:xfrm>
            <a:off x="28440" y="1174680"/>
            <a:ext cx="5459400" cy="51134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7496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то это у ва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моя доч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чему у вашей д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ые щёч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на давно не мыла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3C42-61F2-4029-A588-066243C1F8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F96A-860D-4DB4-A4AE-215B37B878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5" descr=""/>
          <p:cNvPicPr/>
          <p:nvPr/>
        </p:nvPicPr>
        <p:blipFill>
          <a:blip r:embed="rId1"/>
          <a:stretch/>
        </p:blipFill>
        <p:spPr>
          <a:xfrm>
            <a:off x="5648400" y="1587600"/>
            <a:ext cx="3247920" cy="42861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1692360" y="48888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"/>
          <p:cNvPicPr/>
          <p:nvPr/>
        </p:nvPicPr>
        <p:blipFill>
          <a:blip r:embed="rId2"/>
          <a:stretch/>
        </p:blipFill>
        <p:spPr>
          <a:xfrm>
            <a:off x="819144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Вертикальный свиток 5"/>
          <p:cNvSpPr/>
          <p:nvPr/>
        </p:nvSpPr>
        <p:spPr>
          <a:xfrm>
            <a:off x="179280" y="1557360"/>
            <a:ext cx="5400720" cy="42861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169720"/>
            <a:ext cx="4680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ма сдавала в багаж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ва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квояж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ода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ину, корзину, картон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маленькую собачон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7AA8-4B3E-4286-A12D-81EAA4B2AA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1A2B-2EA3-493A-B846-3E7921FCA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724360" y="1646280"/>
            <a:ext cx="3168720" cy="41083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"/>
          <p:cNvSpPr/>
          <p:nvPr/>
        </p:nvSpPr>
        <p:spPr>
          <a:xfrm>
            <a:off x="1908000" y="620640"/>
            <a:ext cx="54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" descr=""/>
          <p:cNvPicPr/>
          <p:nvPr/>
        </p:nvPicPr>
        <p:blipFill>
          <a:blip r:embed="rId2"/>
          <a:stretch/>
        </p:blipFill>
        <p:spPr>
          <a:xfrm>
            <a:off x="8124840" y="322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Вертикальный свиток 2"/>
          <p:cNvSpPr/>
          <p:nvPr/>
        </p:nvSpPr>
        <p:spPr>
          <a:xfrm>
            <a:off x="108000" y="1539720"/>
            <a:ext cx="5688000" cy="4392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206064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праздник новогод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дали мы прика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кай цветут сегод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снежники у нас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лесу цветёт подснежни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е метель метё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тот из вас мятежни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кажет: не метё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B855-8C1E-43BA-9C0D-044E41F9D5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640B-2CFE-4107-9031-258186217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867280" y="1677960"/>
            <a:ext cx="3152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"/>
          <p:cNvSpPr/>
          <p:nvPr/>
        </p:nvSpPr>
        <p:spPr>
          <a:xfrm>
            <a:off x="1719360" y="549360"/>
            <a:ext cx="552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2"/>
          <a:stretch/>
        </p:blipFill>
        <p:spPr>
          <a:xfrm>
            <a:off x="8078760" y="32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Вертикальный свиток 2"/>
          <p:cNvSpPr/>
          <p:nvPr/>
        </p:nvSpPr>
        <p:spPr>
          <a:xfrm>
            <a:off x="108000" y="1484280"/>
            <a:ext cx="5256000" cy="4176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000" y="1988640"/>
            <a:ext cx="433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м – бом! Тили – бом!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дворе - высокий дом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венки резные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на расписные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а лестнице ковер –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тый золотом узор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узорному ковру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одит кошка по утру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45BF-0D0D-4B23-BAE7-152420475E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6A0A-3C79-4294-A422-28760D149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562720" y="1370160"/>
            <a:ext cx="3371760" cy="4506840"/>
          </a:xfrm>
          <a:prstGeom prst="rect">
            <a:avLst/>
          </a:prstGeom>
          <a:ln w="0">
            <a:noFill/>
          </a:ln>
        </p:spPr>
      </p:pic>
      <p:sp>
        <p:nvSpPr>
          <p:cNvPr id="157" name="Стрелка вправо 5">
            <a:hlinkClick r:id="rId2" action="ppaction://hlinksldjump"/>
          </p:cNvPr>
          <p:cNvSpPr/>
          <p:nvPr/>
        </p:nvSpPr>
        <p:spPr>
          <a:xfrm>
            <a:off x="7932600" y="5950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1835280" y="60480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" descr=""/>
          <p:cNvPicPr/>
          <p:nvPr/>
        </p:nvPicPr>
        <p:blipFill>
          <a:blip r:embed="rId3"/>
          <a:stretch/>
        </p:blipFill>
        <p:spPr>
          <a:xfrm>
            <a:off x="8024760" y="326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2124000" y="59500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МУХА-ЦОКОТ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Содержимое 6" descr="4af45fb9594a.gif"/>
          <p:cNvPicPr/>
          <p:nvPr/>
        </p:nvPicPr>
        <p:blipFill>
          <a:blip r:embed="rId1"/>
          <a:stretch/>
        </p:blipFill>
        <p:spPr>
          <a:xfrm>
            <a:off x="1763640" y="1268280"/>
            <a:ext cx="5519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14" descr="eba7e2d928.jpg"/>
          <p:cNvPicPr/>
          <p:nvPr/>
        </p:nvPicPr>
        <p:blipFill>
          <a:blip r:embed="rId1"/>
          <a:stretch/>
        </p:blipFill>
        <p:spPr>
          <a:xfrm>
            <a:off x="2771640" y="981000"/>
            <a:ext cx="3672000" cy="4869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195640" y="59500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КРАДЕНОЕ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4" descr="i (3).jpg"/>
          <p:cNvPicPr/>
          <p:nvPr/>
        </p:nvPicPr>
        <p:blipFill>
          <a:blip r:embed="rId1"/>
          <a:stretch/>
        </p:blipFill>
        <p:spPr>
          <a:xfrm>
            <a:off x="1979640" y="1197000"/>
            <a:ext cx="5472000" cy="4297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124000" y="5805360"/>
            <a:ext cx="56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МОЙДОДЫ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Содержимое 5" descr="mouse-suteev-04.jpg"/>
          <p:cNvPicPr/>
          <p:nvPr/>
        </p:nvPicPr>
        <p:blipFill>
          <a:blip r:embed="rId1"/>
          <a:stretch/>
        </p:blipFill>
        <p:spPr>
          <a:xfrm>
            <a:off x="1547640" y="981000"/>
            <a:ext cx="6096240" cy="5216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411280" y="6237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ФЕДОРИНО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18" descr="i.jpg"/>
          <p:cNvPicPr/>
          <p:nvPr/>
        </p:nvPicPr>
        <p:blipFill>
          <a:blip r:embed="rId1"/>
          <a:stretch/>
        </p:blipFill>
        <p:spPr>
          <a:xfrm>
            <a:off x="900000" y="981000"/>
            <a:ext cx="7344000" cy="4789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2987640" y="5877000"/>
            <a:ext cx="42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АЙБОЛ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«</a:t>
            </a: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По страницам</a:t>
            </a:r>
            <a:br>
              <a:rPr sz="7200"/>
            </a:b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          книг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4038480" cy="370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2349000"/>
            <a:ext cx="4038480" cy="377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Алина\Desktop\кн.jpg"/>
          <p:cNvPicPr/>
          <p:nvPr/>
        </p:nvPicPr>
        <p:blipFill>
          <a:blip r:embed="rId3"/>
          <a:stretch/>
        </p:blipFill>
        <p:spPr>
          <a:xfrm>
            <a:off x="2124000" y="2708280"/>
            <a:ext cx="5112000" cy="331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Алина\Desktop\book.jpg"/>
          <p:cNvPicPr/>
          <p:nvPr/>
        </p:nvPicPr>
        <p:blipFill>
          <a:blip r:embed="rId4"/>
          <a:stretch/>
        </p:blipFill>
        <p:spPr>
          <a:xfrm>
            <a:off x="7093080" y="404640"/>
            <a:ext cx="174456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19" descr="3865_Бармалей 5 разворот копия.jpg"/>
          <p:cNvPicPr/>
          <p:nvPr/>
        </p:nvPicPr>
        <p:blipFill>
          <a:blip r:embed="rId1"/>
          <a:stretch/>
        </p:blipFill>
        <p:spPr>
          <a:xfrm>
            <a:off x="1403280" y="1125360"/>
            <a:ext cx="6624720" cy="46198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3419640" y="5950080"/>
            <a:ext cx="41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БАРМА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74800" y="981000"/>
            <a:ext cx="5111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одил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1 марта 1882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етербур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рожил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7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Настоящее и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иколай Васильевич Корнейчу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7" descr="16677407_0.jpg"/>
          <p:cNvPicPr/>
          <p:nvPr/>
        </p:nvPicPr>
        <p:blipFill>
          <a:blip r:embed="rId1"/>
          <a:stretch/>
        </p:blipFill>
        <p:spPr>
          <a:xfrm>
            <a:off x="179280" y="765000"/>
            <a:ext cx="3421080" cy="5016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т двух  до п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Содержимое 3" descr="2VjMi00Zm.jpg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2544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4"/>
          <p:cNvSpPr/>
          <p:nvPr/>
        </p:nvSpPr>
        <p:spPr>
          <a:xfrm>
            <a:off x="9144000" y="11253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- Красная Шапочка вышла из пасти волка   жёваная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9325080" y="270828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Глядя на лысого:</a:t>
            </a:r>
            <a:br>
              <a:rPr sz="2800"/>
            </a:br>
            <a:r>
              <a:rPr b="1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- Почему у тебя так много лица?</a:t>
            </a:r>
            <a:r>
              <a:rPr b="0" lang="ru-RU" sz="1800" spc="-1" strike="noStrike">
                <a:solidFill>
                  <a:srgbClr val="06a23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9144000" y="429264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Девочка ехала в поезде с разговорчивой матерью, которую долго ревновала к её собеседникам; наконец зажала ей рот: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- Мама, закрой своё радио!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1481E-006 L -0.90347 0.00394 E">
                                      <p:cBhvr>
                                        <p:cTn id="548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92517 -0.02222 E">
                                      <p:cBhvr>
                                        <p:cTn id="552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-0.91962 -0.03634 E">
                                      <p:cBhvr>
                                        <p:cTn id="556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т двух  до п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560" y="907920"/>
            <a:ext cx="8713800" cy="561672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3"/>
          <p:cNvSpPr/>
          <p:nvPr/>
        </p:nvSpPr>
        <p:spPr>
          <a:xfrm>
            <a:off x="9325080" y="836640"/>
            <a:ext cx="87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- Я выйду замуж за Вову, - говорит четырёхлетняя Таня, - у него красивый костюмчик, и за Петю тоже, он подарил мне копеечку.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- А как же Лёша? Ведь у него столько игрушек!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- Что ж! Придётся мне и за него выход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9396360" y="4581360"/>
            <a:ext cx="69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a23a"/>
                </a:solidFill>
                <a:latin typeface="Arial"/>
                <a:ea typeface="Arial"/>
              </a:rPr>
              <a:t>- </a:t>
            </a:r>
            <a:r>
              <a:rPr b="0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Глаза, чтобы смотреть... Уши, чтобы слышать... Рот, чтобы говорить... А пуп зачем? Должно быть, для красоты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-0.9507 -0.01134 E">
                                      <p:cBhvr>
                                        <p:cTn id="562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-0.95677 -0.00648 E">
                                      <p:cBhvr>
                                        <p:cTn id="56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т двух  до п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964720" cy="56167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3"/>
          <p:cNvSpPr/>
          <p:nvPr/>
        </p:nvSpPr>
        <p:spPr>
          <a:xfrm>
            <a:off x="9325080" y="10526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6a23a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Зачем снег на крыш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Ведь по крыше не катаются ни на лыжах, ни на санках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9325080" y="296712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- У меня эти глаза навсегда или они, как зубы, выпадут?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9325080" y="46530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- Как ты смеешь драться?</a:t>
            </a:r>
            <a:br>
              <a:rPr sz="2800"/>
            </a:br>
            <a:r>
              <a:rPr b="0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- Ах, мамочка, что же мне делать, если драка так и лезет из мен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-0.97257 -0.00648 E">
                                      <p:cBhvr>
                                        <p:cTn id="57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-0.96476 -0.0125 E">
                                      <p:cBhvr>
                                        <p:cTn id="57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96632 -0.00555 E">
                                      <p:cBhvr>
                                        <p:cTn id="580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65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Содержимое 5" descr="ea99e96453.jpg"/>
          <p:cNvPicPr/>
          <p:nvPr/>
        </p:nvPicPr>
        <p:blipFill>
          <a:blip r:embed="rId1"/>
          <a:stretch/>
        </p:blipFill>
        <p:spPr>
          <a:xfrm>
            <a:off x="2195640" y="836640"/>
            <a:ext cx="4879800" cy="52052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6"/>
          <p:cNvSpPr/>
          <p:nvPr/>
        </p:nvSpPr>
        <p:spPr>
          <a:xfrm>
            <a:off x="3059280" y="602136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гей Владимирович Михалков родился 13 марта 1913 года в Москв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ился в Литературном институте имени Горького.  Издал свою первую книгу будучи студен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6" descr="i_mikhalkov3_2.jpg"/>
          <p:cNvPicPr/>
          <p:nvPr/>
        </p:nvPicPr>
        <p:blipFill>
          <a:blip r:embed="rId1"/>
          <a:stretch/>
        </p:blipFill>
        <p:spPr>
          <a:xfrm>
            <a:off x="642960" y="1643040"/>
            <a:ext cx="34542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 годы Великой Отечественной войны Михалков находился в рядах Красной армии, работал в армейской печа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наменитые строки на гранитной плите Вечного огня у Кремлевской стены: </a:t>
            </a:r>
            <a:r>
              <a:rPr b="1" i="1" lang="ru-RU" sz="2200" spc="-1" strike="noStrike">
                <a:solidFill>
                  <a:srgbClr val="c00000"/>
                </a:solidFill>
                <a:latin typeface="Calibri"/>
                <a:ea typeface="Arial"/>
              </a:rPr>
              <a:t>"Имя твое неизвестно, подвиг твой бессмертен"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, - также принадлежит Михалков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сле Великой Отечественной войны Михалков продолжил свою литературную деятельн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5" descr="mihal3.jpg"/>
          <p:cNvPicPr/>
          <p:nvPr/>
        </p:nvPicPr>
        <p:blipFill>
          <a:blip r:embed="rId1"/>
          <a:stretch/>
        </p:blipFill>
        <p:spPr>
          <a:xfrm>
            <a:off x="285840" y="2071800"/>
            <a:ext cx="4165560" cy="2913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mihal2.jpg"/>
          <p:cNvPicPr/>
          <p:nvPr/>
        </p:nvPicPr>
        <p:blipFill>
          <a:blip r:embed="rId2"/>
          <a:stretch/>
        </p:blipFill>
        <p:spPr>
          <a:xfrm>
            <a:off x="928800" y="1571760"/>
            <a:ext cx="2666880" cy="4429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monument200.jpg"/>
          <p:cNvPicPr/>
          <p:nvPr/>
        </p:nvPicPr>
        <p:blipFill>
          <a:blip r:embed="rId3"/>
          <a:stretch/>
        </p:blipFill>
        <p:spPr>
          <a:xfrm>
            <a:off x="214200" y="1857240"/>
            <a:ext cx="45259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итературная деятельность                     С. В. Михал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untitled.bmp"/>
          <p:cNvPicPr/>
          <p:nvPr/>
        </p:nvPicPr>
        <p:blipFill>
          <a:blip r:embed="rId1"/>
          <a:stretch/>
        </p:blipFill>
        <p:spPr>
          <a:xfrm>
            <a:off x="285840" y="1571760"/>
            <a:ext cx="3881520" cy="3357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48320" y="1142640"/>
            <a:ext cx="40384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э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с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снопис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амату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водч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ценар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урнал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тор гимна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214200" y="5500800"/>
            <a:ext cx="8786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058128.jpg"/>
          <p:cNvPicPr/>
          <p:nvPr/>
        </p:nvPicPr>
        <p:blipFill>
          <a:blip r:embed="rId2"/>
          <a:stretch/>
        </p:blipFill>
        <p:spPr>
          <a:xfrm>
            <a:off x="285840" y="2071800"/>
            <a:ext cx="4168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скажи словеч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480" y="1428480"/>
            <a:ext cx="4071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доме восемь дробь оди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заставы Ильич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ил высокий граждани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прозванью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дном переулке стояли дом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дном из домов жил Упрямый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прививку! Первый класс!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 слыхали? Это нас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му я встал у стенки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меня дрожат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 едем, едем, ед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далекие кра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орошие соседи, счастливые 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722840" y="134460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то, набив пирожным рот, 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ворит: А г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ь сказа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Дверь закро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нам летит пчелиный…….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на лавочке сид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на улицу гляд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ля пел, Борис молча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иколай ногой ……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500200" y="20718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лан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000160" y="3071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Ф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714760" y="435780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л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2286000" y="5429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7072200" y="1531800"/>
            <a:ext cx="13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по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7996320" y="24764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7108920" y="3716280"/>
            <a:ext cx="9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ч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 кроссвор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9C15-3837-4178-9A9E-EB23774756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67AF-F472-46AC-9409-4293435A0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771640" y="1557360"/>
          <a:ext cx="3095640" cy="731880"/>
        </p:xfrm>
        <a:graphic>
          <a:graphicData uri="http://schemas.openxmlformats.org/drawingml/2006/table">
            <a:tbl>
              <a:tblPr/>
              <a:tblGrid>
                <a:gridCol w="773280"/>
                <a:gridCol w="774720"/>
                <a:gridCol w="772920"/>
                <a:gridCol w="774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258920" y="378936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39640" y="4508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36560"/>
                <a:gridCol w="78444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843280" y="5300640"/>
          <a:ext cx="4537080" cy="738360"/>
        </p:xfrm>
        <a:graphic>
          <a:graphicData uri="http://schemas.openxmlformats.org/drawingml/2006/table">
            <a:tbl>
              <a:tblPr/>
              <a:tblGrid>
                <a:gridCol w="760320"/>
                <a:gridCol w="760320"/>
                <a:gridCol w="760680"/>
                <a:gridCol w="736560"/>
                <a:gridCol w="739800"/>
                <a:gridCol w="779400"/>
              </a:tblGrid>
              <a:tr h="7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771640" y="1557360"/>
          <a:ext cx="3095640" cy="731880"/>
        </p:xfrm>
        <a:graphic>
          <a:graphicData uri="http://schemas.openxmlformats.org/drawingml/2006/table">
            <a:tbl>
              <a:tblPr/>
              <a:tblGrid>
                <a:gridCol w="773280"/>
                <a:gridCol w="774720"/>
                <a:gridCol w="772920"/>
                <a:gridCol w="774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050920" y="2276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60680"/>
                <a:gridCol w="7603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050920" y="2276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60680"/>
                <a:gridCol w="7603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258920" y="378936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258920" y="306864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258920" y="306864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843280" y="5300640"/>
          <a:ext cx="4537080" cy="739800"/>
        </p:xfrm>
        <a:graphic>
          <a:graphicData uri="http://schemas.openxmlformats.org/drawingml/2006/table">
            <a:tbl>
              <a:tblPr/>
              <a:tblGrid>
                <a:gridCol w="768240"/>
                <a:gridCol w="768240"/>
                <a:gridCol w="768600"/>
                <a:gridCol w="742680"/>
                <a:gridCol w="709920"/>
                <a:gridCol w="77940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39640" y="4508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36560"/>
                <a:gridCol w="78444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96" name="TextBox 6"/>
          <p:cNvSpPr/>
          <p:nvPr/>
        </p:nvSpPr>
        <p:spPr>
          <a:xfrm>
            <a:off x="2293920" y="15825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1631880" y="24033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770040" y="3068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770040" y="38149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93600" y="4508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2403720" y="5300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29">
            <a:hlinkClick r:id="rId1" action="ppaction://hlinksldjump"/>
          </p:cNvPr>
          <p:cNvSpPr/>
          <p:nvPr/>
        </p:nvSpPr>
        <p:spPr>
          <a:xfrm>
            <a:off x="7956720" y="58244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771640" y="1569960"/>
          <a:ext cx="863640" cy="4451400"/>
        </p:xfrm>
        <a:graphic>
          <a:graphicData uri="http://schemas.openxmlformats.org/drawingml/2006/table">
            <a:tbl>
              <a:tblPr/>
              <a:tblGrid>
                <a:gridCol w="86364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8101080" y="404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Горизонтальный свиток 1"/>
          <p:cNvSpPr/>
          <p:nvPr/>
        </p:nvSpPr>
        <p:spPr>
          <a:xfrm>
            <a:off x="3348000" y="1413000"/>
            <a:ext cx="5183280" cy="324000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03320" y="1844640"/>
            <a:ext cx="489564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уил Яковлевич Маршак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1887-196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F47B-83CD-442F-A9CC-A626ACD0C65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57C4-C57C-45D3-8189-B57C6BC92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8" descr=""/>
          <p:cNvPicPr/>
          <p:nvPr/>
        </p:nvPicPr>
        <p:blipFill>
          <a:blip r:embed="rId1"/>
          <a:stretch/>
        </p:blipFill>
        <p:spPr>
          <a:xfrm>
            <a:off x="250920" y="1681200"/>
            <a:ext cx="276372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6399-D950-44AD-BDDE-1E7D2F7A0B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BAA-DF38-42DB-9C99-9CEF8EE8F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4428720" y="177336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257880" y="1397160"/>
            <a:ext cx="1273320" cy="127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8"/>
          <p:cNvSpPr/>
          <p:nvPr/>
        </p:nvSpPr>
        <p:spPr>
          <a:xfrm>
            <a:off x="3937680" y="33703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5403960" y="3011400"/>
            <a:ext cx="3259080" cy="1241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5857920" y="4438800"/>
            <a:ext cx="1673280" cy="17650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0"/>
          <p:cNvSpPr/>
          <p:nvPr/>
        </p:nvSpPr>
        <p:spPr>
          <a:xfrm>
            <a:off x="4380120" y="505944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3359520" y="488880"/>
            <a:ext cx="20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13">
            <a:hlinkClick r:id="rId4" action="ppaction://hlinksldjump"/>
          </p:cNvPr>
          <p:cNvSpPr/>
          <p:nvPr/>
        </p:nvSpPr>
        <p:spPr>
          <a:xfrm>
            <a:off x="7885080" y="5680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Горизонтальный свиток 17"/>
          <p:cNvSpPr/>
          <p:nvPr/>
        </p:nvSpPr>
        <p:spPr>
          <a:xfrm>
            <a:off x="127080" y="1058760"/>
            <a:ext cx="3612960" cy="182556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Что такое перед н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е оглобли за  уш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глазах по коле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едёлка на нос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Горизонтальный свиток 19"/>
          <p:cNvSpPr/>
          <p:nvPr/>
        </p:nvSpPr>
        <p:spPr>
          <a:xfrm>
            <a:off x="127080" y="2878200"/>
            <a:ext cx="3612960" cy="1808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Принялась она за де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изжада и зап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а, ела дуб, дуб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мала зуб, з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Горизонтальный свиток 20"/>
          <p:cNvSpPr/>
          <p:nvPr/>
        </p:nvSpPr>
        <p:spPr>
          <a:xfrm>
            <a:off x="127080" y="4691160"/>
            <a:ext cx="3803400" cy="18334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Бьют его рукой и пал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му его не жал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что беднягу бь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то, что он наду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" descr=""/>
          <p:cNvPicPr/>
          <p:nvPr/>
        </p:nvPicPr>
        <p:blipFill>
          <a:blip r:embed="rId5"/>
          <a:stretch/>
        </p:blipFill>
        <p:spPr>
          <a:xfrm>
            <a:off x="810108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10:27Z</dcterms:created>
  <dc:creator>1</dc:creator>
  <dc:description/>
  <dc:language>en-US</dc:language>
  <cp:lastModifiedBy>User</cp:lastModifiedBy>
  <dcterms:modified xsi:type="dcterms:W3CDTF">2018-12-17T13:41:52Z</dcterms:modified>
  <cp:revision>48</cp:revision>
  <dc:subject/>
  <dc:title>Сергей Владимирович Михалков</dc:title>
</cp:coreProperties>
</file>