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F59-FB7C-4991-BCFF-FF794A18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AE3-12CC-41B3-9D7E-697669C1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2BE-5511-4435-8BEE-E64C2230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F6D-82FB-4379-AB5B-765A500C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DB35-FDF4-4DEA-8C74-9A496244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AA2C-6351-4F86-8DFA-DB9E386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8EEB-672B-4201-869C-BD036A90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0610-2E96-4B9C-92EB-83B69EDF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F4C9-D853-4658-B54F-E3D074F6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4AF0-EA78-4A6E-BEEF-26EC5C1A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68DA-04A2-4386-A07F-B1DCF132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3F1-F5CD-43B7-913A-45E5C333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79C7-4C04-4F5F-A63C-E590885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2025-190E-4EBD-AB58-E51FB65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BFC3-57FB-4E1C-83DE-12287ACF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1D08-08DA-462F-9512-AAB2FF8C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1246-1F9C-411D-9639-7184B010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ECA3-EAD1-430F-A768-DBCB8F0F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19FF-3A4C-47A4-B7C9-B772FA64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3184D-55A7-4EE8-869C-0CEC0B84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5297-E0C1-4D7B-9DC0-51CBA698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72158-5E63-40C6-845A-A431AE0A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94D-F483-439D-B346-46BBAA0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95F3-3F1E-41EC-9344-2617E1A1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6A77-FC82-42B9-BAC5-982DD1CA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D099-2ABE-4F96-BBBC-A23AE377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67ED-B16D-4ECD-B13D-F292A3FB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9CC8-BB63-4BBE-A968-3EF5863C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B1E5-DE11-4EA6-BDFD-AC61B946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5E16-E549-43B9-B589-ABB97AE3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0B1-5495-4667-AC4F-B4CC6D89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E9F-235B-4CC7-9ED8-F32D4F34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528-D4E8-462F-92A3-5DB5280F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AFE-474E-4033-AC35-B742150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822-20D2-468B-B1C1-B1A96049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1B9-F7BC-431E-87E2-47DB481E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8799-0C3C-4007-BC14-9C60866FD4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3BEE-A663-4EBE-B7B5-5389B516E21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11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grpSp>
            <p:nvGrpSpPr>
              <p:cNvPr id="12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37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3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grpSp>
            <p:nvGrpSpPr>
              <p:cNvPr id="139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4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19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20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0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0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41AE-CE39-4792-899E-02A9D4C2D65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20aa0"/>
                </a:solidFill>
                <a:latin typeface="Comic Sans MS"/>
              </a:rPr>
              <a:t>Техника безопасности</a:t>
            </a:r>
            <a:br>
              <a:rPr sz="4800"/>
            </a:br>
            <a:r>
              <a:rPr b="1" lang="ru-RU" sz="4800" spc="-1" strike="noStrike">
                <a:solidFill>
                  <a:srgbClr val="020aa0"/>
                </a:solidFill>
                <a:latin typeface="Comic Sans MS"/>
              </a:rPr>
              <a:t>на уроках технологи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5013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aa0"/>
                </a:solidFill>
                <a:latin typeface="Comic Sans MS"/>
              </a:rPr>
              <a:t>Автор: </a:t>
            </a:r>
            <a:r>
              <a:rPr b="0" lang="ru-RU" sz="2400" spc="-1" strike="noStrike">
                <a:solidFill>
                  <a:srgbClr val="020aa0"/>
                </a:solidFill>
                <a:latin typeface="Arial"/>
              </a:rPr>
              <a:t>Комарницкая Е.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aa0"/>
                </a:solidFill>
                <a:latin typeface="Comic Sans MS"/>
              </a:rPr>
              <a:t>Учитель технологии, МБОУ лицей 14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aa0"/>
                </a:solidFill>
                <a:latin typeface="Arial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27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79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82" name="Picture 4" descr="logotip"/>
          <p:cNvPicPr/>
          <p:nvPr/>
        </p:nvPicPr>
        <p:blipFill>
          <a:blip r:embed="rId3"/>
          <a:stretch/>
        </p:blipFill>
        <p:spPr>
          <a:xfrm>
            <a:off x="3857760" y="3241800"/>
            <a:ext cx="3378240" cy="282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6" descr="2212066-1fae9cfa60a003c9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4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еред началом работы на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60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63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65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69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73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kuche</cp:lastModifiedBy>
  <dcterms:modified xsi:type="dcterms:W3CDTF">2018-12-15T08:34:44Z</dcterms:modified>
  <cp:revision>13</cp:revision>
  <dc:subject/>
  <dc:title>Техника безопасности на уроках технологии</dc:title>
</cp:coreProperties>
</file>