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wmf" ContentType="image/x-wmf"/>
  <Override PartName="/ppt/media/image15.wmf" ContentType="image/x-wmf"/>
  <Override PartName="/ppt/media/image16.wmf" ContentType="image/x-wmf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D2EB-CBED-4968-AD4A-5470C78C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8F8F-ECD0-40EC-8290-9B8FE9F0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E9F-C271-45D6-8C9E-6C5C80D6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4564-7918-436D-919E-EC203983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794C-91EA-4376-8F59-5A05A3F8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D7D0-0B4A-438D-8166-4171A397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2ECC-6CCF-426C-8721-74FFCC58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478B-71F8-4A5E-8ADC-0648B726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49C6-745A-4871-B521-7CBC04C6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90C5-AFC6-4FDA-BA52-A74929F7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5369-F219-4F13-BB92-373993E0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0A0E-3343-47A2-9784-737270AC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FF81-46BB-481B-AA43-E0007C63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87E9-7A1A-4AD3-BADC-C0DB4258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9D89-CB80-4AB4-99F6-CE34A8B7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E93C-FE16-4B47-B876-36F137C4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52AD-2C48-4FF4-93AD-EDF91FD2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A21B5-49F4-4593-8884-C8CB535D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84F3C-D930-48B2-BF8F-1947A2D5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F9061-6AD0-40AA-AAB4-FDB82B49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9D204-5B25-41DA-93B3-32DCED61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F678F-F884-4247-B805-55EACB17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6FD9-7BE9-41EE-AF99-7EB94BFA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F7D57-6404-4F7A-B0DC-DA367AFD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DA9DD-0227-4268-BA50-C71EBE80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0DB8F-B80D-4942-B4D9-29BD7E33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C5DDC-AFAE-4043-94DD-42FBA43C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E9DE8-6731-4B14-91E8-DB4A555E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4DF7F-F683-4D6F-BA71-B408B87F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F7C7A-6E83-487D-9851-9BD3A04E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E694-3CC4-4AD4-8870-D9AE00F3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166D-B8B0-46C2-9C90-B9BDBBB6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899-2021-4045-9270-C62A2C63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E0BD-69CA-49EF-A93F-CC69F535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8B47-BAAD-4A5F-84CA-C43DAA12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C84D-FAC5-4E6D-9CAC-6E1B288C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34FB-5600-491A-BF2C-15E2D8FB1C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BFE1-1C74-48CD-9370-64B7CE17279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0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10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grpSp>
          <p:nvGrpSpPr>
            <p:cNvPr id="11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2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2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grpSp>
            <p:nvGrpSpPr>
              <p:cNvPr id="12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136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37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3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grpSp>
            <p:nvGrpSpPr>
              <p:cNvPr id="139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4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18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grpSp>
          <p:nvGrpSpPr>
            <p:cNvPr id="19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19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9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grpSp>
          <p:nvGrpSpPr>
            <p:cNvPr id="200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01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02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03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04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205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0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057F-594F-40EE-8FF4-99490C78766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-237960"/>
            <a:ext cx="7772400" cy="27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800" spc="-1" strike="noStrike">
                <a:solidFill>
                  <a:srgbClr val="020aa0"/>
                </a:solidFill>
                <a:latin typeface="Comic Sans MS"/>
              </a:rPr>
              <a:t>Техника безопасности</a:t>
            </a:r>
            <a:br>
              <a:rPr sz="4800"/>
            </a:br>
            <a:r>
              <a:rPr b="1" lang="ru-RU" sz="4800" spc="-1" strike="noStrike">
                <a:solidFill>
                  <a:srgbClr val="020aa0"/>
                </a:solidFill>
                <a:latin typeface="Comic Sans MS"/>
              </a:rPr>
              <a:t>на уроках технологи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03280" y="501336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0aa0"/>
                </a:solidFill>
                <a:latin typeface="Comic Sans MS"/>
              </a:rPr>
              <a:t>Автор: </a:t>
            </a:r>
            <a:r>
              <a:rPr b="0" lang="ru-RU" sz="2400" spc="-1" strike="noStrike">
                <a:solidFill>
                  <a:srgbClr val="020aa0"/>
                </a:solidFill>
                <a:latin typeface="Arial"/>
              </a:rPr>
              <a:t>Комарницкая Е.Б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0aa0"/>
                </a:solidFill>
                <a:latin typeface="Comic Sans MS"/>
              </a:rPr>
              <a:t>Учитель технологии, МБОУ лицей 14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0aa0"/>
                </a:solidFill>
                <a:latin typeface="Arial"/>
              </a:rPr>
              <a:t>Санкт-Петербур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Picture 21" descr="j0232859[1]"/>
          <p:cNvPicPr/>
          <p:nvPr/>
        </p:nvPicPr>
        <p:blipFill>
          <a:blip r:embed="rId1"/>
          <a:stretch/>
        </p:blipFill>
        <p:spPr>
          <a:xfrm rot="2652000">
            <a:off x="1042560" y="764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" descr="j0250979[1]"/>
          <p:cNvPicPr/>
          <p:nvPr/>
        </p:nvPicPr>
        <p:blipFill>
          <a:blip r:embed="rId2"/>
          <a:stretch/>
        </p:blipFill>
        <p:spPr>
          <a:xfrm>
            <a:off x="255600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3" descr="j0295065[1]"/>
          <p:cNvPicPr/>
          <p:nvPr/>
        </p:nvPicPr>
        <p:blipFill>
          <a:blip r:embed="rId3"/>
          <a:stretch/>
        </p:blipFill>
        <p:spPr>
          <a:xfrm rot="2496600">
            <a:off x="4211280" y="692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4" descr="j0283462[1]"/>
          <p:cNvPicPr/>
          <p:nvPr/>
        </p:nvPicPr>
        <p:blipFill>
          <a:blip r:embed="rId4"/>
          <a:stretch/>
        </p:blipFill>
        <p:spPr>
          <a:xfrm>
            <a:off x="766764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j0234096[1]"/>
          <p:cNvPicPr/>
          <p:nvPr/>
        </p:nvPicPr>
        <p:blipFill>
          <a:blip r:embed="rId5"/>
          <a:stretch/>
        </p:blipFill>
        <p:spPr>
          <a:xfrm>
            <a:off x="6084720" y="6922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0920" y="330120"/>
            <a:ext cx="83422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Инструкция  по технике безопасности</a:t>
            </a:r>
            <a:br>
              <a:rPr sz="2800"/>
            </a:b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при работе на швейной машине</a:t>
            </a: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276" name="Picture 4" descr="MCj04359910000[1]"/>
          <p:cNvPicPr/>
          <p:nvPr/>
        </p:nvPicPr>
        <p:blipFill>
          <a:blip r:embed="rId1"/>
          <a:stretch/>
        </p:blipFill>
        <p:spPr>
          <a:xfrm>
            <a:off x="2571840" y="2286000"/>
            <a:ext cx="4062240" cy="3495600"/>
          </a:xfrm>
          <a:prstGeom prst="rect">
            <a:avLst/>
          </a:prstGeom>
          <a:ln w="38160">
            <a:solidFill>
              <a:srgbClr val="8383ad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2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685800" y="1071720"/>
            <a:ext cx="77724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Убрать волосы под косын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Перед работой убрать с платформы машины посторонние предметы, закрепить иглу и лап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Прежде чем стачивать изделие, проверить, не осталась ли в нем булавка или иголк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5800" y="692280"/>
            <a:ext cx="77724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Во время работы не наклоняться близко к движущемуся стержню игл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Не держать пальцы рук вблизи лапки и движущейся иглы, прошивать утолщенные места на пониженных оборотах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79" name="Picture 4" descr="MCj02813010000[1]"/>
          <p:cNvPicPr/>
          <p:nvPr/>
        </p:nvPicPr>
        <p:blipFill>
          <a:blip r:embed="rId3"/>
          <a:stretch/>
        </p:blipFill>
        <p:spPr>
          <a:xfrm>
            <a:off x="6443640" y="4437000"/>
            <a:ext cx="2104920" cy="1636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MCj02904170000[1]"/>
          <p:cNvPicPr/>
          <p:nvPr/>
        </p:nvPicPr>
        <p:blipFill>
          <a:blip r:embed="rId4"/>
          <a:stretch/>
        </p:blipFill>
        <p:spPr>
          <a:xfrm>
            <a:off x="1476360" y="4365720"/>
            <a:ext cx="1528920" cy="1635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218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Не подходить к ученицам, работающим на машинах, не отвлекать их от работ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При работе на ручной машине ручку махового колеса крутит только сам работающий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82" name="Picture 4" descr="logotip"/>
          <p:cNvPicPr/>
          <p:nvPr/>
        </p:nvPicPr>
        <p:blipFill>
          <a:blip r:embed="rId3"/>
          <a:stretch/>
        </p:blipFill>
        <p:spPr>
          <a:xfrm>
            <a:off x="3857760" y="3241800"/>
            <a:ext cx="3378240" cy="2822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4" name="Picture 6" descr="2212066-1fae9cfa60a003c9"/>
          <p:cNvPicPr/>
          <p:nvPr/>
        </p:nvPicPr>
        <p:blipFill>
          <a:blip r:embed="rId1"/>
          <a:stretch/>
        </p:blipFill>
        <p:spPr>
          <a:xfrm>
            <a:off x="0" y="84240"/>
            <a:ext cx="9144000" cy="6457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330120"/>
            <a:ext cx="84852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в кабинете трудового обучения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Входить в кабинет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Перед началом работы надеть спецодежд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Каждый учащийся должен работать только за своим рабочим местом, менять рабочее место можно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Начинать работу можно только с разрешения учител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Нельзя отвлекать работающих одноклассников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После окончания работы необходимо сложить все инструменты в отведенное для этого место и убрать свое рабочее место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999720"/>
            <a:ext cx="77724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При получении травмы учащийся должен немедленно обратиться к учителю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60" name="Рисунок 4" descr="aptechka.jpg"/>
          <p:cNvPicPr/>
          <p:nvPr/>
        </p:nvPicPr>
        <p:blipFill>
          <a:blip r:embed="rId2"/>
          <a:stretch/>
        </p:blipFill>
        <p:spPr>
          <a:xfrm>
            <a:off x="3143160" y="3000240"/>
            <a:ext cx="2619360" cy="278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56760" y="330120"/>
            <a:ext cx="859644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при работе с тканью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6000"/>
            <a:ext cx="6678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0aa0"/>
                </a:solidFill>
                <a:latin typeface="Times New Roman"/>
              </a:rPr>
              <a:t>Храните иголки и булавки в определенном месте (подушечке, специальной коробке и пр.), не оставляйте их на рабочем месте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0aa0"/>
                </a:solidFill>
                <a:latin typeface="Times New Roman"/>
              </a:rPr>
              <a:t>Не пользуйтесь при работе ржавыми иголками и булавками, ни в коем случае не берите иголки и булавки в рот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63" name="Рисунок 6" descr="01484f093584.jpg"/>
          <p:cNvPicPr/>
          <p:nvPr/>
        </p:nvPicPr>
        <p:blipFill>
          <a:blip r:embed="rId3"/>
          <a:stretch/>
        </p:blipFill>
        <p:spPr>
          <a:xfrm>
            <a:off x="357120" y="4572000"/>
            <a:ext cx="2071800" cy="187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85800" y="571320"/>
            <a:ext cx="777240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Шейте только с наперстком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Выкройки к ткани прикрепляйте острыми концами            булавок в направлении от себя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Не наклоняйтесь близко к движущимся частям швейной машин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65" name="Рисунок 6" descr="3531898.jpg"/>
          <p:cNvPicPr/>
          <p:nvPr/>
        </p:nvPicPr>
        <p:blipFill>
          <a:blip r:embed="rId4"/>
          <a:stretch/>
        </p:blipFill>
        <p:spPr>
          <a:xfrm>
            <a:off x="3643200" y="4643280"/>
            <a:ext cx="2357640" cy="171468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7" descr="48827632_1.jpg"/>
          <p:cNvPicPr/>
          <p:nvPr/>
        </p:nvPicPr>
        <p:blipFill>
          <a:blip r:embed="rId5"/>
          <a:stretch/>
        </p:blipFill>
        <p:spPr>
          <a:xfrm>
            <a:off x="1143000" y="4467240"/>
            <a:ext cx="1881360" cy="213372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8" descr="imgB.jpg"/>
          <p:cNvPicPr/>
          <p:nvPr/>
        </p:nvPicPr>
        <p:blipFill>
          <a:blip r:embed="rId6"/>
          <a:stretch/>
        </p:blipFill>
        <p:spPr>
          <a:xfrm>
            <a:off x="6858000" y="4429080"/>
            <a:ext cx="1714680" cy="198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58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20aa0"/>
                </a:solidFill>
                <a:latin typeface="Times New Roman"/>
              </a:rPr>
              <a:t>Не держите пальцы рук около лапки швейной машины во избежание прокола их иглой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0aa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20aa0"/>
                </a:solidFill>
                <a:latin typeface="Times New Roman"/>
              </a:rPr>
              <a:t>Перед стачиванием изделия на швейной машине убедитесь в отсутствии булавок или иголок на линии шва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0aa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20aa0"/>
                </a:solidFill>
                <a:latin typeface="Times New Roman"/>
              </a:rPr>
              <a:t>Не откусывайте нитки зубами, а отрезайте их ножницам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69" name="Рисунок 5" descr="T04534-DUR1771.jpg"/>
          <p:cNvPicPr/>
          <p:nvPr/>
        </p:nvPicPr>
        <p:blipFill>
          <a:blip r:embed="rId4"/>
          <a:stretch/>
        </p:blipFill>
        <p:spPr>
          <a:xfrm>
            <a:off x="6143760" y="43578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6" descr="q4.jpg"/>
          <p:cNvPicPr/>
          <p:nvPr/>
        </p:nvPicPr>
        <p:blipFill>
          <a:blip r:embed="rId5"/>
          <a:stretch/>
        </p:blipFill>
        <p:spPr>
          <a:xfrm>
            <a:off x="857160" y="4286160"/>
            <a:ext cx="2192400" cy="2279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4920" y="330120"/>
            <a:ext cx="855828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Инструкция по технике безопасности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при работе с электрическим утюгом.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57140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Не оставляйте включенный утюг в сеть без присмотр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Включайте и выключайте утюг сухими руками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Ставьте утюг на термоизоляционную подстав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273" name="Рисунок 5" descr="PHILIPS%20GC-3109_enl.jpg"/>
          <p:cNvPicPr/>
          <p:nvPr/>
        </p:nvPicPr>
        <p:blipFill>
          <a:blip r:embed="rId4"/>
          <a:stretch/>
        </p:blipFill>
        <p:spPr>
          <a:xfrm>
            <a:off x="5857920" y="4429080"/>
            <a:ext cx="2523960" cy="2050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Следите за нормальной работой утюга, о всех неисправностях сообщайте учителю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Следите за тем, чтобы подошва утюга не касалась шнур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a0"/>
                </a:solidFill>
                <a:latin typeface="Times New Roman"/>
              </a:rPr>
              <a:t>Отключайте утюг только за вилку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07:00:47Z</dcterms:created>
  <dc:creator>user</dc:creator>
  <dc:description/>
  <dc:language>en-US</dc:language>
  <cp:lastModifiedBy>kuche</cp:lastModifiedBy>
  <dcterms:modified xsi:type="dcterms:W3CDTF">2018-12-15T08:34:44Z</dcterms:modified>
  <cp:revision>13</cp:revision>
  <dc:subject/>
  <dc:title>Техника безопасности на уроках технологии</dc:title>
</cp:coreProperties>
</file>