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4.png" ContentType="image/png"/>
  <Override PartName="/ppt/media/image3.wmf" ContentType="image/x-wmf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8.png" ContentType="image/png"/>
  <Override PartName="/ppt/media/type.wav" ContentType="audio/x-wav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3.png" ContentType="image/png"/>
  <Override PartName="/ppt/media/image24.png" ContentType="image/png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4F1D-B5E9-4CE2-8D9A-759B7FDC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DCA-A716-46D8-8DCF-8B904A69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38D-2993-49C2-9D06-ECF36AB8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CE57-2DF8-4444-8047-EB91A175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D44E-A99F-4E89-9C0E-DA16451B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8FF5-B62A-4983-BE09-6E8DCF17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419F-26A9-4714-8377-13A59D3C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9D3A-F6A5-4D32-A443-215EBE8C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C6F9-67EB-42D2-AD99-5C522539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E309-8FC7-4DFE-AD7C-207929AF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0876-9429-4AE2-85BD-869EC9C1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E0A0-0B1B-47EB-A700-7EC35C8D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F852-A911-464D-9D90-E1E6AACC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31EA-079E-41C1-9198-116DA810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9C9D-840D-48D1-AED2-EF2FF3ED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8EB8-8B31-4150-96C1-C90AA8CD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F807-763B-4495-A6A4-23FD1C41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87B2-E238-4FAA-A5C4-D650E407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E620-CDC1-4302-BD04-F30DFE8C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09D-8473-4662-ACA0-AD4D4B73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11A-1AB7-4883-9F82-31C07E04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9CF0-BF72-404C-8FCD-C5B9C174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DE78-CD8B-455D-9DB2-EB47ECD1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757-4AD6-4B84-84D6-3B66E59C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795E-A411-4E65-AFDB-40134245972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B8B6-E655-4071-8635-63AA3CF072E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2349360"/>
            <a:ext cx="7621560" cy="2376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Занимательная математи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987640" y="6087600"/>
            <a:ext cx="61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спитатель: Горбунова О.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Box 8"/>
          <p:cNvSpPr/>
          <p:nvPr/>
        </p:nvSpPr>
        <p:spPr>
          <a:xfrm>
            <a:off x="4143240" y="714240"/>
            <a:ext cx="45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осударственное Казенное Учреждение Республики Хакасии «Центр для несовершеннолетних» г. Черногорс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4"/>
          <p:cNvGraphicFramePr/>
          <p:nvPr/>
        </p:nvGraphicFramePr>
        <p:xfrm>
          <a:off x="685800" y="1257480"/>
          <a:ext cx="7315200" cy="22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57480"/>
                    <a:ext cx="7315200" cy="22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42667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столе  - мяч, апельсин, яблоко, клубок нито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е из находящихся на столе предметов имеют форму шара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Упражнения на развитие внима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м похожи и чем отличаются эти две фигуры? (рис.1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де больше квадратов – справа или слева? А где меньше? (рис. 2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егче сравнивать в этом или предыдущем задании? Почему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называется фигура справа? Слева? (рис. 3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343400" y="990720"/>
          <a:ext cx="3200400" cy="13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990720"/>
                    <a:ext cx="320040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648320" y="2590920"/>
          <a:ext cx="2666880" cy="15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590920"/>
                    <a:ext cx="266688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8"/>
          <p:cNvSpPr/>
          <p:nvPr/>
        </p:nvSpPr>
        <p:spPr>
          <a:xfrm>
            <a:off x="7315200" y="2206080"/>
            <a:ext cx="838080" cy="6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ис.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317000" y="3656880"/>
            <a:ext cx="6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ис.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7545600" y="5637960"/>
            <a:ext cx="6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ис.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Object 11"/>
          <p:cNvGraphicFramePr/>
          <p:nvPr/>
        </p:nvGraphicFramePr>
        <p:xfrm>
          <a:off x="4191120" y="4302000"/>
          <a:ext cx="2819160" cy="15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4302000"/>
                    <a:ext cx="281916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актическое занят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76964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режи из цветной бумаги известные тебе геометрические фигуры и составь из них аппликацию (фигур можно быть столько сколько тебе потребуется; любого размера и цвет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2484360" y="2781360"/>
            <a:ext cx="3959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1752120"/>
            <a:ext cx="7848360" cy="2984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равнение величин.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заимное расположение предмет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Сравнит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то выше – корова или собака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то шире – река или ручей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кажи самую длинную, самую короткую палочку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акая из машин ниже – легковой автомобиль или автобус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1828800" y="2133720"/>
          <a:ext cx="477216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133720"/>
                    <a:ext cx="47721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Picture 7" descr="TN00332_"/>
          <p:cNvPicPr/>
          <p:nvPr/>
        </p:nvPicPr>
        <p:blipFill>
          <a:blip r:embed="rId3"/>
          <a:stretch/>
        </p:blipFill>
        <p:spPr>
          <a:xfrm>
            <a:off x="3048120" y="4800600"/>
            <a:ext cx="175248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TN00561_"/>
          <p:cNvPicPr/>
          <p:nvPr/>
        </p:nvPicPr>
        <p:blipFill>
          <a:blip r:embed="rId4"/>
          <a:stretch/>
        </p:blipFill>
        <p:spPr>
          <a:xfrm>
            <a:off x="5486400" y="4038480"/>
            <a:ext cx="2590920" cy="18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447920" y="47242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находится в центре картинки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расположено в верхнем левом углу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изображено в левом нижнем углу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находится справа от дома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расположено дальше от дома скамья или водоем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812880" y="457200"/>
          <a:ext cx="67546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457200"/>
                    <a:ext cx="6754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5"/>
          <p:cNvSpPr/>
          <p:nvPr/>
        </p:nvSpPr>
        <p:spPr>
          <a:xfrm>
            <a:off x="6934320" y="569916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Задания на смекалк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скрасьте мячи в красный, желтый и зеленый цвета так, чтобы порядок следования мячей в каждом ряду был различным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2590920" y="2438280"/>
          <a:ext cx="31208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438280"/>
                    <a:ext cx="31208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464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.  </a:t>
            </a:r>
            <a:br>
              <a:rPr sz="4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1476360" y="2187720"/>
            <a:ext cx="590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1692360" y="6192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ямой и обратный сче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684360" y="2421000"/>
            <a:ext cx="7632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1187280" y="4203720"/>
            <a:ext cx="619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1763640" y="1617840"/>
            <a:ext cx="5904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Задача 1. Карандаши поспорил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Заспорили карандаши в коробке. Синий сказал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- Я самый главный, меня дети больше любят. Моим цветом раскрашивают море и небо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- Нет, я самый главный,- возразил красный карандаш. - Моим цветом раскрашивают ягоды и праздничные флажки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- Ну нет, это я самый главный,- сказал зеленый карандаш. - Моим цветом дети раскрашивают траву и листья на деревьях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"Спорьте, спорьте,- думал про себя желтый карандаш. - Уж я-то знаю, кто самый главный. И почему дети меня любят больше всех. Ведь моим цветом раскрашивают солнце"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опрос.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Сколько всего карандашей было в коробке? (4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Задача 2. Считаем гостей и стуль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На день рождения Муха-Цокотуха позвала гостей. Накрыла праздничный стол, расставила стулья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ервыми приползли 2 гусеницы и сели на стулья. Затем прилетели 3 бабочки и тоже опустились на стулья. Вскоре прискакали кузнечики и уселись на двух стульях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И когда уже все сидели за столом и пили чай, в дверь постучали - приполз жук и занял еще одно место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опросы.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Сколько стульев было занято? (9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колько было гостей? (8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Picture 22" descr="z2ca"/>
          <p:cNvPicPr/>
          <p:nvPr/>
        </p:nvPicPr>
        <p:blipFill>
          <a:blip r:embed="rId1"/>
          <a:stretch/>
        </p:blipFill>
        <p:spPr>
          <a:xfrm>
            <a:off x="611280" y="620640"/>
            <a:ext cx="863640" cy="647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3" descr="z2a"/>
          <p:cNvPicPr/>
          <p:nvPr/>
        </p:nvPicPr>
        <p:blipFill>
          <a:blip r:embed="rId2"/>
          <a:stretch/>
        </p:blipFill>
        <p:spPr>
          <a:xfrm>
            <a:off x="324000" y="2205000"/>
            <a:ext cx="863280" cy="792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4" descr=""/>
          <p:cNvPicPr/>
          <p:nvPr/>
        </p:nvPicPr>
        <p:blipFill>
          <a:blip r:embed="rId3"/>
          <a:stretch/>
        </p:blipFill>
        <p:spPr>
          <a:xfrm>
            <a:off x="7740720" y="5013360"/>
            <a:ext cx="8287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50920" y="1071720"/>
            <a:ext cx="4321080" cy="1071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Вывод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26920" y="2097000"/>
            <a:ext cx="69138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веденная работа и ее результаты позволяют сделать вывод, что систематическое включение занимательных задач в процессе оказания помощи при выполнении домашнего задания по математике  является эффективным средством повышения интереса детей к обучению  по математике, развития их умственных способностей, мыслительной деятельности, а также творческой активности. То есть отвечает требованиям современной школ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29559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Задачи на логическое мышление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7920" y="361440"/>
            <a:ext cx="6832800" cy="100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Задача №1. Какой вес 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90920" y="1676160"/>
            <a:ext cx="3504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 продавца были гири 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 кг, 2 кг и 4 кг и чашечные вес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ой вес он может взвесить с помощью этих гирь, если гири он кладет только на одну чашку весов 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7" descr="zadacha2"/>
          <p:cNvPicPr/>
          <p:nvPr/>
        </p:nvPicPr>
        <p:blipFill>
          <a:blip r:embed="rId2"/>
          <a:stretch/>
        </p:blipFill>
        <p:spPr>
          <a:xfrm>
            <a:off x="468360" y="1844640"/>
            <a:ext cx="1152360" cy="1670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zadacha2"/>
          <p:cNvPicPr/>
          <p:nvPr/>
        </p:nvPicPr>
        <p:blipFill>
          <a:blip r:embed="rId3"/>
          <a:stretch/>
        </p:blipFill>
        <p:spPr>
          <a:xfrm>
            <a:off x="7093080" y="3860640"/>
            <a:ext cx="1079280" cy="1295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BD00028_"/>
          <p:cNvPicPr/>
          <p:nvPr/>
        </p:nvPicPr>
        <p:blipFill>
          <a:blip r:embed="rId4"/>
          <a:stretch/>
        </p:blipFill>
        <p:spPr>
          <a:xfrm>
            <a:off x="8317080" y="3573360"/>
            <a:ext cx="380880" cy="373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BD00028_"/>
          <p:cNvPicPr/>
          <p:nvPr/>
        </p:nvPicPr>
        <p:blipFill>
          <a:blip r:embed="rId5"/>
          <a:stretch/>
        </p:blipFill>
        <p:spPr>
          <a:xfrm>
            <a:off x="1763640" y="1700280"/>
            <a:ext cx="381240" cy="37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03280" y="2060280"/>
            <a:ext cx="35082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1979640" y="43596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Задача №2. Сколько книг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492360" y="1433160"/>
            <a:ext cx="374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библиотеке на двух полках было 19 книг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упили новые книги и на каждую полку поставили еще столько книг, сколько было на ней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олько теперь книг стоит на двух полках ?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7" descr="zadacha2"/>
          <p:cNvPicPr/>
          <p:nvPr/>
        </p:nvPicPr>
        <p:blipFill>
          <a:blip r:embed="rId1"/>
          <a:stretch/>
        </p:blipFill>
        <p:spPr>
          <a:xfrm>
            <a:off x="7308720" y="4076640"/>
            <a:ext cx="1212840" cy="1986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8" descr="zadacha2"/>
          <p:cNvPicPr/>
          <p:nvPr/>
        </p:nvPicPr>
        <p:blipFill>
          <a:blip r:embed="rId2"/>
          <a:stretch/>
        </p:blipFill>
        <p:spPr>
          <a:xfrm>
            <a:off x="1889280" y="1557360"/>
            <a:ext cx="1272960" cy="2087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BD00028_"/>
          <p:cNvPicPr/>
          <p:nvPr/>
        </p:nvPicPr>
        <p:blipFill>
          <a:blip r:embed="rId3"/>
          <a:stretch/>
        </p:blipFill>
        <p:spPr>
          <a:xfrm>
            <a:off x="8244000" y="3789360"/>
            <a:ext cx="380880" cy="372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BD00028_"/>
          <p:cNvPicPr/>
          <p:nvPr/>
        </p:nvPicPr>
        <p:blipFill>
          <a:blip r:embed="rId4"/>
          <a:stretch/>
        </p:blipFill>
        <p:spPr>
          <a:xfrm>
            <a:off x="3203640" y="1557360"/>
            <a:ext cx="380880" cy="372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Задача №3. Костя задумал число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476360" y="1341000"/>
            <a:ext cx="3772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9" descr="BD00028_"/>
          <p:cNvPicPr/>
          <p:nvPr/>
        </p:nvPicPr>
        <p:blipFill>
          <a:blip r:embed="rId2"/>
          <a:stretch/>
        </p:blipFill>
        <p:spPr>
          <a:xfrm>
            <a:off x="6553080" y="4952880"/>
            <a:ext cx="381240" cy="373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BD10263_"/>
          <p:cNvPicPr/>
          <p:nvPr/>
        </p:nvPicPr>
        <p:blipFill>
          <a:blip r:embed="rId3"/>
          <a:stretch/>
        </p:blipFill>
        <p:spPr>
          <a:xfrm>
            <a:off x="5791320" y="396252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BD10263_"/>
          <p:cNvPicPr/>
          <p:nvPr/>
        </p:nvPicPr>
        <p:blipFill>
          <a:blip r:embed="rId4"/>
          <a:stretch/>
        </p:blipFill>
        <p:spPr>
          <a:xfrm>
            <a:off x="5791320" y="182880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BD10263_"/>
          <p:cNvPicPr/>
          <p:nvPr/>
        </p:nvPicPr>
        <p:blipFill>
          <a:blip r:embed="rId5"/>
          <a:stretch/>
        </p:blipFill>
        <p:spPr>
          <a:xfrm>
            <a:off x="1619280" y="3456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BD10263_"/>
          <p:cNvPicPr/>
          <p:nvPr/>
        </p:nvPicPr>
        <p:blipFill>
          <a:blip r:embed="rId6"/>
          <a:stretch/>
        </p:blipFill>
        <p:spPr>
          <a:xfrm>
            <a:off x="1600200" y="198108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8"/>
          <p:cNvSpPr/>
          <p:nvPr/>
        </p:nvSpPr>
        <p:spPr>
          <a:xfrm>
            <a:off x="3203640" y="1677960"/>
            <a:ext cx="34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стя задумал число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бавил к нему 1, отнял 2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множил результат на 3 и разделил на 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илось 6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ое число задумал Костя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e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-1827720"/>
            <a:ext cx="6870960" cy="525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накомство с геометрией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2"/>
          <p:cNvGraphicFramePr/>
          <p:nvPr/>
        </p:nvGraphicFramePr>
        <p:xfrm>
          <a:off x="801720" y="609480"/>
          <a:ext cx="28303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609480"/>
                    <a:ext cx="28303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733920" y="1295280"/>
            <a:ext cx="44956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тако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еометр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ереводе с греческого это слово означает «землемерие» («гео» - земля, «метрио» - измерять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8709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сёлая точ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b2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помощью линейки отметьте одну за другой четыре точки. Дайте им имен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b2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метьте красным карандашом две точки. Приложи к ним линейку. Отметь синим карандашом три точки, расположив их между красными точк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b2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меть две точки на расстоянии 6 см одна от друг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b2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исуй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b2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исуй точки и по ним нарисуй такую же фигур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3581280" y="3352680"/>
          <a:ext cx="2286000" cy="6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352680"/>
                    <a:ext cx="22860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6"/>
          <p:cNvGraphicFramePr/>
          <p:nvPr/>
        </p:nvGraphicFramePr>
        <p:xfrm>
          <a:off x="3505320" y="4648320"/>
          <a:ext cx="11048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4648320"/>
                    <a:ext cx="11048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Rectangle 11"/>
          <p:cNvSpPr/>
          <p:nvPr/>
        </p:nvSpPr>
        <p:spPr>
          <a:xfrm>
            <a:off x="3352680" y="6004080"/>
            <a:ext cx="1981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13" descr=""/>
          <p:cNvPicPr/>
          <p:nvPr/>
        </p:nvPicPr>
        <p:blipFill>
          <a:blip r:embed="rId5"/>
          <a:stretch/>
        </p:blipFill>
        <p:spPr>
          <a:xfrm>
            <a:off x="7164360" y="2781360"/>
            <a:ext cx="1781280" cy="20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90360" y="43430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мотри на рисунок и назови по цвету, а затем по названию фигуры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ду 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2" name="Object 4"/>
          <p:cNvGraphicFramePr/>
          <p:nvPr/>
        </p:nvGraphicFramePr>
        <p:xfrm>
          <a:off x="380880" y="919080"/>
          <a:ext cx="7696440" cy="29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9080"/>
                    <a:ext cx="769644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1T18:33:30Z</dcterms:created>
  <dc:creator>Pinoshet</dc:creator>
  <dc:description/>
  <dc:language>en-US</dc:language>
  <cp:lastModifiedBy>WIN7XP</cp:lastModifiedBy>
  <dcterms:modified xsi:type="dcterms:W3CDTF">2018-10-02T14:56:24Z</dcterms:modified>
  <cp:revision>169</cp:revision>
  <dc:subject/>
  <dc:title>Геоконт  </dc:title>
</cp:coreProperties>
</file>