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5A1-4C2D-4536-8B91-27C290D3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1CE-3F1F-4C32-9D3E-FCA7EBFF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C47-A93F-442C-B9AB-F9420432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B13-609D-4445-8D11-8527C1C5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6A7-DD25-448C-9F97-9F09649F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993-67A3-4356-939C-5D97269E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0CD-AD0F-40F4-B1F0-CA6573E9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8FC-D9F7-4653-A0E9-C19FD4C8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F7D-88D3-4AFE-89D3-DCCB246F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431-2525-4D0A-AE82-CA4DCB79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799-DA3D-4466-B91D-F7068DAB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737-28A9-4D67-BE0B-BF6C80AF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1564-7682-4E0C-9A71-1A31BABC67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Дыхательные пут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совая пол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согло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та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х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онх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г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571680" y="1857240"/>
            <a:ext cx="628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 вы думаете, что регулирует процесс дыхания?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гуляция дых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Нервна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Гуморальна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Нервн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2916360" y="907920"/>
            <a:ext cx="129528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572000" y="907920"/>
            <a:ext cx="1295280" cy="93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900000" y="1628640"/>
            <a:ext cx="352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Непроизвольная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егуляция частоты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 глубины дыха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788000" y="1773360"/>
            <a:ext cx="352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оизвольна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егуляция часто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 глубины дыха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987640" y="2781360"/>
            <a:ext cx="302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Осуществляетс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9"/>
          <p:cNvSpPr/>
          <p:nvPr/>
        </p:nvSpPr>
        <p:spPr>
          <a:xfrm>
            <a:off x="2195640" y="285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6948360" y="292428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324000" y="3429000"/>
            <a:ext cx="331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Дыхательным центром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родолговатого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мозг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5867280" y="3429000"/>
            <a:ext cx="2449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Корой больши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олушарий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2195640" y="4437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7020000" y="4292640"/>
            <a:ext cx="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395280" y="5229360"/>
            <a:ext cx="352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Воздействие на холодовые,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болевые и другие рецептор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может приостановить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дыха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5292720" y="5084640"/>
            <a:ext cx="352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Мы можем произвольно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ускорить ил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остановить дыха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Гуморальная регуляц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Line 7"/>
          <p:cNvSpPr/>
          <p:nvPr/>
        </p:nvSpPr>
        <p:spPr>
          <a:xfrm>
            <a:off x="4572000" y="1341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987640" y="19890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тоту и глубину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ыха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Line 9"/>
          <p:cNvSpPr/>
          <p:nvPr/>
        </p:nvSpPr>
        <p:spPr>
          <a:xfrm flipH="1">
            <a:off x="2484360" y="2924280"/>
            <a:ext cx="144000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68360" y="3500280"/>
            <a:ext cx="3527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Ускоряе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Избыток СО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5292720" y="2924280"/>
            <a:ext cx="165564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5580000" y="3500280"/>
            <a:ext cx="309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Замедляе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Недостаток СО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зовите защитные рефлексы организм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36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Чихание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–защитная реакция организма через нос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Кашел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-защитная реакция организма через ро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71680" y="185724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ый вопрос: Какие факторы могут негативно повлиять на деятельность дыхательной системы человека?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380880"/>
            <a:ext cx="804384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флексия.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Пожалуйста надуйте шарики  в соответствии с оценкой, которую вы ставите себе: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расные, розовые – «5»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иние,фиолетовые – «4»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елтые,оранжевые– «3»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380520"/>
            <a:ext cx="8329680" cy="33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§ 28 прочитать;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ответить на вопросы 4-7 стр.183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6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ханизмы вдоха и выдох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уляция дыхани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ся с механизмами вдоха и выдоха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существляется нервная и гуморальная регуляция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Эпиграф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ышать – значит жить!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61000"/>
            <a:ext cx="768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блемный вопрос: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ем секрет вдоха и выдоха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Содержимое 3" descr="967308-1502121490.jpg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4753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еханизм вдох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ежрёберные мышцы и диафрагма сокращаю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рёбра поднимаются, диафрагма опуск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бъём грудной полости увеличи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бъём лёгких увеличи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оздух засасывается в лёг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оисходит вдох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284720" y="1413000"/>
            <a:ext cx="0" cy="503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Line 7"/>
          <p:cNvSpPr/>
          <p:nvPr/>
        </p:nvSpPr>
        <p:spPr>
          <a:xfrm>
            <a:off x="4284720" y="2492280"/>
            <a:ext cx="0" cy="503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Line 8"/>
          <p:cNvSpPr/>
          <p:nvPr/>
        </p:nvSpPr>
        <p:spPr>
          <a:xfrm>
            <a:off x="4284720" y="3500280"/>
            <a:ext cx="0" cy="5050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Line 9"/>
          <p:cNvSpPr/>
          <p:nvPr/>
        </p:nvSpPr>
        <p:spPr>
          <a:xfrm>
            <a:off x="4284720" y="4437000"/>
            <a:ext cx="0" cy="576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4284720" y="5516640"/>
            <a:ext cx="0" cy="576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46800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еханизм выдох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ежрёберные мышцы и диафрагма расслабляю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Рёбра опускаются вниз, диафрагма подним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бъём грудной полости уменьш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ёгкие сжимаю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оздух выдавливается из 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оисходит выдо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500720" y="1413000"/>
            <a:ext cx="0" cy="503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500720" y="2492280"/>
            <a:ext cx="0" cy="5050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Line 6"/>
          <p:cNvSpPr/>
          <p:nvPr/>
        </p:nvSpPr>
        <p:spPr>
          <a:xfrm>
            <a:off x="4500720" y="3429000"/>
            <a:ext cx="0" cy="576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7"/>
          <p:cNvSpPr/>
          <p:nvPr/>
        </p:nvSpPr>
        <p:spPr>
          <a:xfrm>
            <a:off x="4500720" y="4437000"/>
            <a:ext cx="0" cy="576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8"/>
          <p:cNvSpPr/>
          <p:nvPr/>
        </p:nvSpPr>
        <p:spPr>
          <a:xfrm>
            <a:off x="4500720" y="5516640"/>
            <a:ext cx="0" cy="576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Содержимое 3" descr="img9.jpg"/>
          <p:cNvPicPr/>
          <p:nvPr/>
        </p:nvPicPr>
        <p:blipFill>
          <a:blip r:embed="rId1"/>
          <a:stretch/>
        </p:blipFill>
        <p:spPr>
          <a:xfrm>
            <a:off x="139680" y="285840"/>
            <a:ext cx="8790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9:40:26Z</dcterms:created>
  <dc:creator>белый лукич</dc:creator>
  <dc:description/>
  <dc:language>en-US</dc:language>
  <cp:lastModifiedBy>Рифат</cp:lastModifiedBy>
  <dcterms:modified xsi:type="dcterms:W3CDTF">2018-12-17T01:28:31Z</dcterms:modified>
  <cp:revision>93</cp:revision>
  <dc:subject/>
  <dc:title>Дыхательная система</dc:title>
</cp:coreProperties>
</file>