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F72-B03B-447E-8448-AE77D745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6380-1EEA-42EE-B209-41B7EC4C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8AB0-2108-4958-92E1-84F072AF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B1E-3E43-4595-B6FC-3CBB8EB9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242F-507B-4A21-BC10-38705B43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9AD9-8BAC-4D79-A222-DEB9088B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529-FA01-4B4B-AE7F-34D24051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F9D-AA9F-4DBB-8E4C-E3E0FED4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168-983B-41A8-81AD-0A5FDAA4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4F0-CC3E-4052-A5D9-7385C24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02B6-2E89-449F-8F40-C15E1FA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B3B-D3F5-4DED-8DF7-7F7819F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18CD-85A3-4C4A-8DF7-CEC3F1EC222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Tahoma"/>
              </a:rPr>
              <a:t>Дыхательные пут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80720"/>
            <a:ext cx="82296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вая пол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осоглот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та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хе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онх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гк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571680" y="1857240"/>
            <a:ext cx="628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Как вы думаете, что регулирует процесс дыхания?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Регуляция дых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Нервна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ahoma"/>
              </a:rPr>
              <a:t>Гуморальна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80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ервна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Line 4"/>
          <p:cNvSpPr/>
          <p:nvPr/>
        </p:nvSpPr>
        <p:spPr>
          <a:xfrm flipH="1">
            <a:off x="2916360" y="907920"/>
            <a:ext cx="129528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572000" y="907920"/>
            <a:ext cx="1295280" cy="93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900000" y="1628640"/>
            <a:ext cx="352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Непроизвольная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гуляция частоты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 глубины 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788000" y="1773360"/>
            <a:ext cx="3529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роизвольна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регуляция частоты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 глубины 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987640" y="2781360"/>
            <a:ext cx="302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Осуществляетс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Line 9"/>
          <p:cNvSpPr/>
          <p:nvPr/>
        </p:nvSpPr>
        <p:spPr>
          <a:xfrm>
            <a:off x="2195640" y="285264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6948360" y="292428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324000" y="3429000"/>
            <a:ext cx="331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Дыхательным центром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родолговатого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мозг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5867280" y="3429000"/>
            <a:ext cx="2449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Корой больши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e5ffff"/>
                </a:solidFill>
                <a:latin typeface="Tahoma"/>
              </a:rPr>
              <a:t>полушарий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2195640" y="4437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7020000" y="4292640"/>
            <a:ext cx="0" cy="865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395280" y="5229360"/>
            <a:ext cx="352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Воздействие на холодовые,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болевые и другие рецептор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может приостановит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дых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5292720" y="5084640"/>
            <a:ext cx="3529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Мы можем произвольно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ускорить или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Tahoma"/>
              </a:rPr>
              <a:t>остановить дыхание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Гуморальная регуляц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Line 7"/>
          <p:cNvSpPr/>
          <p:nvPr/>
        </p:nvSpPr>
        <p:spPr>
          <a:xfrm>
            <a:off x="4572000" y="134136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987640" y="198900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астоту и глубину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ыхан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2484360" y="2924280"/>
            <a:ext cx="1440000" cy="57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68360" y="3500280"/>
            <a:ext cx="3527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скоряе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Избыток СО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5292720" y="2924280"/>
            <a:ext cx="165564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5580000" y="3500280"/>
            <a:ext cx="309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Замедляе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ahoma"/>
              </a:rPr>
              <a:t>Недостаток СО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47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зовите защитные рефлексы организма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369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Чихание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–защитная реакция организма через нос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Кашель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-защитная реакция организма через ро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571680" y="18572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ый вопрос: Какие факторы могут негативно повлиять на деятельность дыхательной системы человека?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380880"/>
            <a:ext cx="804384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флексия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Пожалуйста надуйте шарики  в соответствии с оценкой, которую вы ставите себе: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Красные, розовые – «5»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иние,фиолетовые – «4»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Желтые,оранжевые– «3»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380520"/>
            <a:ext cx="8329680" cy="33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§ 28 прочитать;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ответить на вопросы 4-7 стр.183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6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мы вдоха и выдох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уляция дыхания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комиться с механизмами вдоха и выдоха;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существляется нервная и гуморальная регуляция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Эпиграф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ышать – значит жить!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61000"/>
            <a:ext cx="7686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блемный вопрос: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ем секрет вдоха и выдоха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Содержимое 3" descr="967308-1502121490.jpg"/>
          <p:cNvPicPr/>
          <p:nvPr/>
        </p:nvPicPr>
        <p:blipFill>
          <a:blip r:embed="rId1"/>
          <a:stretch/>
        </p:blipFill>
        <p:spPr>
          <a:xfrm>
            <a:off x="428760" y="357120"/>
            <a:ext cx="835812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4753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ханизм вдох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жрёберные мышцы и диафрагма сокращаю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рёбра поднимаются, диафрагма опуск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грудной полости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лёгких увеличив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дух засасывается в лёгк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исходит вдох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284720" y="141300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284720" y="249228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Line 8"/>
          <p:cNvSpPr/>
          <p:nvPr/>
        </p:nvSpPr>
        <p:spPr>
          <a:xfrm>
            <a:off x="4284720" y="3500280"/>
            <a:ext cx="0" cy="5050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9"/>
          <p:cNvSpPr/>
          <p:nvPr/>
        </p:nvSpPr>
        <p:spPr>
          <a:xfrm>
            <a:off x="4284720" y="4437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4284720" y="551664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46800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Механизм выдох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ежрёберные мышцы и диафрагма расслабля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Рёбра опускаются вниз, диафрагма подним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Объём грудной полости уменьшае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ёгкие сжимают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оздух выдавливается из 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Происходит выдо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500720" y="1413000"/>
            <a:ext cx="0" cy="5032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5"/>
          <p:cNvSpPr/>
          <p:nvPr/>
        </p:nvSpPr>
        <p:spPr>
          <a:xfrm>
            <a:off x="4500720" y="2492280"/>
            <a:ext cx="0" cy="50508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00720" y="3429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500720" y="443700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8"/>
          <p:cNvSpPr/>
          <p:nvPr/>
        </p:nvSpPr>
        <p:spPr>
          <a:xfrm>
            <a:off x="4500720" y="5516640"/>
            <a:ext cx="0" cy="5763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Содержимое 3" descr="img9.jpg"/>
          <p:cNvPicPr/>
          <p:nvPr/>
        </p:nvPicPr>
        <p:blipFill>
          <a:blip r:embed="rId1"/>
          <a:stretch/>
        </p:blipFill>
        <p:spPr>
          <a:xfrm>
            <a:off x="139680" y="285840"/>
            <a:ext cx="8790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09:40:26Z</dcterms:created>
  <dc:creator>белый лукич</dc:creator>
  <dc:description/>
  <dc:language>en-US</dc:language>
  <cp:lastModifiedBy>Рифат</cp:lastModifiedBy>
  <dcterms:modified xsi:type="dcterms:W3CDTF">2018-12-17T01:28:31Z</dcterms:modified>
  <cp:revision>93</cp:revision>
  <dc:subject/>
  <dc:title>Дыхательная система</dc:title>
</cp:coreProperties>
</file>