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8A38-A03F-437E-9400-60BD84605C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7D3B-A29A-419A-978B-D769DFC2F9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150F-0E82-4A9F-A224-50E279B2B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DA9-77DC-436E-90F3-A342E8019C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CCBB-7388-44F8-9D61-D8E728EA97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B79C-08A3-4E45-860F-F5C6A596A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2BAB-A96E-4965-8141-E1E4F00FC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A2E1-BDF8-4AC7-B856-B4A4F8DF00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C85-1859-4A5A-BBE6-5337A0B1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360-4704-4942-8FC9-5C876A0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198-EF2F-440C-9E2B-F9AE29E7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BC5-C04D-44C4-9557-6C0DAEF1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65BC-46CD-477D-BFF7-1790007D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8BB8-F3DA-47FB-85C6-5419C3F9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4B03-9180-466E-B20A-E5594C0E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CAA-FCF8-4E6C-AEA7-9249B5D5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520D-52D0-4176-A756-2614B530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1855-92AB-46CC-9D6A-322E526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771E-1ED2-4B24-BEB9-EF91687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7B4-FCBF-4F4C-984D-A64B709F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471B-03DD-4B0E-9A37-C03F0C3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9F67-3051-4F5C-90FB-D22CF41E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453B-FC20-44A3-A17B-60F43E4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3966-95A8-4666-B82E-3BD2F6D4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C569-0692-4F3A-9B4F-C24BCB0C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513-977A-4497-B297-60E32862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151-6150-47C4-850A-D3688A1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9B70-6A2A-4A6A-89D0-9874AEE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812-8747-431E-881A-28A5B8F5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9AC-E972-45C9-BFB2-72822A4B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5C5-A16C-475A-A705-E7D990D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DEE2-E3D0-4D49-B958-CA2772CE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956-0BCA-4B75-B9F1-D053AB8970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1596-291C-4D9E-9983-FA35EC498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4"/>
          <p:cNvSpPr/>
          <p:nvPr/>
        </p:nvSpPr>
        <p:spPr>
          <a:xfrm>
            <a:off x="608040" y="3265560"/>
            <a:ext cx="727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дель построения индивидуальной траектории профессиональной и творческой реализации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5000" y="179280"/>
            <a:ext cx="779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стема организации контроля за исполнением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4920" y="1768320"/>
            <a:ext cx="7534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ая оценка качества реализации проекта  проводится в течение года, предложения по коррекции и изменениям обсуждаются на педагогическом совете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 о результатах реализации проекта предоставляется в отчетах по самообследованию, в публичном докладе, который публикуется на официальном сайте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5000" y="134640"/>
            <a:ext cx="765972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корректировки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4904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овка проекта осуществляется педагогическим советом, Советом образовательной организации (приказ по ОУ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реализацией проектом осуществляется директором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2728800" y="4505400"/>
            <a:ext cx="2578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560" y="485640"/>
            <a:ext cx="7151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точники финансирования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7" name="Объект 4" descr=""/>
          <p:cNvPicPr/>
          <p:nvPr/>
        </p:nvPicPr>
        <p:blipFill>
          <a:blip r:embed="rId1"/>
          <a:stretch/>
        </p:blipFill>
        <p:spPr>
          <a:xfrm>
            <a:off x="622440" y="1805040"/>
            <a:ext cx="719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178920"/>
            <a:ext cx="709128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проект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0360" y="1195560"/>
            <a:ext cx="7520040" cy="52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 уровень профессиональной подготовки педагога, выявлены затруднения в педагогической практи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а модель индивидуальной траектории профессиональной и творческой реализации педаг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ы условия для профессионального развития педагога (участие в мероприятиях (профессиональных конкурсах, конференциях, семинарах, мастер-классах, стажировках, образовательных экспедициях, коучингах, тьюториалах и т. д.) на всех уровнях (муниципальном, районном, областном, региональном, федеральн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ена корректировка модели по результатам контро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а  профессиональная компетентность педагога (разработка авторских программ, методических рекомендаций, пособий). Осуществляется трансляция педагогического опыта (публикация материалов по представлению собственного педагогического опыт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инновационных педагогически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й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Рисунок 3" descr="https://cheskylev.ru/netcat_files/userfiles/10_prichin-novaya.jpg"/>
          <p:cNvPicPr/>
          <p:nvPr/>
        </p:nvPicPr>
        <p:blipFill>
          <a:blip r:embed="rId1"/>
          <a:stretch/>
        </p:blipFill>
        <p:spPr>
          <a:xfrm>
            <a:off x="177840" y="5688000"/>
            <a:ext cx="122724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Схема 7" descr=""/>
          <p:cNvPicPr/>
          <p:nvPr/>
        </p:nvPicPr>
        <p:blipFill>
          <a:blip r:embed="rId1"/>
          <a:stretch/>
        </p:blipFill>
        <p:spPr>
          <a:xfrm>
            <a:off x="152280" y="957240"/>
            <a:ext cx="7791480" cy="4029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4880" y="104760"/>
            <a:ext cx="780876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ки при реализации проекта и этапы преодоле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271440" y="4183200"/>
            <a:ext cx="77119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о  преодолению риск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аркетинговая политика ОУ и создание условий для привлечения высококвалифицированных кад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Изменение общественного сознания посредством повышение авторитета педагога и позиционирования професс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здание условий  для привлечения дополнительных финанс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благоприятного психологического климата через психологические тренинги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90080" y="761760"/>
            <a:ext cx="868068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7" descr="https://atribootica.ru/upload/1500_1500/e1/0e/e10e62370a7e6de39252ce426037cc76.png"/>
          <p:cNvPicPr/>
          <p:nvPr/>
        </p:nvPicPr>
        <p:blipFill>
          <a:blip r:embed="rId2"/>
          <a:stretch/>
        </p:blipFill>
        <p:spPr>
          <a:xfrm>
            <a:off x="254160" y="2995560"/>
            <a:ext cx="2877840" cy="30513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47440" y="1864800"/>
            <a:ext cx="7808760" cy="9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47" name="Picture 9" descr="https://png.pngtree.com/element_origin_min_pic/17/02/19/c4f4265e571bf82e2bfd52465373e137.jpg"/>
          <p:cNvPicPr/>
          <p:nvPr/>
        </p:nvPicPr>
        <p:blipFill>
          <a:blip r:embed="rId3"/>
          <a:stretch/>
        </p:blipFill>
        <p:spPr>
          <a:xfrm>
            <a:off x="7819920" y="1258920"/>
            <a:ext cx="11811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0" y="4695840"/>
            <a:ext cx="1874880" cy="1400040"/>
          </a:xfrm>
          <a:prstGeom prst="rect">
            <a:avLst/>
          </a:prstGeom>
          <a:ln w="0">
            <a:noFill/>
          </a:ln>
        </p:spPr>
      </p:pic>
      <p:pic>
        <p:nvPicPr>
          <p:cNvPr id="91" name="Заголовок 1" descr=""/>
          <p:cNvPicPr/>
          <p:nvPr/>
        </p:nvPicPr>
        <p:blipFill>
          <a:blip r:embed="rId3"/>
          <a:stretch/>
        </p:blipFill>
        <p:spPr>
          <a:xfrm>
            <a:off x="517680" y="-171360"/>
            <a:ext cx="7894440" cy="89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0080" y="762120"/>
            <a:ext cx="86806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решения приоритетных задач государства, прозвучавших в  Указе Президента РФ «О национальных целях и стратегических задачах развития Российской Федерации на период до 2024 года», профессионализм педагога становится не только решающим фактором обеспечения качества образования, но и ступенью к дальнейшим высококачественным преобразованиям социально-экономического характера, от них в полной мере зависит будущее государ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построения индивидуальной траектор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й и творческой реализации педагога является важным компонентом национальной системы педагогического ро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ые современной школой требования к педагогу с высоким творческим потенциалом, аналитическими и коммуникативными способностями, умением самообразовываться, самосовершенствоваться, быт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ым к освоению новых требований, в том числе пр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и своей профессиональной деятельности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реализовать через индивидуальную траекторию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го и творческого роста педаг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3800" y="1154160"/>
            <a:ext cx="7886880" cy="38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тус проекта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дель построения индивидуальной траектории профессиональной и творческ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и педагога» -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ьный нормативный ак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7107120" y="4492800"/>
            <a:ext cx="2043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040" y="104760"/>
            <a:ext cx="78404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правовая база разработки проекта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9400" y="914400"/>
            <a:ext cx="79898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№273-ФЗ «Об образовании в Российской Федераци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 от 01.06.2012 №761 «О национальной стратегии действий в интересах детей на 2012-2017 годы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РФ от 30.04.2012 года № 722 – р об утверждении плана мероприятий («дорожная карта») «Изменение в отраслях социальной сферы, направленные на повышение эффективности образования и наук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 Президента Российской Федерации от 07.05.2018 № 204 «О национальных целях и стратегических задачах развития Российской Федерации на период  до 2024  года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рограмма Российской Федерации «Развитие образования на 2013-2020 годы», утвержденная Постановлением Правительства Российской Федерации от 15.04.2014 №29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Федеральной целевой программы развития образования на 2016-2020 годы, утвержденная распоряжением Правительства Российской Федерации от 29.12.2014 №2765-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26.12.2017 № 1642 «Об утверждении государственной программы Российской Федерации "Развитие образования"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Ф от 05.12.2014 № 1547 "Об утверждении показателей, характеризующих общие критерии оценки качества образовательной деятельности организаций, осуществляющих образовательную деятельность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ной закон Ростовской области от 14.11.2013 № 26 –ЗС «Об образовании в Ростовской области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остовской области от 25.09.2013 № 596 «Об утверждении государственной программы Ростовской области «Развитие образования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1480" y="1336680"/>
            <a:ext cx="7824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4920" y="2592000"/>
            <a:ext cx="761508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профессиональной компетентности  педагога через моделирование индивидуальной траектории профессионального и творческого ро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https://st2.depositphotos.com/3643473/6205/i/950/depositphotos_62058153-stock-photo-man-pointing-a-target.jpg"/>
          <p:cNvPicPr/>
          <p:nvPr/>
        </p:nvPicPr>
        <p:blipFill>
          <a:blip r:embed="rId1"/>
          <a:stretch/>
        </p:blipFill>
        <p:spPr>
          <a:xfrm>
            <a:off x="266760" y="5170320"/>
            <a:ext cx="1739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240" y="134640"/>
            <a:ext cx="78692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задачи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9680" y="1282320"/>
            <a:ext cx="748512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ситуацию с целью определения уровня профессиональной компетентности, выявить затруднения в педагогической практи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 модель  профессионального роста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для реализации модели профессионального развития педагога, оценить риски реализации модели и продумать пути их миним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контроль реализации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ь результативность проекта с целью дальнейшей реал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Рамка 23"/>
          <p:cNvGrpSpPr/>
          <p:nvPr/>
        </p:nvGrpSpPr>
        <p:grpSpPr>
          <a:xfrm>
            <a:off x="55440" y="-262080"/>
            <a:ext cx="8296560" cy="1500480"/>
            <a:chOff x="55440" y="-262080"/>
            <a:chExt cx="8296560" cy="1500480"/>
          </a:xfrm>
        </p:grpSpPr>
        <p:pic>
          <p:nvPicPr>
            <p:cNvPr id="103" name="Рамка 23" descr=""/>
            <p:cNvPicPr/>
            <p:nvPr/>
          </p:nvPicPr>
          <p:blipFill>
            <a:blip r:embed="rId1"/>
            <a:stretch/>
          </p:blipFill>
          <p:spPr>
            <a:xfrm>
              <a:off x="55440" y="-262080"/>
              <a:ext cx="82965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61880" y="115920"/>
              <a:ext cx="748512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тапы  реализации  проект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проект рассчитан на 1 учебный год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Группа 71"/>
          <p:cNvGrpSpPr/>
          <p:nvPr/>
        </p:nvGrpSpPr>
        <p:grpSpPr>
          <a:xfrm>
            <a:off x="533520" y="998640"/>
            <a:ext cx="7553160" cy="625320"/>
            <a:chOff x="533520" y="998640"/>
            <a:chExt cx="7553160" cy="625320"/>
          </a:xfrm>
        </p:grpSpPr>
        <p:grpSp>
          <p:nvGrpSpPr>
            <p:cNvPr id="106" name="Группа 62"/>
            <p:cNvGrpSpPr/>
            <p:nvPr/>
          </p:nvGrpSpPr>
          <p:grpSpPr>
            <a:xfrm>
              <a:off x="533520" y="1005840"/>
              <a:ext cx="7553160" cy="618120"/>
              <a:chOff x="533520" y="1005840"/>
              <a:chExt cx="7553160" cy="618120"/>
            </a:xfrm>
          </p:grpSpPr>
          <p:sp>
            <p:nvSpPr>
              <p:cNvPr id="107" name="AutoShape 35"/>
              <p:cNvSpPr/>
              <p:nvPr/>
            </p:nvSpPr>
            <p:spPr>
              <a:xfrm>
                <a:off x="533520" y="1223640"/>
                <a:ext cx="3746520" cy="400320"/>
              </a:xfrm>
              <a:prstGeom prst="bevel">
                <a:avLst>
                  <a:gd name="adj" fmla="val 3718"/>
                </a:avLst>
              </a:prstGeom>
              <a:solidFill>
                <a:srgbClr val="ffd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этап (сентябрь-октябрь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AutoShape 37"/>
              <p:cNvSpPr/>
              <p:nvPr/>
            </p:nvSpPr>
            <p:spPr>
              <a:xfrm>
                <a:off x="4318560" y="1222920"/>
                <a:ext cx="3745800" cy="40104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 этап (ноябрь-июль)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46"/>
              <p:cNvSpPr/>
              <p:nvPr/>
            </p:nvSpPr>
            <p:spPr>
              <a:xfrm>
                <a:off x="533520" y="1005840"/>
                <a:ext cx="7553160" cy="187560"/>
              </a:xfrm>
              <a:prstGeom prst="pie">
                <a:avLst/>
              </a:prstGeom>
              <a:gradFill rotWithShape="0">
                <a:gsLst>
                  <a:gs pos="0">
                    <a:srgbClr val="ffc746"/>
                  </a:gs>
                  <a:gs pos="100000">
                    <a:srgbClr val="e5b600"/>
                  </a:gs>
                </a:gsLst>
                <a:lin ang="54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Line 47"/>
            <p:cNvSpPr/>
            <p:nvPr/>
          </p:nvSpPr>
          <p:spPr>
            <a:xfrm flipV="1">
              <a:off x="4313160" y="998640"/>
              <a:ext cx="331560" cy="193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Группа 63"/>
          <p:cNvGrpSpPr/>
          <p:nvPr/>
        </p:nvGrpSpPr>
        <p:grpSpPr>
          <a:xfrm>
            <a:off x="571680" y="1739880"/>
            <a:ext cx="7526160" cy="789120"/>
            <a:chOff x="571680" y="1739880"/>
            <a:chExt cx="7526160" cy="789120"/>
          </a:xfrm>
        </p:grpSpPr>
        <p:sp>
          <p:nvSpPr>
            <p:cNvPr id="112" name="AutoShape 34"/>
            <p:cNvSpPr/>
            <p:nvPr/>
          </p:nvSpPr>
          <p:spPr>
            <a:xfrm>
              <a:off x="571680" y="1739880"/>
              <a:ext cx="3740040" cy="78912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afabab">
                    <a:alpha val="55294"/>
                  </a:srgbClr>
                </a:gs>
                <a:gs pos="100000">
                  <a:srgbClr val="afab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Выявление уровн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рофессиональной  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едагог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AutoShape 34"/>
            <p:cNvSpPr/>
            <p:nvPr/>
          </p:nvSpPr>
          <p:spPr>
            <a:xfrm>
              <a:off x="4357800" y="1747800"/>
              <a:ext cx="3740040" cy="7812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afabab">
                    <a:alpha val="55294"/>
                  </a:srgbClr>
                </a:gs>
                <a:gs pos="100000">
                  <a:srgbClr val="afab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Развит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рофессиональной  компетентности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педагога (механизмы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Группа 65"/>
          <p:cNvGrpSpPr/>
          <p:nvPr/>
        </p:nvGrpSpPr>
        <p:grpSpPr>
          <a:xfrm>
            <a:off x="312840" y="2685960"/>
            <a:ext cx="3967200" cy="1222560"/>
            <a:chOff x="312840" y="2685960"/>
            <a:chExt cx="3967200" cy="1222560"/>
          </a:xfrm>
        </p:grpSpPr>
        <p:sp>
          <p:nvSpPr>
            <p:cNvPr id="115" name="AutoShape 34"/>
            <p:cNvSpPr/>
            <p:nvPr/>
          </p:nvSpPr>
          <p:spPr>
            <a:xfrm>
              <a:off x="312840" y="2685960"/>
              <a:ext cx="1289160" cy="122256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AutoShape 34"/>
            <p:cNvSpPr/>
            <p:nvPr/>
          </p:nvSpPr>
          <p:spPr>
            <a:xfrm>
              <a:off x="1602000" y="2685960"/>
              <a:ext cx="1289160" cy="122256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AutoShape 34"/>
            <p:cNvSpPr/>
            <p:nvPr/>
          </p:nvSpPr>
          <p:spPr>
            <a:xfrm>
              <a:off x="2891160" y="2685960"/>
              <a:ext cx="1289160" cy="122256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Прямоугольник 49"/>
            <p:cNvSpPr/>
            <p:nvPr/>
          </p:nvSpPr>
          <p:spPr>
            <a:xfrm>
              <a:off x="380520" y="3043080"/>
              <a:ext cx="115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агност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оугольник 50"/>
            <p:cNvSpPr/>
            <p:nvPr/>
          </p:nvSpPr>
          <p:spPr>
            <a:xfrm>
              <a:off x="1805400" y="3043080"/>
              <a:ext cx="94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ст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Прямоугольник 51"/>
            <p:cNvSpPr/>
            <p:nvPr/>
          </p:nvSpPr>
          <p:spPr>
            <a:xfrm>
              <a:off x="2891160" y="3185640"/>
              <a:ext cx="13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моанализ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Группа 70"/>
          <p:cNvGrpSpPr/>
          <p:nvPr/>
        </p:nvGrpSpPr>
        <p:grpSpPr>
          <a:xfrm>
            <a:off x="4357800" y="2676600"/>
            <a:ext cx="3827520" cy="1222200"/>
            <a:chOff x="4357800" y="2676600"/>
            <a:chExt cx="3827520" cy="1222200"/>
          </a:xfrm>
        </p:grpSpPr>
        <p:grpSp>
          <p:nvGrpSpPr>
            <p:cNvPr id="122" name="Группа 67"/>
            <p:cNvGrpSpPr/>
            <p:nvPr/>
          </p:nvGrpSpPr>
          <p:grpSpPr>
            <a:xfrm>
              <a:off x="5592960" y="2676600"/>
              <a:ext cx="2470320" cy="1222200"/>
              <a:chOff x="5592960" y="2676600"/>
              <a:chExt cx="2470320" cy="1222200"/>
            </a:xfrm>
          </p:grpSpPr>
          <p:sp>
            <p:nvSpPr>
              <p:cNvPr id="123" name="AutoShape 34"/>
              <p:cNvSpPr/>
              <p:nvPr/>
            </p:nvSpPr>
            <p:spPr>
              <a:xfrm>
                <a:off x="6828120" y="2676600"/>
                <a:ext cx="1235160" cy="122220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AutoShape 34"/>
              <p:cNvSpPr/>
              <p:nvPr/>
            </p:nvSpPr>
            <p:spPr>
              <a:xfrm>
                <a:off x="5592960" y="2676600"/>
                <a:ext cx="1235160" cy="122220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" name="Группа 66"/>
            <p:cNvGrpSpPr/>
            <p:nvPr/>
          </p:nvGrpSpPr>
          <p:grpSpPr>
            <a:xfrm>
              <a:off x="4357800" y="2676600"/>
              <a:ext cx="3827520" cy="1222200"/>
              <a:chOff x="4357800" y="2676600"/>
              <a:chExt cx="3827520" cy="1222200"/>
            </a:xfrm>
          </p:grpSpPr>
          <p:sp>
            <p:nvSpPr>
              <p:cNvPr id="126" name="AutoShape 34"/>
              <p:cNvSpPr/>
              <p:nvPr/>
            </p:nvSpPr>
            <p:spPr>
              <a:xfrm>
                <a:off x="4357800" y="2676600"/>
                <a:ext cx="1257120" cy="122220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Прямоугольник 57"/>
              <p:cNvSpPr/>
              <p:nvPr/>
            </p:nvSpPr>
            <p:spPr>
              <a:xfrm>
                <a:off x="4357800" y="2890800"/>
                <a:ext cx="1257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лан само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Прямоугольник 58"/>
              <p:cNvSpPr/>
              <p:nvPr/>
            </p:nvSpPr>
            <p:spPr>
              <a:xfrm>
                <a:off x="5504040" y="2676600"/>
                <a:ext cx="1389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выполнение плана само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Прямоугольник 59"/>
              <p:cNvSpPr/>
              <p:nvPr/>
            </p:nvSpPr>
            <p:spPr>
              <a:xfrm>
                <a:off x="6893280" y="2676600"/>
                <a:ext cx="1292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ализ плана самообразования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0" name="Группа 69"/>
          <p:cNvGrpSpPr/>
          <p:nvPr/>
        </p:nvGrpSpPr>
        <p:grpSpPr>
          <a:xfrm>
            <a:off x="344520" y="3944880"/>
            <a:ext cx="7753320" cy="1071720"/>
            <a:chOff x="344520" y="3944880"/>
            <a:chExt cx="7753320" cy="1071720"/>
          </a:xfrm>
        </p:grpSpPr>
        <p:grpSp>
          <p:nvGrpSpPr>
            <p:cNvPr id="131" name="AutoShape 35"/>
            <p:cNvGrpSpPr/>
            <p:nvPr/>
          </p:nvGrpSpPr>
          <p:grpSpPr>
            <a:xfrm>
              <a:off x="481320" y="3944880"/>
              <a:ext cx="3803760" cy="1071720"/>
              <a:chOff x="481320" y="3944880"/>
              <a:chExt cx="3803760" cy="1071720"/>
            </a:xfrm>
          </p:grpSpPr>
          <p:pic>
            <p:nvPicPr>
              <p:cNvPr id="132" name="AutoShape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320" y="3944880"/>
                <a:ext cx="3803760" cy="10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28840" y="3990960"/>
                <a:ext cx="3709080" cy="9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Группа 68"/>
            <p:cNvGrpSpPr/>
            <p:nvPr/>
          </p:nvGrpSpPr>
          <p:grpSpPr>
            <a:xfrm>
              <a:off x="344520" y="3951360"/>
              <a:ext cx="7753320" cy="1058400"/>
              <a:chOff x="344520" y="3951360"/>
              <a:chExt cx="7753320" cy="1058400"/>
            </a:xfrm>
          </p:grpSpPr>
          <p:sp>
            <p:nvSpPr>
              <p:cNvPr id="135" name="TextBox 52"/>
              <p:cNvSpPr/>
              <p:nvPr/>
            </p:nvSpPr>
            <p:spPr>
              <a:xfrm>
                <a:off x="344520" y="4027680"/>
                <a:ext cx="3798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262626"/>
                    </a:solidFill>
                    <a:latin typeface="Times New Roman"/>
                    <a:ea typeface="Times New Roman"/>
                  </a:rPr>
                  <a:t>определение путей совершенствования     профессиональной компетентност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6" name="AutoShape 35"/>
              <p:cNvGrpSpPr/>
              <p:nvPr/>
            </p:nvGrpSpPr>
            <p:grpSpPr>
              <a:xfrm>
                <a:off x="4271400" y="3951360"/>
                <a:ext cx="3826440" cy="1058400"/>
                <a:chOff x="4271400" y="3951360"/>
                <a:chExt cx="3826440" cy="1058400"/>
              </a:xfrm>
            </p:grpSpPr>
            <p:pic>
              <p:nvPicPr>
                <p:cNvPr id="137" name="AutoShape 3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271400" y="3951360"/>
                  <a:ext cx="3826440" cy="1058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4315680" y="3996720"/>
                  <a:ext cx="3738600" cy="96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9" name="TextBox 61"/>
            <p:cNvSpPr/>
            <p:nvPr/>
          </p:nvSpPr>
          <p:spPr>
            <a:xfrm>
              <a:off x="4278240" y="4022280"/>
              <a:ext cx="368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совершенствование     профессионально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262626"/>
                  </a:solidFill>
                  <a:latin typeface="Times New Roman"/>
                  <a:ea typeface="Times New Roman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Группа 85"/>
          <p:cNvGrpSpPr/>
          <p:nvPr/>
        </p:nvGrpSpPr>
        <p:grpSpPr>
          <a:xfrm>
            <a:off x="463680" y="4704480"/>
            <a:ext cx="4166640" cy="1309680"/>
            <a:chOff x="463680" y="4704480"/>
            <a:chExt cx="4166640" cy="1309680"/>
          </a:xfrm>
        </p:grpSpPr>
        <p:sp>
          <p:nvSpPr>
            <p:cNvPr id="141" name="AutoShape 34"/>
            <p:cNvSpPr/>
            <p:nvPr/>
          </p:nvSpPr>
          <p:spPr>
            <a:xfrm>
              <a:off x="463680" y="5420880"/>
              <a:ext cx="2214360" cy="448200"/>
            </a:xfrm>
            <a:prstGeom prst="bevel">
              <a:avLst>
                <a:gd name="adj" fmla="val 1648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4f4f4"/>
                </a:gs>
                <a:gs pos="100000">
                  <a:srgbClr val="ddddd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75"/>
            <p:cNvSpPr/>
            <p:nvPr/>
          </p:nvSpPr>
          <p:spPr>
            <a:xfrm>
              <a:off x="463680" y="5483880"/>
              <a:ext cx="22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дминистрац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78"/>
            <p:cNvSpPr/>
            <p:nvPr/>
          </p:nvSpPr>
          <p:spPr>
            <a:xfrm rot="20270400">
              <a:off x="2610000" y="51753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имул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Штриховая стрелка вправо 79"/>
            <p:cNvSpPr/>
            <p:nvPr/>
          </p:nvSpPr>
          <p:spPr>
            <a:xfrm rot="20216400">
              <a:off x="2525400" y="5090760"/>
              <a:ext cx="2082600" cy="536760"/>
            </a:xfrm>
            <a:prstGeom prst="pie">
              <a:avLst/>
            </a:prstGeom>
            <a:noFill/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Группа 83"/>
          <p:cNvGrpSpPr/>
          <p:nvPr/>
        </p:nvGrpSpPr>
        <p:grpSpPr>
          <a:xfrm>
            <a:off x="4357800" y="5243400"/>
            <a:ext cx="3705120" cy="642960"/>
            <a:chOff x="4357800" y="5243400"/>
            <a:chExt cx="3705120" cy="642960"/>
          </a:xfrm>
        </p:grpSpPr>
        <p:grpSp>
          <p:nvGrpSpPr>
            <p:cNvPr id="146" name="AutoShape 35"/>
            <p:cNvGrpSpPr/>
            <p:nvPr/>
          </p:nvGrpSpPr>
          <p:grpSpPr>
            <a:xfrm>
              <a:off x="4357800" y="5243400"/>
              <a:ext cx="3705120" cy="642960"/>
              <a:chOff x="4357800" y="5243400"/>
              <a:chExt cx="3705120" cy="642960"/>
            </a:xfrm>
          </p:grpSpPr>
          <p:pic>
            <p:nvPicPr>
              <p:cNvPr id="147" name="AutoShape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4357800" y="5243400"/>
                <a:ext cx="370512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386600" y="5273640"/>
                <a:ext cx="364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" name="TextBox 82"/>
            <p:cNvSpPr/>
            <p:nvPr/>
          </p:nvSpPr>
          <p:spPr>
            <a:xfrm>
              <a:off x="4369680" y="5300280"/>
              <a:ext cx="356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вый «виток» самообразовани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Штриховая стрелка вправо 86"/>
          <p:cNvSpPr/>
          <p:nvPr/>
        </p:nvSpPr>
        <p:spPr>
          <a:xfrm rot="13857600">
            <a:off x="2148120" y="3340440"/>
            <a:ext cx="3990960" cy="497160"/>
          </a:xfrm>
          <a:prstGeom prst="pi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ая прямоугольная выноска 42"/>
          <p:cNvSpPr/>
          <p:nvPr/>
        </p:nvSpPr>
        <p:spPr>
          <a:xfrm>
            <a:off x="476280" y="6014880"/>
            <a:ext cx="2585880" cy="535320"/>
          </a:xfrm>
          <a:prstGeom prst="wedgeRoundRectCallout">
            <a:avLst>
              <a:gd name="adj1" fmla="val 15296"/>
              <a:gd name="adj2" fmla="val 63874"/>
              <a:gd name="adj3" fmla="val 16667"/>
            </a:avLst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  (авгу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ая прямоугольная выноска 43"/>
          <p:cNvSpPr/>
          <p:nvPr/>
        </p:nvSpPr>
        <p:spPr>
          <a:xfrm>
            <a:off x="3228840" y="6014880"/>
            <a:ext cx="4869000" cy="535320"/>
          </a:xfrm>
          <a:prstGeom prst="wedgeRoundRectCallout">
            <a:avLst>
              <a:gd name="adj1" fmla="val 15296"/>
              <a:gd name="adj2" fmla="val 63874"/>
              <a:gd name="adj3" fmla="val 16667"/>
            </a:avLst>
          </a:pr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яция опыта, подведение ит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нители проект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коллектив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577960" y="4273560"/>
            <a:ext cx="34624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Рамка 23"/>
          <p:cNvGrpSpPr/>
          <p:nvPr/>
        </p:nvGrpSpPr>
        <p:grpSpPr>
          <a:xfrm>
            <a:off x="-128520" y="-49320"/>
            <a:ext cx="8388360" cy="1146240"/>
            <a:chOff x="-128520" y="-49320"/>
            <a:chExt cx="8388360" cy="1146240"/>
          </a:xfrm>
        </p:grpSpPr>
        <p:pic>
          <p:nvPicPr>
            <p:cNvPr id="157" name="Рамка 23" descr=""/>
            <p:cNvPicPr/>
            <p:nvPr/>
          </p:nvPicPr>
          <p:blipFill>
            <a:blip r:embed="rId1"/>
            <a:stretch/>
          </p:blipFill>
          <p:spPr>
            <a:xfrm>
              <a:off x="-128520" y="-49320"/>
              <a:ext cx="8388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35080" y="285840"/>
              <a:ext cx="767052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дель  индивидуальной траектории педагог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Группа 16"/>
          <p:cNvGrpSpPr/>
          <p:nvPr/>
        </p:nvGrpSpPr>
        <p:grpSpPr>
          <a:xfrm>
            <a:off x="3881160" y="2101680"/>
            <a:ext cx="2412000" cy="1212840"/>
            <a:chOff x="3881160" y="2101680"/>
            <a:chExt cx="2412000" cy="1212840"/>
          </a:xfrm>
        </p:grpSpPr>
        <p:grpSp>
          <p:nvGrpSpPr>
            <p:cNvPr id="160" name="Овал 17"/>
            <p:cNvGrpSpPr/>
            <p:nvPr/>
          </p:nvGrpSpPr>
          <p:grpSpPr>
            <a:xfrm>
              <a:off x="3935520" y="2195280"/>
              <a:ext cx="2357640" cy="1098720"/>
              <a:chOff x="3935520" y="2195280"/>
              <a:chExt cx="2357640" cy="1098720"/>
            </a:xfrm>
          </p:grpSpPr>
          <p:pic>
            <p:nvPicPr>
              <p:cNvPr id="161" name="Овал 17" descr=""/>
              <p:cNvPicPr/>
              <p:nvPr/>
            </p:nvPicPr>
            <p:blipFill>
              <a:blip r:embed="rId2"/>
              <a:stretch/>
            </p:blipFill>
            <p:spPr>
              <a:xfrm rot="21599400">
                <a:off x="3935520" y="2195280"/>
                <a:ext cx="2357280" cy="109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 rot="20856600">
                <a:off x="4254120" y="2361960"/>
                <a:ext cx="140976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18"/>
            <p:cNvSpPr/>
            <p:nvPr/>
          </p:nvSpPr>
          <p:spPr>
            <a:xfrm rot="20592600">
              <a:off x="3916440" y="2417400"/>
              <a:ext cx="227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циально - личност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Группа 21"/>
          <p:cNvGrpSpPr/>
          <p:nvPr/>
        </p:nvGrpSpPr>
        <p:grpSpPr>
          <a:xfrm>
            <a:off x="3445200" y="3327480"/>
            <a:ext cx="1341360" cy="2119680"/>
            <a:chOff x="3445200" y="3327480"/>
            <a:chExt cx="1341360" cy="2119680"/>
          </a:xfrm>
        </p:grpSpPr>
        <p:grpSp>
          <p:nvGrpSpPr>
            <p:cNvPr id="165" name="Овал 22"/>
            <p:cNvGrpSpPr/>
            <p:nvPr/>
          </p:nvGrpSpPr>
          <p:grpSpPr>
            <a:xfrm>
              <a:off x="3540240" y="3327480"/>
              <a:ext cx="1246320" cy="2119680"/>
              <a:chOff x="3540240" y="3327480"/>
              <a:chExt cx="1246320" cy="2119680"/>
            </a:xfrm>
          </p:grpSpPr>
          <p:pic>
            <p:nvPicPr>
              <p:cNvPr id="166" name="Овал 22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3540240" y="3327480"/>
                <a:ext cx="1245960" cy="21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 rot="719400">
                <a:off x="3727800" y="3619800"/>
                <a:ext cx="637200" cy="12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8" name="TextBox 24"/>
            <p:cNvSpPr/>
            <p:nvPr/>
          </p:nvSpPr>
          <p:spPr>
            <a:xfrm rot="456000">
              <a:off x="3527640" y="3863520"/>
              <a:ext cx="9230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фессионально-творческ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Группа 15"/>
          <p:cNvGrpSpPr/>
          <p:nvPr/>
        </p:nvGrpSpPr>
        <p:grpSpPr>
          <a:xfrm>
            <a:off x="1924920" y="2375640"/>
            <a:ext cx="2424960" cy="1302120"/>
            <a:chOff x="1924920" y="2375640"/>
            <a:chExt cx="2424960" cy="1302120"/>
          </a:xfrm>
        </p:grpSpPr>
        <p:grpSp>
          <p:nvGrpSpPr>
            <p:cNvPr id="170" name="Овал 13"/>
            <p:cNvGrpSpPr/>
            <p:nvPr/>
          </p:nvGrpSpPr>
          <p:grpSpPr>
            <a:xfrm>
              <a:off x="2109240" y="2410200"/>
              <a:ext cx="2240640" cy="1161720"/>
              <a:chOff x="2109240" y="2410200"/>
              <a:chExt cx="2240640" cy="1161720"/>
            </a:xfrm>
          </p:grpSpPr>
          <p:pic>
            <p:nvPicPr>
              <p:cNvPr id="171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09240" y="2473200"/>
                <a:ext cx="2240640" cy="109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 rot="1443600">
                <a:off x="2383200" y="2672280"/>
                <a:ext cx="139212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Box 14"/>
            <p:cNvSpPr/>
            <p:nvPr/>
          </p:nvSpPr>
          <p:spPr>
            <a:xfrm rot="1179600">
              <a:off x="1956960" y="2736000"/>
              <a:ext cx="2244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офессионально - деятельностна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Овал 25"/>
          <p:cNvGrpSpPr/>
          <p:nvPr/>
        </p:nvGrpSpPr>
        <p:grpSpPr>
          <a:xfrm>
            <a:off x="3998880" y="3078000"/>
            <a:ext cx="774720" cy="841680"/>
            <a:chOff x="3998880" y="3078000"/>
            <a:chExt cx="774720" cy="841680"/>
          </a:xfrm>
        </p:grpSpPr>
        <p:pic>
          <p:nvPicPr>
            <p:cNvPr id="175" name="Овал 25" descr=""/>
            <p:cNvPicPr/>
            <p:nvPr/>
          </p:nvPicPr>
          <p:blipFill>
            <a:blip r:embed="rId5"/>
            <a:stretch/>
          </p:blipFill>
          <p:spPr>
            <a:xfrm>
              <a:off x="3998880" y="3078000"/>
              <a:ext cx="7747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098960" y="3189240"/>
              <a:ext cx="2538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Группа 120"/>
          <p:cNvGrpSpPr/>
          <p:nvPr/>
        </p:nvGrpSpPr>
        <p:grpSpPr>
          <a:xfrm>
            <a:off x="4341960" y="1098720"/>
            <a:ext cx="1143000" cy="1059840"/>
            <a:chOff x="4341960" y="1098720"/>
            <a:chExt cx="1143000" cy="1059840"/>
          </a:xfrm>
        </p:grpSpPr>
        <p:sp>
          <p:nvSpPr>
            <p:cNvPr id="178" name="Прямоугольник 50"/>
            <p:cNvSpPr/>
            <p:nvPr/>
          </p:nvSpPr>
          <p:spPr>
            <a:xfrm>
              <a:off x="4341960" y="109872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флекс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9" name="Прямая со стрелкой 69"/>
            <p:cNvCxnSpPr/>
            <p:nvPr/>
          </p:nvCxnSpPr>
          <p:spPr>
            <a:xfrm flipV="1">
              <a:off x="4915080" y="1310400"/>
              <a:ext cx="3600" cy="8485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0" name="Группа 121"/>
          <p:cNvGrpSpPr/>
          <p:nvPr/>
        </p:nvGrpSpPr>
        <p:grpSpPr>
          <a:xfrm>
            <a:off x="5211720" y="1131840"/>
            <a:ext cx="1355760" cy="1067400"/>
            <a:chOff x="5211720" y="1131840"/>
            <a:chExt cx="1355760" cy="1067400"/>
          </a:xfrm>
        </p:grpSpPr>
        <p:sp>
          <p:nvSpPr>
            <p:cNvPr id="181" name="TextBox 48"/>
            <p:cNvSpPr/>
            <p:nvPr/>
          </p:nvSpPr>
          <p:spPr>
            <a:xfrm>
              <a:off x="5211720" y="1131840"/>
              <a:ext cx="1355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тение литературы, периодик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2" name="Прямая со стрелкой 70"/>
            <p:cNvCxnSpPr/>
            <p:nvPr/>
          </p:nvCxnSpPr>
          <p:spPr>
            <a:xfrm flipV="1">
              <a:off x="5211720" y="1734840"/>
              <a:ext cx="272160" cy="4118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3" name="Группа 122"/>
          <p:cNvGrpSpPr/>
          <p:nvPr/>
        </p:nvGrpSpPr>
        <p:grpSpPr>
          <a:xfrm>
            <a:off x="5977080" y="1079640"/>
            <a:ext cx="2000160" cy="1554120"/>
            <a:chOff x="5977080" y="1079640"/>
            <a:chExt cx="2000160" cy="1554120"/>
          </a:xfrm>
        </p:grpSpPr>
        <p:sp>
          <p:nvSpPr>
            <p:cNvPr id="184" name="TextBox 53"/>
            <p:cNvSpPr/>
            <p:nvPr/>
          </p:nvSpPr>
          <p:spPr>
            <a:xfrm>
              <a:off x="6501600" y="1079640"/>
              <a:ext cx="147564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дуктивное взаимодействие с педагогами, родителями, деть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5" name="Прямая со стрелкой 72"/>
            <p:cNvCxnSpPr/>
            <p:nvPr/>
          </p:nvCxnSpPr>
          <p:spPr>
            <a:xfrm flipV="1">
              <a:off x="5977080" y="1864800"/>
              <a:ext cx="714960" cy="4640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6" name="Группа 123"/>
          <p:cNvGrpSpPr/>
          <p:nvPr/>
        </p:nvGrpSpPr>
        <p:grpSpPr>
          <a:xfrm>
            <a:off x="5890680" y="2649600"/>
            <a:ext cx="2224800" cy="824040"/>
            <a:chOff x="5890680" y="2649600"/>
            <a:chExt cx="2224800" cy="824040"/>
          </a:xfrm>
        </p:grpSpPr>
        <p:sp>
          <p:nvSpPr>
            <p:cNvPr id="187" name="Прямоугольник 52"/>
            <p:cNvSpPr/>
            <p:nvPr/>
          </p:nvSpPr>
          <p:spPr>
            <a:xfrm>
              <a:off x="6391080" y="2649600"/>
              <a:ext cx="1724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психологических тренинга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88" name="Прямая со стрелкой 79"/>
            <p:cNvCxnSpPr>
              <a:endCxn id="187" idx="1"/>
            </p:cNvCxnSpPr>
            <p:nvPr/>
          </p:nvCxnSpPr>
          <p:spPr>
            <a:xfrm flipV="1">
              <a:off x="5890680" y="3064680"/>
              <a:ext cx="500760" cy="133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89" name="Группа 136"/>
          <p:cNvGrpSpPr/>
          <p:nvPr/>
        </p:nvGrpSpPr>
        <p:grpSpPr>
          <a:xfrm>
            <a:off x="4786200" y="3549600"/>
            <a:ext cx="2678400" cy="824040"/>
            <a:chOff x="4786200" y="3549600"/>
            <a:chExt cx="2678400" cy="824040"/>
          </a:xfrm>
        </p:grpSpPr>
        <p:sp>
          <p:nvSpPr>
            <p:cNvPr id="190" name="Прямоугольник 45"/>
            <p:cNvSpPr/>
            <p:nvPr/>
          </p:nvSpPr>
          <p:spPr>
            <a:xfrm>
              <a:off x="6179040" y="3549600"/>
              <a:ext cx="1285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шение проблемных задач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1" name="Прямая со стрелкой 81"/>
            <p:cNvCxnSpPr>
              <a:endCxn id="190" idx="1"/>
            </p:cNvCxnSpPr>
            <p:nvPr/>
          </p:nvCxnSpPr>
          <p:spPr>
            <a:xfrm flipV="1">
              <a:off x="4786200" y="3964680"/>
              <a:ext cx="1393200" cy="2070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92" name="Группа 137"/>
          <p:cNvGrpSpPr/>
          <p:nvPr/>
        </p:nvGrpSpPr>
        <p:grpSpPr>
          <a:xfrm>
            <a:off x="4827240" y="4354560"/>
            <a:ext cx="3150000" cy="824040"/>
            <a:chOff x="4827240" y="4354560"/>
            <a:chExt cx="3150000" cy="824040"/>
          </a:xfrm>
        </p:grpSpPr>
        <p:sp>
          <p:nvSpPr>
            <p:cNvPr id="193" name="TextBox 39"/>
            <p:cNvSpPr/>
            <p:nvPr/>
          </p:nvSpPr>
          <p:spPr>
            <a:xfrm>
              <a:off x="6691320" y="4354560"/>
              <a:ext cx="128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новых технолог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4" name="Прямая со стрелкой 83"/>
            <p:cNvCxnSpPr/>
            <p:nvPr/>
          </p:nvCxnSpPr>
          <p:spPr>
            <a:xfrm>
              <a:off x="4827240" y="4552560"/>
              <a:ext cx="1996200" cy="10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95" name="Группа 138"/>
          <p:cNvGrpSpPr/>
          <p:nvPr/>
        </p:nvGrpSpPr>
        <p:grpSpPr>
          <a:xfrm>
            <a:off x="4929120" y="4655880"/>
            <a:ext cx="3213000" cy="1869840"/>
            <a:chOff x="4929120" y="4655880"/>
            <a:chExt cx="3213000" cy="1869840"/>
          </a:xfrm>
        </p:grpSpPr>
        <p:sp>
          <p:nvSpPr>
            <p:cNvPr id="196" name="Прямоугольник 44"/>
            <p:cNvSpPr/>
            <p:nvPr/>
          </p:nvSpPr>
          <p:spPr>
            <a:xfrm>
              <a:off x="6561360" y="5214960"/>
              <a:ext cx="1580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я и участие в деловых, ролевых играх; дискуссия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97" name="Прямая со стрелкой 86"/>
            <p:cNvCxnSpPr/>
            <p:nvPr/>
          </p:nvCxnSpPr>
          <p:spPr>
            <a:xfrm>
              <a:off x="4929120" y="4655880"/>
              <a:ext cx="1761120" cy="71676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198" name="Группа 139"/>
          <p:cNvGrpSpPr/>
          <p:nvPr/>
        </p:nvGrpSpPr>
        <p:grpSpPr>
          <a:xfrm>
            <a:off x="4785840" y="4870440"/>
            <a:ext cx="1905480" cy="1551600"/>
            <a:chOff x="4785840" y="4870440"/>
            <a:chExt cx="1905480" cy="1551600"/>
          </a:xfrm>
        </p:grpSpPr>
        <p:sp>
          <p:nvSpPr>
            <p:cNvPr id="199" name="TextBox 51"/>
            <p:cNvSpPr/>
            <p:nvPr/>
          </p:nvSpPr>
          <p:spPr>
            <a:xfrm>
              <a:off x="5261760" y="5354640"/>
              <a:ext cx="1429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мероприятиях различного уров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0" name="Прямая со стрелкой 89"/>
            <p:cNvCxnSpPr/>
            <p:nvPr/>
          </p:nvCxnSpPr>
          <p:spPr>
            <a:xfrm>
              <a:off x="4785840" y="4870440"/>
              <a:ext cx="1105560" cy="56736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01" name="Группа 140"/>
          <p:cNvGrpSpPr/>
          <p:nvPr/>
        </p:nvGrpSpPr>
        <p:grpSpPr>
          <a:xfrm>
            <a:off x="4357800" y="5000400"/>
            <a:ext cx="1500120" cy="725400"/>
            <a:chOff x="4357800" y="5000400"/>
            <a:chExt cx="1500120" cy="725400"/>
          </a:xfrm>
        </p:grpSpPr>
        <p:sp>
          <p:nvSpPr>
            <p:cNvPr id="202" name="Прямоугольник 42"/>
            <p:cNvSpPr/>
            <p:nvPr/>
          </p:nvSpPr>
          <p:spPr>
            <a:xfrm>
              <a:off x="4357800" y="5145120"/>
              <a:ext cx="150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сред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3" name="Прямая со стрелкой 91"/>
            <p:cNvCxnSpPr/>
            <p:nvPr/>
          </p:nvCxnSpPr>
          <p:spPr>
            <a:xfrm>
              <a:off x="4627440" y="5000400"/>
              <a:ext cx="302400" cy="1846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04" name="Группа 142"/>
          <p:cNvGrpSpPr/>
          <p:nvPr/>
        </p:nvGrpSpPr>
        <p:grpSpPr>
          <a:xfrm>
            <a:off x="1695600" y="4770360"/>
            <a:ext cx="1904760" cy="1684080"/>
            <a:chOff x="1695600" y="4770360"/>
            <a:chExt cx="1904760" cy="1684080"/>
          </a:xfrm>
        </p:grpSpPr>
        <p:sp>
          <p:nvSpPr>
            <p:cNvPr id="205" name="TextBox 38"/>
            <p:cNvSpPr/>
            <p:nvPr/>
          </p:nvSpPr>
          <p:spPr>
            <a:xfrm>
              <a:off x="1695600" y="5143680"/>
              <a:ext cx="1904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здание собственных публикаций (литература, периодика, сайт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6" name="Прямая со стрелкой 96"/>
            <p:cNvCxnSpPr>
              <a:endCxn id="205" idx="0"/>
            </p:cNvCxnSpPr>
            <p:nvPr/>
          </p:nvCxnSpPr>
          <p:spPr>
            <a:xfrm flipH="1">
              <a:off x="2647080" y="4770360"/>
              <a:ext cx="765720" cy="3736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07" name="Группа 143"/>
          <p:cNvGrpSpPr/>
          <p:nvPr/>
        </p:nvGrpSpPr>
        <p:grpSpPr>
          <a:xfrm>
            <a:off x="55440" y="4554360"/>
            <a:ext cx="3426120" cy="1757160"/>
            <a:chOff x="55440" y="4554360"/>
            <a:chExt cx="3426120" cy="1757160"/>
          </a:xfrm>
        </p:grpSpPr>
        <p:sp>
          <p:nvSpPr>
            <p:cNvPr id="208" name="TextBox 36"/>
            <p:cNvSpPr/>
            <p:nvPr/>
          </p:nvSpPr>
          <p:spPr>
            <a:xfrm>
              <a:off x="55440" y="5000760"/>
              <a:ext cx="2072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творческих группах (проектная, аналитическая, исследовательская деятельность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09" name="Прямая со стрелкой 98"/>
            <p:cNvCxnSpPr/>
            <p:nvPr/>
          </p:nvCxnSpPr>
          <p:spPr>
            <a:xfrm flipH="1">
              <a:off x="2142720" y="4554360"/>
              <a:ext cx="1339200" cy="58968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0" name="Группа 117"/>
          <p:cNvGrpSpPr/>
          <p:nvPr/>
        </p:nvGrpSpPr>
        <p:grpSpPr>
          <a:xfrm>
            <a:off x="1585800" y="1012680"/>
            <a:ext cx="1363680" cy="1315800"/>
            <a:chOff x="1585800" y="1012680"/>
            <a:chExt cx="1363680" cy="1315800"/>
          </a:xfrm>
        </p:grpSpPr>
        <p:sp>
          <p:nvSpPr>
            <p:cNvPr id="211" name="TextBox 54"/>
            <p:cNvSpPr/>
            <p:nvPr/>
          </p:nvSpPr>
          <p:spPr>
            <a:xfrm>
              <a:off x="1585800" y="1012680"/>
              <a:ext cx="13636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 спец. литературы, периодики, СМ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2" name="Прямая со стрелкой 100"/>
            <p:cNvCxnSpPr/>
            <p:nvPr/>
          </p:nvCxnSpPr>
          <p:spPr>
            <a:xfrm flipH="1" flipV="1">
              <a:off x="2647080" y="1959840"/>
              <a:ext cx="35640" cy="3690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3" name="Группа 141"/>
          <p:cNvGrpSpPr/>
          <p:nvPr/>
        </p:nvGrpSpPr>
        <p:grpSpPr>
          <a:xfrm>
            <a:off x="3413160" y="5372280"/>
            <a:ext cx="1500120" cy="1260720"/>
            <a:chOff x="3413160" y="5372280"/>
            <a:chExt cx="1500120" cy="1260720"/>
          </a:xfrm>
        </p:grpSpPr>
        <p:sp>
          <p:nvSpPr>
            <p:cNvPr id="214" name="TextBox 37"/>
            <p:cNvSpPr/>
            <p:nvPr/>
          </p:nvSpPr>
          <p:spPr>
            <a:xfrm>
              <a:off x="3413160" y="5565600"/>
              <a:ext cx="150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конкурсах различного уровн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5" name="Прямая со стрелкой 102"/>
            <p:cNvCxnSpPr/>
            <p:nvPr/>
          </p:nvCxnSpPr>
          <p:spPr>
            <a:xfrm flipH="1">
              <a:off x="3954240" y="5372280"/>
              <a:ext cx="3600" cy="2732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6" name="Группа 119"/>
          <p:cNvGrpSpPr/>
          <p:nvPr/>
        </p:nvGrpSpPr>
        <p:grpSpPr>
          <a:xfrm>
            <a:off x="4680" y="2357280"/>
            <a:ext cx="2357640" cy="1310760"/>
            <a:chOff x="4680" y="2357280"/>
            <a:chExt cx="2357640" cy="1310760"/>
          </a:xfrm>
        </p:grpSpPr>
        <p:sp>
          <p:nvSpPr>
            <p:cNvPr id="217" name="TextBox 29"/>
            <p:cNvSpPr/>
            <p:nvPr/>
          </p:nvSpPr>
          <p:spPr>
            <a:xfrm>
              <a:off x="4680" y="2357280"/>
              <a:ext cx="18424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ГМО педсоветах, семинарах, конференциях (слушатель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8" name="Прямая со стрелкой 104"/>
            <p:cNvCxnSpPr/>
            <p:nvPr/>
          </p:nvCxnSpPr>
          <p:spPr>
            <a:xfrm flipH="1">
              <a:off x="1569960" y="3106440"/>
              <a:ext cx="792720" cy="385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19" name="Группа 118"/>
          <p:cNvGrpSpPr/>
          <p:nvPr/>
        </p:nvGrpSpPr>
        <p:grpSpPr>
          <a:xfrm>
            <a:off x="163440" y="1523880"/>
            <a:ext cx="2071440" cy="890280"/>
            <a:chOff x="163440" y="1523880"/>
            <a:chExt cx="2071440" cy="890280"/>
          </a:xfrm>
        </p:grpSpPr>
        <p:sp>
          <p:nvSpPr>
            <p:cNvPr id="220" name="TextBox 30"/>
            <p:cNvSpPr/>
            <p:nvPr/>
          </p:nvSpPr>
          <p:spPr>
            <a:xfrm>
              <a:off x="163440" y="1523880"/>
              <a:ext cx="152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квалификации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1" name="Прямая со стрелкой 108"/>
            <p:cNvCxnSpPr/>
            <p:nvPr/>
          </p:nvCxnSpPr>
          <p:spPr>
            <a:xfrm flipH="1" flipV="1">
              <a:off x="1448640" y="2023200"/>
              <a:ext cx="786600" cy="39132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22" name="Группа 116"/>
          <p:cNvGrpSpPr/>
          <p:nvPr/>
        </p:nvGrpSpPr>
        <p:grpSpPr>
          <a:xfrm>
            <a:off x="378000" y="1008000"/>
            <a:ext cx="1939680" cy="1406520"/>
            <a:chOff x="378000" y="1008000"/>
            <a:chExt cx="1939680" cy="1406520"/>
          </a:xfrm>
        </p:grpSpPr>
        <p:sp>
          <p:nvSpPr>
            <p:cNvPr id="223" name="TextBox 31"/>
            <p:cNvSpPr/>
            <p:nvPr/>
          </p:nvSpPr>
          <p:spPr>
            <a:xfrm>
              <a:off x="378000" y="1008000"/>
              <a:ext cx="128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ттестация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4" name="Прямая со стрелкой 110"/>
            <p:cNvCxnSpPr/>
            <p:nvPr/>
          </p:nvCxnSpPr>
          <p:spPr>
            <a:xfrm flipH="1" flipV="1">
              <a:off x="1271160" y="1331640"/>
              <a:ext cx="1046880" cy="108324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25" name="Группа 144"/>
          <p:cNvGrpSpPr/>
          <p:nvPr/>
        </p:nvGrpSpPr>
        <p:grpSpPr>
          <a:xfrm>
            <a:off x="163440" y="3786120"/>
            <a:ext cx="3318120" cy="1067400"/>
            <a:chOff x="163440" y="3786120"/>
            <a:chExt cx="3318120" cy="1067400"/>
          </a:xfrm>
        </p:grpSpPr>
        <p:sp>
          <p:nvSpPr>
            <p:cNvPr id="226" name="TextBox 35"/>
            <p:cNvSpPr/>
            <p:nvPr/>
          </p:nvSpPr>
          <p:spPr>
            <a:xfrm>
              <a:off x="163440" y="3786120"/>
              <a:ext cx="2214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астие в ГМО педсоветах, семинарах, конференциях (представление опыта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27" name="Прямая со стрелкой 112"/>
            <p:cNvCxnSpPr/>
            <p:nvPr/>
          </p:nvCxnSpPr>
          <p:spPr>
            <a:xfrm flipH="1">
              <a:off x="2235240" y="4142880"/>
              <a:ext cx="1246680" cy="594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  <p:grpSp>
        <p:nvGrpSpPr>
          <p:cNvPr id="228" name="Группа 130"/>
          <p:cNvGrpSpPr/>
          <p:nvPr/>
        </p:nvGrpSpPr>
        <p:grpSpPr>
          <a:xfrm>
            <a:off x="3126960" y="1008000"/>
            <a:ext cx="1269000" cy="1348920"/>
            <a:chOff x="3126960" y="1008000"/>
            <a:chExt cx="1269000" cy="1348920"/>
          </a:xfrm>
        </p:grpSpPr>
        <p:sp>
          <p:nvSpPr>
            <p:cNvPr id="229" name="TextBox 125"/>
            <p:cNvSpPr/>
            <p:nvPr/>
          </p:nvSpPr>
          <p:spPr>
            <a:xfrm>
              <a:off x="3127320" y="1008000"/>
              <a:ext cx="126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учение, внедрени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овых технологи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0" name="Прямая со стрелкой 126"/>
            <p:cNvCxnSpPr/>
            <p:nvPr/>
          </p:nvCxnSpPr>
          <p:spPr>
            <a:xfrm flipV="1">
              <a:off x="3126960" y="1988280"/>
              <a:ext cx="208440" cy="369000"/>
            </a:xfrm>
            <a:prstGeom prst="straightConnector1">
              <a:avLst/>
            </a:prstGeom>
            <a:ln w="6480">
              <a:solidFill>
                <a:srgbClr val="5b9bd5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5T06:46:45Z</dcterms:created>
  <dc:creator>2012</dc:creator>
  <dc:description/>
  <dc:language>en-US</dc:language>
  <cp:lastModifiedBy> </cp:lastModifiedBy>
  <dcterms:modified xsi:type="dcterms:W3CDTF">2018-11-28T05:34:27Z</dcterms:modified>
  <cp:revision>40</cp:revision>
  <dc:subject/>
  <dc:title>Презентация PowerPoint</dc:title>
</cp:coreProperties>
</file>